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65B-7167-465B-9A3B-66AB0E10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297-F8A2-4C5D-B091-BCC9750B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B076-7CCA-4A9F-9259-CBEE168F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06A-7B73-46C0-A353-550D252D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4F0-6E9E-403C-A09F-440584FB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5C6-F7F3-40F5-998E-12162B49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C92-D0DD-4F1F-98FE-8F61FE7D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B0A-DAAE-462B-AC0F-17D14221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DC7-2BBC-4431-8FEC-D3F682F5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4C3-59EE-4597-AFD6-2D8DBBAC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6B5-0ACD-469D-BB87-686DD7A7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9A2-8DDD-47E6-BF0D-BC58FB81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688B-12DF-4C63-8B7C-179F2A72E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First-Then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503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-Then Boards give children clear expectations and help motivate and assist with task completion.  Place a picture of the activity or activities the child needs to complete under “first”.  Place a picture of the rewarding or preferred activity under “then.”  The First-Then format allows the child to focus on the current activity and rewarding activity without distrac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embly Direction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t First-Then Board on Colored Paper and attach to a file folder with the words “First-Then” along the folded edge of the file fol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s can use pictures for the First-Then Boards as needed. Pictures are located in the following files on your CD:  “Class Visual Schedule”, “Center Choice Boards”, “Mini Schedule Arrival” and “Cue Card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DSC00031"/>
          <p:cNvPicPr/>
          <p:nvPr/>
        </p:nvPicPr>
        <p:blipFill>
          <a:blip r:embed="rId1"/>
          <a:stretch/>
        </p:blipFill>
        <p:spPr>
          <a:xfrm>
            <a:off x="4343400" y="483696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DSC00030"/>
          <p:cNvPicPr/>
          <p:nvPr/>
        </p:nvPicPr>
        <p:blipFill>
          <a:blip r:embed="rId2"/>
          <a:stretch/>
        </p:blipFill>
        <p:spPr>
          <a:xfrm>
            <a:off x="2286000" y="483696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DSC00029"/>
          <p:cNvPicPr/>
          <p:nvPr/>
        </p:nvPicPr>
        <p:blipFill>
          <a:blip r:embed="rId3"/>
          <a:stretch/>
        </p:blipFill>
        <p:spPr>
          <a:xfrm>
            <a:off x="228600" y="483696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239040" y="4417920"/>
            <a:ext cx="194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ginning View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rst-Then Mini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209680" y="4417920"/>
            <a:ext cx="207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urn over picture as activities are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349880" y="4235400"/>
            <a:ext cx="197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nd the child the picture of the next place to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6705720" y="4924440"/>
            <a:ext cx="213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o view photographs at a larger size, go to “view” on tool bar and then to “zoom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125280" y="6413400"/>
            <a:ext cx="3841200" cy="368280"/>
            <a:chOff x="125280" y="6413400"/>
            <a:chExt cx="3841200" cy="368280"/>
          </a:xfrm>
        </p:grpSpPr>
        <p:pic>
          <p:nvPicPr>
            <p:cNvPr id="51" name="Picture 14" descr="ToolLogo(teaching2)"/>
            <p:cNvPicPr/>
            <p:nvPr/>
          </p:nvPicPr>
          <p:blipFill>
            <a:blip r:embed="rId4"/>
            <a:stretch/>
          </p:blipFill>
          <p:spPr>
            <a:xfrm>
              <a:off x="125280" y="6462720"/>
              <a:ext cx="868320" cy="2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Rectangle 15"/>
            <p:cNvSpPr/>
            <p:nvPr/>
          </p:nvSpPr>
          <p:spPr>
            <a:xfrm>
              <a:off x="1077480" y="6413400"/>
              <a:ext cx="28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entini, R., Vaughn, B. J., &amp; Fox, L. (2005).  Teaching Tools for Young Children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with Challenging Behavior. Tampa, Florida: University of South Florida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arly Intervention Positive Behavior Support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16"/>
          <p:cNvSpPr/>
          <p:nvPr/>
        </p:nvSpPr>
        <p:spPr>
          <a:xfrm>
            <a:off x="4495680" y="65674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Created using pictures from Boardmaker®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7"/>
          <p:cNvGrpSpPr/>
          <p:nvPr/>
        </p:nvGrpSpPr>
        <p:grpSpPr>
          <a:xfrm>
            <a:off x="0" y="0"/>
            <a:ext cx="9144000" cy="6889680"/>
            <a:chOff x="0" y="0"/>
            <a:chExt cx="9144000" cy="6889680"/>
          </a:xfrm>
        </p:grpSpPr>
        <p:pic>
          <p:nvPicPr>
            <p:cNvPr id="55" name="Picture 2" descr=""/>
            <p:cNvPicPr/>
            <p:nvPr/>
          </p:nvPicPr>
          <p:blipFill>
            <a:blip r:embed="rId1"/>
            <a:stretch/>
          </p:blipFill>
          <p:spPr>
            <a:xfrm>
              <a:off x="228600" y="0"/>
              <a:ext cx="868680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3"/>
            <p:cNvSpPr/>
            <p:nvPr/>
          </p:nvSpPr>
          <p:spPr>
            <a:xfrm>
              <a:off x="838080" y="152280"/>
              <a:ext cx="7925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NT DIRECTIONS FOR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FIRST-THEN BO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4"/>
            <p:cNvSpPr/>
            <p:nvPr/>
          </p:nvSpPr>
          <p:spPr>
            <a:xfrm>
              <a:off x="76320" y="2438280"/>
              <a:ext cx="22860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ep 2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 slides to print 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1905120" y="2971800"/>
              <a:ext cx="533160" cy="76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"/>
            <p:cNvSpPr/>
            <p:nvPr/>
          </p:nvSpPr>
          <p:spPr>
            <a:xfrm>
              <a:off x="380880" y="3886200"/>
              <a:ext cx="16765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ep 3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 “slides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1600200" y="4038480"/>
              <a:ext cx="533520" cy="76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8"/>
            <p:cNvSpPr/>
            <p:nvPr/>
          </p:nvSpPr>
          <p:spPr>
            <a:xfrm>
              <a:off x="6629400" y="2438280"/>
              <a:ext cx="167652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ep 4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e # of cop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6400800" y="2590920"/>
              <a:ext cx="533520" cy="75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76320" y="914400"/>
              <a:ext cx="220968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ep 1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ck on File &amp;  select Pr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685800" y="609480"/>
              <a:ext cx="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0" y="5715000"/>
              <a:ext cx="91440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>
              <a:off x="3429000" y="4952880"/>
              <a:ext cx="167652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ep 5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ck 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 flipV="1">
              <a:off x="4952880" y="5257440"/>
              <a:ext cx="381240" cy="152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6"/>
            <p:cNvSpPr/>
            <p:nvPr/>
          </p:nvSpPr>
          <p:spPr>
            <a:xfrm>
              <a:off x="380880" y="5605560"/>
              <a:ext cx="609624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te:  You will also need to print and assemble the individual pictures needed within the  Visual Strategies Folder on your CD to use the First-Then Boar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17" descr="DSC00029"/>
            <p:cNvPicPr/>
            <p:nvPr/>
          </p:nvPicPr>
          <p:blipFill>
            <a:blip r:embed="rId2"/>
            <a:stretch/>
          </p:blipFill>
          <p:spPr>
            <a:xfrm>
              <a:off x="6858000" y="5105520"/>
              <a:ext cx="1981080" cy="148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Group 19"/>
            <p:cNvGrpSpPr/>
            <p:nvPr/>
          </p:nvGrpSpPr>
          <p:grpSpPr>
            <a:xfrm>
              <a:off x="277920" y="6521400"/>
              <a:ext cx="3840480" cy="368280"/>
              <a:chOff x="277920" y="6521400"/>
              <a:chExt cx="3840480" cy="368280"/>
            </a:xfrm>
          </p:grpSpPr>
          <p:pic>
            <p:nvPicPr>
              <p:cNvPr id="71" name="Picture 20" descr="ToolLogo(teaching2)"/>
              <p:cNvPicPr/>
              <p:nvPr/>
            </p:nvPicPr>
            <p:blipFill>
              <a:blip r:embed="rId3"/>
              <a:stretch/>
            </p:blipFill>
            <p:spPr>
              <a:xfrm>
                <a:off x="277920" y="6570720"/>
                <a:ext cx="868680" cy="20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Rectangle 21"/>
              <p:cNvSpPr/>
              <p:nvPr/>
            </p:nvSpPr>
            <p:spPr>
              <a:xfrm>
                <a:off x="1229400" y="6521400"/>
                <a:ext cx="288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entini, R., Vaughn, B. J., &amp; Fox, L. (2005).  Teaching Tools for Young Children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ith Challenging Behavior. Tampa, Florida: University of South Florida,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Early Intervention Positive Behavior Support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 Box 26"/>
            <p:cNvSpPr/>
            <p:nvPr/>
          </p:nvSpPr>
          <p:spPr>
            <a:xfrm>
              <a:off x="4495680" y="6567480"/>
              <a:ext cx="457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Created using pictures from Boardmaker®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72200" y="96840"/>
            <a:ext cx="228600" cy="6629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981080" y="228600"/>
            <a:ext cx="175284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7010280" y="228600"/>
            <a:ext cx="175284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8:07:43Z</dcterms:created>
  <dc:creator>lentini</dc:creator>
  <dc:description/>
  <dc:language>en-US</dc:language>
  <cp:lastModifiedBy>fmhi</cp:lastModifiedBy>
  <dcterms:modified xsi:type="dcterms:W3CDTF">2010-07-28T19:38:30Z</dcterms:modified>
  <cp:revision>21</cp:revision>
  <dc:subject/>
  <dc:title>Slide 1</dc:title>
</cp:coreProperties>
</file>