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214BA-ED15-422F-BA07-11919B2FD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7DDF1-1675-4343-9684-731695628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38A57-A45D-460B-98E4-CBE5B792A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EE6D9-ED06-41AC-8CEF-5B8453227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8DB19-A3CD-4994-B123-5C201FE9B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A5A14-81EE-4DBF-9D48-E44AD0541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07CCD-E094-4D32-960B-2A8FB9829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6592D-A852-457F-988E-60962B4C8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DC445-71FB-4B38-8E48-07A2B40FF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6910B-A6B0-456F-904E-0F33099D3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92A3D-AA98-4B86-A616-65E33740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E1398-6E4A-4EBD-A4DE-8265AA07C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8B64-7B4B-4F30-90A5-2CA10E3D7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ircle Rules</a:t>
            </a:r>
            <a:endParaRPr b="0" lang="en-US" sz="2400" spc="-1" strike="noStrike">
              <a:solidFill>
                <a:srgbClr val="0000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ep circle rules simpl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list the assistance of the children in developing circle rul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ch circle rules systematicall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t circle rules near circle at the children’s eye leve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circle rules portable.  Use ring of visual cue cards for quick cue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inforce rul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3" name="Picture 8" descr="DSC00044"/>
          <p:cNvPicPr/>
          <p:nvPr/>
        </p:nvPicPr>
        <p:blipFill>
          <a:blip r:embed="rId1"/>
          <a:stretch/>
        </p:blipFill>
        <p:spPr>
          <a:xfrm>
            <a:off x="6248520" y="4495680"/>
            <a:ext cx="2590560" cy="1943280"/>
          </a:xfrm>
          <a:prstGeom prst="rect">
            <a:avLst/>
          </a:prstGeom>
          <a:ln w="0">
            <a:noFill/>
          </a:ln>
        </p:spPr>
      </p:pic>
      <p:sp>
        <p:nvSpPr>
          <p:cNvPr id="44" name="Text Box 12"/>
          <p:cNvSpPr/>
          <p:nvPr/>
        </p:nvSpPr>
        <p:spPr>
          <a:xfrm>
            <a:off x="5105520" y="6553080"/>
            <a:ext cx="38862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Boardmaker®</a:t>
            </a:r>
            <a:endParaRPr b="0" lang="en-US" sz="800" spc="-1" strike="noStrike">
              <a:solidFill>
                <a:srgbClr val="000000"/>
              </a:solidFill>
              <a:latin typeface="Times New Roman"/>
            </a:endParaRPr>
          </a:p>
        </p:txBody>
      </p:sp>
      <p:grpSp>
        <p:nvGrpSpPr>
          <p:cNvPr id="45" name="Group 19"/>
          <p:cNvGrpSpPr/>
          <p:nvPr/>
        </p:nvGrpSpPr>
        <p:grpSpPr>
          <a:xfrm>
            <a:off x="125280" y="6324480"/>
            <a:ext cx="3841200" cy="457200"/>
            <a:chOff x="125280" y="6324480"/>
            <a:chExt cx="3841200" cy="457200"/>
          </a:xfrm>
        </p:grpSpPr>
        <p:sp>
          <p:nvSpPr>
            <p:cNvPr id="46" name="Rectangle 14"/>
            <p:cNvSpPr/>
            <p:nvPr/>
          </p:nvSpPr>
          <p:spPr>
            <a:xfrm>
              <a:off x="125280" y="6324480"/>
              <a:ext cx="3810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Group 15"/>
            <p:cNvGrpSpPr/>
            <p:nvPr/>
          </p:nvGrpSpPr>
          <p:grpSpPr>
            <a:xfrm>
              <a:off x="125280" y="6388200"/>
              <a:ext cx="3841200" cy="368280"/>
              <a:chOff x="125280" y="6388200"/>
              <a:chExt cx="3841200" cy="368280"/>
            </a:xfrm>
          </p:grpSpPr>
          <p:pic>
            <p:nvPicPr>
              <p:cNvPr id="48" name="Picture 16" descr="ToolLogo(teaching2)"/>
              <p:cNvPicPr/>
              <p:nvPr/>
            </p:nvPicPr>
            <p:blipFill>
              <a:blip r:embed="rId2"/>
              <a:stretch/>
            </p:blipFill>
            <p:spPr>
              <a:xfrm>
                <a:off x="125280" y="6437520"/>
                <a:ext cx="868680" cy="204480"/>
              </a:xfrm>
              <a:prstGeom prst="rect">
                <a:avLst/>
              </a:prstGeom>
              <a:ln w="0">
                <a:noFill/>
              </a:ln>
            </p:spPr>
          </p:pic>
          <p:sp>
            <p:nvSpPr>
              <p:cNvPr id="49" name="Rectangle 17"/>
              <p:cNvSpPr/>
              <p:nvPr/>
            </p:nvSpPr>
            <p:spPr>
              <a:xfrm>
                <a:off x="1077480" y="638820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mbly Directions</a:t>
            </a:r>
            <a:endParaRPr b="0" lang="en-US" sz="2400" spc="-1" strike="noStrike">
              <a:solidFill>
                <a:srgbClr val="000000"/>
              </a:solidFill>
              <a:latin typeface="Times New Roman"/>
            </a:endParaRPr>
          </a:p>
        </p:txBody>
      </p:sp>
      <p:sp>
        <p:nvSpPr>
          <p:cNvPr id="51" name="PlaceHolder 2"/>
          <p:cNvSpPr>
            <a:spLocks noGrp="1"/>
          </p:cNvSpPr>
          <p:nvPr>
            <p:ph/>
          </p:nvPr>
        </p:nvSpPr>
        <p:spPr>
          <a:xfrm>
            <a:off x="457200" y="426960"/>
            <a:ext cx="8229600" cy="4525920"/>
          </a:xfrm>
          <a:prstGeom prst="rect">
            <a:avLst/>
          </a:prstGeom>
          <a:noFill/>
          <a:ln w="0">
            <a:noFill/>
          </a:ln>
        </p:spPr>
        <p:txBody>
          <a:bodyPr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our circle rules differ from what is currently available please feel free to make adaptations.  You can double click on the word, located above the picture, to change the text label.  Also, a blank template for pictures or photographs has been provided on the last slide.  If you would like to personalize pictures or make additional picture prompts, you can paste the pictures into the template and add text using the “text box” on the bottom tool bar.</a:t>
            </a:r>
            <a:endParaRPr b="0" lang="en-US" sz="16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nt the pictures on cardstock (or printer paper glued to manila folder for increased durability), cut them and laminate them.  For the large class size picture cues, place a piece of Velcro (rough side) on the back of each picture.  Velcro on the back allows the teacher remove a picture to individually cue a child of the rules.  For the “key ring” cues (see photograph below), simply punch holes in the corners of the picture cues and attach to the key ring.  The key ring can then be worn on the teacher’s wrist for quick access when individually prompting children.  Printing directions are on slides 3 and 4. </a:t>
            </a:r>
            <a:endParaRPr b="0" lang="en-US" sz="16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ictures are attached on a laminated file folder.  The folder (or board) should have small strips of Velcro (the soft side) across the front so the pictures can be adhered to the board and yet still be removed for cueing.</a:t>
            </a:r>
            <a:endParaRPr b="0" lang="en-US" sz="16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Text Box 8"/>
          <p:cNvSpPr/>
          <p:nvPr/>
        </p:nvSpPr>
        <p:spPr>
          <a:xfrm>
            <a:off x="533520" y="4591080"/>
            <a:ext cx="1539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 view photographs at a larger size, go to “view” on tool bar and then to “zoom”.</a:t>
            </a:r>
            <a:endParaRPr b="0" lang="en-US" sz="1400" spc="-1" strike="noStrike">
              <a:solidFill>
                <a:srgbClr val="000000"/>
              </a:solidFill>
              <a:latin typeface="Times New Roman"/>
            </a:endParaRPr>
          </a:p>
        </p:txBody>
      </p:sp>
      <p:sp>
        <p:nvSpPr>
          <p:cNvPr id="53" name="Text Box 9"/>
          <p:cNvSpPr/>
          <p:nvPr/>
        </p:nvSpPr>
        <p:spPr>
          <a:xfrm>
            <a:off x="2289600" y="4525920"/>
            <a:ext cx="179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ss Size Picture Cues</a:t>
            </a:r>
            <a:endParaRPr b="0" lang="en-US" sz="1200" spc="-1" strike="noStrike">
              <a:solidFill>
                <a:srgbClr val="000000"/>
              </a:solidFill>
              <a:latin typeface="Times New Roman"/>
            </a:endParaRPr>
          </a:p>
        </p:txBody>
      </p:sp>
      <p:sp>
        <p:nvSpPr>
          <p:cNvPr id="54" name="Text Box 10"/>
          <p:cNvSpPr/>
          <p:nvPr/>
        </p:nvSpPr>
        <p:spPr>
          <a:xfrm>
            <a:off x="4572000" y="434340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ictures are removable for direct cueing</a:t>
            </a:r>
            <a:endParaRPr b="0" lang="en-US" sz="1200" spc="-1" strike="noStrike">
              <a:solidFill>
                <a:srgbClr val="000000"/>
              </a:solidFill>
              <a:latin typeface="Times New Roman"/>
            </a:endParaRPr>
          </a:p>
        </p:txBody>
      </p:sp>
      <p:sp>
        <p:nvSpPr>
          <p:cNvPr id="55" name="Text Box 11"/>
          <p:cNvSpPr/>
          <p:nvPr/>
        </p:nvSpPr>
        <p:spPr>
          <a:xfrm>
            <a:off x="7238880" y="4191120"/>
            <a:ext cx="1600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y ring sample with mini picture cues</a:t>
            </a:r>
            <a:endParaRPr b="0" lang="en-US" sz="1200" spc="-1" strike="noStrike">
              <a:solidFill>
                <a:srgbClr val="000000"/>
              </a:solidFill>
              <a:latin typeface="Times New Roman"/>
            </a:endParaRPr>
          </a:p>
        </p:txBody>
      </p:sp>
      <p:pic>
        <p:nvPicPr>
          <p:cNvPr id="56" name="Picture 12" descr="DSC00044"/>
          <p:cNvPicPr/>
          <p:nvPr/>
        </p:nvPicPr>
        <p:blipFill>
          <a:blip r:embed="rId1"/>
          <a:stretch/>
        </p:blipFill>
        <p:spPr>
          <a:xfrm>
            <a:off x="2133720" y="4800600"/>
            <a:ext cx="2133360" cy="1600200"/>
          </a:xfrm>
          <a:prstGeom prst="rect">
            <a:avLst/>
          </a:prstGeom>
          <a:ln w="0">
            <a:noFill/>
          </a:ln>
        </p:spPr>
      </p:pic>
      <p:pic>
        <p:nvPicPr>
          <p:cNvPr id="57" name="Picture 13" descr="DSC00046"/>
          <p:cNvPicPr/>
          <p:nvPr/>
        </p:nvPicPr>
        <p:blipFill>
          <a:blip r:embed="rId2"/>
          <a:stretch/>
        </p:blipFill>
        <p:spPr>
          <a:xfrm>
            <a:off x="6858000" y="4800600"/>
            <a:ext cx="2133720" cy="1600200"/>
          </a:xfrm>
          <a:prstGeom prst="rect">
            <a:avLst/>
          </a:prstGeom>
          <a:ln w="0">
            <a:noFill/>
          </a:ln>
        </p:spPr>
      </p:pic>
      <p:pic>
        <p:nvPicPr>
          <p:cNvPr id="58" name="Picture 14" descr="DSC00045"/>
          <p:cNvPicPr/>
          <p:nvPr/>
        </p:nvPicPr>
        <p:blipFill>
          <a:blip r:embed="rId3"/>
          <a:stretch/>
        </p:blipFill>
        <p:spPr>
          <a:xfrm>
            <a:off x="4572000" y="4800600"/>
            <a:ext cx="2133720" cy="1600200"/>
          </a:xfrm>
          <a:prstGeom prst="rect">
            <a:avLst/>
          </a:prstGeom>
          <a:ln w="0">
            <a:noFill/>
          </a:ln>
        </p:spPr>
      </p:pic>
      <p:grpSp>
        <p:nvGrpSpPr>
          <p:cNvPr id="59" name="Group 20"/>
          <p:cNvGrpSpPr/>
          <p:nvPr/>
        </p:nvGrpSpPr>
        <p:grpSpPr>
          <a:xfrm>
            <a:off x="125280" y="6400800"/>
            <a:ext cx="3841200" cy="457200"/>
            <a:chOff x="125280" y="6400800"/>
            <a:chExt cx="3841200" cy="457200"/>
          </a:xfrm>
        </p:grpSpPr>
        <p:sp>
          <p:nvSpPr>
            <p:cNvPr id="60" name="Rectangle 16"/>
            <p:cNvSpPr/>
            <p:nvPr/>
          </p:nvSpPr>
          <p:spPr>
            <a:xfrm>
              <a:off x="125280" y="6400800"/>
              <a:ext cx="3810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17"/>
            <p:cNvGrpSpPr/>
            <p:nvPr/>
          </p:nvGrpSpPr>
          <p:grpSpPr>
            <a:xfrm>
              <a:off x="125280" y="6464160"/>
              <a:ext cx="3841200" cy="368280"/>
              <a:chOff x="125280" y="6464160"/>
              <a:chExt cx="3841200" cy="368280"/>
            </a:xfrm>
          </p:grpSpPr>
          <p:pic>
            <p:nvPicPr>
              <p:cNvPr id="62" name="Picture 18" descr="ToolLogo(teaching2)"/>
              <p:cNvPicPr/>
              <p:nvPr/>
            </p:nvPicPr>
            <p:blipFill>
              <a:blip r:embed="rId4"/>
              <a:stretch/>
            </p:blipFill>
            <p:spPr>
              <a:xfrm>
                <a:off x="125280" y="6513480"/>
                <a:ext cx="868680" cy="204480"/>
              </a:xfrm>
              <a:prstGeom prst="rect">
                <a:avLst/>
              </a:prstGeom>
              <a:ln w="0">
                <a:noFill/>
              </a:ln>
            </p:spPr>
          </p:pic>
          <p:sp>
            <p:nvSpPr>
              <p:cNvPr id="63" name="Rectangle 19"/>
              <p:cNvSpPr/>
              <p:nvPr/>
            </p:nvSpPr>
            <p:spPr>
              <a:xfrm>
                <a:off x="1077480" y="646416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sp>
        <p:nvSpPr>
          <p:cNvPr id="64" name="Text Box 21"/>
          <p:cNvSpPr/>
          <p:nvPr/>
        </p:nvSpPr>
        <p:spPr>
          <a:xfrm>
            <a:off x="5105520" y="6553080"/>
            <a:ext cx="38862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Boardmaker®</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32"/>
          <p:cNvGrpSpPr/>
          <p:nvPr/>
        </p:nvGrpSpPr>
        <p:grpSpPr>
          <a:xfrm>
            <a:off x="0" y="0"/>
            <a:ext cx="9144000" cy="6859440"/>
            <a:chOff x="0" y="0"/>
            <a:chExt cx="9144000" cy="6859440"/>
          </a:xfrm>
        </p:grpSpPr>
        <p:grpSp>
          <p:nvGrpSpPr>
            <p:cNvPr id="66" name="Group 17"/>
            <p:cNvGrpSpPr/>
            <p:nvPr/>
          </p:nvGrpSpPr>
          <p:grpSpPr>
            <a:xfrm>
              <a:off x="0" y="0"/>
              <a:ext cx="9144000" cy="6858000"/>
              <a:chOff x="0" y="0"/>
              <a:chExt cx="9144000" cy="6858000"/>
            </a:xfrm>
          </p:grpSpPr>
          <p:pic>
            <p:nvPicPr>
              <p:cNvPr id="67" name="Picture 2" descr=""/>
              <p:cNvPicPr/>
              <p:nvPr/>
            </p:nvPicPr>
            <p:blipFill>
              <a:blip r:embed="rId1"/>
              <a:stretch/>
            </p:blipFill>
            <p:spPr>
              <a:xfrm>
                <a:off x="228600" y="0"/>
                <a:ext cx="8686800" cy="6515280"/>
              </a:xfrm>
              <a:prstGeom prst="rect">
                <a:avLst/>
              </a:prstGeom>
              <a:ln w="0">
                <a:noFill/>
              </a:ln>
            </p:spPr>
          </p:pic>
          <p:sp>
            <p:nvSpPr>
              <p:cNvPr id="68" name="Text Box 3"/>
              <p:cNvSpPr/>
              <p:nvPr/>
            </p:nvSpPr>
            <p:spPr>
              <a:xfrm>
                <a:off x="838080" y="152280"/>
                <a:ext cx="8077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CLASS SIZE CIRLCE RULES</a:t>
                </a:r>
                <a:endParaRPr b="0" lang="en-US" sz="2400" spc="-1" strike="noStrike">
                  <a:solidFill>
                    <a:srgbClr val="000000"/>
                  </a:solidFill>
                  <a:latin typeface="Times New Roman"/>
                </a:endParaRPr>
              </a:p>
            </p:txBody>
          </p:sp>
          <p:sp>
            <p:nvSpPr>
              <p:cNvPr id="69"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ru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5-7</a:t>
                </a:r>
                <a:endParaRPr b="0" lang="en-US" sz="1400" spc="-1" strike="noStrike">
                  <a:solidFill>
                    <a:srgbClr val="000000"/>
                  </a:solidFill>
                  <a:latin typeface="Times New Roman"/>
                </a:endParaRPr>
              </a:p>
            </p:txBody>
          </p:sp>
          <p:sp>
            <p:nvSpPr>
              <p:cNvPr id="70" name="Line 5"/>
              <p:cNvSpPr/>
              <p:nvPr/>
            </p:nvSpPr>
            <p:spPr>
              <a:xfrm>
                <a:off x="1828800" y="29718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Times New Roman"/>
                </a:endParaRPr>
              </a:p>
            </p:txBody>
          </p:sp>
          <p:sp>
            <p:nvSpPr>
              <p:cNvPr id="72"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74"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76"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79"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Picture 16" descr="DSC00044"/>
              <p:cNvPicPr/>
              <p:nvPr/>
            </p:nvPicPr>
            <p:blipFill>
              <a:blip r:embed="rId2"/>
              <a:stretch/>
            </p:blipFill>
            <p:spPr>
              <a:xfrm>
                <a:off x="6172200" y="4762440"/>
                <a:ext cx="2590920" cy="1943280"/>
              </a:xfrm>
              <a:prstGeom prst="rect">
                <a:avLst/>
              </a:prstGeom>
              <a:ln w="0">
                <a:noFill/>
              </a:ln>
            </p:spPr>
          </p:pic>
        </p:grpSp>
        <p:grpSp>
          <p:nvGrpSpPr>
            <p:cNvPr id="81" name="Group 24"/>
            <p:cNvGrpSpPr/>
            <p:nvPr/>
          </p:nvGrpSpPr>
          <p:grpSpPr>
            <a:xfrm>
              <a:off x="125280" y="6400800"/>
              <a:ext cx="3840480" cy="457200"/>
              <a:chOff x="125280" y="6400800"/>
              <a:chExt cx="3840480" cy="457200"/>
            </a:xfrm>
          </p:grpSpPr>
          <p:sp>
            <p:nvSpPr>
              <p:cNvPr id="82" name="Rectangle 25"/>
              <p:cNvSpPr/>
              <p:nvPr/>
            </p:nvSpPr>
            <p:spPr>
              <a:xfrm>
                <a:off x="125280" y="640080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 name="Group 26"/>
              <p:cNvGrpSpPr/>
              <p:nvPr/>
            </p:nvGrpSpPr>
            <p:grpSpPr>
              <a:xfrm>
                <a:off x="125280" y="6464160"/>
                <a:ext cx="3840480" cy="368280"/>
                <a:chOff x="125280" y="6464160"/>
                <a:chExt cx="3840480" cy="368280"/>
              </a:xfrm>
            </p:grpSpPr>
            <p:pic>
              <p:nvPicPr>
                <p:cNvPr id="84" name="Picture 27" descr="ToolLogo(teaching2)"/>
                <p:cNvPicPr/>
                <p:nvPr/>
              </p:nvPicPr>
              <p:blipFill>
                <a:blip r:embed="rId3"/>
                <a:stretch/>
              </p:blipFill>
              <p:spPr>
                <a:xfrm>
                  <a:off x="125280" y="6513480"/>
                  <a:ext cx="868680" cy="204480"/>
                </a:xfrm>
                <a:prstGeom prst="rect">
                  <a:avLst/>
                </a:prstGeom>
                <a:ln w="0">
                  <a:noFill/>
                </a:ln>
              </p:spPr>
            </p:pic>
            <p:sp>
              <p:nvSpPr>
                <p:cNvPr id="85" name="Rectangle 28"/>
                <p:cNvSpPr/>
                <p:nvPr/>
              </p:nvSpPr>
              <p:spPr>
                <a:xfrm>
                  <a:off x="1076760" y="646416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sp>
          <p:nvSpPr>
            <p:cNvPr id="86" name="Text Box 30"/>
            <p:cNvSpPr/>
            <p:nvPr/>
          </p:nvSpPr>
          <p:spPr>
            <a:xfrm>
              <a:off x="5105520" y="6643800"/>
              <a:ext cx="38862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Boardmaker®</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Group 26"/>
          <p:cNvGrpSpPr/>
          <p:nvPr/>
        </p:nvGrpSpPr>
        <p:grpSpPr>
          <a:xfrm>
            <a:off x="0" y="76320"/>
            <a:ext cx="9144000" cy="6858000"/>
            <a:chOff x="0" y="76320"/>
            <a:chExt cx="9144000" cy="6858000"/>
          </a:xfrm>
        </p:grpSpPr>
        <p:grpSp>
          <p:nvGrpSpPr>
            <p:cNvPr id="88" name="Group 19"/>
            <p:cNvGrpSpPr/>
            <p:nvPr/>
          </p:nvGrpSpPr>
          <p:grpSpPr>
            <a:xfrm>
              <a:off x="0" y="76320"/>
              <a:ext cx="9144000" cy="6858000"/>
              <a:chOff x="0" y="76320"/>
              <a:chExt cx="9144000" cy="6858000"/>
            </a:xfrm>
          </p:grpSpPr>
          <p:pic>
            <p:nvPicPr>
              <p:cNvPr id="89" name="Picture 2" descr=""/>
              <p:cNvPicPr/>
              <p:nvPr/>
            </p:nvPicPr>
            <p:blipFill>
              <a:blip r:embed="rId1"/>
              <a:stretch/>
            </p:blipFill>
            <p:spPr>
              <a:xfrm>
                <a:off x="228600" y="76320"/>
                <a:ext cx="8686800" cy="6515280"/>
              </a:xfrm>
              <a:prstGeom prst="rect">
                <a:avLst/>
              </a:prstGeom>
              <a:ln w="0">
                <a:noFill/>
              </a:ln>
            </p:spPr>
          </p:pic>
          <p:sp>
            <p:nvSpPr>
              <p:cNvPr id="90" name="Text Box 3"/>
              <p:cNvSpPr/>
              <p:nvPr/>
            </p:nvSpPr>
            <p:spPr>
              <a:xfrm>
                <a:off x="838080" y="22860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KEY RING CUE</a:t>
                </a:r>
                <a:endParaRPr b="0" lang="en-US" sz="2400" spc="-1" strike="noStrike">
                  <a:solidFill>
                    <a:srgbClr val="000000"/>
                  </a:solidFill>
                  <a:latin typeface="Times New Roman"/>
                </a:endParaRPr>
              </a:p>
            </p:txBody>
          </p:sp>
          <p:sp>
            <p:nvSpPr>
              <p:cNvPr id="91" name="Rectangle 4"/>
              <p:cNvSpPr/>
              <p:nvPr/>
            </p:nvSpPr>
            <p:spPr>
              <a:xfrm>
                <a:off x="76320" y="251460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ru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5-7</a:t>
                </a:r>
                <a:endParaRPr b="0" lang="en-US" sz="1400" spc="-1" strike="noStrike">
                  <a:solidFill>
                    <a:srgbClr val="000000"/>
                  </a:solidFill>
                  <a:latin typeface="Times New Roman"/>
                </a:endParaRPr>
              </a:p>
            </p:txBody>
          </p:sp>
          <p:sp>
            <p:nvSpPr>
              <p:cNvPr id="92" name="Line 5"/>
              <p:cNvSpPr/>
              <p:nvPr/>
            </p:nvSpPr>
            <p:spPr>
              <a:xfrm>
                <a:off x="1905120" y="304812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 name="Rectangle 6"/>
              <p:cNvSpPr/>
              <p:nvPr/>
            </p:nvSpPr>
            <p:spPr>
              <a:xfrm>
                <a:off x="380880" y="3962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handouts”</a:t>
                </a:r>
                <a:endParaRPr b="0" lang="en-US" sz="1400" spc="-1" strike="noStrike">
                  <a:solidFill>
                    <a:srgbClr val="000000"/>
                  </a:solidFill>
                  <a:latin typeface="Times New Roman"/>
                </a:endParaRPr>
              </a:p>
            </p:txBody>
          </p:sp>
          <p:sp>
            <p:nvSpPr>
              <p:cNvPr id="94" name="Line 7"/>
              <p:cNvSpPr/>
              <p:nvPr/>
            </p:nvSpPr>
            <p:spPr>
              <a:xfrm>
                <a:off x="1600200" y="41148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 name="Rectangle 8"/>
              <p:cNvSpPr/>
              <p:nvPr/>
            </p:nvSpPr>
            <p:spPr>
              <a:xfrm>
                <a:off x="6629400" y="251460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96" name="Line 9"/>
              <p:cNvSpPr/>
              <p:nvPr/>
            </p:nvSpPr>
            <p:spPr>
              <a:xfrm flipH="1">
                <a:off x="6400800" y="266724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 name="Rectangle 10"/>
              <p:cNvSpPr/>
              <p:nvPr/>
            </p:nvSpPr>
            <p:spPr>
              <a:xfrm>
                <a:off x="76320" y="99072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98" name="Line 11"/>
              <p:cNvSpPr/>
              <p:nvPr/>
            </p:nvSpPr>
            <p:spPr>
              <a:xfrm flipV="1">
                <a:off x="685800" y="68580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Rectangle 12"/>
              <p:cNvSpPr/>
              <p:nvPr/>
            </p:nvSpPr>
            <p:spPr>
              <a:xfrm>
                <a:off x="0" y="579132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3"/>
              <p:cNvSpPr/>
              <p:nvPr/>
            </p:nvSpPr>
            <p:spPr>
              <a:xfrm>
                <a:off x="3429000" y="518184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101" name="Line 14"/>
              <p:cNvSpPr/>
              <p:nvPr/>
            </p:nvSpPr>
            <p:spPr>
              <a:xfrm flipV="1">
                <a:off x="4952880" y="533376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2" name="Picture 16" descr="DSC00046"/>
              <p:cNvPicPr/>
              <p:nvPr/>
            </p:nvPicPr>
            <p:blipFill>
              <a:blip r:embed="rId2"/>
              <a:stretch/>
            </p:blipFill>
            <p:spPr>
              <a:xfrm>
                <a:off x="6858000" y="5105520"/>
                <a:ext cx="2133720" cy="1600200"/>
              </a:xfrm>
              <a:prstGeom prst="rect">
                <a:avLst/>
              </a:prstGeom>
              <a:ln w="0">
                <a:noFill/>
              </a:ln>
            </p:spPr>
          </p:pic>
          <p:sp>
            <p:nvSpPr>
              <p:cNvPr id="103" name="Rectangle 17"/>
              <p:cNvSpPr/>
              <p:nvPr/>
            </p:nvSpPr>
            <p:spPr>
              <a:xfrm>
                <a:off x="5410080" y="3733920"/>
                <a:ext cx="19814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Times New Roman"/>
                </a:endParaRPr>
              </a:p>
            </p:txBody>
          </p:sp>
          <p:sp>
            <p:nvSpPr>
              <p:cNvPr id="104" name="Line 18"/>
              <p:cNvSpPr/>
              <p:nvPr/>
            </p:nvSpPr>
            <p:spPr>
              <a:xfrm flipH="1">
                <a:off x="5181480" y="396252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05" name="Text Box 20"/>
            <p:cNvSpPr/>
            <p:nvPr/>
          </p:nvSpPr>
          <p:spPr>
            <a:xfrm>
              <a:off x="6324480" y="6665760"/>
              <a:ext cx="28195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Times New Roman"/>
              </a:endParaRPr>
            </a:p>
          </p:txBody>
        </p:sp>
        <p:grpSp>
          <p:nvGrpSpPr>
            <p:cNvPr id="106" name="Group 21"/>
            <p:cNvGrpSpPr/>
            <p:nvPr/>
          </p:nvGrpSpPr>
          <p:grpSpPr>
            <a:xfrm>
              <a:off x="125280" y="6400800"/>
              <a:ext cx="3840480" cy="457200"/>
              <a:chOff x="125280" y="6400800"/>
              <a:chExt cx="3840480" cy="457200"/>
            </a:xfrm>
          </p:grpSpPr>
          <p:sp>
            <p:nvSpPr>
              <p:cNvPr id="107" name="Rectangle 22"/>
              <p:cNvSpPr/>
              <p:nvPr/>
            </p:nvSpPr>
            <p:spPr>
              <a:xfrm>
                <a:off x="125280" y="640080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23"/>
              <p:cNvGrpSpPr/>
              <p:nvPr/>
            </p:nvGrpSpPr>
            <p:grpSpPr>
              <a:xfrm>
                <a:off x="125280" y="6464160"/>
                <a:ext cx="3840480" cy="368280"/>
                <a:chOff x="125280" y="6464160"/>
                <a:chExt cx="3840480" cy="368280"/>
              </a:xfrm>
            </p:grpSpPr>
            <p:pic>
              <p:nvPicPr>
                <p:cNvPr id="109" name="Picture 24" descr="ToolLogo(teaching2)"/>
                <p:cNvPicPr/>
                <p:nvPr/>
              </p:nvPicPr>
              <p:blipFill>
                <a:blip r:embed="rId3"/>
                <a:stretch/>
              </p:blipFill>
              <p:spPr>
                <a:xfrm>
                  <a:off x="125280" y="6513480"/>
                  <a:ext cx="868680" cy="204480"/>
                </a:xfrm>
                <a:prstGeom prst="rect">
                  <a:avLst/>
                </a:prstGeom>
                <a:ln w="0">
                  <a:noFill/>
                </a:ln>
              </p:spPr>
            </p:pic>
            <p:sp>
              <p:nvSpPr>
                <p:cNvPr id="110" name="Rectangle 25"/>
                <p:cNvSpPr/>
                <p:nvPr/>
              </p:nvSpPr>
              <p:spPr>
                <a:xfrm>
                  <a:off x="1076760" y="646416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Line 2"/>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3"/>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228600" y="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with your eyes.</a:t>
            </a:r>
            <a:endParaRPr b="0" lang="en-US" sz="2400" spc="-1" strike="noStrike">
              <a:solidFill>
                <a:srgbClr val="000000"/>
              </a:solidFill>
              <a:latin typeface="Times New Roman"/>
            </a:endParaRPr>
          </a:p>
        </p:txBody>
      </p:sp>
      <p:sp>
        <p:nvSpPr>
          <p:cNvPr id="114" name="Text Box 5"/>
          <p:cNvSpPr/>
          <p:nvPr/>
        </p:nvSpPr>
        <p:spPr>
          <a:xfrm>
            <a:off x="4724280" y="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sten with your ears</a:t>
            </a:r>
            <a:endParaRPr b="0" lang="en-US" sz="2400" spc="-1" strike="noStrike">
              <a:solidFill>
                <a:srgbClr val="000000"/>
              </a:solidFill>
              <a:latin typeface="Times New Roman"/>
            </a:endParaRPr>
          </a:p>
        </p:txBody>
      </p:sp>
      <p:sp>
        <p:nvSpPr>
          <p:cNvPr id="115" name="Text Box 6"/>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gentle hands and feet.</a:t>
            </a:r>
            <a:endParaRPr b="0" lang="en-US" sz="2400" spc="-1" strike="noStrike">
              <a:solidFill>
                <a:srgbClr val="000000"/>
              </a:solidFill>
              <a:latin typeface="Times New Roman"/>
            </a:endParaRPr>
          </a:p>
        </p:txBody>
      </p:sp>
      <p:sp>
        <p:nvSpPr>
          <p:cNvPr id="116" name="Text Box 11"/>
          <p:cNvSpPr/>
          <p:nvPr/>
        </p:nvSpPr>
        <p:spPr>
          <a:xfrm>
            <a:off x="4800600" y="342900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t.</a:t>
            </a:r>
            <a:endParaRPr b="0" lang="en-US" sz="2400" spc="-1" strike="noStrike">
              <a:solidFill>
                <a:srgbClr val="000000"/>
              </a:solidFill>
              <a:latin typeface="Times New Roman"/>
            </a:endParaRPr>
          </a:p>
        </p:txBody>
      </p:sp>
      <p:pic>
        <p:nvPicPr>
          <p:cNvPr id="117" name="Picture 43" descr="MCBD08317_0000[1]"/>
          <p:cNvPicPr/>
          <p:nvPr/>
        </p:nvPicPr>
        <p:blipFill>
          <a:blip r:embed="rId1"/>
          <a:stretch/>
        </p:blipFill>
        <p:spPr>
          <a:xfrm>
            <a:off x="5943600" y="914400"/>
            <a:ext cx="1776240" cy="1566720"/>
          </a:xfrm>
          <a:prstGeom prst="rect">
            <a:avLst/>
          </a:prstGeom>
          <a:ln w="0">
            <a:noFill/>
          </a:ln>
        </p:spPr>
      </p:pic>
      <p:grpSp>
        <p:nvGrpSpPr>
          <p:cNvPr id="118" name="Group 592"/>
          <p:cNvGrpSpPr/>
          <p:nvPr/>
        </p:nvGrpSpPr>
        <p:grpSpPr>
          <a:xfrm>
            <a:off x="638280" y="1324080"/>
            <a:ext cx="3095640" cy="733320"/>
            <a:chOff x="638280" y="1324080"/>
            <a:chExt cx="3095640" cy="733320"/>
          </a:xfrm>
        </p:grpSpPr>
        <p:grpSp>
          <p:nvGrpSpPr>
            <p:cNvPr id="119" name="Group 593"/>
            <p:cNvGrpSpPr/>
            <p:nvPr/>
          </p:nvGrpSpPr>
          <p:grpSpPr>
            <a:xfrm>
              <a:off x="638280" y="1324080"/>
              <a:ext cx="1463400" cy="718920"/>
              <a:chOff x="638280" y="1324080"/>
              <a:chExt cx="1463400" cy="718920"/>
            </a:xfrm>
          </p:grpSpPr>
          <p:sp>
            <p:nvSpPr>
              <p:cNvPr id="120" name="Freeform 594"/>
              <p:cNvSpPr/>
              <p:nvPr/>
            </p:nvSpPr>
            <p:spPr>
              <a:xfrm>
                <a:off x="736560" y="1438200"/>
                <a:ext cx="1289160" cy="604800"/>
              </a:xfrm>
              <a:custGeom>
                <a:avLst/>
                <a:gdLst>
                  <a:gd name="textAreaLeft" fmla="*/ 0 w 1289160"/>
                  <a:gd name="textAreaRight" fmla="*/ 1289520 w 1289160"/>
                  <a:gd name="textAreaTop" fmla="*/ 0 h 604800"/>
                  <a:gd name="textAreaBottom" fmla="*/ 605160 h 604800"/>
                </a:gdLst>
                <a:ahLst/>
                <a:rect l="textAreaLeft" t="textAreaTop" r="textAreaRight" b="textAreaBottom"/>
                <a:pathLst>
                  <a:path w="812" h="763">
                    <a:moveTo>
                      <a:pt x="405" y="0"/>
                    </a:moveTo>
                    <a:lnTo>
                      <a:pt x="364" y="2"/>
                    </a:lnTo>
                    <a:lnTo>
                      <a:pt x="323" y="8"/>
                    </a:lnTo>
                    <a:lnTo>
                      <a:pt x="285" y="18"/>
                    </a:lnTo>
                    <a:lnTo>
                      <a:pt x="248" y="30"/>
                    </a:lnTo>
                    <a:lnTo>
                      <a:pt x="213" y="46"/>
                    </a:lnTo>
                    <a:lnTo>
                      <a:pt x="179" y="66"/>
                    </a:lnTo>
                    <a:lnTo>
                      <a:pt x="148" y="88"/>
                    </a:lnTo>
                    <a:lnTo>
                      <a:pt x="118" y="111"/>
                    </a:lnTo>
                    <a:lnTo>
                      <a:pt x="93" y="139"/>
                    </a:lnTo>
                    <a:lnTo>
                      <a:pt x="69" y="169"/>
                    </a:lnTo>
                    <a:lnTo>
                      <a:pt x="49" y="198"/>
                    </a:lnTo>
                    <a:lnTo>
                      <a:pt x="31" y="232"/>
                    </a:lnTo>
                    <a:lnTo>
                      <a:pt x="17" y="268"/>
                    </a:lnTo>
                    <a:lnTo>
                      <a:pt x="8" y="303"/>
                    </a:lnTo>
                    <a:lnTo>
                      <a:pt x="2" y="341"/>
                    </a:lnTo>
                    <a:lnTo>
                      <a:pt x="0" y="381"/>
                    </a:lnTo>
                    <a:lnTo>
                      <a:pt x="2" y="420"/>
                    </a:lnTo>
                    <a:lnTo>
                      <a:pt x="8" y="458"/>
                    </a:lnTo>
                    <a:lnTo>
                      <a:pt x="17" y="494"/>
                    </a:lnTo>
                    <a:lnTo>
                      <a:pt x="31" y="529"/>
                    </a:lnTo>
                    <a:lnTo>
                      <a:pt x="49" y="563"/>
                    </a:lnTo>
                    <a:lnTo>
                      <a:pt x="69" y="595"/>
                    </a:lnTo>
                    <a:lnTo>
                      <a:pt x="93" y="624"/>
                    </a:lnTo>
                    <a:lnTo>
                      <a:pt x="118" y="650"/>
                    </a:lnTo>
                    <a:lnTo>
                      <a:pt x="148" y="676"/>
                    </a:lnTo>
                    <a:lnTo>
                      <a:pt x="179" y="698"/>
                    </a:lnTo>
                    <a:lnTo>
                      <a:pt x="213" y="717"/>
                    </a:lnTo>
                    <a:lnTo>
                      <a:pt x="248" y="733"/>
                    </a:lnTo>
                    <a:lnTo>
                      <a:pt x="285" y="745"/>
                    </a:lnTo>
                    <a:lnTo>
                      <a:pt x="323" y="755"/>
                    </a:lnTo>
                    <a:lnTo>
                      <a:pt x="364" y="761"/>
                    </a:lnTo>
                    <a:lnTo>
                      <a:pt x="405" y="763"/>
                    </a:lnTo>
                    <a:lnTo>
                      <a:pt x="446" y="761"/>
                    </a:lnTo>
                    <a:lnTo>
                      <a:pt x="487" y="755"/>
                    </a:lnTo>
                    <a:lnTo>
                      <a:pt x="525" y="745"/>
                    </a:lnTo>
                    <a:lnTo>
                      <a:pt x="564" y="733"/>
                    </a:lnTo>
                    <a:lnTo>
                      <a:pt x="599" y="717"/>
                    </a:lnTo>
                    <a:lnTo>
                      <a:pt x="632" y="698"/>
                    </a:lnTo>
                    <a:lnTo>
                      <a:pt x="663" y="676"/>
                    </a:lnTo>
                    <a:lnTo>
                      <a:pt x="693" y="650"/>
                    </a:lnTo>
                    <a:lnTo>
                      <a:pt x="719" y="624"/>
                    </a:lnTo>
                    <a:lnTo>
                      <a:pt x="742" y="595"/>
                    </a:lnTo>
                    <a:lnTo>
                      <a:pt x="763" y="563"/>
                    </a:lnTo>
                    <a:lnTo>
                      <a:pt x="781" y="529"/>
                    </a:lnTo>
                    <a:lnTo>
                      <a:pt x="794" y="494"/>
                    </a:lnTo>
                    <a:lnTo>
                      <a:pt x="804" y="458"/>
                    </a:lnTo>
                    <a:lnTo>
                      <a:pt x="809" y="420"/>
                    </a:lnTo>
                    <a:lnTo>
                      <a:pt x="812" y="381"/>
                    </a:lnTo>
                    <a:lnTo>
                      <a:pt x="809" y="341"/>
                    </a:lnTo>
                    <a:lnTo>
                      <a:pt x="804" y="303"/>
                    </a:lnTo>
                    <a:lnTo>
                      <a:pt x="794" y="268"/>
                    </a:lnTo>
                    <a:lnTo>
                      <a:pt x="781" y="232"/>
                    </a:lnTo>
                    <a:lnTo>
                      <a:pt x="763" y="198"/>
                    </a:lnTo>
                    <a:lnTo>
                      <a:pt x="742" y="169"/>
                    </a:lnTo>
                    <a:lnTo>
                      <a:pt x="719" y="139"/>
                    </a:lnTo>
                    <a:lnTo>
                      <a:pt x="693" y="111"/>
                    </a:lnTo>
                    <a:lnTo>
                      <a:pt x="663" y="88"/>
                    </a:lnTo>
                    <a:lnTo>
                      <a:pt x="632" y="66"/>
                    </a:lnTo>
                    <a:lnTo>
                      <a:pt x="599" y="46"/>
                    </a:lnTo>
                    <a:lnTo>
                      <a:pt x="564" y="30"/>
                    </a:lnTo>
                    <a:lnTo>
                      <a:pt x="525" y="18"/>
                    </a:lnTo>
                    <a:lnTo>
                      <a:pt x="487" y="8"/>
                    </a:lnTo>
                    <a:lnTo>
                      <a:pt x="446" y="2"/>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595"/>
              <p:cNvSpPr/>
              <p:nvPr/>
            </p:nvSpPr>
            <p:spPr>
              <a:xfrm>
                <a:off x="811080" y="1490760"/>
                <a:ext cx="1138320" cy="496800"/>
              </a:xfrm>
              <a:custGeom>
                <a:avLst/>
                <a:gdLst>
                  <a:gd name="textAreaLeft" fmla="*/ 0 w 1138320"/>
                  <a:gd name="textAreaRight" fmla="*/ 1138680 w 1138320"/>
                  <a:gd name="textAreaTop" fmla="*/ 0 h 496800"/>
                  <a:gd name="textAreaBottom" fmla="*/ 497160 h 496800"/>
                </a:gdLst>
                <a:ahLst/>
                <a:rect l="textAreaLeft" t="textAreaTop" r="textAreaRight" b="textAreaBottom"/>
                <a:pathLst>
                  <a:path w="717" h="626">
                    <a:moveTo>
                      <a:pt x="0" y="313"/>
                    </a:moveTo>
                    <a:lnTo>
                      <a:pt x="2" y="281"/>
                    </a:lnTo>
                    <a:lnTo>
                      <a:pt x="7" y="249"/>
                    </a:lnTo>
                    <a:lnTo>
                      <a:pt x="17" y="220"/>
                    </a:lnTo>
                    <a:lnTo>
                      <a:pt x="29" y="192"/>
                    </a:lnTo>
                    <a:lnTo>
                      <a:pt x="44" y="164"/>
                    </a:lnTo>
                    <a:lnTo>
                      <a:pt x="62" y="138"/>
                    </a:lnTo>
                    <a:lnTo>
                      <a:pt x="82" y="115"/>
                    </a:lnTo>
                    <a:lnTo>
                      <a:pt x="106" y="91"/>
                    </a:lnTo>
                    <a:lnTo>
                      <a:pt x="132" y="71"/>
                    </a:lnTo>
                    <a:lnTo>
                      <a:pt x="159" y="53"/>
                    </a:lnTo>
                    <a:lnTo>
                      <a:pt x="187" y="37"/>
                    </a:lnTo>
                    <a:lnTo>
                      <a:pt x="219" y="24"/>
                    </a:lnTo>
                    <a:lnTo>
                      <a:pt x="252" y="14"/>
                    </a:lnTo>
                    <a:lnTo>
                      <a:pt x="286" y="6"/>
                    </a:lnTo>
                    <a:lnTo>
                      <a:pt x="321" y="2"/>
                    </a:lnTo>
                    <a:lnTo>
                      <a:pt x="358" y="0"/>
                    </a:lnTo>
                    <a:lnTo>
                      <a:pt x="395" y="2"/>
                    </a:lnTo>
                    <a:lnTo>
                      <a:pt x="430" y="6"/>
                    </a:lnTo>
                    <a:lnTo>
                      <a:pt x="465" y="14"/>
                    </a:lnTo>
                    <a:lnTo>
                      <a:pt x="497" y="24"/>
                    </a:lnTo>
                    <a:lnTo>
                      <a:pt x="529" y="37"/>
                    </a:lnTo>
                    <a:lnTo>
                      <a:pt x="559" y="53"/>
                    </a:lnTo>
                    <a:lnTo>
                      <a:pt x="586" y="71"/>
                    </a:lnTo>
                    <a:lnTo>
                      <a:pt x="612" y="91"/>
                    </a:lnTo>
                    <a:lnTo>
                      <a:pt x="635" y="115"/>
                    </a:lnTo>
                    <a:lnTo>
                      <a:pt x="656" y="138"/>
                    </a:lnTo>
                    <a:lnTo>
                      <a:pt x="674" y="164"/>
                    </a:lnTo>
                    <a:lnTo>
                      <a:pt x="689" y="192"/>
                    </a:lnTo>
                    <a:lnTo>
                      <a:pt x="701" y="220"/>
                    </a:lnTo>
                    <a:lnTo>
                      <a:pt x="710" y="249"/>
                    </a:lnTo>
                    <a:lnTo>
                      <a:pt x="716" y="281"/>
                    </a:lnTo>
                    <a:lnTo>
                      <a:pt x="717" y="313"/>
                    </a:lnTo>
                    <a:lnTo>
                      <a:pt x="716" y="344"/>
                    </a:lnTo>
                    <a:lnTo>
                      <a:pt x="710" y="376"/>
                    </a:lnTo>
                    <a:lnTo>
                      <a:pt x="701" y="406"/>
                    </a:lnTo>
                    <a:lnTo>
                      <a:pt x="689" y="433"/>
                    </a:lnTo>
                    <a:lnTo>
                      <a:pt x="674" y="461"/>
                    </a:lnTo>
                    <a:lnTo>
                      <a:pt x="656" y="487"/>
                    </a:lnTo>
                    <a:lnTo>
                      <a:pt x="635" y="511"/>
                    </a:lnTo>
                    <a:lnTo>
                      <a:pt x="612" y="534"/>
                    </a:lnTo>
                    <a:lnTo>
                      <a:pt x="586" y="554"/>
                    </a:lnTo>
                    <a:lnTo>
                      <a:pt x="559" y="572"/>
                    </a:lnTo>
                    <a:lnTo>
                      <a:pt x="529" y="588"/>
                    </a:lnTo>
                    <a:lnTo>
                      <a:pt x="497" y="602"/>
                    </a:lnTo>
                    <a:lnTo>
                      <a:pt x="465" y="612"/>
                    </a:lnTo>
                    <a:lnTo>
                      <a:pt x="430" y="620"/>
                    </a:lnTo>
                    <a:lnTo>
                      <a:pt x="395" y="624"/>
                    </a:lnTo>
                    <a:lnTo>
                      <a:pt x="358" y="626"/>
                    </a:lnTo>
                    <a:lnTo>
                      <a:pt x="321" y="624"/>
                    </a:lnTo>
                    <a:lnTo>
                      <a:pt x="286" y="620"/>
                    </a:lnTo>
                    <a:lnTo>
                      <a:pt x="252" y="612"/>
                    </a:lnTo>
                    <a:lnTo>
                      <a:pt x="219" y="602"/>
                    </a:lnTo>
                    <a:lnTo>
                      <a:pt x="187" y="588"/>
                    </a:lnTo>
                    <a:lnTo>
                      <a:pt x="159" y="572"/>
                    </a:lnTo>
                    <a:lnTo>
                      <a:pt x="132" y="554"/>
                    </a:lnTo>
                    <a:lnTo>
                      <a:pt x="106" y="534"/>
                    </a:lnTo>
                    <a:lnTo>
                      <a:pt x="82" y="511"/>
                    </a:lnTo>
                    <a:lnTo>
                      <a:pt x="62" y="487"/>
                    </a:lnTo>
                    <a:lnTo>
                      <a:pt x="44" y="461"/>
                    </a:lnTo>
                    <a:lnTo>
                      <a:pt x="29" y="433"/>
                    </a:lnTo>
                    <a:lnTo>
                      <a:pt x="17" y="406"/>
                    </a:lnTo>
                    <a:lnTo>
                      <a:pt x="7" y="376"/>
                    </a:lnTo>
                    <a:lnTo>
                      <a:pt x="2" y="344"/>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596"/>
              <p:cNvSpPr/>
              <p:nvPr/>
            </p:nvSpPr>
            <p:spPr>
              <a:xfrm>
                <a:off x="1020600" y="1474920"/>
                <a:ext cx="708120" cy="515880"/>
              </a:xfrm>
              <a:custGeom>
                <a:avLst/>
                <a:gdLst>
                  <a:gd name="textAreaLeft" fmla="*/ 0 w 708120"/>
                  <a:gd name="textAreaRight" fmla="*/ 708480 w 708120"/>
                  <a:gd name="textAreaTop" fmla="*/ 0 h 515880"/>
                  <a:gd name="textAreaBottom" fmla="*/ 516240 h 515880"/>
                </a:gdLst>
                <a:ahLst/>
                <a:rect l="textAreaLeft" t="textAreaTop" r="textAreaRight" b="textAreaBottom"/>
                <a:pathLst>
                  <a:path w="446" h="650">
                    <a:moveTo>
                      <a:pt x="0" y="325"/>
                    </a:moveTo>
                    <a:lnTo>
                      <a:pt x="1" y="358"/>
                    </a:lnTo>
                    <a:lnTo>
                      <a:pt x="4" y="390"/>
                    </a:lnTo>
                    <a:lnTo>
                      <a:pt x="9" y="422"/>
                    </a:lnTo>
                    <a:lnTo>
                      <a:pt x="17" y="451"/>
                    </a:lnTo>
                    <a:lnTo>
                      <a:pt x="27" y="479"/>
                    </a:lnTo>
                    <a:lnTo>
                      <a:pt x="38" y="505"/>
                    </a:lnTo>
                    <a:lnTo>
                      <a:pt x="51" y="531"/>
                    </a:lnTo>
                    <a:lnTo>
                      <a:pt x="65" y="554"/>
                    </a:lnTo>
                    <a:lnTo>
                      <a:pt x="81" y="574"/>
                    </a:lnTo>
                    <a:lnTo>
                      <a:pt x="98" y="594"/>
                    </a:lnTo>
                    <a:lnTo>
                      <a:pt x="117" y="610"/>
                    </a:lnTo>
                    <a:lnTo>
                      <a:pt x="136" y="624"/>
                    </a:lnTo>
                    <a:lnTo>
                      <a:pt x="157" y="636"/>
                    </a:lnTo>
                    <a:lnTo>
                      <a:pt x="177" y="644"/>
                    </a:lnTo>
                    <a:lnTo>
                      <a:pt x="200" y="648"/>
                    </a:lnTo>
                    <a:lnTo>
                      <a:pt x="222" y="650"/>
                    </a:lnTo>
                    <a:lnTo>
                      <a:pt x="245" y="648"/>
                    </a:lnTo>
                    <a:lnTo>
                      <a:pt x="267" y="644"/>
                    </a:lnTo>
                    <a:lnTo>
                      <a:pt x="289" y="636"/>
                    </a:lnTo>
                    <a:lnTo>
                      <a:pt x="309" y="624"/>
                    </a:lnTo>
                    <a:lnTo>
                      <a:pt x="329" y="610"/>
                    </a:lnTo>
                    <a:lnTo>
                      <a:pt x="348" y="594"/>
                    </a:lnTo>
                    <a:lnTo>
                      <a:pt x="364" y="574"/>
                    </a:lnTo>
                    <a:lnTo>
                      <a:pt x="380" y="554"/>
                    </a:lnTo>
                    <a:lnTo>
                      <a:pt x="395" y="531"/>
                    </a:lnTo>
                    <a:lnTo>
                      <a:pt x="408" y="505"/>
                    </a:lnTo>
                    <a:lnTo>
                      <a:pt x="419" y="479"/>
                    </a:lnTo>
                    <a:lnTo>
                      <a:pt x="428" y="451"/>
                    </a:lnTo>
                    <a:lnTo>
                      <a:pt x="436" y="422"/>
                    </a:lnTo>
                    <a:lnTo>
                      <a:pt x="442" y="390"/>
                    </a:lnTo>
                    <a:lnTo>
                      <a:pt x="445" y="358"/>
                    </a:lnTo>
                    <a:lnTo>
                      <a:pt x="446" y="325"/>
                    </a:lnTo>
                    <a:lnTo>
                      <a:pt x="445" y="291"/>
                    </a:lnTo>
                    <a:lnTo>
                      <a:pt x="442" y="259"/>
                    </a:lnTo>
                    <a:lnTo>
                      <a:pt x="436" y="228"/>
                    </a:lnTo>
                    <a:lnTo>
                      <a:pt x="428" y="198"/>
                    </a:lnTo>
                    <a:lnTo>
                      <a:pt x="419" y="170"/>
                    </a:lnTo>
                    <a:lnTo>
                      <a:pt x="408" y="145"/>
                    </a:lnTo>
                    <a:lnTo>
                      <a:pt x="395" y="119"/>
                    </a:lnTo>
                    <a:lnTo>
                      <a:pt x="380" y="95"/>
                    </a:lnTo>
                    <a:lnTo>
                      <a:pt x="364" y="75"/>
                    </a:lnTo>
                    <a:lnTo>
                      <a:pt x="348" y="55"/>
                    </a:lnTo>
                    <a:lnTo>
                      <a:pt x="329" y="40"/>
                    </a:lnTo>
                    <a:lnTo>
                      <a:pt x="309" y="26"/>
                    </a:lnTo>
                    <a:lnTo>
                      <a:pt x="289" y="14"/>
                    </a:lnTo>
                    <a:lnTo>
                      <a:pt x="267" y="6"/>
                    </a:lnTo>
                    <a:lnTo>
                      <a:pt x="245" y="2"/>
                    </a:lnTo>
                    <a:lnTo>
                      <a:pt x="222" y="0"/>
                    </a:lnTo>
                    <a:lnTo>
                      <a:pt x="200" y="2"/>
                    </a:lnTo>
                    <a:lnTo>
                      <a:pt x="177" y="6"/>
                    </a:lnTo>
                    <a:lnTo>
                      <a:pt x="157" y="14"/>
                    </a:lnTo>
                    <a:lnTo>
                      <a:pt x="136" y="26"/>
                    </a:lnTo>
                    <a:lnTo>
                      <a:pt x="117" y="40"/>
                    </a:lnTo>
                    <a:lnTo>
                      <a:pt x="98" y="55"/>
                    </a:lnTo>
                    <a:lnTo>
                      <a:pt x="81" y="75"/>
                    </a:lnTo>
                    <a:lnTo>
                      <a:pt x="65" y="95"/>
                    </a:lnTo>
                    <a:lnTo>
                      <a:pt x="51" y="119"/>
                    </a:lnTo>
                    <a:lnTo>
                      <a:pt x="38" y="145"/>
                    </a:lnTo>
                    <a:lnTo>
                      <a:pt x="27" y="170"/>
                    </a:lnTo>
                    <a:lnTo>
                      <a:pt x="17" y="198"/>
                    </a:lnTo>
                    <a:lnTo>
                      <a:pt x="9" y="228"/>
                    </a:lnTo>
                    <a:lnTo>
                      <a:pt x="4" y="259"/>
                    </a:lnTo>
                    <a:lnTo>
                      <a:pt x="1" y="291"/>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597"/>
              <p:cNvSpPr/>
              <p:nvPr/>
            </p:nvSpPr>
            <p:spPr>
              <a:xfrm>
                <a:off x="1111320" y="1541520"/>
                <a:ext cx="527040" cy="384120"/>
              </a:xfrm>
              <a:custGeom>
                <a:avLst/>
                <a:gdLst>
                  <a:gd name="textAreaLeft" fmla="*/ 0 w 527040"/>
                  <a:gd name="textAreaRight" fmla="*/ 527400 w 527040"/>
                  <a:gd name="textAreaTop" fmla="*/ 0 h 384120"/>
                  <a:gd name="textAreaBottom" fmla="*/ 384480 h 384120"/>
                </a:gdLst>
                <a:ahLst/>
                <a:rect l="textAreaLeft" t="textAreaTop" r="textAreaRight" b="textAreaBottom"/>
                <a:pathLst>
                  <a:path w="332" h="483">
                    <a:moveTo>
                      <a:pt x="0" y="242"/>
                    </a:moveTo>
                    <a:lnTo>
                      <a:pt x="3" y="194"/>
                    </a:lnTo>
                    <a:lnTo>
                      <a:pt x="12" y="149"/>
                    </a:lnTo>
                    <a:lnTo>
                      <a:pt x="29" y="107"/>
                    </a:lnTo>
                    <a:lnTo>
                      <a:pt x="48" y="71"/>
                    </a:lnTo>
                    <a:lnTo>
                      <a:pt x="72" y="42"/>
                    </a:lnTo>
                    <a:lnTo>
                      <a:pt x="101" y="20"/>
                    </a:lnTo>
                    <a:lnTo>
                      <a:pt x="132" y="4"/>
                    </a:lnTo>
                    <a:lnTo>
                      <a:pt x="165" y="0"/>
                    </a:lnTo>
                    <a:lnTo>
                      <a:pt x="199" y="4"/>
                    </a:lnTo>
                    <a:lnTo>
                      <a:pt x="231" y="20"/>
                    </a:lnTo>
                    <a:lnTo>
                      <a:pt x="258" y="42"/>
                    </a:lnTo>
                    <a:lnTo>
                      <a:pt x="284" y="71"/>
                    </a:lnTo>
                    <a:lnTo>
                      <a:pt x="303" y="107"/>
                    </a:lnTo>
                    <a:lnTo>
                      <a:pt x="319" y="149"/>
                    </a:lnTo>
                    <a:lnTo>
                      <a:pt x="329" y="194"/>
                    </a:lnTo>
                    <a:lnTo>
                      <a:pt x="332" y="242"/>
                    </a:lnTo>
                    <a:lnTo>
                      <a:pt x="329" y="289"/>
                    </a:lnTo>
                    <a:lnTo>
                      <a:pt x="319" y="335"/>
                    </a:lnTo>
                    <a:lnTo>
                      <a:pt x="303" y="376"/>
                    </a:lnTo>
                    <a:lnTo>
                      <a:pt x="284" y="412"/>
                    </a:lnTo>
                    <a:lnTo>
                      <a:pt x="258" y="442"/>
                    </a:lnTo>
                    <a:lnTo>
                      <a:pt x="231" y="464"/>
                    </a:lnTo>
                    <a:lnTo>
                      <a:pt x="199" y="479"/>
                    </a:lnTo>
                    <a:lnTo>
                      <a:pt x="165" y="483"/>
                    </a:lnTo>
                    <a:lnTo>
                      <a:pt x="132" y="479"/>
                    </a:lnTo>
                    <a:lnTo>
                      <a:pt x="101" y="464"/>
                    </a:lnTo>
                    <a:lnTo>
                      <a:pt x="72" y="442"/>
                    </a:lnTo>
                    <a:lnTo>
                      <a:pt x="48" y="412"/>
                    </a:lnTo>
                    <a:lnTo>
                      <a:pt x="29" y="376"/>
                    </a:lnTo>
                    <a:lnTo>
                      <a:pt x="12" y="335"/>
                    </a:lnTo>
                    <a:lnTo>
                      <a:pt x="3" y="289"/>
                    </a:lnTo>
                    <a:lnTo>
                      <a:pt x="0" y="242"/>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598"/>
              <p:cNvSpPr/>
              <p:nvPr/>
            </p:nvSpPr>
            <p:spPr>
              <a:xfrm>
                <a:off x="1189080" y="1600200"/>
                <a:ext cx="369720" cy="266760"/>
              </a:xfrm>
              <a:custGeom>
                <a:avLst/>
                <a:gdLst>
                  <a:gd name="textAreaLeft" fmla="*/ 0 w 369720"/>
                  <a:gd name="textAreaRight" fmla="*/ 370080 w 369720"/>
                  <a:gd name="textAreaTop" fmla="*/ 0 h 266760"/>
                  <a:gd name="textAreaBottom" fmla="*/ 267120 h 266760"/>
                </a:gdLst>
                <a:ahLst/>
                <a:rect l="textAreaLeft" t="textAreaTop" r="textAreaRight" b="textAreaBottom"/>
                <a:pathLst>
                  <a:path w="233" h="337">
                    <a:moveTo>
                      <a:pt x="0" y="169"/>
                    </a:moveTo>
                    <a:lnTo>
                      <a:pt x="3" y="135"/>
                    </a:lnTo>
                    <a:lnTo>
                      <a:pt x="10" y="101"/>
                    </a:lnTo>
                    <a:lnTo>
                      <a:pt x="20" y="74"/>
                    </a:lnTo>
                    <a:lnTo>
                      <a:pt x="34" y="48"/>
                    </a:lnTo>
                    <a:lnTo>
                      <a:pt x="52" y="28"/>
                    </a:lnTo>
                    <a:lnTo>
                      <a:pt x="71" y="14"/>
                    </a:lnTo>
                    <a:lnTo>
                      <a:pt x="93" y="4"/>
                    </a:lnTo>
                    <a:lnTo>
                      <a:pt x="116" y="0"/>
                    </a:lnTo>
                    <a:lnTo>
                      <a:pt x="139" y="4"/>
                    </a:lnTo>
                    <a:lnTo>
                      <a:pt x="161" y="14"/>
                    </a:lnTo>
                    <a:lnTo>
                      <a:pt x="182" y="28"/>
                    </a:lnTo>
                    <a:lnTo>
                      <a:pt x="199" y="48"/>
                    </a:lnTo>
                    <a:lnTo>
                      <a:pt x="213" y="74"/>
                    </a:lnTo>
                    <a:lnTo>
                      <a:pt x="224" y="101"/>
                    </a:lnTo>
                    <a:lnTo>
                      <a:pt x="231" y="135"/>
                    </a:lnTo>
                    <a:lnTo>
                      <a:pt x="233" y="169"/>
                    </a:lnTo>
                    <a:lnTo>
                      <a:pt x="231" y="202"/>
                    </a:lnTo>
                    <a:lnTo>
                      <a:pt x="224" y="234"/>
                    </a:lnTo>
                    <a:lnTo>
                      <a:pt x="213" y="264"/>
                    </a:lnTo>
                    <a:lnTo>
                      <a:pt x="199" y="288"/>
                    </a:lnTo>
                    <a:lnTo>
                      <a:pt x="182" y="307"/>
                    </a:lnTo>
                    <a:lnTo>
                      <a:pt x="161" y="323"/>
                    </a:lnTo>
                    <a:lnTo>
                      <a:pt x="139" y="333"/>
                    </a:lnTo>
                    <a:lnTo>
                      <a:pt x="116" y="337"/>
                    </a:lnTo>
                    <a:lnTo>
                      <a:pt x="93" y="333"/>
                    </a:lnTo>
                    <a:lnTo>
                      <a:pt x="71" y="323"/>
                    </a:lnTo>
                    <a:lnTo>
                      <a:pt x="52" y="307"/>
                    </a:lnTo>
                    <a:lnTo>
                      <a:pt x="34" y="288"/>
                    </a:lnTo>
                    <a:lnTo>
                      <a:pt x="20" y="264"/>
                    </a:lnTo>
                    <a:lnTo>
                      <a:pt x="10" y="234"/>
                    </a:lnTo>
                    <a:lnTo>
                      <a:pt x="3" y="202"/>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599"/>
              <p:cNvSpPr/>
              <p:nvPr/>
            </p:nvSpPr>
            <p:spPr>
              <a:xfrm>
                <a:off x="1449360" y="1619280"/>
                <a:ext cx="109440" cy="76320"/>
              </a:xfrm>
              <a:custGeom>
                <a:avLst/>
                <a:gdLst>
                  <a:gd name="textAreaLeft" fmla="*/ 0 w 109440"/>
                  <a:gd name="textAreaRight" fmla="*/ 109800 w 109440"/>
                  <a:gd name="textAreaTop" fmla="*/ 0 h 76320"/>
                  <a:gd name="textAreaBottom" fmla="*/ 76680 h 76320"/>
                </a:gdLst>
                <a:ahLst/>
                <a:rect l="textAreaLeft" t="textAreaTop" r="textAreaRight" b="textAreaBottom"/>
                <a:pathLst>
                  <a:path w="69" h="97">
                    <a:moveTo>
                      <a:pt x="69" y="48"/>
                    </a:moveTo>
                    <a:lnTo>
                      <a:pt x="67" y="68"/>
                    </a:lnTo>
                    <a:lnTo>
                      <a:pt x="60" y="83"/>
                    </a:lnTo>
                    <a:lnTo>
                      <a:pt x="49" y="93"/>
                    </a:lnTo>
                    <a:lnTo>
                      <a:pt x="35" y="97"/>
                    </a:lnTo>
                    <a:lnTo>
                      <a:pt x="35" y="97"/>
                    </a:lnTo>
                    <a:lnTo>
                      <a:pt x="22" y="93"/>
                    </a:lnTo>
                    <a:lnTo>
                      <a:pt x="11" y="83"/>
                    </a:lnTo>
                    <a:lnTo>
                      <a:pt x="3" y="68"/>
                    </a:lnTo>
                    <a:lnTo>
                      <a:pt x="0" y="48"/>
                    </a:lnTo>
                    <a:lnTo>
                      <a:pt x="0" y="48"/>
                    </a:lnTo>
                    <a:lnTo>
                      <a:pt x="3" y="28"/>
                    </a:lnTo>
                    <a:lnTo>
                      <a:pt x="11" y="14"/>
                    </a:lnTo>
                    <a:lnTo>
                      <a:pt x="22" y="4"/>
                    </a:lnTo>
                    <a:lnTo>
                      <a:pt x="35" y="0"/>
                    </a:lnTo>
                    <a:lnTo>
                      <a:pt x="35" y="0"/>
                    </a:lnTo>
                    <a:lnTo>
                      <a:pt x="49" y="4"/>
                    </a:lnTo>
                    <a:lnTo>
                      <a:pt x="60" y="14"/>
                    </a:lnTo>
                    <a:lnTo>
                      <a:pt x="67" y="28"/>
                    </a:lnTo>
                    <a:lnTo>
                      <a:pt x="69" y="48"/>
                    </a:lnTo>
                    <a:lnTo>
                      <a:pt x="69"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6" name="Rectangle 600"/>
              <p:cNvSpPr/>
              <p:nvPr/>
            </p:nvSpPr>
            <p:spPr>
              <a:xfrm>
                <a:off x="1336680" y="1324080"/>
                <a:ext cx="5868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601"/>
              <p:cNvSpPr/>
              <p:nvPr/>
            </p:nvSpPr>
            <p:spPr>
              <a:xfrm>
                <a:off x="1065240" y="1339920"/>
                <a:ext cx="108000" cy="139680"/>
              </a:xfrm>
              <a:custGeom>
                <a:avLst/>
                <a:gdLst>
                  <a:gd name="textAreaLeft" fmla="*/ 0 w 108000"/>
                  <a:gd name="textAreaRight" fmla="*/ 108360 w 108000"/>
                  <a:gd name="textAreaTop" fmla="*/ 0 h 139680"/>
                  <a:gd name="textAreaBottom" fmla="*/ 140040 h 139680"/>
                </a:gdLst>
                <a:ahLst/>
                <a:rect l="textAreaLeft" t="textAreaTop" r="textAreaRight" b="textAreaBottom"/>
                <a:pathLst>
                  <a:path w="68" h="176">
                    <a:moveTo>
                      <a:pt x="0" y="16"/>
                    </a:moveTo>
                    <a:lnTo>
                      <a:pt x="32" y="176"/>
                    </a:lnTo>
                    <a:lnTo>
                      <a:pt x="68" y="162"/>
                    </a:lnTo>
                    <a:lnTo>
                      <a:pt x="37"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602"/>
              <p:cNvSpPr/>
              <p:nvPr/>
            </p:nvSpPr>
            <p:spPr>
              <a:xfrm>
                <a:off x="809640" y="141300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0" y="33"/>
                    </a:moveTo>
                    <a:lnTo>
                      <a:pt x="70" y="166"/>
                    </a:lnTo>
                    <a:lnTo>
                      <a:pt x="100" y="132"/>
                    </a:lnTo>
                    <a:lnTo>
                      <a:pt x="30"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603"/>
              <p:cNvSpPr/>
              <p:nvPr/>
            </p:nvSpPr>
            <p:spPr>
              <a:xfrm>
                <a:off x="638280" y="155736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0" y="46"/>
                    </a:moveTo>
                    <a:lnTo>
                      <a:pt x="93" y="143"/>
                    </a:lnTo>
                    <a:lnTo>
                      <a:pt x="115" y="99"/>
                    </a:lnTo>
                    <a:lnTo>
                      <a:pt x="22" y="0"/>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604"/>
              <p:cNvSpPr/>
              <p:nvPr/>
            </p:nvSpPr>
            <p:spPr>
              <a:xfrm>
                <a:off x="1568520" y="1339920"/>
                <a:ext cx="106200" cy="139680"/>
              </a:xfrm>
              <a:custGeom>
                <a:avLst/>
                <a:gdLst>
                  <a:gd name="textAreaLeft" fmla="*/ 0 w 106200"/>
                  <a:gd name="textAreaRight" fmla="*/ 106560 w 106200"/>
                  <a:gd name="textAreaTop" fmla="*/ 0 h 139680"/>
                  <a:gd name="textAreaBottom" fmla="*/ 140040 h 139680"/>
                </a:gdLst>
                <a:ahLst/>
                <a:rect l="textAreaLeft" t="textAreaTop" r="textAreaRight" b="textAreaBottom"/>
                <a:pathLst>
                  <a:path w="67" h="176">
                    <a:moveTo>
                      <a:pt x="67" y="16"/>
                    </a:moveTo>
                    <a:lnTo>
                      <a:pt x="35" y="176"/>
                    </a:lnTo>
                    <a:lnTo>
                      <a:pt x="0" y="162"/>
                    </a:lnTo>
                    <a:lnTo>
                      <a:pt x="31" y="0"/>
                    </a:lnTo>
                    <a:lnTo>
                      <a:pt x="6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605"/>
              <p:cNvSpPr/>
              <p:nvPr/>
            </p:nvSpPr>
            <p:spPr>
              <a:xfrm>
                <a:off x="1771560" y="141300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100" y="33"/>
                    </a:moveTo>
                    <a:lnTo>
                      <a:pt x="30" y="166"/>
                    </a:lnTo>
                    <a:lnTo>
                      <a:pt x="0" y="132"/>
                    </a:lnTo>
                    <a:lnTo>
                      <a:pt x="70" y="0"/>
                    </a:lnTo>
                    <a:lnTo>
                      <a:pt x="10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606"/>
              <p:cNvSpPr/>
              <p:nvPr/>
            </p:nvSpPr>
            <p:spPr>
              <a:xfrm>
                <a:off x="1919160" y="155736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115" y="46"/>
                    </a:moveTo>
                    <a:lnTo>
                      <a:pt x="23" y="143"/>
                    </a:lnTo>
                    <a:lnTo>
                      <a:pt x="0" y="99"/>
                    </a:lnTo>
                    <a:lnTo>
                      <a:pt x="93" y="0"/>
                    </a:lnTo>
                    <a:lnTo>
                      <a:pt x="11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607"/>
            <p:cNvGrpSpPr/>
            <p:nvPr/>
          </p:nvGrpSpPr>
          <p:grpSpPr>
            <a:xfrm>
              <a:off x="2270160" y="1328760"/>
              <a:ext cx="1463760" cy="728640"/>
              <a:chOff x="2270160" y="1328760"/>
              <a:chExt cx="1463760" cy="728640"/>
            </a:xfrm>
          </p:grpSpPr>
          <p:sp>
            <p:nvSpPr>
              <p:cNvPr id="134" name="Freeform 608"/>
              <p:cNvSpPr/>
              <p:nvPr/>
            </p:nvSpPr>
            <p:spPr>
              <a:xfrm>
                <a:off x="2368440" y="1452600"/>
                <a:ext cx="1289160" cy="604800"/>
              </a:xfrm>
              <a:custGeom>
                <a:avLst/>
                <a:gdLst>
                  <a:gd name="textAreaLeft" fmla="*/ 0 w 1289160"/>
                  <a:gd name="textAreaRight" fmla="*/ 1289520 w 1289160"/>
                  <a:gd name="textAreaTop" fmla="*/ 0 h 604800"/>
                  <a:gd name="textAreaBottom" fmla="*/ 605160 h 604800"/>
                </a:gdLst>
                <a:ahLst/>
                <a:rect l="textAreaLeft" t="textAreaTop" r="textAreaRight" b="textAreaBottom"/>
                <a:pathLst>
                  <a:path w="812" h="763">
                    <a:moveTo>
                      <a:pt x="405" y="0"/>
                    </a:moveTo>
                    <a:lnTo>
                      <a:pt x="364" y="2"/>
                    </a:lnTo>
                    <a:lnTo>
                      <a:pt x="323" y="8"/>
                    </a:lnTo>
                    <a:lnTo>
                      <a:pt x="285" y="18"/>
                    </a:lnTo>
                    <a:lnTo>
                      <a:pt x="248" y="30"/>
                    </a:lnTo>
                    <a:lnTo>
                      <a:pt x="213" y="46"/>
                    </a:lnTo>
                    <a:lnTo>
                      <a:pt x="179" y="66"/>
                    </a:lnTo>
                    <a:lnTo>
                      <a:pt x="148" y="88"/>
                    </a:lnTo>
                    <a:lnTo>
                      <a:pt x="118" y="111"/>
                    </a:lnTo>
                    <a:lnTo>
                      <a:pt x="93" y="139"/>
                    </a:lnTo>
                    <a:lnTo>
                      <a:pt x="69" y="169"/>
                    </a:lnTo>
                    <a:lnTo>
                      <a:pt x="49" y="198"/>
                    </a:lnTo>
                    <a:lnTo>
                      <a:pt x="31" y="232"/>
                    </a:lnTo>
                    <a:lnTo>
                      <a:pt x="17" y="268"/>
                    </a:lnTo>
                    <a:lnTo>
                      <a:pt x="8" y="303"/>
                    </a:lnTo>
                    <a:lnTo>
                      <a:pt x="2" y="341"/>
                    </a:lnTo>
                    <a:lnTo>
                      <a:pt x="0" y="381"/>
                    </a:lnTo>
                    <a:lnTo>
                      <a:pt x="2" y="420"/>
                    </a:lnTo>
                    <a:lnTo>
                      <a:pt x="8" y="458"/>
                    </a:lnTo>
                    <a:lnTo>
                      <a:pt x="17" y="494"/>
                    </a:lnTo>
                    <a:lnTo>
                      <a:pt x="31" y="529"/>
                    </a:lnTo>
                    <a:lnTo>
                      <a:pt x="49" y="563"/>
                    </a:lnTo>
                    <a:lnTo>
                      <a:pt x="69" y="595"/>
                    </a:lnTo>
                    <a:lnTo>
                      <a:pt x="93" y="624"/>
                    </a:lnTo>
                    <a:lnTo>
                      <a:pt x="118" y="650"/>
                    </a:lnTo>
                    <a:lnTo>
                      <a:pt x="148" y="676"/>
                    </a:lnTo>
                    <a:lnTo>
                      <a:pt x="179" y="698"/>
                    </a:lnTo>
                    <a:lnTo>
                      <a:pt x="213" y="717"/>
                    </a:lnTo>
                    <a:lnTo>
                      <a:pt x="248" y="733"/>
                    </a:lnTo>
                    <a:lnTo>
                      <a:pt x="285" y="745"/>
                    </a:lnTo>
                    <a:lnTo>
                      <a:pt x="323" y="755"/>
                    </a:lnTo>
                    <a:lnTo>
                      <a:pt x="364" y="761"/>
                    </a:lnTo>
                    <a:lnTo>
                      <a:pt x="405" y="763"/>
                    </a:lnTo>
                    <a:lnTo>
                      <a:pt x="446" y="761"/>
                    </a:lnTo>
                    <a:lnTo>
                      <a:pt x="487" y="755"/>
                    </a:lnTo>
                    <a:lnTo>
                      <a:pt x="525" y="745"/>
                    </a:lnTo>
                    <a:lnTo>
                      <a:pt x="564" y="733"/>
                    </a:lnTo>
                    <a:lnTo>
                      <a:pt x="599" y="717"/>
                    </a:lnTo>
                    <a:lnTo>
                      <a:pt x="632" y="698"/>
                    </a:lnTo>
                    <a:lnTo>
                      <a:pt x="663" y="676"/>
                    </a:lnTo>
                    <a:lnTo>
                      <a:pt x="693" y="650"/>
                    </a:lnTo>
                    <a:lnTo>
                      <a:pt x="719" y="624"/>
                    </a:lnTo>
                    <a:lnTo>
                      <a:pt x="742" y="595"/>
                    </a:lnTo>
                    <a:lnTo>
                      <a:pt x="763" y="563"/>
                    </a:lnTo>
                    <a:lnTo>
                      <a:pt x="781" y="529"/>
                    </a:lnTo>
                    <a:lnTo>
                      <a:pt x="794" y="494"/>
                    </a:lnTo>
                    <a:lnTo>
                      <a:pt x="804" y="458"/>
                    </a:lnTo>
                    <a:lnTo>
                      <a:pt x="809" y="420"/>
                    </a:lnTo>
                    <a:lnTo>
                      <a:pt x="812" y="381"/>
                    </a:lnTo>
                    <a:lnTo>
                      <a:pt x="809" y="341"/>
                    </a:lnTo>
                    <a:lnTo>
                      <a:pt x="804" y="303"/>
                    </a:lnTo>
                    <a:lnTo>
                      <a:pt x="794" y="268"/>
                    </a:lnTo>
                    <a:lnTo>
                      <a:pt x="781" y="232"/>
                    </a:lnTo>
                    <a:lnTo>
                      <a:pt x="763" y="198"/>
                    </a:lnTo>
                    <a:lnTo>
                      <a:pt x="742" y="169"/>
                    </a:lnTo>
                    <a:lnTo>
                      <a:pt x="719" y="139"/>
                    </a:lnTo>
                    <a:lnTo>
                      <a:pt x="693" y="111"/>
                    </a:lnTo>
                    <a:lnTo>
                      <a:pt x="663" y="88"/>
                    </a:lnTo>
                    <a:lnTo>
                      <a:pt x="632" y="66"/>
                    </a:lnTo>
                    <a:lnTo>
                      <a:pt x="599" y="46"/>
                    </a:lnTo>
                    <a:lnTo>
                      <a:pt x="564" y="30"/>
                    </a:lnTo>
                    <a:lnTo>
                      <a:pt x="525" y="18"/>
                    </a:lnTo>
                    <a:lnTo>
                      <a:pt x="487" y="8"/>
                    </a:lnTo>
                    <a:lnTo>
                      <a:pt x="446" y="2"/>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609"/>
              <p:cNvSpPr/>
              <p:nvPr/>
            </p:nvSpPr>
            <p:spPr>
              <a:xfrm>
                <a:off x="2443320" y="1495440"/>
                <a:ext cx="1137960" cy="496800"/>
              </a:xfrm>
              <a:custGeom>
                <a:avLst/>
                <a:gdLst>
                  <a:gd name="textAreaLeft" fmla="*/ 0 w 1137960"/>
                  <a:gd name="textAreaRight" fmla="*/ 1138320 w 1137960"/>
                  <a:gd name="textAreaTop" fmla="*/ 0 h 496800"/>
                  <a:gd name="textAreaBottom" fmla="*/ 497160 h 496800"/>
                </a:gdLst>
                <a:ahLst/>
                <a:rect l="textAreaLeft" t="textAreaTop" r="textAreaRight" b="textAreaBottom"/>
                <a:pathLst>
                  <a:path w="717" h="626">
                    <a:moveTo>
                      <a:pt x="0" y="313"/>
                    </a:moveTo>
                    <a:lnTo>
                      <a:pt x="2" y="281"/>
                    </a:lnTo>
                    <a:lnTo>
                      <a:pt x="7" y="249"/>
                    </a:lnTo>
                    <a:lnTo>
                      <a:pt x="17" y="220"/>
                    </a:lnTo>
                    <a:lnTo>
                      <a:pt x="29" y="192"/>
                    </a:lnTo>
                    <a:lnTo>
                      <a:pt x="44" y="164"/>
                    </a:lnTo>
                    <a:lnTo>
                      <a:pt x="62" y="138"/>
                    </a:lnTo>
                    <a:lnTo>
                      <a:pt x="82" y="115"/>
                    </a:lnTo>
                    <a:lnTo>
                      <a:pt x="106" y="91"/>
                    </a:lnTo>
                    <a:lnTo>
                      <a:pt x="132" y="71"/>
                    </a:lnTo>
                    <a:lnTo>
                      <a:pt x="159" y="53"/>
                    </a:lnTo>
                    <a:lnTo>
                      <a:pt x="187" y="37"/>
                    </a:lnTo>
                    <a:lnTo>
                      <a:pt x="219" y="24"/>
                    </a:lnTo>
                    <a:lnTo>
                      <a:pt x="252" y="14"/>
                    </a:lnTo>
                    <a:lnTo>
                      <a:pt x="286" y="6"/>
                    </a:lnTo>
                    <a:lnTo>
                      <a:pt x="321" y="2"/>
                    </a:lnTo>
                    <a:lnTo>
                      <a:pt x="358" y="0"/>
                    </a:lnTo>
                    <a:lnTo>
                      <a:pt x="395" y="2"/>
                    </a:lnTo>
                    <a:lnTo>
                      <a:pt x="430" y="6"/>
                    </a:lnTo>
                    <a:lnTo>
                      <a:pt x="465" y="14"/>
                    </a:lnTo>
                    <a:lnTo>
                      <a:pt x="497" y="24"/>
                    </a:lnTo>
                    <a:lnTo>
                      <a:pt x="529" y="37"/>
                    </a:lnTo>
                    <a:lnTo>
                      <a:pt x="559" y="53"/>
                    </a:lnTo>
                    <a:lnTo>
                      <a:pt x="586" y="71"/>
                    </a:lnTo>
                    <a:lnTo>
                      <a:pt x="612" y="91"/>
                    </a:lnTo>
                    <a:lnTo>
                      <a:pt x="635" y="115"/>
                    </a:lnTo>
                    <a:lnTo>
                      <a:pt x="656" y="138"/>
                    </a:lnTo>
                    <a:lnTo>
                      <a:pt x="674" y="164"/>
                    </a:lnTo>
                    <a:lnTo>
                      <a:pt x="689" y="192"/>
                    </a:lnTo>
                    <a:lnTo>
                      <a:pt x="701" y="220"/>
                    </a:lnTo>
                    <a:lnTo>
                      <a:pt x="710" y="249"/>
                    </a:lnTo>
                    <a:lnTo>
                      <a:pt x="716" y="281"/>
                    </a:lnTo>
                    <a:lnTo>
                      <a:pt x="717" y="313"/>
                    </a:lnTo>
                    <a:lnTo>
                      <a:pt x="716" y="344"/>
                    </a:lnTo>
                    <a:lnTo>
                      <a:pt x="710" y="376"/>
                    </a:lnTo>
                    <a:lnTo>
                      <a:pt x="701" y="406"/>
                    </a:lnTo>
                    <a:lnTo>
                      <a:pt x="689" y="433"/>
                    </a:lnTo>
                    <a:lnTo>
                      <a:pt x="674" y="461"/>
                    </a:lnTo>
                    <a:lnTo>
                      <a:pt x="656" y="487"/>
                    </a:lnTo>
                    <a:lnTo>
                      <a:pt x="635" y="511"/>
                    </a:lnTo>
                    <a:lnTo>
                      <a:pt x="612" y="534"/>
                    </a:lnTo>
                    <a:lnTo>
                      <a:pt x="586" y="554"/>
                    </a:lnTo>
                    <a:lnTo>
                      <a:pt x="559" y="572"/>
                    </a:lnTo>
                    <a:lnTo>
                      <a:pt x="529" y="588"/>
                    </a:lnTo>
                    <a:lnTo>
                      <a:pt x="497" y="602"/>
                    </a:lnTo>
                    <a:lnTo>
                      <a:pt x="465" y="612"/>
                    </a:lnTo>
                    <a:lnTo>
                      <a:pt x="430" y="620"/>
                    </a:lnTo>
                    <a:lnTo>
                      <a:pt x="395" y="624"/>
                    </a:lnTo>
                    <a:lnTo>
                      <a:pt x="358" y="626"/>
                    </a:lnTo>
                    <a:lnTo>
                      <a:pt x="321" y="624"/>
                    </a:lnTo>
                    <a:lnTo>
                      <a:pt x="286" y="620"/>
                    </a:lnTo>
                    <a:lnTo>
                      <a:pt x="252" y="612"/>
                    </a:lnTo>
                    <a:lnTo>
                      <a:pt x="219" y="602"/>
                    </a:lnTo>
                    <a:lnTo>
                      <a:pt x="187" y="588"/>
                    </a:lnTo>
                    <a:lnTo>
                      <a:pt x="159" y="572"/>
                    </a:lnTo>
                    <a:lnTo>
                      <a:pt x="132" y="554"/>
                    </a:lnTo>
                    <a:lnTo>
                      <a:pt x="106" y="534"/>
                    </a:lnTo>
                    <a:lnTo>
                      <a:pt x="82" y="511"/>
                    </a:lnTo>
                    <a:lnTo>
                      <a:pt x="62" y="487"/>
                    </a:lnTo>
                    <a:lnTo>
                      <a:pt x="44" y="461"/>
                    </a:lnTo>
                    <a:lnTo>
                      <a:pt x="29" y="433"/>
                    </a:lnTo>
                    <a:lnTo>
                      <a:pt x="17" y="406"/>
                    </a:lnTo>
                    <a:lnTo>
                      <a:pt x="7" y="376"/>
                    </a:lnTo>
                    <a:lnTo>
                      <a:pt x="2" y="344"/>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610"/>
              <p:cNvSpPr/>
              <p:nvPr/>
            </p:nvSpPr>
            <p:spPr>
              <a:xfrm>
                <a:off x="2652840" y="1479600"/>
                <a:ext cx="707760" cy="515880"/>
              </a:xfrm>
              <a:custGeom>
                <a:avLst/>
                <a:gdLst>
                  <a:gd name="textAreaLeft" fmla="*/ 0 w 707760"/>
                  <a:gd name="textAreaRight" fmla="*/ 707760 w 707760"/>
                  <a:gd name="textAreaTop" fmla="*/ 0 h 515880"/>
                  <a:gd name="textAreaBottom" fmla="*/ 516240 h 515880"/>
                </a:gdLst>
                <a:ahLst/>
                <a:rect l="textAreaLeft" t="textAreaTop" r="textAreaRight" b="textAreaBottom"/>
                <a:pathLst>
                  <a:path w="446" h="650">
                    <a:moveTo>
                      <a:pt x="0" y="325"/>
                    </a:moveTo>
                    <a:lnTo>
                      <a:pt x="1" y="358"/>
                    </a:lnTo>
                    <a:lnTo>
                      <a:pt x="4" y="390"/>
                    </a:lnTo>
                    <a:lnTo>
                      <a:pt x="9" y="422"/>
                    </a:lnTo>
                    <a:lnTo>
                      <a:pt x="17" y="451"/>
                    </a:lnTo>
                    <a:lnTo>
                      <a:pt x="27" y="479"/>
                    </a:lnTo>
                    <a:lnTo>
                      <a:pt x="38" y="505"/>
                    </a:lnTo>
                    <a:lnTo>
                      <a:pt x="51" y="531"/>
                    </a:lnTo>
                    <a:lnTo>
                      <a:pt x="65" y="554"/>
                    </a:lnTo>
                    <a:lnTo>
                      <a:pt x="81" y="574"/>
                    </a:lnTo>
                    <a:lnTo>
                      <a:pt x="98" y="594"/>
                    </a:lnTo>
                    <a:lnTo>
                      <a:pt x="117" y="610"/>
                    </a:lnTo>
                    <a:lnTo>
                      <a:pt x="136" y="624"/>
                    </a:lnTo>
                    <a:lnTo>
                      <a:pt x="157" y="636"/>
                    </a:lnTo>
                    <a:lnTo>
                      <a:pt x="177" y="644"/>
                    </a:lnTo>
                    <a:lnTo>
                      <a:pt x="200" y="648"/>
                    </a:lnTo>
                    <a:lnTo>
                      <a:pt x="222" y="650"/>
                    </a:lnTo>
                    <a:lnTo>
                      <a:pt x="245" y="648"/>
                    </a:lnTo>
                    <a:lnTo>
                      <a:pt x="267" y="644"/>
                    </a:lnTo>
                    <a:lnTo>
                      <a:pt x="289" y="636"/>
                    </a:lnTo>
                    <a:lnTo>
                      <a:pt x="309" y="624"/>
                    </a:lnTo>
                    <a:lnTo>
                      <a:pt x="329" y="610"/>
                    </a:lnTo>
                    <a:lnTo>
                      <a:pt x="348" y="594"/>
                    </a:lnTo>
                    <a:lnTo>
                      <a:pt x="364" y="574"/>
                    </a:lnTo>
                    <a:lnTo>
                      <a:pt x="380" y="554"/>
                    </a:lnTo>
                    <a:lnTo>
                      <a:pt x="395" y="531"/>
                    </a:lnTo>
                    <a:lnTo>
                      <a:pt x="408" y="505"/>
                    </a:lnTo>
                    <a:lnTo>
                      <a:pt x="419" y="479"/>
                    </a:lnTo>
                    <a:lnTo>
                      <a:pt x="428" y="451"/>
                    </a:lnTo>
                    <a:lnTo>
                      <a:pt x="436" y="422"/>
                    </a:lnTo>
                    <a:lnTo>
                      <a:pt x="442" y="390"/>
                    </a:lnTo>
                    <a:lnTo>
                      <a:pt x="445" y="358"/>
                    </a:lnTo>
                    <a:lnTo>
                      <a:pt x="446" y="325"/>
                    </a:lnTo>
                    <a:lnTo>
                      <a:pt x="445" y="291"/>
                    </a:lnTo>
                    <a:lnTo>
                      <a:pt x="442" y="259"/>
                    </a:lnTo>
                    <a:lnTo>
                      <a:pt x="436" y="228"/>
                    </a:lnTo>
                    <a:lnTo>
                      <a:pt x="428" y="198"/>
                    </a:lnTo>
                    <a:lnTo>
                      <a:pt x="419" y="170"/>
                    </a:lnTo>
                    <a:lnTo>
                      <a:pt x="408" y="145"/>
                    </a:lnTo>
                    <a:lnTo>
                      <a:pt x="395" y="119"/>
                    </a:lnTo>
                    <a:lnTo>
                      <a:pt x="380" y="95"/>
                    </a:lnTo>
                    <a:lnTo>
                      <a:pt x="364" y="75"/>
                    </a:lnTo>
                    <a:lnTo>
                      <a:pt x="348" y="55"/>
                    </a:lnTo>
                    <a:lnTo>
                      <a:pt x="329" y="40"/>
                    </a:lnTo>
                    <a:lnTo>
                      <a:pt x="309" y="26"/>
                    </a:lnTo>
                    <a:lnTo>
                      <a:pt x="289" y="14"/>
                    </a:lnTo>
                    <a:lnTo>
                      <a:pt x="267" y="6"/>
                    </a:lnTo>
                    <a:lnTo>
                      <a:pt x="245" y="2"/>
                    </a:lnTo>
                    <a:lnTo>
                      <a:pt x="222" y="0"/>
                    </a:lnTo>
                    <a:lnTo>
                      <a:pt x="200" y="2"/>
                    </a:lnTo>
                    <a:lnTo>
                      <a:pt x="177" y="6"/>
                    </a:lnTo>
                    <a:lnTo>
                      <a:pt x="157" y="14"/>
                    </a:lnTo>
                    <a:lnTo>
                      <a:pt x="136" y="26"/>
                    </a:lnTo>
                    <a:lnTo>
                      <a:pt x="117" y="40"/>
                    </a:lnTo>
                    <a:lnTo>
                      <a:pt x="98" y="55"/>
                    </a:lnTo>
                    <a:lnTo>
                      <a:pt x="81" y="75"/>
                    </a:lnTo>
                    <a:lnTo>
                      <a:pt x="65" y="95"/>
                    </a:lnTo>
                    <a:lnTo>
                      <a:pt x="51" y="119"/>
                    </a:lnTo>
                    <a:lnTo>
                      <a:pt x="38" y="145"/>
                    </a:lnTo>
                    <a:lnTo>
                      <a:pt x="27" y="170"/>
                    </a:lnTo>
                    <a:lnTo>
                      <a:pt x="17" y="198"/>
                    </a:lnTo>
                    <a:lnTo>
                      <a:pt x="9" y="228"/>
                    </a:lnTo>
                    <a:lnTo>
                      <a:pt x="4" y="259"/>
                    </a:lnTo>
                    <a:lnTo>
                      <a:pt x="1" y="291"/>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611"/>
              <p:cNvSpPr/>
              <p:nvPr/>
            </p:nvSpPr>
            <p:spPr>
              <a:xfrm>
                <a:off x="2743200" y="1546200"/>
                <a:ext cx="527040" cy="384120"/>
              </a:xfrm>
              <a:custGeom>
                <a:avLst/>
                <a:gdLst>
                  <a:gd name="textAreaLeft" fmla="*/ 0 w 527040"/>
                  <a:gd name="textAreaRight" fmla="*/ 527400 w 527040"/>
                  <a:gd name="textAreaTop" fmla="*/ 0 h 384120"/>
                  <a:gd name="textAreaBottom" fmla="*/ 384480 h 384120"/>
                </a:gdLst>
                <a:ahLst/>
                <a:rect l="textAreaLeft" t="textAreaTop" r="textAreaRight" b="textAreaBottom"/>
                <a:pathLst>
                  <a:path w="332" h="483">
                    <a:moveTo>
                      <a:pt x="0" y="242"/>
                    </a:moveTo>
                    <a:lnTo>
                      <a:pt x="3" y="194"/>
                    </a:lnTo>
                    <a:lnTo>
                      <a:pt x="12" y="149"/>
                    </a:lnTo>
                    <a:lnTo>
                      <a:pt x="29" y="107"/>
                    </a:lnTo>
                    <a:lnTo>
                      <a:pt x="48" y="71"/>
                    </a:lnTo>
                    <a:lnTo>
                      <a:pt x="72" y="42"/>
                    </a:lnTo>
                    <a:lnTo>
                      <a:pt x="101" y="20"/>
                    </a:lnTo>
                    <a:lnTo>
                      <a:pt x="132" y="4"/>
                    </a:lnTo>
                    <a:lnTo>
                      <a:pt x="165" y="0"/>
                    </a:lnTo>
                    <a:lnTo>
                      <a:pt x="199" y="4"/>
                    </a:lnTo>
                    <a:lnTo>
                      <a:pt x="231" y="20"/>
                    </a:lnTo>
                    <a:lnTo>
                      <a:pt x="258" y="42"/>
                    </a:lnTo>
                    <a:lnTo>
                      <a:pt x="284" y="71"/>
                    </a:lnTo>
                    <a:lnTo>
                      <a:pt x="303" y="107"/>
                    </a:lnTo>
                    <a:lnTo>
                      <a:pt x="319" y="149"/>
                    </a:lnTo>
                    <a:lnTo>
                      <a:pt x="329" y="194"/>
                    </a:lnTo>
                    <a:lnTo>
                      <a:pt x="332" y="242"/>
                    </a:lnTo>
                    <a:lnTo>
                      <a:pt x="329" y="289"/>
                    </a:lnTo>
                    <a:lnTo>
                      <a:pt x="319" y="335"/>
                    </a:lnTo>
                    <a:lnTo>
                      <a:pt x="303" y="376"/>
                    </a:lnTo>
                    <a:lnTo>
                      <a:pt x="284" y="412"/>
                    </a:lnTo>
                    <a:lnTo>
                      <a:pt x="258" y="442"/>
                    </a:lnTo>
                    <a:lnTo>
                      <a:pt x="231" y="464"/>
                    </a:lnTo>
                    <a:lnTo>
                      <a:pt x="199" y="479"/>
                    </a:lnTo>
                    <a:lnTo>
                      <a:pt x="165" y="483"/>
                    </a:lnTo>
                    <a:lnTo>
                      <a:pt x="132" y="479"/>
                    </a:lnTo>
                    <a:lnTo>
                      <a:pt x="101" y="464"/>
                    </a:lnTo>
                    <a:lnTo>
                      <a:pt x="72" y="442"/>
                    </a:lnTo>
                    <a:lnTo>
                      <a:pt x="48" y="412"/>
                    </a:lnTo>
                    <a:lnTo>
                      <a:pt x="29" y="376"/>
                    </a:lnTo>
                    <a:lnTo>
                      <a:pt x="12" y="335"/>
                    </a:lnTo>
                    <a:lnTo>
                      <a:pt x="3" y="289"/>
                    </a:lnTo>
                    <a:lnTo>
                      <a:pt x="0" y="242"/>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612"/>
              <p:cNvSpPr/>
              <p:nvPr/>
            </p:nvSpPr>
            <p:spPr>
              <a:xfrm>
                <a:off x="2820960" y="1604880"/>
                <a:ext cx="370080" cy="266760"/>
              </a:xfrm>
              <a:custGeom>
                <a:avLst/>
                <a:gdLst>
                  <a:gd name="textAreaLeft" fmla="*/ 0 w 370080"/>
                  <a:gd name="textAreaRight" fmla="*/ 370440 w 370080"/>
                  <a:gd name="textAreaTop" fmla="*/ 0 h 266760"/>
                  <a:gd name="textAreaBottom" fmla="*/ 267120 h 266760"/>
                </a:gdLst>
                <a:ahLst/>
                <a:rect l="textAreaLeft" t="textAreaTop" r="textAreaRight" b="textAreaBottom"/>
                <a:pathLst>
                  <a:path w="233" h="337">
                    <a:moveTo>
                      <a:pt x="0" y="169"/>
                    </a:moveTo>
                    <a:lnTo>
                      <a:pt x="3" y="135"/>
                    </a:lnTo>
                    <a:lnTo>
                      <a:pt x="10" y="101"/>
                    </a:lnTo>
                    <a:lnTo>
                      <a:pt x="20" y="74"/>
                    </a:lnTo>
                    <a:lnTo>
                      <a:pt x="34" y="48"/>
                    </a:lnTo>
                    <a:lnTo>
                      <a:pt x="52" y="28"/>
                    </a:lnTo>
                    <a:lnTo>
                      <a:pt x="71" y="14"/>
                    </a:lnTo>
                    <a:lnTo>
                      <a:pt x="93" y="4"/>
                    </a:lnTo>
                    <a:lnTo>
                      <a:pt x="116" y="0"/>
                    </a:lnTo>
                    <a:lnTo>
                      <a:pt x="139" y="4"/>
                    </a:lnTo>
                    <a:lnTo>
                      <a:pt x="161" y="14"/>
                    </a:lnTo>
                    <a:lnTo>
                      <a:pt x="182" y="28"/>
                    </a:lnTo>
                    <a:lnTo>
                      <a:pt x="199" y="48"/>
                    </a:lnTo>
                    <a:lnTo>
                      <a:pt x="213" y="74"/>
                    </a:lnTo>
                    <a:lnTo>
                      <a:pt x="224" y="101"/>
                    </a:lnTo>
                    <a:lnTo>
                      <a:pt x="231" y="135"/>
                    </a:lnTo>
                    <a:lnTo>
                      <a:pt x="233" y="169"/>
                    </a:lnTo>
                    <a:lnTo>
                      <a:pt x="231" y="202"/>
                    </a:lnTo>
                    <a:lnTo>
                      <a:pt x="224" y="234"/>
                    </a:lnTo>
                    <a:lnTo>
                      <a:pt x="213" y="264"/>
                    </a:lnTo>
                    <a:lnTo>
                      <a:pt x="199" y="288"/>
                    </a:lnTo>
                    <a:lnTo>
                      <a:pt x="182" y="307"/>
                    </a:lnTo>
                    <a:lnTo>
                      <a:pt x="161" y="323"/>
                    </a:lnTo>
                    <a:lnTo>
                      <a:pt x="139" y="333"/>
                    </a:lnTo>
                    <a:lnTo>
                      <a:pt x="116" y="337"/>
                    </a:lnTo>
                    <a:lnTo>
                      <a:pt x="93" y="333"/>
                    </a:lnTo>
                    <a:lnTo>
                      <a:pt x="71" y="323"/>
                    </a:lnTo>
                    <a:lnTo>
                      <a:pt x="52" y="307"/>
                    </a:lnTo>
                    <a:lnTo>
                      <a:pt x="34" y="288"/>
                    </a:lnTo>
                    <a:lnTo>
                      <a:pt x="20" y="264"/>
                    </a:lnTo>
                    <a:lnTo>
                      <a:pt x="10" y="234"/>
                    </a:lnTo>
                    <a:lnTo>
                      <a:pt x="3" y="202"/>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613"/>
              <p:cNvSpPr/>
              <p:nvPr/>
            </p:nvSpPr>
            <p:spPr>
              <a:xfrm>
                <a:off x="3081240" y="1623960"/>
                <a:ext cx="109800" cy="76320"/>
              </a:xfrm>
              <a:custGeom>
                <a:avLst/>
                <a:gdLst>
                  <a:gd name="textAreaLeft" fmla="*/ 0 w 109800"/>
                  <a:gd name="textAreaRight" fmla="*/ 110160 w 109800"/>
                  <a:gd name="textAreaTop" fmla="*/ 0 h 76320"/>
                  <a:gd name="textAreaBottom" fmla="*/ 76680 h 76320"/>
                </a:gdLst>
                <a:ahLst/>
                <a:rect l="textAreaLeft" t="textAreaTop" r="textAreaRight" b="textAreaBottom"/>
                <a:pathLst>
                  <a:path w="69" h="97">
                    <a:moveTo>
                      <a:pt x="69" y="48"/>
                    </a:moveTo>
                    <a:lnTo>
                      <a:pt x="67" y="68"/>
                    </a:lnTo>
                    <a:lnTo>
                      <a:pt x="60" y="83"/>
                    </a:lnTo>
                    <a:lnTo>
                      <a:pt x="49" y="93"/>
                    </a:lnTo>
                    <a:lnTo>
                      <a:pt x="35" y="97"/>
                    </a:lnTo>
                    <a:lnTo>
                      <a:pt x="35" y="97"/>
                    </a:lnTo>
                    <a:lnTo>
                      <a:pt x="22" y="93"/>
                    </a:lnTo>
                    <a:lnTo>
                      <a:pt x="11" y="83"/>
                    </a:lnTo>
                    <a:lnTo>
                      <a:pt x="3" y="68"/>
                    </a:lnTo>
                    <a:lnTo>
                      <a:pt x="0" y="48"/>
                    </a:lnTo>
                    <a:lnTo>
                      <a:pt x="0" y="48"/>
                    </a:lnTo>
                    <a:lnTo>
                      <a:pt x="3" y="28"/>
                    </a:lnTo>
                    <a:lnTo>
                      <a:pt x="11" y="14"/>
                    </a:lnTo>
                    <a:lnTo>
                      <a:pt x="22" y="4"/>
                    </a:lnTo>
                    <a:lnTo>
                      <a:pt x="35" y="0"/>
                    </a:lnTo>
                    <a:lnTo>
                      <a:pt x="35" y="0"/>
                    </a:lnTo>
                    <a:lnTo>
                      <a:pt x="49" y="4"/>
                    </a:lnTo>
                    <a:lnTo>
                      <a:pt x="60" y="14"/>
                    </a:lnTo>
                    <a:lnTo>
                      <a:pt x="67" y="28"/>
                    </a:lnTo>
                    <a:lnTo>
                      <a:pt x="69" y="48"/>
                    </a:lnTo>
                    <a:lnTo>
                      <a:pt x="69"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 name="Rectangle 614"/>
              <p:cNvSpPr/>
              <p:nvPr/>
            </p:nvSpPr>
            <p:spPr>
              <a:xfrm>
                <a:off x="2968560" y="1328760"/>
                <a:ext cx="5868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Freeform 615"/>
              <p:cNvSpPr/>
              <p:nvPr/>
            </p:nvSpPr>
            <p:spPr>
              <a:xfrm>
                <a:off x="2697120" y="1344600"/>
                <a:ext cx="108000" cy="139680"/>
              </a:xfrm>
              <a:custGeom>
                <a:avLst/>
                <a:gdLst>
                  <a:gd name="textAreaLeft" fmla="*/ 0 w 108000"/>
                  <a:gd name="textAreaRight" fmla="*/ 108360 w 108000"/>
                  <a:gd name="textAreaTop" fmla="*/ 0 h 139680"/>
                  <a:gd name="textAreaBottom" fmla="*/ 140040 h 139680"/>
                </a:gdLst>
                <a:ahLst/>
                <a:rect l="textAreaLeft" t="textAreaTop" r="textAreaRight" b="textAreaBottom"/>
                <a:pathLst>
                  <a:path w="68" h="176">
                    <a:moveTo>
                      <a:pt x="0" y="16"/>
                    </a:moveTo>
                    <a:lnTo>
                      <a:pt x="32" y="176"/>
                    </a:lnTo>
                    <a:lnTo>
                      <a:pt x="68" y="162"/>
                    </a:lnTo>
                    <a:lnTo>
                      <a:pt x="37"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616"/>
              <p:cNvSpPr/>
              <p:nvPr/>
            </p:nvSpPr>
            <p:spPr>
              <a:xfrm>
                <a:off x="2441520" y="141768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0" y="33"/>
                    </a:moveTo>
                    <a:lnTo>
                      <a:pt x="70" y="166"/>
                    </a:lnTo>
                    <a:lnTo>
                      <a:pt x="100" y="132"/>
                    </a:lnTo>
                    <a:lnTo>
                      <a:pt x="30"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617"/>
              <p:cNvSpPr/>
              <p:nvPr/>
            </p:nvSpPr>
            <p:spPr>
              <a:xfrm>
                <a:off x="2270160" y="156204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0" y="46"/>
                    </a:moveTo>
                    <a:lnTo>
                      <a:pt x="93" y="143"/>
                    </a:lnTo>
                    <a:lnTo>
                      <a:pt x="115" y="99"/>
                    </a:lnTo>
                    <a:lnTo>
                      <a:pt x="22" y="0"/>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618"/>
              <p:cNvSpPr/>
              <p:nvPr/>
            </p:nvSpPr>
            <p:spPr>
              <a:xfrm>
                <a:off x="3200400" y="1344600"/>
                <a:ext cx="106200" cy="139680"/>
              </a:xfrm>
              <a:custGeom>
                <a:avLst/>
                <a:gdLst>
                  <a:gd name="textAreaLeft" fmla="*/ 0 w 106200"/>
                  <a:gd name="textAreaRight" fmla="*/ 106560 w 106200"/>
                  <a:gd name="textAreaTop" fmla="*/ 0 h 139680"/>
                  <a:gd name="textAreaBottom" fmla="*/ 140040 h 139680"/>
                </a:gdLst>
                <a:ahLst/>
                <a:rect l="textAreaLeft" t="textAreaTop" r="textAreaRight" b="textAreaBottom"/>
                <a:pathLst>
                  <a:path w="67" h="176">
                    <a:moveTo>
                      <a:pt x="67" y="16"/>
                    </a:moveTo>
                    <a:lnTo>
                      <a:pt x="35" y="176"/>
                    </a:lnTo>
                    <a:lnTo>
                      <a:pt x="0" y="162"/>
                    </a:lnTo>
                    <a:lnTo>
                      <a:pt x="31" y="0"/>
                    </a:lnTo>
                    <a:lnTo>
                      <a:pt x="6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619"/>
              <p:cNvSpPr/>
              <p:nvPr/>
            </p:nvSpPr>
            <p:spPr>
              <a:xfrm>
                <a:off x="3403440" y="141768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100" y="33"/>
                    </a:moveTo>
                    <a:lnTo>
                      <a:pt x="30" y="166"/>
                    </a:lnTo>
                    <a:lnTo>
                      <a:pt x="0" y="132"/>
                    </a:lnTo>
                    <a:lnTo>
                      <a:pt x="70" y="0"/>
                    </a:lnTo>
                    <a:lnTo>
                      <a:pt x="10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620"/>
              <p:cNvSpPr/>
              <p:nvPr/>
            </p:nvSpPr>
            <p:spPr>
              <a:xfrm>
                <a:off x="3551400" y="156204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115" y="46"/>
                    </a:moveTo>
                    <a:lnTo>
                      <a:pt x="23" y="143"/>
                    </a:lnTo>
                    <a:lnTo>
                      <a:pt x="0" y="99"/>
                    </a:lnTo>
                    <a:lnTo>
                      <a:pt x="93" y="0"/>
                    </a:lnTo>
                    <a:lnTo>
                      <a:pt x="11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 name="Group 744"/>
          <p:cNvGrpSpPr/>
          <p:nvPr/>
        </p:nvGrpSpPr>
        <p:grpSpPr>
          <a:xfrm>
            <a:off x="609480" y="4191120"/>
            <a:ext cx="3353040" cy="2201760"/>
            <a:chOff x="609480" y="4191120"/>
            <a:chExt cx="3353040" cy="2201760"/>
          </a:xfrm>
        </p:grpSpPr>
        <p:pic>
          <p:nvPicPr>
            <p:cNvPr id="148" name="Picture 705" descr="hm00383_"/>
            <p:cNvPicPr/>
            <p:nvPr/>
          </p:nvPicPr>
          <p:blipFill>
            <a:blip r:embed="rId2"/>
            <a:stretch/>
          </p:blipFill>
          <p:spPr>
            <a:xfrm>
              <a:off x="2666880" y="5486400"/>
              <a:ext cx="1295640" cy="906480"/>
            </a:xfrm>
            <a:prstGeom prst="rect">
              <a:avLst/>
            </a:prstGeom>
            <a:ln w="0">
              <a:noFill/>
            </a:ln>
          </p:spPr>
        </p:pic>
        <p:grpSp>
          <p:nvGrpSpPr>
            <p:cNvPr id="149" name="Group 710"/>
            <p:cNvGrpSpPr/>
            <p:nvPr/>
          </p:nvGrpSpPr>
          <p:grpSpPr>
            <a:xfrm>
              <a:off x="609480" y="4191120"/>
              <a:ext cx="1846440" cy="2012760"/>
              <a:chOff x="609480" y="4191120"/>
              <a:chExt cx="1846440" cy="2012760"/>
            </a:xfrm>
          </p:grpSpPr>
          <p:grpSp>
            <p:nvGrpSpPr>
              <p:cNvPr id="150" name="Group 711"/>
              <p:cNvGrpSpPr/>
              <p:nvPr/>
            </p:nvGrpSpPr>
            <p:grpSpPr>
              <a:xfrm>
                <a:off x="609480" y="4191120"/>
                <a:ext cx="1784520" cy="2012760"/>
                <a:chOff x="609480" y="4191120"/>
                <a:chExt cx="1784520" cy="2012760"/>
              </a:xfrm>
            </p:grpSpPr>
            <p:sp>
              <p:nvSpPr>
                <p:cNvPr id="151" name="AutoShape 712"/>
                <p:cNvSpPr/>
                <p:nvPr/>
              </p:nvSpPr>
              <p:spPr>
                <a:xfrm>
                  <a:off x="609480" y="4191120"/>
                  <a:ext cx="1784520" cy="201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713"/>
                <p:cNvSpPr/>
                <p:nvPr/>
              </p:nvSpPr>
              <p:spPr>
                <a:xfrm>
                  <a:off x="1433520" y="4223160"/>
                  <a:ext cx="928800" cy="1770120"/>
                </a:xfrm>
                <a:custGeom>
                  <a:avLst/>
                  <a:gdLst>
                    <a:gd name="textAreaLeft" fmla="*/ 0 w 928800"/>
                    <a:gd name="textAreaRight" fmla="*/ 929160 w 928800"/>
                    <a:gd name="textAreaTop" fmla="*/ 0 h 1770120"/>
                    <a:gd name="textAreaBottom" fmla="*/ 1770480 h 1770120"/>
                  </a:gdLst>
                  <a:ahLst/>
                  <a:rect l="textAreaLeft" t="textAreaTop" r="textAreaRight" b="textAreaBottom"/>
                  <a:pathLst>
                    <a:path w="1305" h="2424">
                      <a:moveTo>
                        <a:pt x="163" y="202"/>
                      </a:moveTo>
                      <a:lnTo>
                        <a:pt x="169" y="200"/>
                      </a:lnTo>
                      <a:lnTo>
                        <a:pt x="176" y="198"/>
                      </a:lnTo>
                      <a:lnTo>
                        <a:pt x="184" y="198"/>
                      </a:lnTo>
                      <a:lnTo>
                        <a:pt x="191" y="195"/>
                      </a:lnTo>
                      <a:lnTo>
                        <a:pt x="200" y="193"/>
                      </a:lnTo>
                      <a:lnTo>
                        <a:pt x="206" y="191"/>
                      </a:lnTo>
                      <a:lnTo>
                        <a:pt x="213" y="189"/>
                      </a:lnTo>
                      <a:lnTo>
                        <a:pt x="222" y="184"/>
                      </a:lnTo>
                      <a:lnTo>
                        <a:pt x="231" y="180"/>
                      </a:lnTo>
                      <a:lnTo>
                        <a:pt x="237" y="178"/>
                      </a:lnTo>
                      <a:lnTo>
                        <a:pt x="246" y="173"/>
                      </a:lnTo>
                      <a:lnTo>
                        <a:pt x="255" y="171"/>
                      </a:lnTo>
                      <a:lnTo>
                        <a:pt x="264" y="167"/>
                      </a:lnTo>
                      <a:lnTo>
                        <a:pt x="272" y="162"/>
                      </a:lnTo>
                      <a:lnTo>
                        <a:pt x="281" y="156"/>
                      </a:lnTo>
                      <a:lnTo>
                        <a:pt x="290" y="151"/>
                      </a:lnTo>
                      <a:lnTo>
                        <a:pt x="299" y="147"/>
                      </a:lnTo>
                      <a:lnTo>
                        <a:pt x="308" y="143"/>
                      </a:lnTo>
                      <a:lnTo>
                        <a:pt x="312" y="138"/>
                      </a:lnTo>
                      <a:lnTo>
                        <a:pt x="316" y="136"/>
                      </a:lnTo>
                      <a:lnTo>
                        <a:pt x="321" y="134"/>
                      </a:lnTo>
                      <a:lnTo>
                        <a:pt x="325" y="132"/>
                      </a:lnTo>
                      <a:lnTo>
                        <a:pt x="330" y="127"/>
                      </a:lnTo>
                      <a:lnTo>
                        <a:pt x="336" y="125"/>
                      </a:lnTo>
                      <a:lnTo>
                        <a:pt x="340" y="123"/>
                      </a:lnTo>
                      <a:lnTo>
                        <a:pt x="345" y="121"/>
                      </a:lnTo>
                      <a:lnTo>
                        <a:pt x="349" y="116"/>
                      </a:lnTo>
                      <a:lnTo>
                        <a:pt x="354" y="114"/>
                      </a:lnTo>
                      <a:lnTo>
                        <a:pt x="358" y="112"/>
                      </a:lnTo>
                      <a:lnTo>
                        <a:pt x="365" y="110"/>
                      </a:lnTo>
                      <a:lnTo>
                        <a:pt x="367" y="105"/>
                      </a:lnTo>
                      <a:lnTo>
                        <a:pt x="373" y="103"/>
                      </a:lnTo>
                      <a:lnTo>
                        <a:pt x="378" y="101"/>
                      </a:lnTo>
                      <a:lnTo>
                        <a:pt x="382" y="97"/>
                      </a:lnTo>
                      <a:lnTo>
                        <a:pt x="389" y="94"/>
                      </a:lnTo>
                      <a:lnTo>
                        <a:pt x="393" y="92"/>
                      </a:lnTo>
                      <a:lnTo>
                        <a:pt x="398" y="90"/>
                      </a:lnTo>
                      <a:lnTo>
                        <a:pt x="402" y="86"/>
                      </a:lnTo>
                      <a:lnTo>
                        <a:pt x="409" y="83"/>
                      </a:lnTo>
                      <a:lnTo>
                        <a:pt x="413" y="81"/>
                      </a:lnTo>
                      <a:lnTo>
                        <a:pt x="417" y="77"/>
                      </a:lnTo>
                      <a:lnTo>
                        <a:pt x="424" y="75"/>
                      </a:lnTo>
                      <a:lnTo>
                        <a:pt x="428" y="72"/>
                      </a:lnTo>
                      <a:lnTo>
                        <a:pt x="433" y="68"/>
                      </a:lnTo>
                      <a:lnTo>
                        <a:pt x="437" y="66"/>
                      </a:lnTo>
                      <a:lnTo>
                        <a:pt x="444" y="64"/>
                      </a:lnTo>
                      <a:lnTo>
                        <a:pt x="448" y="61"/>
                      </a:lnTo>
                      <a:lnTo>
                        <a:pt x="453" y="57"/>
                      </a:lnTo>
                      <a:lnTo>
                        <a:pt x="459" y="55"/>
                      </a:lnTo>
                      <a:lnTo>
                        <a:pt x="464" y="50"/>
                      </a:lnTo>
                      <a:lnTo>
                        <a:pt x="468" y="48"/>
                      </a:lnTo>
                      <a:lnTo>
                        <a:pt x="475" y="46"/>
                      </a:lnTo>
                      <a:lnTo>
                        <a:pt x="479" y="44"/>
                      </a:lnTo>
                      <a:lnTo>
                        <a:pt x="486" y="39"/>
                      </a:lnTo>
                      <a:lnTo>
                        <a:pt x="490" y="37"/>
                      </a:lnTo>
                      <a:lnTo>
                        <a:pt x="494" y="35"/>
                      </a:lnTo>
                      <a:lnTo>
                        <a:pt x="501" y="33"/>
                      </a:lnTo>
                      <a:lnTo>
                        <a:pt x="507" y="31"/>
                      </a:lnTo>
                      <a:lnTo>
                        <a:pt x="512" y="28"/>
                      </a:lnTo>
                      <a:lnTo>
                        <a:pt x="516" y="26"/>
                      </a:lnTo>
                      <a:lnTo>
                        <a:pt x="523" y="24"/>
                      </a:lnTo>
                      <a:lnTo>
                        <a:pt x="529" y="24"/>
                      </a:lnTo>
                      <a:lnTo>
                        <a:pt x="534" y="20"/>
                      </a:lnTo>
                      <a:lnTo>
                        <a:pt x="538" y="20"/>
                      </a:lnTo>
                      <a:lnTo>
                        <a:pt x="545" y="17"/>
                      </a:lnTo>
                      <a:lnTo>
                        <a:pt x="549" y="15"/>
                      </a:lnTo>
                      <a:lnTo>
                        <a:pt x="556" y="13"/>
                      </a:lnTo>
                      <a:lnTo>
                        <a:pt x="560" y="13"/>
                      </a:lnTo>
                      <a:lnTo>
                        <a:pt x="567" y="11"/>
                      </a:lnTo>
                      <a:lnTo>
                        <a:pt x="571" y="11"/>
                      </a:lnTo>
                      <a:lnTo>
                        <a:pt x="578" y="9"/>
                      </a:lnTo>
                      <a:lnTo>
                        <a:pt x="582" y="9"/>
                      </a:lnTo>
                      <a:lnTo>
                        <a:pt x="589" y="7"/>
                      </a:lnTo>
                      <a:lnTo>
                        <a:pt x="593" y="4"/>
                      </a:lnTo>
                      <a:lnTo>
                        <a:pt x="598" y="4"/>
                      </a:lnTo>
                      <a:lnTo>
                        <a:pt x="604" y="4"/>
                      </a:lnTo>
                      <a:lnTo>
                        <a:pt x="611" y="2"/>
                      </a:lnTo>
                      <a:lnTo>
                        <a:pt x="617" y="2"/>
                      </a:lnTo>
                      <a:lnTo>
                        <a:pt x="622" y="2"/>
                      </a:lnTo>
                      <a:lnTo>
                        <a:pt x="626" y="0"/>
                      </a:lnTo>
                      <a:lnTo>
                        <a:pt x="631" y="0"/>
                      </a:lnTo>
                      <a:lnTo>
                        <a:pt x="637" y="0"/>
                      </a:lnTo>
                      <a:lnTo>
                        <a:pt x="642" y="0"/>
                      </a:lnTo>
                      <a:lnTo>
                        <a:pt x="648" y="0"/>
                      </a:lnTo>
                      <a:lnTo>
                        <a:pt x="652" y="0"/>
                      </a:lnTo>
                      <a:lnTo>
                        <a:pt x="659" y="0"/>
                      </a:lnTo>
                      <a:lnTo>
                        <a:pt x="663" y="0"/>
                      </a:lnTo>
                      <a:lnTo>
                        <a:pt x="668" y="0"/>
                      </a:lnTo>
                      <a:lnTo>
                        <a:pt x="672" y="0"/>
                      </a:lnTo>
                      <a:lnTo>
                        <a:pt x="679" y="0"/>
                      </a:lnTo>
                      <a:lnTo>
                        <a:pt x="683" y="0"/>
                      </a:lnTo>
                      <a:lnTo>
                        <a:pt x="690" y="0"/>
                      </a:lnTo>
                      <a:lnTo>
                        <a:pt x="694" y="2"/>
                      </a:lnTo>
                      <a:lnTo>
                        <a:pt x="701" y="2"/>
                      </a:lnTo>
                      <a:lnTo>
                        <a:pt x="705" y="2"/>
                      </a:lnTo>
                      <a:lnTo>
                        <a:pt x="712" y="4"/>
                      </a:lnTo>
                      <a:lnTo>
                        <a:pt x="716" y="4"/>
                      </a:lnTo>
                      <a:lnTo>
                        <a:pt x="721" y="7"/>
                      </a:lnTo>
                      <a:lnTo>
                        <a:pt x="725" y="7"/>
                      </a:lnTo>
                      <a:lnTo>
                        <a:pt x="732" y="9"/>
                      </a:lnTo>
                      <a:lnTo>
                        <a:pt x="736" y="9"/>
                      </a:lnTo>
                      <a:lnTo>
                        <a:pt x="740" y="13"/>
                      </a:lnTo>
                      <a:lnTo>
                        <a:pt x="745" y="13"/>
                      </a:lnTo>
                      <a:lnTo>
                        <a:pt x="749" y="15"/>
                      </a:lnTo>
                      <a:lnTo>
                        <a:pt x="756" y="15"/>
                      </a:lnTo>
                      <a:lnTo>
                        <a:pt x="760" y="20"/>
                      </a:lnTo>
                      <a:lnTo>
                        <a:pt x="765" y="20"/>
                      </a:lnTo>
                      <a:lnTo>
                        <a:pt x="771" y="24"/>
                      </a:lnTo>
                      <a:lnTo>
                        <a:pt x="776" y="26"/>
                      </a:lnTo>
                      <a:lnTo>
                        <a:pt x="780" y="28"/>
                      </a:lnTo>
                      <a:lnTo>
                        <a:pt x="789" y="31"/>
                      </a:lnTo>
                      <a:lnTo>
                        <a:pt x="798" y="37"/>
                      </a:lnTo>
                      <a:lnTo>
                        <a:pt x="806" y="39"/>
                      </a:lnTo>
                      <a:lnTo>
                        <a:pt x="813" y="44"/>
                      </a:lnTo>
                      <a:lnTo>
                        <a:pt x="822" y="48"/>
                      </a:lnTo>
                      <a:lnTo>
                        <a:pt x="830" y="53"/>
                      </a:lnTo>
                      <a:lnTo>
                        <a:pt x="837" y="57"/>
                      </a:lnTo>
                      <a:lnTo>
                        <a:pt x="846" y="61"/>
                      </a:lnTo>
                      <a:lnTo>
                        <a:pt x="852" y="64"/>
                      </a:lnTo>
                      <a:lnTo>
                        <a:pt x="859" y="68"/>
                      </a:lnTo>
                      <a:lnTo>
                        <a:pt x="866" y="72"/>
                      </a:lnTo>
                      <a:lnTo>
                        <a:pt x="874" y="75"/>
                      </a:lnTo>
                      <a:lnTo>
                        <a:pt x="881" y="79"/>
                      </a:lnTo>
                      <a:lnTo>
                        <a:pt x="888" y="83"/>
                      </a:lnTo>
                      <a:lnTo>
                        <a:pt x="894" y="86"/>
                      </a:lnTo>
                      <a:lnTo>
                        <a:pt x="901" y="90"/>
                      </a:lnTo>
                      <a:lnTo>
                        <a:pt x="907" y="94"/>
                      </a:lnTo>
                      <a:lnTo>
                        <a:pt x="912" y="99"/>
                      </a:lnTo>
                      <a:lnTo>
                        <a:pt x="918" y="101"/>
                      </a:lnTo>
                      <a:lnTo>
                        <a:pt x="925" y="105"/>
                      </a:lnTo>
                      <a:lnTo>
                        <a:pt x="929" y="110"/>
                      </a:lnTo>
                      <a:lnTo>
                        <a:pt x="936" y="114"/>
                      </a:lnTo>
                      <a:lnTo>
                        <a:pt x="940" y="116"/>
                      </a:lnTo>
                      <a:lnTo>
                        <a:pt x="947" y="121"/>
                      </a:lnTo>
                      <a:lnTo>
                        <a:pt x="951" y="125"/>
                      </a:lnTo>
                      <a:lnTo>
                        <a:pt x="956" y="127"/>
                      </a:lnTo>
                      <a:lnTo>
                        <a:pt x="960" y="132"/>
                      </a:lnTo>
                      <a:lnTo>
                        <a:pt x="967" y="136"/>
                      </a:lnTo>
                      <a:lnTo>
                        <a:pt x="971" y="140"/>
                      </a:lnTo>
                      <a:lnTo>
                        <a:pt x="975" y="145"/>
                      </a:lnTo>
                      <a:lnTo>
                        <a:pt x="980" y="149"/>
                      </a:lnTo>
                      <a:lnTo>
                        <a:pt x="984" y="154"/>
                      </a:lnTo>
                      <a:lnTo>
                        <a:pt x="991" y="162"/>
                      </a:lnTo>
                      <a:lnTo>
                        <a:pt x="1000" y="171"/>
                      </a:lnTo>
                      <a:lnTo>
                        <a:pt x="1002" y="178"/>
                      </a:lnTo>
                      <a:lnTo>
                        <a:pt x="1006" y="182"/>
                      </a:lnTo>
                      <a:lnTo>
                        <a:pt x="1008" y="187"/>
                      </a:lnTo>
                      <a:lnTo>
                        <a:pt x="1013" y="191"/>
                      </a:lnTo>
                      <a:lnTo>
                        <a:pt x="1015" y="198"/>
                      </a:lnTo>
                      <a:lnTo>
                        <a:pt x="1019" y="202"/>
                      </a:lnTo>
                      <a:lnTo>
                        <a:pt x="1024" y="209"/>
                      </a:lnTo>
                      <a:lnTo>
                        <a:pt x="1026" y="213"/>
                      </a:lnTo>
                      <a:lnTo>
                        <a:pt x="1028" y="220"/>
                      </a:lnTo>
                      <a:lnTo>
                        <a:pt x="1033" y="226"/>
                      </a:lnTo>
                      <a:lnTo>
                        <a:pt x="1035" y="231"/>
                      </a:lnTo>
                      <a:lnTo>
                        <a:pt x="1039" y="239"/>
                      </a:lnTo>
                      <a:lnTo>
                        <a:pt x="1041" y="244"/>
                      </a:lnTo>
                      <a:lnTo>
                        <a:pt x="1044" y="250"/>
                      </a:lnTo>
                      <a:lnTo>
                        <a:pt x="1046" y="259"/>
                      </a:lnTo>
                      <a:lnTo>
                        <a:pt x="1048" y="266"/>
                      </a:lnTo>
                      <a:lnTo>
                        <a:pt x="1050" y="272"/>
                      </a:lnTo>
                      <a:lnTo>
                        <a:pt x="1055" y="279"/>
                      </a:lnTo>
                      <a:lnTo>
                        <a:pt x="1057" y="288"/>
                      </a:lnTo>
                      <a:lnTo>
                        <a:pt x="1059" y="296"/>
                      </a:lnTo>
                      <a:lnTo>
                        <a:pt x="1061" y="303"/>
                      </a:lnTo>
                      <a:lnTo>
                        <a:pt x="1063" y="312"/>
                      </a:lnTo>
                      <a:lnTo>
                        <a:pt x="1066" y="321"/>
                      </a:lnTo>
                      <a:lnTo>
                        <a:pt x="1068" y="329"/>
                      </a:lnTo>
                      <a:lnTo>
                        <a:pt x="1068" y="338"/>
                      </a:lnTo>
                      <a:lnTo>
                        <a:pt x="1072" y="349"/>
                      </a:lnTo>
                      <a:lnTo>
                        <a:pt x="1072" y="358"/>
                      </a:lnTo>
                      <a:lnTo>
                        <a:pt x="1077" y="369"/>
                      </a:lnTo>
                      <a:lnTo>
                        <a:pt x="1077" y="378"/>
                      </a:lnTo>
                      <a:lnTo>
                        <a:pt x="1079" y="389"/>
                      </a:lnTo>
                      <a:lnTo>
                        <a:pt x="1079" y="397"/>
                      </a:lnTo>
                      <a:lnTo>
                        <a:pt x="1083" y="408"/>
                      </a:lnTo>
                      <a:lnTo>
                        <a:pt x="1083" y="417"/>
                      </a:lnTo>
                      <a:lnTo>
                        <a:pt x="1085" y="428"/>
                      </a:lnTo>
                      <a:lnTo>
                        <a:pt x="1088" y="439"/>
                      </a:lnTo>
                      <a:lnTo>
                        <a:pt x="1090" y="450"/>
                      </a:lnTo>
                      <a:lnTo>
                        <a:pt x="1092" y="459"/>
                      </a:lnTo>
                      <a:lnTo>
                        <a:pt x="1092" y="470"/>
                      </a:lnTo>
                      <a:lnTo>
                        <a:pt x="1094" y="481"/>
                      </a:lnTo>
                      <a:lnTo>
                        <a:pt x="1096" y="492"/>
                      </a:lnTo>
                      <a:lnTo>
                        <a:pt x="1099" y="501"/>
                      </a:lnTo>
                      <a:lnTo>
                        <a:pt x="1101" y="512"/>
                      </a:lnTo>
                      <a:lnTo>
                        <a:pt x="1103" y="523"/>
                      </a:lnTo>
                      <a:lnTo>
                        <a:pt x="1105" y="534"/>
                      </a:lnTo>
                      <a:lnTo>
                        <a:pt x="1107" y="545"/>
                      </a:lnTo>
                      <a:lnTo>
                        <a:pt x="1110" y="553"/>
                      </a:lnTo>
                      <a:lnTo>
                        <a:pt x="1110" y="564"/>
                      </a:lnTo>
                      <a:lnTo>
                        <a:pt x="1114" y="575"/>
                      </a:lnTo>
                      <a:lnTo>
                        <a:pt x="1114" y="584"/>
                      </a:lnTo>
                      <a:lnTo>
                        <a:pt x="1116" y="595"/>
                      </a:lnTo>
                      <a:lnTo>
                        <a:pt x="1120" y="606"/>
                      </a:lnTo>
                      <a:lnTo>
                        <a:pt x="1123" y="617"/>
                      </a:lnTo>
                      <a:lnTo>
                        <a:pt x="1125" y="626"/>
                      </a:lnTo>
                      <a:lnTo>
                        <a:pt x="1127" y="637"/>
                      </a:lnTo>
                      <a:lnTo>
                        <a:pt x="1127" y="646"/>
                      </a:lnTo>
                      <a:lnTo>
                        <a:pt x="1131" y="657"/>
                      </a:lnTo>
                      <a:lnTo>
                        <a:pt x="1131" y="668"/>
                      </a:lnTo>
                      <a:lnTo>
                        <a:pt x="1136" y="676"/>
                      </a:lnTo>
                      <a:lnTo>
                        <a:pt x="1138" y="687"/>
                      </a:lnTo>
                      <a:lnTo>
                        <a:pt x="1140" y="696"/>
                      </a:lnTo>
                      <a:lnTo>
                        <a:pt x="1142" y="705"/>
                      </a:lnTo>
                      <a:lnTo>
                        <a:pt x="1145" y="716"/>
                      </a:lnTo>
                      <a:lnTo>
                        <a:pt x="1145" y="725"/>
                      </a:lnTo>
                      <a:lnTo>
                        <a:pt x="1149" y="733"/>
                      </a:lnTo>
                      <a:lnTo>
                        <a:pt x="1149" y="742"/>
                      </a:lnTo>
                      <a:lnTo>
                        <a:pt x="1153" y="753"/>
                      </a:lnTo>
                      <a:lnTo>
                        <a:pt x="1156" y="762"/>
                      </a:lnTo>
                      <a:lnTo>
                        <a:pt x="1158" y="771"/>
                      </a:lnTo>
                      <a:lnTo>
                        <a:pt x="1160" y="780"/>
                      </a:lnTo>
                      <a:lnTo>
                        <a:pt x="1162" y="788"/>
                      </a:lnTo>
                      <a:lnTo>
                        <a:pt x="1164" y="797"/>
                      </a:lnTo>
                      <a:lnTo>
                        <a:pt x="1167" y="806"/>
                      </a:lnTo>
                      <a:lnTo>
                        <a:pt x="1169" y="812"/>
                      </a:lnTo>
                      <a:lnTo>
                        <a:pt x="1171" y="821"/>
                      </a:lnTo>
                      <a:lnTo>
                        <a:pt x="1173" y="830"/>
                      </a:lnTo>
                      <a:lnTo>
                        <a:pt x="1178" y="839"/>
                      </a:lnTo>
                      <a:lnTo>
                        <a:pt x="1178" y="845"/>
                      </a:lnTo>
                      <a:lnTo>
                        <a:pt x="1180" y="852"/>
                      </a:lnTo>
                      <a:lnTo>
                        <a:pt x="1184" y="861"/>
                      </a:lnTo>
                      <a:lnTo>
                        <a:pt x="1186" y="867"/>
                      </a:lnTo>
                      <a:lnTo>
                        <a:pt x="1189" y="874"/>
                      </a:lnTo>
                      <a:lnTo>
                        <a:pt x="1191" y="881"/>
                      </a:lnTo>
                      <a:lnTo>
                        <a:pt x="1193" y="887"/>
                      </a:lnTo>
                      <a:lnTo>
                        <a:pt x="1195" y="894"/>
                      </a:lnTo>
                      <a:lnTo>
                        <a:pt x="1197" y="900"/>
                      </a:lnTo>
                      <a:lnTo>
                        <a:pt x="1202" y="907"/>
                      </a:lnTo>
                      <a:lnTo>
                        <a:pt x="1204" y="911"/>
                      </a:lnTo>
                      <a:lnTo>
                        <a:pt x="1206" y="916"/>
                      </a:lnTo>
                      <a:lnTo>
                        <a:pt x="1208" y="922"/>
                      </a:lnTo>
                      <a:lnTo>
                        <a:pt x="1213" y="927"/>
                      </a:lnTo>
                      <a:lnTo>
                        <a:pt x="1215" y="931"/>
                      </a:lnTo>
                      <a:lnTo>
                        <a:pt x="1217" y="938"/>
                      </a:lnTo>
                      <a:lnTo>
                        <a:pt x="1219" y="942"/>
                      </a:lnTo>
                      <a:lnTo>
                        <a:pt x="1222" y="946"/>
                      </a:lnTo>
                      <a:lnTo>
                        <a:pt x="1226" y="951"/>
                      </a:lnTo>
                      <a:lnTo>
                        <a:pt x="1228" y="957"/>
                      </a:lnTo>
                      <a:lnTo>
                        <a:pt x="1230" y="962"/>
                      </a:lnTo>
                      <a:lnTo>
                        <a:pt x="1233" y="968"/>
                      </a:lnTo>
                      <a:lnTo>
                        <a:pt x="1235" y="977"/>
                      </a:lnTo>
                      <a:lnTo>
                        <a:pt x="1237" y="984"/>
                      </a:lnTo>
                      <a:lnTo>
                        <a:pt x="1239" y="990"/>
                      </a:lnTo>
                      <a:lnTo>
                        <a:pt x="1244" y="997"/>
                      </a:lnTo>
                      <a:lnTo>
                        <a:pt x="1246" y="1006"/>
                      </a:lnTo>
                      <a:lnTo>
                        <a:pt x="1248" y="1014"/>
                      </a:lnTo>
                      <a:lnTo>
                        <a:pt x="1250" y="1021"/>
                      </a:lnTo>
                      <a:lnTo>
                        <a:pt x="1252" y="1030"/>
                      </a:lnTo>
                      <a:lnTo>
                        <a:pt x="1255" y="1039"/>
                      </a:lnTo>
                      <a:lnTo>
                        <a:pt x="1259" y="1050"/>
                      </a:lnTo>
                      <a:lnTo>
                        <a:pt x="1261" y="1058"/>
                      </a:lnTo>
                      <a:lnTo>
                        <a:pt x="1263" y="1067"/>
                      </a:lnTo>
                      <a:lnTo>
                        <a:pt x="1266" y="1076"/>
                      </a:lnTo>
                      <a:lnTo>
                        <a:pt x="1268" y="1087"/>
                      </a:lnTo>
                      <a:lnTo>
                        <a:pt x="1270" y="1096"/>
                      </a:lnTo>
                      <a:lnTo>
                        <a:pt x="1272" y="1107"/>
                      </a:lnTo>
                      <a:lnTo>
                        <a:pt x="1274" y="1115"/>
                      </a:lnTo>
                      <a:lnTo>
                        <a:pt x="1276" y="1126"/>
                      </a:lnTo>
                      <a:lnTo>
                        <a:pt x="1279" y="1137"/>
                      </a:lnTo>
                      <a:lnTo>
                        <a:pt x="1281" y="1146"/>
                      </a:lnTo>
                      <a:lnTo>
                        <a:pt x="1283" y="1157"/>
                      </a:lnTo>
                      <a:lnTo>
                        <a:pt x="1285" y="1168"/>
                      </a:lnTo>
                      <a:lnTo>
                        <a:pt x="1287" y="1179"/>
                      </a:lnTo>
                      <a:lnTo>
                        <a:pt x="1290" y="1190"/>
                      </a:lnTo>
                      <a:lnTo>
                        <a:pt x="1292" y="1201"/>
                      </a:lnTo>
                      <a:lnTo>
                        <a:pt x="1294" y="1212"/>
                      </a:lnTo>
                      <a:lnTo>
                        <a:pt x="1294" y="1223"/>
                      </a:lnTo>
                      <a:lnTo>
                        <a:pt x="1296" y="1234"/>
                      </a:lnTo>
                      <a:lnTo>
                        <a:pt x="1296" y="1245"/>
                      </a:lnTo>
                      <a:lnTo>
                        <a:pt x="1298" y="1256"/>
                      </a:lnTo>
                      <a:lnTo>
                        <a:pt x="1298" y="1267"/>
                      </a:lnTo>
                      <a:lnTo>
                        <a:pt x="1301" y="1278"/>
                      </a:lnTo>
                      <a:lnTo>
                        <a:pt x="1301" y="1289"/>
                      </a:lnTo>
                      <a:lnTo>
                        <a:pt x="1303" y="1300"/>
                      </a:lnTo>
                      <a:lnTo>
                        <a:pt x="1303" y="1311"/>
                      </a:lnTo>
                      <a:lnTo>
                        <a:pt x="1303" y="1322"/>
                      </a:lnTo>
                      <a:lnTo>
                        <a:pt x="1303" y="1333"/>
                      </a:lnTo>
                      <a:lnTo>
                        <a:pt x="1305" y="1342"/>
                      </a:lnTo>
                      <a:lnTo>
                        <a:pt x="1305" y="1353"/>
                      </a:lnTo>
                      <a:lnTo>
                        <a:pt x="1305" y="1364"/>
                      </a:lnTo>
                      <a:lnTo>
                        <a:pt x="1305" y="1375"/>
                      </a:lnTo>
                      <a:lnTo>
                        <a:pt x="1305" y="1383"/>
                      </a:lnTo>
                      <a:lnTo>
                        <a:pt x="1303" y="1394"/>
                      </a:lnTo>
                      <a:lnTo>
                        <a:pt x="1303" y="1403"/>
                      </a:lnTo>
                      <a:lnTo>
                        <a:pt x="1303" y="1412"/>
                      </a:lnTo>
                      <a:lnTo>
                        <a:pt x="1303" y="1423"/>
                      </a:lnTo>
                      <a:lnTo>
                        <a:pt x="1301" y="1432"/>
                      </a:lnTo>
                      <a:lnTo>
                        <a:pt x="1298" y="1441"/>
                      </a:lnTo>
                      <a:lnTo>
                        <a:pt x="1298" y="1451"/>
                      </a:lnTo>
                      <a:lnTo>
                        <a:pt x="1296" y="1460"/>
                      </a:lnTo>
                      <a:lnTo>
                        <a:pt x="1294" y="1469"/>
                      </a:lnTo>
                      <a:lnTo>
                        <a:pt x="1292" y="1476"/>
                      </a:lnTo>
                      <a:lnTo>
                        <a:pt x="1290" y="1484"/>
                      </a:lnTo>
                      <a:lnTo>
                        <a:pt x="1290" y="1493"/>
                      </a:lnTo>
                      <a:lnTo>
                        <a:pt x="1285" y="1500"/>
                      </a:lnTo>
                      <a:lnTo>
                        <a:pt x="1283" y="1509"/>
                      </a:lnTo>
                      <a:lnTo>
                        <a:pt x="1281" y="1515"/>
                      </a:lnTo>
                      <a:lnTo>
                        <a:pt x="1279" y="1522"/>
                      </a:lnTo>
                      <a:lnTo>
                        <a:pt x="1274" y="1528"/>
                      </a:lnTo>
                      <a:lnTo>
                        <a:pt x="1272" y="1533"/>
                      </a:lnTo>
                      <a:lnTo>
                        <a:pt x="1268" y="1539"/>
                      </a:lnTo>
                      <a:lnTo>
                        <a:pt x="1263" y="1546"/>
                      </a:lnTo>
                      <a:lnTo>
                        <a:pt x="1261" y="1553"/>
                      </a:lnTo>
                      <a:lnTo>
                        <a:pt x="1257" y="1557"/>
                      </a:lnTo>
                      <a:lnTo>
                        <a:pt x="1255" y="1563"/>
                      </a:lnTo>
                      <a:lnTo>
                        <a:pt x="1250" y="1570"/>
                      </a:lnTo>
                      <a:lnTo>
                        <a:pt x="1246" y="1577"/>
                      </a:lnTo>
                      <a:lnTo>
                        <a:pt x="1244" y="1581"/>
                      </a:lnTo>
                      <a:lnTo>
                        <a:pt x="1239" y="1588"/>
                      </a:lnTo>
                      <a:lnTo>
                        <a:pt x="1237" y="1594"/>
                      </a:lnTo>
                      <a:lnTo>
                        <a:pt x="1233" y="1599"/>
                      </a:lnTo>
                      <a:lnTo>
                        <a:pt x="1230" y="1605"/>
                      </a:lnTo>
                      <a:lnTo>
                        <a:pt x="1226" y="1612"/>
                      </a:lnTo>
                      <a:lnTo>
                        <a:pt x="1224" y="1616"/>
                      </a:lnTo>
                      <a:lnTo>
                        <a:pt x="1219" y="1623"/>
                      </a:lnTo>
                      <a:lnTo>
                        <a:pt x="1215" y="1627"/>
                      </a:lnTo>
                      <a:lnTo>
                        <a:pt x="1213" y="1634"/>
                      </a:lnTo>
                      <a:lnTo>
                        <a:pt x="1208" y="1638"/>
                      </a:lnTo>
                      <a:lnTo>
                        <a:pt x="1204" y="1645"/>
                      </a:lnTo>
                      <a:lnTo>
                        <a:pt x="1202" y="1649"/>
                      </a:lnTo>
                      <a:lnTo>
                        <a:pt x="1197" y="1654"/>
                      </a:lnTo>
                      <a:lnTo>
                        <a:pt x="1193" y="1660"/>
                      </a:lnTo>
                      <a:lnTo>
                        <a:pt x="1189" y="1665"/>
                      </a:lnTo>
                      <a:lnTo>
                        <a:pt x="1186" y="1669"/>
                      </a:lnTo>
                      <a:lnTo>
                        <a:pt x="1182" y="1675"/>
                      </a:lnTo>
                      <a:lnTo>
                        <a:pt x="1178" y="1680"/>
                      </a:lnTo>
                      <a:lnTo>
                        <a:pt x="1173" y="1684"/>
                      </a:lnTo>
                      <a:lnTo>
                        <a:pt x="1171" y="1691"/>
                      </a:lnTo>
                      <a:lnTo>
                        <a:pt x="1167" y="1695"/>
                      </a:lnTo>
                      <a:lnTo>
                        <a:pt x="1162" y="1700"/>
                      </a:lnTo>
                      <a:lnTo>
                        <a:pt x="1153" y="1708"/>
                      </a:lnTo>
                      <a:lnTo>
                        <a:pt x="1147" y="1717"/>
                      </a:lnTo>
                      <a:lnTo>
                        <a:pt x="1138" y="1726"/>
                      </a:lnTo>
                      <a:lnTo>
                        <a:pt x="1129" y="1735"/>
                      </a:lnTo>
                      <a:lnTo>
                        <a:pt x="1120" y="1741"/>
                      </a:lnTo>
                      <a:lnTo>
                        <a:pt x="1112" y="1750"/>
                      </a:lnTo>
                      <a:lnTo>
                        <a:pt x="1103" y="1757"/>
                      </a:lnTo>
                      <a:lnTo>
                        <a:pt x="1094" y="1763"/>
                      </a:lnTo>
                      <a:lnTo>
                        <a:pt x="1090" y="1768"/>
                      </a:lnTo>
                      <a:lnTo>
                        <a:pt x="1085" y="1770"/>
                      </a:lnTo>
                      <a:lnTo>
                        <a:pt x="1081" y="1774"/>
                      </a:lnTo>
                      <a:lnTo>
                        <a:pt x="1077" y="1776"/>
                      </a:lnTo>
                      <a:lnTo>
                        <a:pt x="1072" y="1779"/>
                      </a:lnTo>
                      <a:lnTo>
                        <a:pt x="1068" y="1783"/>
                      </a:lnTo>
                      <a:lnTo>
                        <a:pt x="1061" y="1785"/>
                      </a:lnTo>
                      <a:lnTo>
                        <a:pt x="1057" y="1790"/>
                      </a:lnTo>
                      <a:lnTo>
                        <a:pt x="1052" y="1792"/>
                      </a:lnTo>
                      <a:lnTo>
                        <a:pt x="1048" y="1794"/>
                      </a:lnTo>
                      <a:lnTo>
                        <a:pt x="1044" y="1796"/>
                      </a:lnTo>
                      <a:lnTo>
                        <a:pt x="1039" y="1798"/>
                      </a:lnTo>
                      <a:lnTo>
                        <a:pt x="1033" y="1801"/>
                      </a:lnTo>
                      <a:lnTo>
                        <a:pt x="1028" y="1803"/>
                      </a:lnTo>
                      <a:lnTo>
                        <a:pt x="1024" y="1805"/>
                      </a:lnTo>
                      <a:lnTo>
                        <a:pt x="1019" y="1807"/>
                      </a:lnTo>
                      <a:lnTo>
                        <a:pt x="1013" y="1809"/>
                      </a:lnTo>
                      <a:lnTo>
                        <a:pt x="1008" y="1809"/>
                      </a:lnTo>
                      <a:lnTo>
                        <a:pt x="1004" y="1812"/>
                      </a:lnTo>
                      <a:lnTo>
                        <a:pt x="1002" y="1814"/>
                      </a:lnTo>
                      <a:lnTo>
                        <a:pt x="993" y="1818"/>
                      </a:lnTo>
                      <a:lnTo>
                        <a:pt x="986" y="1820"/>
                      </a:lnTo>
                      <a:lnTo>
                        <a:pt x="982" y="1823"/>
                      </a:lnTo>
                      <a:lnTo>
                        <a:pt x="980" y="1825"/>
                      </a:lnTo>
                      <a:lnTo>
                        <a:pt x="975" y="1829"/>
                      </a:lnTo>
                      <a:lnTo>
                        <a:pt x="973" y="1831"/>
                      </a:lnTo>
                      <a:lnTo>
                        <a:pt x="971" y="1838"/>
                      </a:lnTo>
                      <a:lnTo>
                        <a:pt x="973" y="1847"/>
                      </a:lnTo>
                      <a:lnTo>
                        <a:pt x="973" y="1851"/>
                      </a:lnTo>
                      <a:lnTo>
                        <a:pt x="973" y="1856"/>
                      </a:lnTo>
                      <a:lnTo>
                        <a:pt x="975" y="1860"/>
                      </a:lnTo>
                      <a:lnTo>
                        <a:pt x="978" y="1869"/>
                      </a:lnTo>
                      <a:lnTo>
                        <a:pt x="980" y="1873"/>
                      </a:lnTo>
                      <a:lnTo>
                        <a:pt x="980" y="1882"/>
                      </a:lnTo>
                      <a:lnTo>
                        <a:pt x="980" y="1884"/>
                      </a:lnTo>
                      <a:lnTo>
                        <a:pt x="982" y="1888"/>
                      </a:lnTo>
                      <a:lnTo>
                        <a:pt x="982" y="1895"/>
                      </a:lnTo>
                      <a:lnTo>
                        <a:pt x="984" y="1899"/>
                      </a:lnTo>
                      <a:lnTo>
                        <a:pt x="984" y="1904"/>
                      </a:lnTo>
                      <a:lnTo>
                        <a:pt x="984" y="1908"/>
                      </a:lnTo>
                      <a:lnTo>
                        <a:pt x="986" y="1915"/>
                      </a:lnTo>
                      <a:lnTo>
                        <a:pt x="986" y="1919"/>
                      </a:lnTo>
                      <a:lnTo>
                        <a:pt x="986" y="1926"/>
                      </a:lnTo>
                      <a:lnTo>
                        <a:pt x="986" y="1932"/>
                      </a:lnTo>
                      <a:lnTo>
                        <a:pt x="986" y="1939"/>
                      </a:lnTo>
                      <a:lnTo>
                        <a:pt x="989" y="1948"/>
                      </a:lnTo>
                      <a:lnTo>
                        <a:pt x="986" y="1954"/>
                      </a:lnTo>
                      <a:lnTo>
                        <a:pt x="986" y="1961"/>
                      </a:lnTo>
                      <a:lnTo>
                        <a:pt x="986" y="1970"/>
                      </a:lnTo>
                      <a:lnTo>
                        <a:pt x="986" y="1976"/>
                      </a:lnTo>
                      <a:lnTo>
                        <a:pt x="984" y="1985"/>
                      </a:lnTo>
                      <a:lnTo>
                        <a:pt x="984" y="1994"/>
                      </a:lnTo>
                      <a:lnTo>
                        <a:pt x="982" y="2003"/>
                      </a:lnTo>
                      <a:lnTo>
                        <a:pt x="982" y="2014"/>
                      </a:lnTo>
                      <a:lnTo>
                        <a:pt x="980" y="2022"/>
                      </a:lnTo>
                      <a:lnTo>
                        <a:pt x="978" y="2031"/>
                      </a:lnTo>
                      <a:lnTo>
                        <a:pt x="975" y="2042"/>
                      </a:lnTo>
                      <a:lnTo>
                        <a:pt x="973" y="2055"/>
                      </a:lnTo>
                      <a:lnTo>
                        <a:pt x="971" y="2066"/>
                      </a:lnTo>
                      <a:lnTo>
                        <a:pt x="969" y="2077"/>
                      </a:lnTo>
                      <a:lnTo>
                        <a:pt x="967" y="2091"/>
                      </a:lnTo>
                      <a:lnTo>
                        <a:pt x="962" y="2104"/>
                      </a:lnTo>
                      <a:lnTo>
                        <a:pt x="960" y="2110"/>
                      </a:lnTo>
                      <a:lnTo>
                        <a:pt x="960" y="2115"/>
                      </a:lnTo>
                      <a:lnTo>
                        <a:pt x="958" y="2121"/>
                      </a:lnTo>
                      <a:lnTo>
                        <a:pt x="956" y="2126"/>
                      </a:lnTo>
                      <a:lnTo>
                        <a:pt x="954" y="2132"/>
                      </a:lnTo>
                      <a:lnTo>
                        <a:pt x="951" y="2139"/>
                      </a:lnTo>
                      <a:lnTo>
                        <a:pt x="949" y="2145"/>
                      </a:lnTo>
                      <a:lnTo>
                        <a:pt x="949" y="2150"/>
                      </a:lnTo>
                      <a:lnTo>
                        <a:pt x="947" y="2154"/>
                      </a:lnTo>
                      <a:lnTo>
                        <a:pt x="945" y="2161"/>
                      </a:lnTo>
                      <a:lnTo>
                        <a:pt x="943" y="2165"/>
                      </a:lnTo>
                      <a:lnTo>
                        <a:pt x="940" y="2172"/>
                      </a:lnTo>
                      <a:lnTo>
                        <a:pt x="938" y="2176"/>
                      </a:lnTo>
                      <a:lnTo>
                        <a:pt x="936" y="2183"/>
                      </a:lnTo>
                      <a:lnTo>
                        <a:pt x="936" y="2187"/>
                      </a:lnTo>
                      <a:lnTo>
                        <a:pt x="934" y="2194"/>
                      </a:lnTo>
                      <a:lnTo>
                        <a:pt x="932" y="2198"/>
                      </a:lnTo>
                      <a:lnTo>
                        <a:pt x="929" y="2203"/>
                      </a:lnTo>
                      <a:lnTo>
                        <a:pt x="925" y="2207"/>
                      </a:lnTo>
                      <a:lnTo>
                        <a:pt x="925" y="2211"/>
                      </a:lnTo>
                      <a:lnTo>
                        <a:pt x="921" y="2216"/>
                      </a:lnTo>
                      <a:lnTo>
                        <a:pt x="921" y="2222"/>
                      </a:lnTo>
                      <a:lnTo>
                        <a:pt x="918" y="2224"/>
                      </a:lnTo>
                      <a:lnTo>
                        <a:pt x="916" y="2231"/>
                      </a:lnTo>
                      <a:lnTo>
                        <a:pt x="912" y="2240"/>
                      </a:lnTo>
                      <a:lnTo>
                        <a:pt x="907" y="2249"/>
                      </a:lnTo>
                      <a:lnTo>
                        <a:pt x="903" y="2257"/>
                      </a:lnTo>
                      <a:lnTo>
                        <a:pt x="899" y="2266"/>
                      </a:lnTo>
                      <a:lnTo>
                        <a:pt x="894" y="2271"/>
                      </a:lnTo>
                      <a:lnTo>
                        <a:pt x="892" y="2277"/>
                      </a:lnTo>
                      <a:lnTo>
                        <a:pt x="888" y="2282"/>
                      </a:lnTo>
                      <a:lnTo>
                        <a:pt x="885" y="2288"/>
                      </a:lnTo>
                      <a:lnTo>
                        <a:pt x="881" y="2293"/>
                      </a:lnTo>
                      <a:lnTo>
                        <a:pt x="877" y="2299"/>
                      </a:lnTo>
                      <a:lnTo>
                        <a:pt x="872" y="2304"/>
                      </a:lnTo>
                      <a:lnTo>
                        <a:pt x="870" y="2310"/>
                      </a:lnTo>
                      <a:lnTo>
                        <a:pt x="866" y="2315"/>
                      </a:lnTo>
                      <a:lnTo>
                        <a:pt x="863" y="2319"/>
                      </a:lnTo>
                      <a:lnTo>
                        <a:pt x="859" y="2323"/>
                      </a:lnTo>
                      <a:lnTo>
                        <a:pt x="857" y="2328"/>
                      </a:lnTo>
                      <a:lnTo>
                        <a:pt x="848" y="2336"/>
                      </a:lnTo>
                      <a:lnTo>
                        <a:pt x="841" y="2345"/>
                      </a:lnTo>
                      <a:lnTo>
                        <a:pt x="835" y="2352"/>
                      </a:lnTo>
                      <a:lnTo>
                        <a:pt x="828" y="2358"/>
                      </a:lnTo>
                      <a:lnTo>
                        <a:pt x="822" y="2367"/>
                      </a:lnTo>
                      <a:lnTo>
                        <a:pt x="815" y="2374"/>
                      </a:lnTo>
                      <a:lnTo>
                        <a:pt x="808" y="2378"/>
                      </a:lnTo>
                      <a:lnTo>
                        <a:pt x="802" y="2385"/>
                      </a:lnTo>
                      <a:lnTo>
                        <a:pt x="795" y="2389"/>
                      </a:lnTo>
                      <a:lnTo>
                        <a:pt x="791" y="2394"/>
                      </a:lnTo>
                      <a:lnTo>
                        <a:pt x="784" y="2398"/>
                      </a:lnTo>
                      <a:lnTo>
                        <a:pt x="778" y="2400"/>
                      </a:lnTo>
                      <a:lnTo>
                        <a:pt x="773" y="2405"/>
                      </a:lnTo>
                      <a:lnTo>
                        <a:pt x="769" y="2409"/>
                      </a:lnTo>
                      <a:lnTo>
                        <a:pt x="765" y="2411"/>
                      </a:lnTo>
                      <a:lnTo>
                        <a:pt x="760" y="2413"/>
                      </a:lnTo>
                      <a:lnTo>
                        <a:pt x="756" y="2416"/>
                      </a:lnTo>
                      <a:lnTo>
                        <a:pt x="754" y="2418"/>
                      </a:lnTo>
                      <a:lnTo>
                        <a:pt x="747" y="2420"/>
                      </a:lnTo>
                      <a:lnTo>
                        <a:pt x="743" y="2422"/>
                      </a:lnTo>
                      <a:lnTo>
                        <a:pt x="738" y="2422"/>
                      </a:lnTo>
                      <a:lnTo>
                        <a:pt x="738" y="2424"/>
                      </a:lnTo>
                      <a:lnTo>
                        <a:pt x="0" y="1489"/>
                      </a:lnTo>
                      <a:lnTo>
                        <a:pt x="163" y="531"/>
                      </a:lnTo>
                      <a:lnTo>
                        <a:pt x="163" y="202"/>
                      </a:lnTo>
                      <a:lnTo>
                        <a:pt x="163" y="202"/>
                      </a:lnTo>
                      <a:close/>
                    </a:path>
                  </a:pathLst>
                </a:custGeom>
                <a:solidFill>
                  <a:srgbClr val="bae8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714"/>
                <p:cNvSpPr/>
                <p:nvPr/>
              </p:nvSpPr>
              <p:spPr>
                <a:xfrm>
                  <a:off x="631440" y="4299840"/>
                  <a:ext cx="1371600" cy="1871640"/>
                </a:xfrm>
                <a:custGeom>
                  <a:avLst/>
                  <a:gdLst>
                    <a:gd name="textAreaLeft" fmla="*/ 0 w 1371600"/>
                    <a:gd name="textAreaRight" fmla="*/ 1371960 w 1371600"/>
                    <a:gd name="textAreaTop" fmla="*/ 0 h 1871640"/>
                    <a:gd name="textAreaBottom" fmla="*/ 1872000 h 1871640"/>
                  </a:gdLst>
                  <a:ahLst/>
                  <a:rect l="textAreaLeft" t="textAreaTop" r="textAreaRight" b="textAreaBottom"/>
                  <a:pathLst>
                    <a:path w="1927" h="2563">
                      <a:moveTo>
                        <a:pt x="1116" y="35"/>
                      </a:moveTo>
                      <a:lnTo>
                        <a:pt x="1107" y="33"/>
                      </a:lnTo>
                      <a:lnTo>
                        <a:pt x="1101" y="31"/>
                      </a:lnTo>
                      <a:lnTo>
                        <a:pt x="1092" y="27"/>
                      </a:lnTo>
                      <a:lnTo>
                        <a:pt x="1085" y="24"/>
                      </a:lnTo>
                      <a:lnTo>
                        <a:pt x="1079" y="22"/>
                      </a:lnTo>
                      <a:lnTo>
                        <a:pt x="1070" y="20"/>
                      </a:lnTo>
                      <a:lnTo>
                        <a:pt x="1061" y="20"/>
                      </a:lnTo>
                      <a:lnTo>
                        <a:pt x="1052" y="18"/>
                      </a:lnTo>
                      <a:lnTo>
                        <a:pt x="1043" y="16"/>
                      </a:lnTo>
                      <a:lnTo>
                        <a:pt x="1032" y="14"/>
                      </a:lnTo>
                      <a:lnTo>
                        <a:pt x="1024" y="11"/>
                      </a:lnTo>
                      <a:lnTo>
                        <a:pt x="1015" y="9"/>
                      </a:lnTo>
                      <a:lnTo>
                        <a:pt x="1004" y="9"/>
                      </a:lnTo>
                      <a:lnTo>
                        <a:pt x="995" y="7"/>
                      </a:lnTo>
                      <a:lnTo>
                        <a:pt x="984" y="5"/>
                      </a:lnTo>
                      <a:lnTo>
                        <a:pt x="975" y="5"/>
                      </a:lnTo>
                      <a:lnTo>
                        <a:pt x="964" y="5"/>
                      </a:lnTo>
                      <a:lnTo>
                        <a:pt x="953" y="3"/>
                      </a:lnTo>
                      <a:lnTo>
                        <a:pt x="942" y="3"/>
                      </a:lnTo>
                      <a:lnTo>
                        <a:pt x="931" y="3"/>
                      </a:lnTo>
                      <a:lnTo>
                        <a:pt x="920" y="0"/>
                      </a:lnTo>
                      <a:lnTo>
                        <a:pt x="909" y="0"/>
                      </a:lnTo>
                      <a:lnTo>
                        <a:pt x="898" y="0"/>
                      </a:lnTo>
                      <a:lnTo>
                        <a:pt x="890" y="0"/>
                      </a:lnTo>
                      <a:lnTo>
                        <a:pt x="879" y="0"/>
                      </a:lnTo>
                      <a:lnTo>
                        <a:pt x="868" y="0"/>
                      </a:lnTo>
                      <a:lnTo>
                        <a:pt x="857" y="0"/>
                      </a:lnTo>
                      <a:lnTo>
                        <a:pt x="846" y="0"/>
                      </a:lnTo>
                      <a:lnTo>
                        <a:pt x="835" y="0"/>
                      </a:lnTo>
                      <a:lnTo>
                        <a:pt x="824" y="3"/>
                      </a:lnTo>
                      <a:lnTo>
                        <a:pt x="813" y="3"/>
                      </a:lnTo>
                      <a:lnTo>
                        <a:pt x="802" y="5"/>
                      </a:lnTo>
                      <a:lnTo>
                        <a:pt x="791" y="5"/>
                      </a:lnTo>
                      <a:lnTo>
                        <a:pt x="780" y="5"/>
                      </a:lnTo>
                      <a:lnTo>
                        <a:pt x="769" y="7"/>
                      </a:lnTo>
                      <a:lnTo>
                        <a:pt x="760" y="9"/>
                      </a:lnTo>
                      <a:lnTo>
                        <a:pt x="749" y="9"/>
                      </a:lnTo>
                      <a:lnTo>
                        <a:pt x="738" y="11"/>
                      </a:lnTo>
                      <a:lnTo>
                        <a:pt x="729" y="14"/>
                      </a:lnTo>
                      <a:lnTo>
                        <a:pt x="718" y="16"/>
                      </a:lnTo>
                      <a:lnTo>
                        <a:pt x="709" y="18"/>
                      </a:lnTo>
                      <a:lnTo>
                        <a:pt x="698" y="20"/>
                      </a:lnTo>
                      <a:lnTo>
                        <a:pt x="690" y="22"/>
                      </a:lnTo>
                      <a:lnTo>
                        <a:pt x="681" y="27"/>
                      </a:lnTo>
                      <a:lnTo>
                        <a:pt x="672" y="29"/>
                      </a:lnTo>
                      <a:lnTo>
                        <a:pt x="663" y="31"/>
                      </a:lnTo>
                      <a:lnTo>
                        <a:pt x="655" y="35"/>
                      </a:lnTo>
                      <a:lnTo>
                        <a:pt x="648" y="40"/>
                      </a:lnTo>
                      <a:lnTo>
                        <a:pt x="639" y="42"/>
                      </a:lnTo>
                      <a:lnTo>
                        <a:pt x="633" y="46"/>
                      </a:lnTo>
                      <a:lnTo>
                        <a:pt x="624" y="51"/>
                      </a:lnTo>
                      <a:lnTo>
                        <a:pt x="617" y="55"/>
                      </a:lnTo>
                      <a:lnTo>
                        <a:pt x="611" y="60"/>
                      </a:lnTo>
                      <a:lnTo>
                        <a:pt x="604" y="64"/>
                      </a:lnTo>
                      <a:lnTo>
                        <a:pt x="597" y="68"/>
                      </a:lnTo>
                      <a:lnTo>
                        <a:pt x="593" y="75"/>
                      </a:lnTo>
                      <a:lnTo>
                        <a:pt x="589" y="79"/>
                      </a:lnTo>
                      <a:lnTo>
                        <a:pt x="582" y="86"/>
                      </a:lnTo>
                      <a:lnTo>
                        <a:pt x="578" y="90"/>
                      </a:lnTo>
                      <a:lnTo>
                        <a:pt x="575" y="97"/>
                      </a:lnTo>
                      <a:lnTo>
                        <a:pt x="571" y="104"/>
                      </a:lnTo>
                      <a:lnTo>
                        <a:pt x="569" y="110"/>
                      </a:lnTo>
                      <a:lnTo>
                        <a:pt x="567" y="117"/>
                      </a:lnTo>
                      <a:lnTo>
                        <a:pt x="564" y="126"/>
                      </a:lnTo>
                      <a:lnTo>
                        <a:pt x="562" y="132"/>
                      </a:lnTo>
                      <a:lnTo>
                        <a:pt x="560" y="139"/>
                      </a:lnTo>
                      <a:lnTo>
                        <a:pt x="558" y="145"/>
                      </a:lnTo>
                      <a:lnTo>
                        <a:pt x="556" y="152"/>
                      </a:lnTo>
                      <a:lnTo>
                        <a:pt x="553" y="158"/>
                      </a:lnTo>
                      <a:lnTo>
                        <a:pt x="553" y="167"/>
                      </a:lnTo>
                      <a:lnTo>
                        <a:pt x="551" y="174"/>
                      </a:lnTo>
                      <a:lnTo>
                        <a:pt x="551" y="183"/>
                      </a:lnTo>
                      <a:lnTo>
                        <a:pt x="549" y="189"/>
                      </a:lnTo>
                      <a:lnTo>
                        <a:pt x="547" y="196"/>
                      </a:lnTo>
                      <a:lnTo>
                        <a:pt x="545" y="202"/>
                      </a:lnTo>
                      <a:lnTo>
                        <a:pt x="545" y="211"/>
                      </a:lnTo>
                      <a:lnTo>
                        <a:pt x="542" y="218"/>
                      </a:lnTo>
                      <a:lnTo>
                        <a:pt x="542" y="224"/>
                      </a:lnTo>
                      <a:lnTo>
                        <a:pt x="540" y="233"/>
                      </a:lnTo>
                      <a:lnTo>
                        <a:pt x="540" y="240"/>
                      </a:lnTo>
                      <a:lnTo>
                        <a:pt x="538" y="246"/>
                      </a:lnTo>
                      <a:lnTo>
                        <a:pt x="536" y="255"/>
                      </a:lnTo>
                      <a:lnTo>
                        <a:pt x="536" y="262"/>
                      </a:lnTo>
                      <a:lnTo>
                        <a:pt x="534" y="268"/>
                      </a:lnTo>
                      <a:lnTo>
                        <a:pt x="531" y="275"/>
                      </a:lnTo>
                      <a:lnTo>
                        <a:pt x="531" y="284"/>
                      </a:lnTo>
                      <a:lnTo>
                        <a:pt x="527" y="290"/>
                      </a:lnTo>
                      <a:lnTo>
                        <a:pt x="527" y="297"/>
                      </a:lnTo>
                      <a:lnTo>
                        <a:pt x="525" y="303"/>
                      </a:lnTo>
                      <a:lnTo>
                        <a:pt x="523" y="310"/>
                      </a:lnTo>
                      <a:lnTo>
                        <a:pt x="520" y="317"/>
                      </a:lnTo>
                      <a:lnTo>
                        <a:pt x="520" y="323"/>
                      </a:lnTo>
                      <a:lnTo>
                        <a:pt x="516" y="330"/>
                      </a:lnTo>
                      <a:lnTo>
                        <a:pt x="514" y="336"/>
                      </a:lnTo>
                      <a:lnTo>
                        <a:pt x="512" y="343"/>
                      </a:lnTo>
                      <a:lnTo>
                        <a:pt x="510" y="349"/>
                      </a:lnTo>
                      <a:lnTo>
                        <a:pt x="505" y="354"/>
                      </a:lnTo>
                      <a:lnTo>
                        <a:pt x="503" y="360"/>
                      </a:lnTo>
                      <a:lnTo>
                        <a:pt x="499" y="367"/>
                      </a:lnTo>
                      <a:lnTo>
                        <a:pt x="496" y="371"/>
                      </a:lnTo>
                      <a:lnTo>
                        <a:pt x="492" y="378"/>
                      </a:lnTo>
                      <a:lnTo>
                        <a:pt x="488" y="382"/>
                      </a:lnTo>
                      <a:lnTo>
                        <a:pt x="483" y="387"/>
                      </a:lnTo>
                      <a:lnTo>
                        <a:pt x="481" y="393"/>
                      </a:lnTo>
                      <a:lnTo>
                        <a:pt x="477" y="398"/>
                      </a:lnTo>
                      <a:lnTo>
                        <a:pt x="470" y="402"/>
                      </a:lnTo>
                      <a:lnTo>
                        <a:pt x="466" y="407"/>
                      </a:lnTo>
                      <a:lnTo>
                        <a:pt x="461" y="411"/>
                      </a:lnTo>
                      <a:lnTo>
                        <a:pt x="455" y="415"/>
                      </a:lnTo>
                      <a:lnTo>
                        <a:pt x="448" y="420"/>
                      </a:lnTo>
                      <a:lnTo>
                        <a:pt x="444" y="424"/>
                      </a:lnTo>
                      <a:lnTo>
                        <a:pt x="437" y="429"/>
                      </a:lnTo>
                      <a:lnTo>
                        <a:pt x="430" y="431"/>
                      </a:lnTo>
                      <a:lnTo>
                        <a:pt x="424" y="433"/>
                      </a:lnTo>
                      <a:lnTo>
                        <a:pt x="415" y="435"/>
                      </a:lnTo>
                      <a:lnTo>
                        <a:pt x="408" y="440"/>
                      </a:lnTo>
                      <a:lnTo>
                        <a:pt x="400" y="442"/>
                      </a:lnTo>
                      <a:lnTo>
                        <a:pt x="391" y="444"/>
                      </a:lnTo>
                      <a:lnTo>
                        <a:pt x="384" y="446"/>
                      </a:lnTo>
                      <a:lnTo>
                        <a:pt x="375" y="448"/>
                      </a:lnTo>
                      <a:lnTo>
                        <a:pt x="364" y="448"/>
                      </a:lnTo>
                      <a:lnTo>
                        <a:pt x="356" y="451"/>
                      </a:lnTo>
                      <a:lnTo>
                        <a:pt x="347" y="451"/>
                      </a:lnTo>
                      <a:lnTo>
                        <a:pt x="336" y="453"/>
                      </a:lnTo>
                      <a:lnTo>
                        <a:pt x="325" y="453"/>
                      </a:lnTo>
                      <a:lnTo>
                        <a:pt x="314" y="453"/>
                      </a:lnTo>
                      <a:lnTo>
                        <a:pt x="301" y="453"/>
                      </a:lnTo>
                      <a:lnTo>
                        <a:pt x="290" y="453"/>
                      </a:lnTo>
                      <a:lnTo>
                        <a:pt x="279" y="453"/>
                      </a:lnTo>
                      <a:lnTo>
                        <a:pt x="268" y="453"/>
                      </a:lnTo>
                      <a:lnTo>
                        <a:pt x="257" y="453"/>
                      </a:lnTo>
                      <a:lnTo>
                        <a:pt x="246" y="453"/>
                      </a:lnTo>
                      <a:lnTo>
                        <a:pt x="237" y="455"/>
                      </a:lnTo>
                      <a:lnTo>
                        <a:pt x="228" y="457"/>
                      </a:lnTo>
                      <a:lnTo>
                        <a:pt x="219" y="459"/>
                      </a:lnTo>
                      <a:lnTo>
                        <a:pt x="213" y="464"/>
                      </a:lnTo>
                      <a:lnTo>
                        <a:pt x="204" y="466"/>
                      </a:lnTo>
                      <a:lnTo>
                        <a:pt x="198" y="470"/>
                      </a:lnTo>
                      <a:lnTo>
                        <a:pt x="191" y="475"/>
                      </a:lnTo>
                      <a:lnTo>
                        <a:pt x="184" y="479"/>
                      </a:lnTo>
                      <a:lnTo>
                        <a:pt x="180" y="486"/>
                      </a:lnTo>
                      <a:lnTo>
                        <a:pt x="176" y="490"/>
                      </a:lnTo>
                      <a:lnTo>
                        <a:pt x="169" y="497"/>
                      </a:lnTo>
                      <a:lnTo>
                        <a:pt x="167" y="503"/>
                      </a:lnTo>
                      <a:lnTo>
                        <a:pt x="160" y="510"/>
                      </a:lnTo>
                      <a:lnTo>
                        <a:pt x="158" y="516"/>
                      </a:lnTo>
                      <a:lnTo>
                        <a:pt x="154" y="525"/>
                      </a:lnTo>
                      <a:lnTo>
                        <a:pt x="151" y="532"/>
                      </a:lnTo>
                      <a:lnTo>
                        <a:pt x="149" y="541"/>
                      </a:lnTo>
                      <a:lnTo>
                        <a:pt x="147" y="547"/>
                      </a:lnTo>
                      <a:lnTo>
                        <a:pt x="145" y="556"/>
                      </a:lnTo>
                      <a:lnTo>
                        <a:pt x="143" y="567"/>
                      </a:lnTo>
                      <a:lnTo>
                        <a:pt x="140" y="576"/>
                      </a:lnTo>
                      <a:lnTo>
                        <a:pt x="140" y="584"/>
                      </a:lnTo>
                      <a:lnTo>
                        <a:pt x="138" y="595"/>
                      </a:lnTo>
                      <a:lnTo>
                        <a:pt x="138" y="604"/>
                      </a:lnTo>
                      <a:lnTo>
                        <a:pt x="138" y="615"/>
                      </a:lnTo>
                      <a:lnTo>
                        <a:pt x="136" y="624"/>
                      </a:lnTo>
                      <a:lnTo>
                        <a:pt x="136" y="635"/>
                      </a:lnTo>
                      <a:lnTo>
                        <a:pt x="136" y="648"/>
                      </a:lnTo>
                      <a:lnTo>
                        <a:pt x="136" y="657"/>
                      </a:lnTo>
                      <a:lnTo>
                        <a:pt x="136" y="670"/>
                      </a:lnTo>
                      <a:lnTo>
                        <a:pt x="136" y="681"/>
                      </a:lnTo>
                      <a:lnTo>
                        <a:pt x="136" y="692"/>
                      </a:lnTo>
                      <a:lnTo>
                        <a:pt x="136" y="703"/>
                      </a:lnTo>
                      <a:lnTo>
                        <a:pt x="136" y="716"/>
                      </a:lnTo>
                      <a:lnTo>
                        <a:pt x="136" y="727"/>
                      </a:lnTo>
                      <a:lnTo>
                        <a:pt x="136" y="740"/>
                      </a:lnTo>
                      <a:lnTo>
                        <a:pt x="134" y="751"/>
                      </a:lnTo>
                      <a:lnTo>
                        <a:pt x="134" y="765"/>
                      </a:lnTo>
                      <a:lnTo>
                        <a:pt x="134" y="776"/>
                      </a:lnTo>
                      <a:lnTo>
                        <a:pt x="134" y="789"/>
                      </a:lnTo>
                      <a:lnTo>
                        <a:pt x="134" y="802"/>
                      </a:lnTo>
                      <a:lnTo>
                        <a:pt x="134" y="813"/>
                      </a:lnTo>
                      <a:lnTo>
                        <a:pt x="132" y="826"/>
                      </a:lnTo>
                      <a:lnTo>
                        <a:pt x="132" y="839"/>
                      </a:lnTo>
                      <a:lnTo>
                        <a:pt x="132" y="850"/>
                      </a:lnTo>
                      <a:lnTo>
                        <a:pt x="129" y="863"/>
                      </a:lnTo>
                      <a:lnTo>
                        <a:pt x="127" y="874"/>
                      </a:lnTo>
                      <a:lnTo>
                        <a:pt x="127" y="888"/>
                      </a:lnTo>
                      <a:lnTo>
                        <a:pt x="125" y="898"/>
                      </a:lnTo>
                      <a:lnTo>
                        <a:pt x="123" y="912"/>
                      </a:lnTo>
                      <a:lnTo>
                        <a:pt x="121" y="925"/>
                      </a:lnTo>
                      <a:lnTo>
                        <a:pt x="118" y="936"/>
                      </a:lnTo>
                      <a:lnTo>
                        <a:pt x="114" y="949"/>
                      </a:lnTo>
                      <a:lnTo>
                        <a:pt x="112" y="960"/>
                      </a:lnTo>
                      <a:lnTo>
                        <a:pt x="107" y="971"/>
                      </a:lnTo>
                      <a:lnTo>
                        <a:pt x="103" y="984"/>
                      </a:lnTo>
                      <a:lnTo>
                        <a:pt x="101" y="995"/>
                      </a:lnTo>
                      <a:lnTo>
                        <a:pt x="96" y="1006"/>
                      </a:lnTo>
                      <a:lnTo>
                        <a:pt x="90" y="1017"/>
                      </a:lnTo>
                      <a:lnTo>
                        <a:pt x="85" y="1030"/>
                      </a:lnTo>
                      <a:lnTo>
                        <a:pt x="79" y="1039"/>
                      </a:lnTo>
                      <a:lnTo>
                        <a:pt x="74" y="1050"/>
                      </a:lnTo>
                      <a:lnTo>
                        <a:pt x="70" y="1063"/>
                      </a:lnTo>
                      <a:lnTo>
                        <a:pt x="63" y="1076"/>
                      </a:lnTo>
                      <a:lnTo>
                        <a:pt x="59" y="1090"/>
                      </a:lnTo>
                      <a:lnTo>
                        <a:pt x="55" y="1103"/>
                      </a:lnTo>
                      <a:lnTo>
                        <a:pt x="50" y="1118"/>
                      </a:lnTo>
                      <a:lnTo>
                        <a:pt x="46" y="1133"/>
                      </a:lnTo>
                      <a:lnTo>
                        <a:pt x="42" y="1149"/>
                      </a:lnTo>
                      <a:lnTo>
                        <a:pt x="37" y="1164"/>
                      </a:lnTo>
                      <a:lnTo>
                        <a:pt x="35" y="1180"/>
                      </a:lnTo>
                      <a:lnTo>
                        <a:pt x="31" y="1195"/>
                      </a:lnTo>
                      <a:lnTo>
                        <a:pt x="28" y="1213"/>
                      </a:lnTo>
                      <a:lnTo>
                        <a:pt x="26" y="1230"/>
                      </a:lnTo>
                      <a:lnTo>
                        <a:pt x="24" y="1248"/>
                      </a:lnTo>
                      <a:lnTo>
                        <a:pt x="20" y="1265"/>
                      </a:lnTo>
                      <a:lnTo>
                        <a:pt x="17" y="1283"/>
                      </a:lnTo>
                      <a:lnTo>
                        <a:pt x="15" y="1300"/>
                      </a:lnTo>
                      <a:lnTo>
                        <a:pt x="13" y="1318"/>
                      </a:lnTo>
                      <a:lnTo>
                        <a:pt x="11" y="1336"/>
                      </a:lnTo>
                      <a:lnTo>
                        <a:pt x="9" y="1355"/>
                      </a:lnTo>
                      <a:lnTo>
                        <a:pt x="9" y="1373"/>
                      </a:lnTo>
                      <a:lnTo>
                        <a:pt x="6" y="1393"/>
                      </a:lnTo>
                      <a:lnTo>
                        <a:pt x="6" y="1410"/>
                      </a:lnTo>
                      <a:lnTo>
                        <a:pt x="4" y="1430"/>
                      </a:lnTo>
                      <a:lnTo>
                        <a:pt x="2" y="1450"/>
                      </a:lnTo>
                      <a:lnTo>
                        <a:pt x="2" y="1467"/>
                      </a:lnTo>
                      <a:lnTo>
                        <a:pt x="2" y="1487"/>
                      </a:lnTo>
                      <a:lnTo>
                        <a:pt x="0" y="1505"/>
                      </a:lnTo>
                      <a:lnTo>
                        <a:pt x="0" y="1524"/>
                      </a:lnTo>
                      <a:lnTo>
                        <a:pt x="0" y="1542"/>
                      </a:lnTo>
                      <a:lnTo>
                        <a:pt x="0" y="1562"/>
                      </a:lnTo>
                      <a:lnTo>
                        <a:pt x="0" y="1579"/>
                      </a:lnTo>
                      <a:lnTo>
                        <a:pt x="0" y="1597"/>
                      </a:lnTo>
                      <a:lnTo>
                        <a:pt x="0" y="1614"/>
                      </a:lnTo>
                      <a:lnTo>
                        <a:pt x="0" y="1632"/>
                      </a:lnTo>
                      <a:lnTo>
                        <a:pt x="0" y="1650"/>
                      </a:lnTo>
                      <a:lnTo>
                        <a:pt x="0" y="1667"/>
                      </a:lnTo>
                      <a:lnTo>
                        <a:pt x="0" y="1685"/>
                      </a:lnTo>
                      <a:lnTo>
                        <a:pt x="0" y="1702"/>
                      </a:lnTo>
                      <a:lnTo>
                        <a:pt x="0" y="1718"/>
                      </a:lnTo>
                      <a:lnTo>
                        <a:pt x="0" y="1733"/>
                      </a:lnTo>
                      <a:lnTo>
                        <a:pt x="0" y="1751"/>
                      </a:lnTo>
                      <a:lnTo>
                        <a:pt x="2" y="1766"/>
                      </a:lnTo>
                      <a:lnTo>
                        <a:pt x="2" y="1781"/>
                      </a:lnTo>
                      <a:lnTo>
                        <a:pt x="2" y="1797"/>
                      </a:lnTo>
                      <a:lnTo>
                        <a:pt x="2" y="1810"/>
                      </a:lnTo>
                      <a:lnTo>
                        <a:pt x="4" y="1825"/>
                      </a:lnTo>
                      <a:lnTo>
                        <a:pt x="4" y="1836"/>
                      </a:lnTo>
                      <a:lnTo>
                        <a:pt x="4" y="1849"/>
                      </a:lnTo>
                      <a:lnTo>
                        <a:pt x="6" y="1860"/>
                      </a:lnTo>
                      <a:lnTo>
                        <a:pt x="6" y="1874"/>
                      </a:lnTo>
                      <a:lnTo>
                        <a:pt x="6" y="1885"/>
                      </a:lnTo>
                      <a:lnTo>
                        <a:pt x="9" y="1895"/>
                      </a:lnTo>
                      <a:lnTo>
                        <a:pt x="9" y="1904"/>
                      </a:lnTo>
                      <a:lnTo>
                        <a:pt x="11" y="1913"/>
                      </a:lnTo>
                      <a:lnTo>
                        <a:pt x="11" y="1922"/>
                      </a:lnTo>
                      <a:lnTo>
                        <a:pt x="11" y="1931"/>
                      </a:lnTo>
                      <a:lnTo>
                        <a:pt x="13" y="1937"/>
                      </a:lnTo>
                      <a:lnTo>
                        <a:pt x="13" y="1944"/>
                      </a:lnTo>
                      <a:lnTo>
                        <a:pt x="13" y="1948"/>
                      </a:lnTo>
                      <a:lnTo>
                        <a:pt x="15" y="1953"/>
                      </a:lnTo>
                      <a:lnTo>
                        <a:pt x="15" y="1957"/>
                      </a:lnTo>
                      <a:lnTo>
                        <a:pt x="17" y="1961"/>
                      </a:lnTo>
                      <a:lnTo>
                        <a:pt x="17" y="1966"/>
                      </a:lnTo>
                      <a:lnTo>
                        <a:pt x="20" y="1972"/>
                      </a:lnTo>
                      <a:lnTo>
                        <a:pt x="22" y="1977"/>
                      </a:lnTo>
                      <a:lnTo>
                        <a:pt x="24" y="1983"/>
                      </a:lnTo>
                      <a:lnTo>
                        <a:pt x="24" y="1988"/>
                      </a:lnTo>
                      <a:lnTo>
                        <a:pt x="26" y="1994"/>
                      </a:lnTo>
                      <a:lnTo>
                        <a:pt x="28" y="1999"/>
                      </a:lnTo>
                      <a:lnTo>
                        <a:pt x="31" y="2005"/>
                      </a:lnTo>
                      <a:lnTo>
                        <a:pt x="33" y="2012"/>
                      </a:lnTo>
                      <a:lnTo>
                        <a:pt x="35" y="2018"/>
                      </a:lnTo>
                      <a:lnTo>
                        <a:pt x="37" y="2025"/>
                      </a:lnTo>
                      <a:lnTo>
                        <a:pt x="39" y="2032"/>
                      </a:lnTo>
                      <a:lnTo>
                        <a:pt x="42" y="2040"/>
                      </a:lnTo>
                      <a:lnTo>
                        <a:pt x="46" y="2047"/>
                      </a:lnTo>
                      <a:lnTo>
                        <a:pt x="48" y="2054"/>
                      </a:lnTo>
                      <a:lnTo>
                        <a:pt x="50" y="2062"/>
                      </a:lnTo>
                      <a:lnTo>
                        <a:pt x="55" y="2069"/>
                      </a:lnTo>
                      <a:lnTo>
                        <a:pt x="57" y="2078"/>
                      </a:lnTo>
                      <a:lnTo>
                        <a:pt x="59" y="2087"/>
                      </a:lnTo>
                      <a:lnTo>
                        <a:pt x="63" y="2095"/>
                      </a:lnTo>
                      <a:lnTo>
                        <a:pt x="68" y="2102"/>
                      </a:lnTo>
                      <a:lnTo>
                        <a:pt x="72" y="2113"/>
                      </a:lnTo>
                      <a:lnTo>
                        <a:pt x="74" y="2119"/>
                      </a:lnTo>
                      <a:lnTo>
                        <a:pt x="79" y="2130"/>
                      </a:lnTo>
                      <a:lnTo>
                        <a:pt x="83" y="2139"/>
                      </a:lnTo>
                      <a:lnTo>
                        <a:pt x="85" y="2148"/>
                      </a:lnTo>
                      <a:lnTo>
                        <a:pt x="90" y="2155"/>
                      </a:lnTo>
                      <a:lnTo>
                        <a:pt x="94" y="2166"/>
                      </a:lnTo>
                      <a:lnTo>
                        <a:pt x="99" y="2172"/>
                      </a:lnTo>
                      <a:lnTo>
                        <a:pt x="103" y="2183"/>
                      </a:lnTo>
                      <a:lnTo>
                        <a:pt x="107" y="2190"/>
                      </a:lnTo>
                      <a:lnTo>
                        <a:pt x="112" y="2199"/>
                      </a:lnTo>
                      <a:lnTo>
                        <a:pt x="116" y="2207"/>
                      </a:lnTo>
                      <a:lnTo>
                        <a:pt x="121" y="2216"/>
                      </a:lnTo>
                      <a:lnTo>
                        <a:pt x="125" y="2223"/>
                      </a:lnTo>
                      <a:lnTo>
                        <a:pt x="129" y="2229"/>
                      </a:lnTo>
                      <a:lnTo>
                        <a:pt x="136" y="2238"/>
                      </a:lnTo>
                      <a:lnTo>
                        <a:pt x="140" y="2247"/>
                      </a:lnTo>
                      <a:lnTo>
                        <a:pt x="145" y="2253"/>
                      </a:lnTo>
                      <a:lnTo>
                        <a:pt x="149" y="2260"/>
                      </a:lnTo>
                      <a:lnTo>
                        <a:pt x="154" y="2267"/>
                      </a:lnTo>
                      <a:lnTo>
                        <a:pt x="160" y="2273"/>
                      </a:lnTo>
                      <a:lnTo>
                        <a:pt x="165" y="2280"/>
                      </a:lnTo>
                      <a:lnTo>
                        <a:pt x="169" y="2284"/>
                      </a:lnTo>
                      <a:lnTo>
                        <a:pt x="176" y="2291"/>
                      </a:lnTo>
                      <a:lnTo>
                        <a:pt x="180" y="2295"/>
                      </a:lnTo>
                      <a:lnTo>
                        <a:pt x="184" y="2300"/>
                      </a:lnTo>
                      <a:lnTo>
                        <a:pt x="191" y="2304"/>
                      </a:lnTo>
                      <a:lnTo>
                        <a:pt x="195" y="2308"/>
                      </a:lnTo>
                      <a:lnTo>
                        <a:pt x="200" y="2313"/>
                      </a:lnTo>
                      <a:lnTo>
                        <a:pt x="206" y="2315"/>
                      </a:lnTo>
                      <a:lnTo>
                        <a:pt x="211" y="2319"/>
                      </a:lnTo>
                      <a:lnTo>
                        <a:pt x="217" y="2322"/>
                      </a:lnTo>
                      <a:lnTo>
                        <a:pt x="222" y="2324"/>
                      </a:lnTo>
                      <a:lnTo>
                        <a:pt x="226" y="2324"/>
                      </a:lnTo>
                      <a:lnTo>
                        <a:pt x="233" y="2326"/>
                      </a:lnTo>
                      <a:lnTo>
                        <a:pt x="237" y="2326"/>
                      </a:lnTo>
                      <a:lnTo>
                        <a:pt x="241" y="2328"/>
                      </a:lnTo>
                      <a:lnTo>
                        <a:pt x="248" y="2326"/>
                      </a:lnTo>
                      <a:lnTo>
                        <a:pt x="252" y="2326"/>
                      </a:lnTo>
                      <a:lnTo>
                        <a:pt x="257" y="2324"/>
                      </a:lnTo>
                      <a:lnTo>
                        <a:pt x="263" y="2322"/>
                      </a:lnTo>
                      <a:lnTo>
                        <a:pt x="268" y="2319"/>
                      </a:lnTo>
                      <a:lnTo>
                        <a:pt x="274" y="2317"/>
                      </a:lnTo>
                      <a:lnTo>
                        <a:pt x="279" y="2315"/>
                      </a:lnTo>
                      <a:lnTo>
                        <a:pt x="285" y="2313"/>
                      </a:lnTo>
                      <a:lnTo>
                        <a:pt x="290" y="2311"/>
                      </a:lnTo>
                      <a:lnTo>
                        <a:pt x="296" y="2308"/>
                      </a:lnTo>
                      <a:lnTo>
                        <a:pt x="303" y="2306"/>
                      </a:lnTo>
                      <a:lnTo>
                        <a:pt x="310" y="2306"/>
                      </a:lnTo>
                      <a:lnTo>
                        <a:pt x="314" y="2304"/>
                      </a:lnTo>
                      <a:lnTo>
                        <a:pt x="321" y="2304"/>
                      </a:lnTo>
                      <a:lnTo>
                        <a:pt x="327" y="2302"/>
                      </a:lnTo>
                      <a:lnTo>
                        <a:pt x="336" y="2300"/>
                      </a:lnTo>
                      <a:lnTo>
                        <a:pt x="343" y="2300"/>
                      </a:lnTo>
                      <a:lnTo>
                        <a:pt x="349" y="2300"/>
                      </a:lnTo>
                      <a:lnTo>
                        <a:pt x="356" y="2300"/>
                      </a:lnTo>
                      <a:lnTo>
                        <a:pt x="364" y="2300"/>
                      </a:lnTo>
                      <a:lnTo>
                        <a:pt x="371" y="2297"/>
                      </a:lnTo>
                      <a:lnTo>
                        <a:pt x="378" y="2297"/>
                      </a:lnTo>
                      <a:lnTo>
                        <a:pt x="386" y="2297"/>
                      </a:lnTo>
                      <a:lnTo>
                        <a:pt x="393" y="2297"/>
                      </a:lnTo>
                      <a:lnTo>
                        <a:pt x="402" y="2297"/>
                      </a:lnTo>
                      <a:lnTo>
                        <a:pt x="408" y="2297"/>
                      </a:lnTo>
                      <a:lnTo>
                        <a:pt x="417" y="2297"/>
                      </a:lnTo>
                      <a:lnTo>
                        <a:pt x="426" y="2300"/>
                      </a:lnTo>
                      <a:lnTo>
                        <a:pt x="433" y="2300"/>
                      </a:lnTo>
                      <a:lnTo>
                        <a:pt x="441" y="2300"/>
                      </a:lnTo>
                      <a:lnTo>
                        <a:pt x="450" y="2300"/>
                      </a:lnTo>
                      <a:lnTo>
                        <a:pt x="459" y="2302"/>
                      </a:lnTo>
                      <a:lnTo>
                        <a:pt x="466" y="2304"/>
                      </a:lnTo>
                      <a:lnTo>
                        <a:pt x="477" y="2304"/>
                      </a:lnTo>
                      <a:lnTo>
                        <a:pt x="483" y="2306"/>
                      </a:lnTo>
                      <a:lnTo>
                        <a:pt x="492" y="2308"/>
                      </a:lnTo>
                      <a:lnTo>
                        <a:pt x="501" y="2308"/>
                      </a:lnTo>
                      <a:lnTo>
                        <a:pt x="510" y="2311"/>
                      </a:lnTo>
                      <a:lnTo>
                        <a:pt x="518" y="2313"/>
                      </a:lnTo>
                      <a:lnTo>
                        <a:pt x="527" y="2315"/>
                      </a:lnTo>
                      <a:lnTo>
                        <a:pt x="536" y="2317"/>
                      </a:lnTo>
                      <a:lnTo>
                        <a:pt x="545" y="2319"/>
                      </a:lnTo>
                      <a:lnTo>
                        <a:pt x="553" y="2322"/>
                      </a:lnTo>
                      <a:lnTo>
                        <a:pt x="562" y="2324"/>
                      </a:lnTo>
                      <a:lnTo>
                        <a:pt x="571" y="2328"/>
                      </a:lnTo>
                      <a:lnTo>
                        <a:pt x="580" y="2330"/>
                      </a:lnTo>
                      <a:lnTo>
                        <a:pt x="589" y="2332"/>
                      </a:lnTo>
                      <a:lnTo>
                        <a:pt x="597" y="2335"/>
                      </a:lnTo>
                      <a:lnTo>
                        <a:pt x="606" y="2339"/>
                      </a:lnTo>
                      <a:lnTo>
                        <a:pt x="615" y="2341"/>
                      </a:lnTo>
                      <a:lnTo>
                        <a:pt x="624" y="2346"/>
                      </a:lnTo>
                      <a:lnTo>
                        <a:pt x="633" y="2350"/>
                      </a:lnTo>
                      <a:lnTo>
                        <a:pt x="641" y="2352"/>
                      </a:lnTo>
                      <a:lnTo>
                        <a:pt x="650" y="2357"/>
                      </a:lnTo>
                      <a:lnTo>
                        <a:pt x="659" y="2361"/>
                      </a:lnTo>
                      <a:lnTo>
                        <a:pt x="668" y="2363"/>
                      </a:lnTo>
                      <a:lnTo>
                        <a:pt x="676" y="2368"/>
                      </a:lnTo>
                      <a:lnTo>
                        <a:pt x="685" y="2372"/>
                      </a:lnTo>
                      <a:lnTo>
                        <a:pt x="694" y="2376"/>
                      </a:lnTo>
                      <a:lnTo>
                        <a:pt x="703" y="2381"/>
                      </a:lnTo>
                      <a:lnTo>
                        <a:pt x="709" y="2385"/>
                      </a:lnTo>
                      <a:lnTo>
                        <a:pt x="720" y="2390"/>
                      </a:lnTo>
                      <a:lnTo>
                        <a:pt x="727" y="2394"/>
                      </a:lnTo>
                      <a:lnTo>
                        <a:pt x="736" y="2401"/>
                      </a:lnTo>
                      <a:lnTo>
                        <a:pt x="745" y="2405"/>
                      </a:lnTo>
                      <a:lnTo>
                        <a:pt x="753" y="2409"/>
                      </a:lnTo>
                      <a:lnTo>
                        <a:pt x="760" y="2416"/>
                      </a:lnTo>
                      <a:lnTo>
                        <a:pt x="769" y="2423"/>
                      </a:lnTo>
                      <a:lnTo>
                        <a:pt x="778" y="2427"/>
                      </a:lnTo>
                      <a:lnTo>
                        <a:pt x="784" y="2431"/>
                      </a:lnTo>
                      <a:lnTo>
                        <a:pt x="793" y="2438"/>
                      </a:lnTo>
                      <a:lnTo>
                        <a:pt x="802" y="2442"/>
                      </a:lnTo>
                      <a:lnTo>
                        <a:pt x="811" y="2447"/>
                      </a:lnTo>
                      <a:lnTo>
                        <a:pt x="819" y="2453"/>
                      </a:lnTo>
                      <a:lnTo>
                        <a:pt x="828" y="2458"/>
                      </a:lnTo>
                      <a:lnTo>
                        <a:pt x="837" y="2462"/>
                      </a:lnTo>
                      <a:lnTo>
                        <a:pt x="846" y="2466"/>
                      </a:lnTo>
                      <a:lnTo>
                        <a:pt x="854" y="2473"/>
                      </a:lnTo>
                      <a:lnTo>
                        <a:pt x="863" y="2477"/>
                      </a:lnTo>
                      <a:lnTo>
                        <a:pt x="872" y="2482"/>
                      </a:lnTo>
                      <a:lnTo>
                        <a:pt x="881" y="2486"/>
                      </a:lnTo>
                      <a:lnTo>
                        <a:pt x="890" y="2491"/>
                      </a:lnTo>
                      <a:lnTo>
                        <a:pt x="898" y="2495"/>
                      </a:lnTo>
                      <a:lnTo>
                        <a:pt x="909" y="2499"/>
                      </a:lnTo>
                      <a:lnTo>
                        <a:pt x="918" y="2504"/>
                      </a:lnTo>
                      <a:lnTo>
                        <a:pt x="927" y="2508"/>
                      </a:lnTo>
                      <a:lnTo>
                        <a:pt x="938" y="2510"/>
                      </a:lnTo>
                      <a:lnTo>
                        <a:pt x="947" y="2515"/>
                      </a:lnTo>
                      <a:lnTo>
                        <a:pt x="956" y="2517"/>
                      </a:lnTo>
                      <a:lnTo>
                        <a:pt x="967" y="2521"/>
                      </a:lnTo>
                      <a:lnTo>
                        <a:pt x="975" y="2526"/>
                      </a:lnTo>
                      <a:lnTo>
                        <a:pt x="984" y="2528"/>
                      </a:lnTo>
                      <a:lnTo>
                        <a:pt x="995" y="2532"/>
                      </a:lnTo>
                      <a:lnTo>
                        <a:pt x="1004" y="2535"/>
                      </a:lnTo>
                      <a:lnTo>
                        <a:pt x="1013" y="2539"/>
                      </a:lnTo>
                      <a:lnTo>
                        <a:pt x="1021" y="2541"/>
                      </a:lnTo>
                      <a:lnTo>
                        <a:pt x="1032" y="2543"/>
                      </a:lnTo>
                      <a:lnTo>
                        <a:pt x="1041" y="2546"/>
                      </a:lnTo>
                      <a:lnTo>
                        <a:pt x="1050" y="2550"/>
                      </a:lnTo>
                      <a:lnTo>
                        <a:pt x="1061" y="2552"/>
                      </a:lnTo>
                      <a:lnTo>
                        <a:pt x="1070" y="2552"/>
                      </a:lnTo>
                      <a:lnTo>
                        <a:pt x="1079" y="2554"/>
                      </a:lnTo>
                      <a:lnTo>
                        <a:pt x="1087" y="2556"/>
                      </a:lnTo>
                      <a:lnTo>
                        <a:pt x="1098" y="2559"/>
                      </a:lnTo>
                      <a:lnTo>
                        <a:pt x="1105" y="2559"/>
                      </a:lnTo>
                      <a:lnTo>
                        <a:pt x="1116" y="2561"/>
                      </a:lnTo>
                      <a:lnTo>
                        <a:pt x="1125" y="2561"/>
                      </a:lnTo>
                      <a:lnTo>
                        <a:pt x="1134" y="2563"/>
                      </a:lnTo>
                      <a:lnTo>
                        <a:pt x="1142" y="2563"/>
                      </a:lnTo>
                      <a:lnTo>
                        <a:pt x="1151" y="2563"/>
                      </a:lnTo>
                      <a:lnTo>
                        <a:pt x="1160" y="2563"/>
                      </a:lnTo>
                      <a:lnTo>
                        <a:pt x="1169" y="2563"/>
                      </a:lnTo>
                      <a:lnTo>
                        <a:pt x="1177" y="2563"/>
                      </a:lnTo>
                      <a:lnTo>
                        <a:pt x="1186" y="2563"/>
                      </a:lnTo>
                      <a:lnTo>
                        <a:pt x="1193" y="2563"/>
                      </a:lnTo>
                      <a:lnTo>
                        <a:pt x="1204" y="2563"/>
                      </a:lnTo>
                      <a:lnTo>
                        <a:pt x="1210" y="2561"/>
                      </a:lnTo>
                      <a:lnTo>
                        <a:pt x="1219" y="2561"/>
                      </a:lnTo>
                      <a:lnTo>
                        <a:pt x="1226" y="2559"/>
                      </a:lnTo>
                      <a:lnTo>
                        <a:pt x="1235" y="2556"/>
                      </a:lnTo>
                      <a:lnTo>
                        <a:pt x="1243" y="2556"/>
                      </a:lnTo>
                      <a:lnTo>
                        <a:pt x="1250" y="2554"/>
                      </a:lnTo>
                      <a:lnTo>
                        <a:pt x="1257" y="2552"/>
                      </a:lnTo>
                      <a:lnTo>
                        <a:pt x="1265" y="2550"/>
                      </a:lnTo>
                      <a:lnTo>
                        <a:pt x="1270" y="2546"/>
                      </a:lnTo>
                      <a:lnTo>
                        <a:pt x="1279" y="2543"/>
                      </a:lnTo>
                      <a:lnTo>
                        <a:pt x="1285" y="2541"/>
                      </a:lnTo>
                      <a:lnTo>
                        <a:pt x="1292" y="2537"/>
                      </a:lnTo>
                      <a:lnTo>
                        <a:pt x="1298" y="2532"/>
                      </a:lnTo>
                      <a:lnTo>
                        <a:pt x="1305" y="2530"/>
                      </a:lnTo>
                      <a:lnTo>
                        <a:pt x="1309" y="2526"/>
                      </a:lnTo>
                      <a:lnTo>
                        <a:pt x="1316" y="2521"/>
                      </a:lnTo>
                      <a:lnTo>
                        <a:pt x="1322" y="2517"/>
                      </a:lnTo>
                      <a:lnTo>
                        <a:pt x="1327" y="2510"/>
                      </a:lnTo>
                      <a:lnTo>
                        <a:pt x="1333" y="2504"/>
                      </a:lnTo>
                      <a:lnTo>
                        <a:pt x="1340" y="2497"/>
                      </a:lnTo>
                      <a:lnTo>
                        <a:pt x="1347" y="2488"/>
                      </a:lnTo>
                      <a:lnTo>
                        <a:pt x="1353" y="2480"/>
                      </a:lnTo>
                      <a:lnTo>
                        <a:pt x="1358" y="2475"/>
                      </a:lnTo>
                      <a:lnTo>
                        <a:pt x="1360" y="2471"/>
                      </a:lnTo>
                      <a:lnTo>
                        <a:pt x="1364" y="2464"/>
                      </a:lnTo>
                      <a:lnTo>
                        <a:pt x="1369" y="2462"/>
                      </a:lnTo>
                      <a:lnTo>
                        <a:pt x="1371" y="2455"/>
                      </a:lnTo>
                      <a:lnTo>
                        <a:pt x="1375" y="2451"/>
                      </a:lnTo>
                      <a:lnTo>
                        <a:pt x="1377" y="2444"/>
                      </a:lnTo>
                      <a:lnTo>
                        <a:pt x="1382" y="2440"/>
                      </a:lnTo>
                      <a:lnTo>
                        <a:pt x="1386" y="2436"/>
                      </a:lnTo>
                      <a:lnTo>
                        <a:pt x="1388" y="2431"/>
                      </a:lnTo>
                      <a:lnTo>
                        <a:pt x="1393" y="2425"/>
                      </a:lnTo>
                      <a:lnTo>
                        <a:pt x="1397" y="2420"/>
                      </a:lnTo>
                      <a:lnTo>
                        <a:pt x="1399" y="2414"/>
                      </a:lnTo>
                      <a:lnTo>
                        <a:pt x="1404" y="2409"/>
                      </a:lnTo>
                      <a:lnTo>
                        <a:pt x="1408" y="2405"/>
                      </a:lnTo>
                      <a:lnTo>
                        <a:pt x="1413" y="2398"/>
                      </a:lnTo>
                      <a:lnTo>
                        <a:pt x="1417" y="2394"/>
                      </a:lnTo>
                      <a:lnTo>
                        <a:pt x="1421" y="2390"/>
                      </a:lnTo>
                      <a:lnTo>
                        <a:pt x="1426" y="2385"/>
                      </a:lnTo>
                      <a:lnTo>
                        <a:pt x="1430" y="2381"/>
                      </a:lnTo>
                      <a:lnTo>
                        <a:pt x="1432" y="2374"/>
                      </a:lnTo>
                      <a:lnTo>
                        <a:pt x="1437" y="2370"/>
                      </a:lnTo>
                      <a:lnTo>
                        <a:pt x="1441" y="2365"/>
                      </a:lnTo>
                      <a:lnTo>
                        <a:pt x="1446" y="2361"/>
                      </a:lnTo>
                      <a:lnTo>
                        <a:pt x="1454" y="2352"/>
                      </a:lnTo>
                      <a:lnTo>
                        <a:pt x="1463" y="2343"/>
                      </a:lnTo>
                      <a:lnTo>
                        <a:pt x="1470" y="2337"/>
                      </a:lnTo>
                      <a:lnTo>
                        <a:pt x="1481" y="2330"/>
                      </a:lnTo>
                      <a:lnTo>
                        <a:pt x="1487" y="2324"/>
                      </a:lnTo>
                      <a:lnTo>
                        <a:pt x="1498" y="2319"/>
                      </a:lnTo>
                      <a:lnTo>
                        <a:pt x="1505" y="2315"/>
                      </a:lnTo>
                      <a:lnTo>
                        <a:pt x="1516" y="2311"/>
                      </a:lnTo>
                      <a:lnTo>
                        <a:pt x="1522" y="2308"/>
                      </a:lnTo>
                      <a:lnTo>
                        <a:pt x="1533" y="2308"/>
                      </a:lnTo>
                      <a:lnTo>
                        <a:pt x="1538" y="2308"/>
                      </a:lnTo>
                      <a:lnTo>
                        <a:pt x="1542" y="2308"/>
                      </a:lnTo>
                      <a:lnTo>
                        <a:pt x="1547" y="2308"/>
                      </a:lnTo>
                      <a:lnTo>
                        <a:pt x="1551" y="2311"/>
                      </a:lnTo>
                      <a:lnTo>
                        <a:pt x="1555" y="2311"/>
                      </a:lnTo>
                      <a:lnTo>
                        <a:pt x="1560" y="2313"/>
                      </a:lnTo>
                      <a:lnTo>
                        <a:pt x="1564" y="2315"/>
                      </a:lnTo>
                      <a:lnTo>
                        <a:pt x="1571" y="2319"/>
                      </a:lnTo>
                      <a:lnTo>
                        <a:pt x="1577" y="2322"/>
                      </a:lnTo>
                      <a:lnTo>
                        <a:pt x="1586" y="2326"/>
                      </a:lnTo>
                      <a:lnTo>
                        <a:pt x="1591" y="2328"/>
                      </a:lnTo>
                      <a:lnTo>
                        <a:pt x="1595" y="2330"/>
                      </a:lnTo>
                      <a:lnTo>
                        <a:pt x="1599" y="2332"/>
                      </a:lnTo>
                      <a:lnTo>
                        <a:pt x="1606" y="2335"/>
                      </a:lnTo>
                      <a:lnTo>
                        <a:pt x="1610" y="2335"/>
                      </a:lnTo>
                      <a:lnTo>
                        <a:pt x="1617" y="2337"/>
                      </a:lnTo>
                      <a:lnTo>
                        <a:pt x="1621" y="2339"/>
                      </a:lnTo>
                      <a:lnTo>
                        <a:pt x="1628" y="2339"/>
                      </a:lnTo>
                      <a:lnTo>
                        <a:pt x="1632" y="2341"/>
                      </a:lnTo>
                      <a:lnTo>
                        <a:pt x="1639" y="2341"/>
                      </a:lnTo>
                      <a:lnTo>
                        <a:pt x="1645" y="2343"/>
                      </a:lnTo>
                      <a:lnTo>
                        <a:pt x="1652" y="2346"/>
                      </a:lnTo>
                      <a:lnTo>
                        <a:pt x="1659" y="2346"/>
                      </a:lnTo>
                      <a:lnTo>
                        <a:pt x="1665" y="2346"/>
                      </a:lnTo>
                      <a:lnTo>
                        <a:pt x="1670" y="2346"/>
                      </a:lnTo>
                      <a:lnTo>
                        <a:pt x="1676" y="2348"/>
                      </a:lnTo>
                      <a:lnTo>
                        <a:pt x="1683" y="2348"/>
                      </a:lnTo>
                      <a:lnTo>
                        <a:pt x="1692" y="2348"/>
                      </a:lnTo>
                      <a:lnTo>
                        <a:pt x="1696" y="2348"/>
                      </a:lnTo>
                      <a:lnTo>
                        <a:pt x="1705" y="2350"/>
                      </a:lnTo>
                      <a:lnTo>
                        <a:pt x="1709" y="2348"/>
                      </a:lnTo>
                      <a:lnTo>
                        <a:pt x="1716" y="2348"/>
                      </a:lnTo>
                      <a:lnTo>
                        <a:pt x="1722" y="2348"/>
                      </a:lnTo>
                      <a:lnTo>
                        <a:pt x="1731" y="2348"/>
                      </a:lnTo>
                      <a:lnTo>
                        <a:pt x="1738" y="2348"/>
                      </a:lnTo>
                      <a:lnTo>
                        <a:pt x="1744" y="2348"/>
                      </a:lnTo>
                      <a:lnTo>
                        <a:pt x="1751" y="2348"/>
                      </a:lnTo>
                      <a:lnTo>
                        <a:pt x="1758" y="2348"/>
                      </a:lnTo>
                      <a:lnTo>
                        <a:pt x="1764" y="2346"/>
                      </a:lnTo>
                      <a:lnTo>
                        <a:pt x="1771" y="2346"/>
                      </a:lnTo>
                      <a:lnTo>
                        <a:pt x="1777" y="2343"/>
                      </a:lnTo>
                      <a:lnTo>
                        <a:pt x="1784" y="2341"/>
                      </a:lnTo>
                      <a:lnTo>
                        <a:pt x="1790" y="2341"/>
                      </a:lnTo>
                      <a:lnTo>
                        <a:pt x="1797" y="2339"/>
                      </a:lnTo>
                      <a:lnTo>
                        <a:pt x="1804" y="2339"/>
                      </a:lnTo>
                      <a:lnTo>
                        <a:pt x="1810" y="2337"/>
                      </a:lnTo>
                      <a:lnTo>
                        <a:pt x="1817" y="2335"/>
                      </a:lnTo>
                      <a:lnTo>
                        <a:pt x="1823" y="2332"/>
                      </a:lnTo>
                      <a:lnTo>
                        <a:pt x="1828" y="2332"/>
                      </a:lnTo>
                      <a:lnTo>
                        <a:pt x="1834" y="2330"/>
                      </a:lnTo>
                      <a:lnTo>
                        <a:pt x="1841" y="2328"/>
                      </a:lnTo>
                      <a:lnTo>
                        <a:pt x="1848" y="2324"/>
                      </a:lnTo>
                      <a:lnTo>
                        <a:pt x="1852" y="2322"/>
                      </a:lnTo>
                      <a:lnTo>
                        <a:pt x="1859" y="2319"/>
                      </a:lnTo>
                      <a:lnTo>
                        <a:pt x="1863" y="2317"/>
                      </a:lnTo>
                      <a:lnTo>
                        <a:pt x="1870" y="2313"/>
                      </a:lnTo>
                      <a:lnTo>
                        <a:pt x="1874" y="2311"/>
                      </a:lnTo>
                      <a:lnTo>
                        <a:pt x="1881" y="2306"/>
                      </a:lnTo>
                      <a:lnTo>
                        <a:pt x="1883" y="2304"/>
                      </a:lnTo>
                      <a:lnTo>
                        <a:pt x="1889" y="2300"/>
                      </a:lnTo>
                      <a:lnTo>
                        <a:pt x="1894" y="2295"/>
                      </a:lnTo>
                      <a:lnTo>
                        <a:pt x="1898" y="2293"/>
                      </a:lnTo>
                      <a:lnTo>
                        <a:pt x="1907" y="2284"/>
                      </a:lnTo>
                      <a:lnTo>
                        <a:pt x="1914" y="2275"/>
                      </a:lnTo>
                      <a:lnTo>
                        <a:pt x="1918" y="2271"/>
                      </a:lnTo>
                      <a:lnTo>
                        <a:pt x="1920" y="2267"/>
                      </a:lnTo>
                      <a:lnTo>
                        <a:pt x="1925" y="2262"/>
                      </a:lnTo>
                      <a:lnTo>
                        <a:pt x="1927" y="2258"/>
                      </a:lnTo>
                      <a:lnTo>
                        <a:pt x="1707" y="2012"/>
                      </a:lnTo>
                      <a:lnTo>
                        <a:pt x="1703" y="1999"/>
                      </a:lnTo>
                      <a:lnTo>
                        <a:pt x="1698" y="1988"/>
                      </a:lnTo>
                      <a:lnTo>
                        <a:pt x="1694" y="1975"/>
                      </a:lnTo>
                      <a:lnTo>
                        <a:pt x="1687" y="1961"/>
                      </a:lnTo>
                      <a:lnTo>
                        <a:pt x="1683" y="1950"/>
                      </a:lnTo>
                      <a:lnTo>
                        <a:pt x="1676" y="1937"/>
                      </a:lnTo>
                      <a:lnTo>
                        <a:pt x="1672" y="1924"/>
                      </a:lnTo>
                      <a:lnTo>
                        <a:pt x="1665" y="1913"/>
                      </a:lnTo>
                      <a:lnTo>
                        <a:pt x="1659" y="1898"/>
                      </a:lnTo>
                      <a:lnTo>
                        <a:pt x="1652" y="1887"/>
                      </a:lnTo>
                      <a:lnTo>
                        <a:pt x="1643" y="1874"/>
                      </a:lnTo>
                      <a:lnTo>
                        <a:pt x="1637" y="1860"/>
                      </a:lnTo>
                      <a:lnTo>
                        <a:pt x="1630" y="1847"/>
                      </a:lnTo>
                      <a:lnTo>
                        <a:pt x="1621" y="1834"/>
                      </a:lnTo>
                      <a:lnTo>
                        <a:pt x="1615" y="1821"/>
                      </a:lnTo>
                      <a:lnTo>
                        <a:pt x="1606" y="1808"/>
                      </a:lnTo>
                      <a:lnTo>
                        <a:pt x="1597" y="1794"/>
                      </a:lnTo>
                      <a:lnTo>
                        <a:pt x="1591" y="1781"/>
                      </a:lnTo>
                      <a:lnTo>
                        <a:pt x="1582" y="1768"/>
                      </a:lnTo>
                      <a:lnTo>
                        <a:pt x="1573" y="1755"/>
                      </a:lnTo>
                      <a:lnTo>
                        <a:pt x="1564" y="1742"/>
                      </a:lnTo>
                      <a:lnTo>
                        <a:pt x="1555" y="1729"/>
                      </a:lnTo>
                      <a:lnTo>
                        <a:pt x="1547" y="1715"/>
                      </a:lnTo>
                      <a:lnTo>
                        <a:pt x="1538" y="1702"/>
                      </a:lnTo>
                      <a:lnTo>
                        <a:pt x="1529" y="1689"/>
                      </a:lnTo>
                      <a:lnTo>
                        <a:pt x="1520" y="1676"/>
                      </a:lnTo>
                      <a:lnTo>
                        <a:pt x="1511" y="1665"/>
                      </a:lnTo>
                      <a:lnTo>
                        <a:pt x="1503" y="1652"/>
                      </a:lnTo>
                      <a:lnTo>
                        <a:pt x="1494" y="1639"/>
                      </a:lnTo>
                      <a:lnTo>
                        <a:pt x="1485" y="1628"/>
                      </a:lnTo>
                      <a:lnTo>
                        <a:pt x="1476" y="1614"/>
                      </a:lnTo>
                      <a:lnTo>
                        <a:pt x="1467" y="1603"/>
                      </a:lnTo>
                      <a:lnTo>
                        <a:pt x="1459" y="1592"/>
                      </a:lnTo>
                      <a:lnTo>
                        <a:pt x="1450" y="1579"/>
                      </a:lnTo>
                      <a:lnTo>
                        <a:pt x="1441" y="1568"/>
                      </a:lnTo>
                      <a:lnTo>
                        <a:pt x="1432" y="1557"/>
                      </a:lnTo>
                      <a:lnTo>
                        <a:pt x="1424" y="1546"/>
                      </a:lnTo>
                      <a:lnTo>
                        <a:pt x="1415" y="1535"/>
                      </a:lnTo>
                      <a:lnTo>
                        <a:pt x="1408" y="1527"/>
                      </a:lnTo>
                      <a:lnTo>
                        <a:pt x="1399" y="1516"/>
                      </a:lnTo>
                      <a:lnTo>
                        <a:pt x="1391" y="1507"/>
                      </a:lnTo>
                      <a:lnTo>
                        <a:pt x="1384" y="1496"/>
                      </a:lnTo>
                      <a:lnTo>
                        <a:pt x="1375" y="1487"/>
                      </a:lnTo>
                      <a:lnTo>
                        <a:pt x="1369" y="1478"/>
                      </a:lnTo>
                      <a:lnTo>
                        <a:pt x="1362" y="1469"/>
                      </a:lnTo>
                      <a:lnTo>
                        <a:pt x="1355" y="1461"/>
                      </a:lnTo>
                      <a:lnTo>
                        <a:pt x="1349" y="1454"/>
                      </a:lnTo>
                      <a:lnTo>
                        <a:pt x="1344" y="1448"/>
                      </a:lnTo>
                      <a:lnTo>
                        <a:pt x="1338" y="1439"/>
                      </a:lnTo>
                      <a:lnTo>
                        <a:pt x="1331" y="1432"/>
                      </a:lnTo>
                      <a:lnTo>
                        <a:pt x="1327" y="1426"/>
                      </a:lnTo>
                      <a:lnTo>
                        <a:pt x="1320" y="1419"/>
                      </a:lnTo>
                      <a:lnTo>
                        <a:pt x="1316" y="1412"/>
                      </a:lnTo>
                      <a:lnTo>
                        <a:pt x="1311" y="1408"/>
                      </a:lnTo>
                      <a:lnTo>
                        <a:pt x="1307" y="1404"/>
                      </a:lnTo>
                      <a:lnTo>
                        <a:pt x="1305" y="1399"/>
                      </a:lnTo>
                      <a:lnTo>
                        <a:pt x="1298" y="1393"/>
                      </a:lnTo>
                      <a:lnTo>
                        <a:pt x="1294" y="1388"/>
                      </a:lnTo>
                      <a:lnTo>
                        <a:pt x="1290" y="1384"/>
                      </a:lnTo>
                      <a:lnTo>
                        <a:pt x="1290" y="1384"/>
                      </a:lnTo>
                      <a:lnTo>
                        <a:pt x="1290" y="1382"/>
                      </a:lnTo>
                      <a:lnTo>
                        <a:pt x="1290" y="1379"/>
                      </a:lnTo>
                      <a:lnTo>
                        <a:pt x="1290" y="1375"/>
                      </a:lnTo>
                      <a:lnTo>
                        <a:pt x="1290" y="1368"/>
                      </a:lnTo>
                      <a:lnTo>
                        <a:pt x="1290" y="1360"/>
                      </a:lnTo>
                      <a:lnTo>
                        <a:pt x="1292" y="1351"/>
                      </a:lnTo>
                      <a:lnTo>
                        <a:pt x="1292" y="1340"/>
                      </a:lnTo>
                      <a:lnTo>
                        <a:pt x="1292" y="1329"/>
                      </a:lnTo>
                      <a:lnTo>
                        <a:pt x="1292" y="1314"/>
                      </a:lnTo>
                      <a:lnTo>
                        <a:pt x="1294" y="1298"/>
                      </a:lnTo>
                      <a:lnTo>
                        <a:pt x="1294" y="1281"/>
                      </a:lnTo>
                      <a:lnTo>
                        <a:pt x="1294" y="1263"/>
                      </a:lnTo>
                      <a:lnTo>
                        <a:pt x="1296" y="1245"/>
                      </a:lnTo>
                      <a:lnTo>
                        <a:pt x="1298" y="1224"/>
                      </a:lnTo>
                      <a:lnTo>
                        <a:pt x="1298" y="1204"/>
                      </a:lnTo>
                      <a:lnTo>
                        <a:pt x="1301" y="1182"/>
                      </a:lnTo>
                      <a:lnTo>
                        <a:pt x="1301" y="1158"/>
                      </a:lnTo>
                      <a:lnTo>
                        <a:pt x="1303" y="1133"/>
                      </a:lnTo>
                      <a:lnTo>
                        <a:pt x="1303" y="1109"/>
                      </a:lnTo>
                      <a:lnTo>
                        <a:pt x="1305" y="1083"/>
                      </a:lnTo>
                      <a:lnTo>
                        <a:pt x="1307" y="1057"/>
                      </a:lnTo>
                      <a:lnTo>
                        <a:pt x="1307" y="1030"/>
                      </a:lnTo>
                      <a:lnTo>
                        <a:pt x="1309" y="1002"/>
                      </a:lnTo>
                      <a:lnTo>
                        <a:pt x="1309" y="975"/>
                      </a:lnTo>
                      <a:lnTo>
                        <a:pt x="1311" y="945"/>
                      </a:lnTo>
                      <a:lnTo>
                        <a:pt x="1311" y="916"/>
                      </a:lnTo>
                      <a:lnTo>
                        <a:pt x="1314" y="888"/>
                      </a:lnTo>
                      <a:lnTo>
                        <a:pt x="1316" y="859"/>
                      </a:lnTo>
                      <a:lnTo>
                        <a:pt x="1316" y="828"/>
                      </a:lnTo>
                      <a:lnTo>
                        <a:pt x="1318" y="797"/>
                      </a:lnTo>
                      <a:lnTo>
                        <a:pt x="1318" y="769"/>
                      </a:lnTo>
                      <a:lnTo>
                        <a:pt x="1320" y="738"/>
                      </a:lnTo>
                      <a:lnTo>
                        <a:pt x="1320" y="707"/>
                      </a:lnTo>
                      <a:lnTo>
                        <a:pt x="1322" y="679"/>
                      </a:lnTo>
                      <a:lnTo>
                        <a:pt x="1322" y="648"/>
                      </a:lnTo>
                      <a:lnTo>
                        <a:pt x="1322" y="617"/>
                      </a:lnTo>
                      <a:lnTo>
                        <a:pt x="1322" y="587"/>
                      </a:lnTo>
                      <a:lnTo>
                        <a:pt x="1325" y="558"/>
                      </a:lnTo>
                      <a:lnTo>
                        <a:pt x="1325" y="530"/>
                      </a:lnTo>
                      <a:lnTo>
                        <a:pt x="1327" y="501"/>
                      </a:lnTo>
                      <a:lnTo>
                        <a:pt x="1327" y="472"/>
                      </a:lnTo>
                      <a:lnTo>
                        <a:pt x="1327" y="446"/>
                      </a:lnTo>
                      <a:lnTo>
                        <a:pt x="1327" y="418"/>
                      </a:lnTo>
                      <a:lnTo>
                        <a:pt x="1329" y="393"/>
                      </a:lnTo>
                      <a:lnTo>
                        <a:pt x="1329" y="367"/>
                      </a:lnTo>
                      <a:lnTo>
                        <a:pt x="1329" y="343"/>
                      </a:lnTo>
                      <a:lnTo>
                        <a:pt x="1329" y="319"/>
                      </a:lnTo>
                      <a:lnTo>
                        <a:pt x="1331" y="295"/>
                      </a:lnTo>
                      <a:lnTo>
                        <a:pt x="1329" y="273"/>
                      </a:lnTo>
                      <a:lnTo>
                        <a:pt x="1329" y="253"/>
                      </a:lnTo>
                      <a:lnTo>
                        <a:pt x="1327" y="231"/>
                      </a:lnTo>
                      <a:lnTo>
                        <a:pt x="1327" y="213"/>
                      </a:lnTo>
                      <a:lnTo>
                        <a:pt x="1327" y="194"/>
                      </a:lnTo>
                      <a:lnTo>
                        <a:pt x="1327" y="178"/>
                      </a:lnTo>
                      <a:lnTo>
                        <a:pt x="1325" y="163"/>
                      </a:lnTo>
                      <a:lnTo>
                        <a:pt x="1325" y="150"/>
                      </a:lnTo>
                      <a:lnTo>
                        <a:pt x="1322" y="136"/>
                      </a:lnTo>
                      <a:lnTo>
                        <a:pt x="1322" y="126"/>
                      </a:lnTo>
                      <a:lnTo>
                        <a:pt x="1320" y="115"/>
                      </a:lnTo>
                      <a:lnTo>
                        <a:pt x="1320" y="108"/>
                      </a:lnTo>
                      <a:lnTo>
                        <a:pt x="1316" y="101"/>
                      </a:lnTo>
                      <a:lnTo>
                        <a:pt x="1316" y="97"/>
                      </a:lnTo>
                      <a:lnTo>
                        <a:pt x="1311" y="95"/>
                      </a:lnTo>
                      <a:lnTo>
                        <a:pt x="1311" y="95"/>
                      </a:lnTo>
                      <a:lnTo>
                        <a:pt x="1305" y="93"/>
                      </a:lnTo>
                      <a:lnTo>
                        <a:pt x="1298" y="93"/>
                      </a:lnTo>
                      <a:lnTo>
                        <a:pt x="1292" y="93"/>
                      </a:lnTo>
                      <a:lnTo>
                        <a:pt x="1285" y="90"/>
                      </a:lnTo>
                      <a:lnTo>
                        <a:pt x="1279" y="90"/>
                      </a:lnTo>
                      <a:lnTo>
                        <a:pt x="1270" y="88"/>
                      </a:lnTo>
                      <a:lnTo>
                        <a:pt x="1263" y="86"/>
                      </a:lnTo>
                      <a:lnTo>
                        <a:pt x="1257" y="84"/>
                      </a:lnTo>
                      <a:lnTo>
                        <a:pt x="1248" y="82"/>
                      </a:lnTo>
                      <a:lnTo>
                        <a:pt x="1239" y="79"/>
                      </a:lnTo>
                      <a:lnTo>
                        <a:pt x="1232" y="77"/>
                      </a:lnTo>
                      <a:lnTo>
                        <a:pt x="1224" y="75"/>
                      </a:lnTo>
                      <a:lnTo>
                        <a:pt x="1215" y="73"/>
                      </a:lnTo>
                      <a:lnTo>
                        <a:pt x="1208" y="68"/>
                      </a:lnTo>
                      <a:lnTo>
                        <a:pt x="1199" y="66"/>
                      </a:lnTo>
                      <a:lnTo>
                        <a:pt x="1193" y="64"/>
                      </a:lnTo>
                      <a:lnTo>
                        <a:pt x="1184" y="62"/>
                      </a:lnTo>
                      <a:lnTo>
                        <a:pt x="1175" y="57"/>
                      </a:lnTo>
                      <a:lnTo>
                        <a:pt x="1169" y="55"/>
                      </a:lnTo>
                      <a:lnTo>
                        <a:pt x="1162" y="53"/>
                      </a:lnTo>
                      <a:lnTo>
                        <a:pt x="1155" y="51"/>
                      </a:lnTo>
                      <a:lnTo>
                        <a:pt x="1149" y="46"/>
                      </a:lnTo>
                      <a:lnTo>
                        <a:pt x="1142" y="44"/>
                      </a:lnTo>
                      <a:lnTo>
                        <a:pt x="1138" y="44"/>
                      </a:lnTo>
                      <a:lnTo>
                        <a:pt x="1131" y="42"/>
                      </a:lnTo>
                      <a:lnTo>
                        <a:pt x="1127" y="40"/>
                      </a:lnTo>
                      <a:lnTo>
                        <a:pt x="1125" y="38"/>
                      </a:lnTo>
                      <a:lnTo>
                        <a:pt x="1120" y="38"/>
                      </a:lnTo>
                      <a:lnTo>
                        <a:pt x="1116" y="35"/>
                      </a:lnTo>
                      <a:lnTo>
                        <a:pt x="1116" y="35"/>
                      </a:lnTo>
                      <a:lnTo>
                        <a:pt x="1116" y="35"/>
                      </a:lnTo>
                      <a:close/>
                    </a:path>
                  </a:pathLst>
                </a:custGeom>
                <a:solidFill>
                  <a:srgbClr val="54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715"/>
              <p:cNvGrpSpPr/>
              <p:nvPr/>
            </p:nvGrpSpPr>
            <p:grpSpPr>
              <a:xfrm>
                <a:off x="756720" y="4504320"/>
                <a:ext cx="1699200" cy="1600200"/>
                <a:chOff x="756720" y="4504320"/>
                <a:chExt cx="1699200" cy="1600200"/>
              </a:xfrm>
            </p:grpSpPr>
            <p:sp>
              <p:nvSpPr>
                <p:cNvPr id="155" name="Freeform 716"/>
                <p:cNvSpPr/>
                <p:nvPr/>
              </p:nvSpPr>
              <p:spPr>
                <a:xfrm>
                  <a:off x="1079280" y="5198760"/>
                  <a:ext cx="725760" cy="750600"/>
                </a:xfrm>
                <a:custGeom>
                  <a:avLst/>
                  <a:gdLst>
                    <a:gd name="textAreaLeft" fmla="*/ 0 w 725760"/>
                    <a:gd name="textAreaRight" fmla="*/ 726120 w 725760"/>
                    <a:gd name="textAreaTop" fmla="*/ 0 h 750600"/>
                    <a:gd name="textAreaBottom" fmla="*/ 750960 h 750600"/>
                  </a:gdLst>
                  <a:ahLst/>
                  <a:rect l="textAreaLeft" t="textAreaTop" r="textAreaRight" b="textAreaBottom"/>
                  <a:pathLst>
                    <a:path w="1020" h="1028">
                      <a:moveTo>
                        <a:pt x="48" y="211"/>
                      </a:moveTo>
                      <a:lnTo>
                        <a:pt x="154" y="222"/>
                      </a:lnTo>
                      <a:lnTo>
                        <a:pt x="154" y="220"/>
                      </a:lnTo>
                      <a:lnTo>
                        <a:pt x="156" y="215"/>
                      </a:lnTo>
                      <a:lnTo>
                        <a:pt x="158" y="211"/>
                      </a:lnTo>
                      <a:lnTo>
                        <a:pt x="165" y="204"/>
                      </a:lnTo>
                      <a:lnTo>
                        <a:pt x="167" y="200"/>
                      </a:lnTo>
                      <a:lnTo>
                        <a:pt x="169" y="196"/>
                      </a:lnTo>
                      <a:lnTo>
                        <a:pt x="171" y="191"/>
                      </a:lnTo>
                      <a:lnTo>
                        <a:pt x="176" y="187"/>
                      </a:lnTo>
                      <a:lnTo>
                        <a:pt x="178" y="180"/>
                      </a:lnTo>
                      <a:lnTo>
                        <a:pt x="182" y="176"/>
                      </a:lnTo>
                      <a:lnTo>
                        <a:pt x="187" y="171"/>
                      </a:lnTo>
                      <a:lnTo>
                        <a:pt x="191" y="165"/>
                      </a:lnTo>
                      <a:lnTo>
                        <a:pt x="193" y="158"/>
                      </a:lnTo>
                      <a:lnTo>
                        <a:pt x="198" y="154"/>
                      </a:lnTo>
                      <a:lnTo>
                        <a:pt x="202" y="147"/>
                      </a:lnTo>
                      <a:lnTo>
                        <a:pt x="207" y="143"/>
                      </a:lnTo>
                      <a:lnTo>
                        <a:pt x="211" y="136"/>
                      </a:lnTo>
                      <a:lnTo>
                        <a:pt x="215" y="130"/>
                      </a:lnTo>
                      <a:lnTo>
                        <a:pt x="220" y="125"/>
                      </a:lnTo>
                      <a:lnTo>
                        <a:pt x="226" y="121"/>
                      </a:lnTo>
                      <a:lnTo>
                        <a:pt x="231" y="114"/>
                      </a:lnTo>
                      <a:lnTo>
                        <a:pt x="235" y="110"/>
                      </a:lnTo>
                      <a:lnTo>
                        <a:pt x="240" y="106"/>
                      </a:lnTo>
                      <a:lnTo>
                        <a:pt x="246" y="99"/>
                      </a:lnTo>
                      <a:lnTo>
                        <a:pt x="248" y="95"/>
                      </a:lnTo>
                      <a:lnTo>
                        <a:pt x="255" y="92"/>
                      </a:lnTo>
                      <a:lnTo>
                        <a:pt x="259" y="88"/>
                      </a:lnTo>
                      <a:lnTo>
                        <a:pt x="264" y="84"/>
                      </a:lnTo>
                      <a:lnTo>
                        <a:pt x="268" y="81"/>
                      </a:lnTo>
                      <a:lnTo>
                        <a:pt x="272" y="77"/>
                      </a:lnTo>
                      <a:lnTo>
                        <a:pt x="279" y="75"/>
                      </a:lnTo>
                      <a:lnTo>
                        <a:pt x="283" y="70"/>
                      </a:lnTo>
                      <a:lnTo>
                        <a:pt x="290" y="68"/>
                      </a:lnTo>
                      <a:lnTo>
                        <a:pt x="297" y="64"/>
                      </a:lnTo>
                      <a:lnTo>
                        <a:pt x="301" y="59"/>
                      </a:lnTo>
                      <a:lnTo>
                        <a:pt x="310" y="57"/>
                      </a:lnTo>
                      <a:lnTo>
                        <a:pt x="316" y="53"/>
                      </a:lnTo>
                      <a:lnTo>
                        <a:pt x="323" y="51"/>
                      </a:lnTo>
                      <a:lnTo>
                        <a:pt x="327" y="46"/>
                      </a:lnTo>
                      <a:lnTo>
                        <a:pt x="336" y="44"/>
                      </a:lnTo>
                      <a:lnTo>
                        <a:pt x="343" y="42"/>
                      </a:lnTo>
                      <a:lnTo>
                        <a:pt x="349" y="40"/>
                      </a:lnTo>
                      <a:lnTo>
                        <a:pt x="356" y="35"/>
                      </a:lnTo>
                      <a:lnTo>
                        <a:pt x="363" y="33"/>
                      </a:lnTo>
                      <a:lnTo>
                        <a:pt x="369" y="31"/>
                      </a:lnTo>
                      <a:lnTo>
                        <a:pt x="376" y="29"/>
                      </a:lnTo>
                      <a:lnTo>
                        <a:pt x="382" y="24"/>
                      </a:lnTo>
                      <a:lnTo>
                        <a:pt x="389" y="22"/>
                      </a:lnTo>
                      <a:lnTo>
                        <a:pt x="396" y="20"/>
                      </a:lnTo>
                      <a:lnTo>
                        <a:pt x="402" y="18"/>
                      </a:lnTo>
                      <a:lnTo>
                        <a:pt x="406" y="18"/>
                      </a:lnTo>
                      <a:lnTo>
                        <a:pt x="413" y="15"/>
                      </a:lnTo>
                      <a:lnTo>
                        <a:pt x="420" y="13"/>
                      </a:lnTo>
                      <a:lnTo>
                        <a:pt x="424" y="11"/>
                      </a:lnTo>
                      <a:lnTo>
                        <a:pt x="431" y="9"/>
                      </a:lnTo>
                      <a:lnTo>
                        <a:pt x="435" y="9"/>
                      </a:lnTo>
                      <a:lnTo>
                        <a:pt x="439" y="7"/>
                      </a:lnTo>
                      <a:lnTo>
                        <a:pt x="446" y="7"/>
                      </a:lnTo>
                      <a:lnTo>
                        <a:pt x="448" y="5"/>
                      </a:lnTo>
                      <a:lnTo>
                        <a:pt x="453" y="5"/>
                      </a:lnTo>
                      <a:lnTo>
                        <a:pt x="459" y="2"/>
                      </a:lnTo>
                      <a:lnTo>
                        <a:pt x="468" y="2"/>
                      </a:lnTo>
                      <a:lnTo>
                        <a:pt x="477" y="0"/>
                      </a:lnTo>
                      <a:lnTo>
                        <a:pt x="486" y="0"/>
                      </a:lnTo>
                      <a:lnTo>
                        <a:pt x="490" y="0"/>
                      </a:lnTo>
                      <a:lnTo>
                        <a:pt x="494" y="0"/>
                      </a:lnTo>
                      <a:lnTo>
                        <a:pt x="499" y="0"/>
                      </a:lnTo>
                      <a:lnTo>
                        <a:pt x="503" y="0"/>
                      </a:lnTo>
                      <a:lnTo>
                        <a:pt x="508" y="0"/>
                      </a:lnTo>
                      <a:lnTo>
                        <a:pt x="512" y="0"/>
                      </a:lnTo>
                      <a:lnTo>
                        <a:pt x="519" y="0"/>
                      </a:lnTo>
                      <a:lnTo>
                        <a:pt x="523" y="0"/>
                      </a:lnTo>
                      <a:lnTo>
                        <a:pt x="532" y="0"/>
                      </a:lnTo>
                      <a:lnTo>
                        <a:pt x="541" y="0"/>
                      </a:lnTo>
                      <a:lnTo>
                        <a:pt x="549" y="0"/>
                      </a:lnTo>
                      <a:lnTo>
                        <a:pt x="558" y="0"/>
                      </a:lnTo>
                      <a:lnTo>
                        <a:pt x="565" y="0"/>
                      </a:lnTo>
                      <a:lnTo>
                        <a:pt x="571" y="0"/>
                      </a:lnTo>
                      <a:lnTo>
                        <a:pt x="578" y="0"/>
                      </a:lnTo>
                      <a:lnTo>
                        <a:pt x="584" y="2"/>
                      </a:lnTo>
                      <a:lnTo>
                        <a:pt x="589" y="2"/>
                      </a:lnTo>
                      <a:lnTo>
                        <a:pt x="598" y="2"/>
                      </a:lnTo>
                      <a:lnTo>
                        <a:pt x="600" y="2"/>
                      </a:lnTo>
                      <a:lnTo>
                        <a:pt x="604" y="2"/>
                      </a:lnTo>
                      <a:lnTo>
                        <a:pt x="609" y="2"/>
                      </a:lnTo>
                      <a:lnTo>
                        <a:pt x="615" y="5"/>
                      </a:lnTo>
                      <a:lnTo>
                        <a:pt x="620" y="5"/>
                      </a:lnTo>
                      <a:lnTo>
                        <a:pt x="624" y="7"/>
                      </a:lnTo>
                      <a:lnTo>
                        <a:pt x="628" y="7"/>
                      </a:lnTo>
                      <a:lnTo>
                        <a:pt x="635" y="7"/>
                      </a:lnTo>
                      <a:lnTo>
                        <a:pt x="639" y="9"/>
                      </a:lnTo>
                      <a:lnTo>
                        <a:pt x="644" y="11"/>
                      </a:lnTo>
                      <a:lnTo>
                        <a:pt x="648" y="11"/>
                      </a:lnTo>
                      <a:lnTo>
                        <a:pt x="655" y="13"/>
                      </a:lnTo>
                      <a:lnTo>
                        <a:pt x="659" y="13"/>
                      </a:lnTo>
                      <a:lnTo>
                        <a:pt x="664" y="13"/>
                      </a:lnTo>
                      <a:lnTo>
                        <a:pt x="668" y="13"/>
                      </a:lnTo>
                      <a:lnTo>
                        <a:pt x="672" y="15"/>
                      </a:lnTo>
                      <a:lnTo>
                        <a:pt x="677" y="15"/>
                      </a:lnTo>
                      <a:lnTo>
                        <a:pt x="681" y="18"/>
                      </a:lnTo>
                      <a:lnTo>
                        <a:pt x="686" y="18"/>
                      </a:lnTo>
                      <a:lnTo>
                        <a:pt x="690" y="20"/>
                      </a:lnTo>
                      <a:lnTo>
                        <a:pt x="697" y="20"/>
                      </a:lnTo>
                      <a:lnTo>
                        <a:pt x="701" y="22"/>
                      </a:lnTo>
                      <a:lnTo>
                        <a:pt x="703" y="22"/>
                      </a:lnTo>
                      <a:lnTo>
                        <a:pt x="705" y="24"/>
                      </a:lnTo>
                      <a:lnTo>
                        <a:pt x="688" y="88"/>
                      </a:lnTo>
                      <a:lnTo>
                        <a:pt x="686" y="88"/>
                      </a:lnTo>
                      <a:lnTo>
                        <a:pt x="681" y="86"/>
                      </a:lnTo>
                      <a:lnTo>
                        <a:pt x="675" y="86"/>
                      </a:lnTo>
                      <a:lnTo>
                        <a:pt x="666" y="86"/>
                      </a:lnTo>
                      <a:lnTo>
                        <a:pt x="661" y="84"/>
                      </a:lnTo>
                      <a:lnTo>
                        <a:pt x="655" y="84"/>
                      </a:lnTo>
                      <a:lnTo>
                        <a:pt x="650" y="84"/>
                      </a:lnTo>
                      <a:lnTo>
                        <a:pt x="644" y="84"/>
                      </a:lnTo>
                      <a:lnTo>
                        <a:pt x="637" y="84"/>
                      </a:lnTo>
                      <a:lnTo>
                        <a:pt x="631" y="84"/>
                      </a:lnTo>
                      <a:lnTo>
                        <a:pt x="624" y="84"/>
                      </a:lnTo>
                      <a:lnTo>
                        <a:pt x="620" y="84"/>
                      </a:lnTo>
                      <a:lnTo>
                        <a:pt x="611" y="84"/>
                      </a:lnTo>
                      <a:lnTo>
                        <a:pt x="604" y="84"/>
                      </a:lnTo>
                      <a:lnTo>
                        <a:pt x="598" y="86"/>
                      </a:lnTo>
                      <a:lnTo>
                        <a:pt x="591" y="86"/>
                      </a:lnTo>
                      <a:lnTo>
                        <a:pt x="584" y="86"/>
                      </a:lnTo>
                      <a:lnTo>
                        <a:pt x="578" y="88"/>
                      </a:lnTo>
                      <a:lnTo>
                        <a:pt x="571" y="88"/>
                      </a:lnTo>
                      <a:lnTo>
                        <a:pt x="567" y="92"/>
                      </a:lnTo>
                      <a:lnTo>
                        <a:pt x="560" y="92"/>
                      </a:lnTo>
                      <a:lnTo>
                        <a:pt x="554" y="95"/>
                      </a:lnTo>
                      <a:lnTo>
                        <a:pt x="549" y="97"/>
                      </a:lnTo>
                      <a:lnTo>
                        <a:pt x="543" y="99"/>
                      </a:lnTo>
                      <a:lnTo>
                        <a:pt x="538" y="101"/>
                      </a:lnTo>
                      <a:lnTo>
                        <a:pt x="534" y="106"/>
                      </a:lnTo>
                      <a:lnTo>
                        <a:pt x="532" y="108"/>
                      </a:lnTo>
                      <a:lnTo>
                        <a:pt x="530" y="112"/>
                      </a:lnTo>
                      <a:lnTo>
                        <a:pt x="523" y="121"/>
                      </a:lnTo>
                      <a:lnTo>
                        <a:pt x="519" y="130"/>
                      </a:lnTo>
                      <a:lnTo>
                        <a:pt x="516" y="134"/>
                      </a:lnTo>
                      <a:lnTo>
                        <a:pt x="516" y="141"/>
                      </a:lnTo>
                      <a:lnTo>
                        <a:pt x="514" y="145"/>
                      </a:lnTo>
                      <a:lnTo>
                        <a:pt x="512" y="152"/>
                      </a:lnTo>
                      <a:lnTo>
                        <a:pt x="512" y="156"/>
                      </a:lnTo>
                      <a:lnTo>
                        <a:pt x="510" y="160"/>
                      </a:lnTo>
                      <a:lnTo>
                        <a:pt x="508" y="167"/>
                      </a:lnTo>
                      <a:lnTo>
                        <a:pt x="508" y="171"/>
                      </a:lnTo>
                      <a:lnTo>
                        <a:pt x="508" y="178"/>
                      </a:lnTo>
                      <a:lnTo>
                        <a:pt x="508" y="185"/>
                      </a:lnTo>
                      <a:lnTo>
                        <a:pt x="508" y="191"/>
                      </a:lnTo>
                      <a:lnTo>
                        <a:pt x="508" y="198"/>
                      </a:lnTo>
                      <a:lnTo>
                        <a:pt x="508" y="202"/>
                      </a:lnTo>
                      <a:lnTo>
                        <a:pt x="508" y="207"/>
                      </a:lnTo>
                      <a:lnTo>
                        <a:pt x="508" y="213"/>
                      </a:lnTo>
                      <a:lnTo>
                        <a:pt x="508" y="220"/>
                      </a:lnTo>
                      <a:lnTo>
                        <a:pt x="508" y="224"/>
                      </a:lnTo>
                      <a:lnTo>
                        <a:pt x="508" y="231"/>
                      </a:lnTo>
                      <a:lnTo>
                        <a:pt x="510" y="235"/>
                      </a:lnTo>
                      <a:lnTo>
                        <a:pt x="512" y="242"/>
                      </a:lnTo>
                      <a:lnTo>
                        <a:pt x="512" y="246"/>
                      </a:lnTo>
                      <a:lnTo>
                        <a:pt x="512" y="250"/>
                      </a:lnTo>
                      <a:lnTo>
                        <a:pt x="514" y="255"/>
                      </a:lnTo>
                      <a:lnTo>
                        <a:pt x="516" y="261"/>
                      </a:lnTo>
                      <a:lnTo>
                        <a:pt x="516" y="264"/>
                      </a:lnTo>
                      <a:lnTo>
                        <a:pt x="519" y="268"/>
                      </a:lnTo>
                      <a:lnTo>
                        <a:pt x="519" y="272"/>
                      </a:lnTo>
                      <a:lnTo>
                        <a:pt x="523" y="277"/>
                      </a:lnTo>
                      <a:lnTo>
                        <a:pt x="525" y="283"/>
                      </a:lnTo>
                      <a:lnTo>
                        <a:pt x="530" y="290"/>
                      </a:lnTo>
                      <a:lnTo>
                        <a:pt x="534" y="297"/>
                      </a:lnTo>
                      <a:lnTo>
                        <a:pt x="541" y="303"/>
                      </a:lnTo>
                      <a:lnTo>
                        <a:pt x="547" y="308"/>
                      </a:lnTo>
                      <a:lnTo>
                        <a:pt x="554" y="314"/>
                      </a:lnTo>
                      <a:lnTo>
                        <a:pt x="560" y="321"/>
                      </a:lnTo>
                      <a:lnTo>
                        <a:pt x="569" y="325"/>
                      </a:lnTo>
                      <a:lnTo>
                        <a:pt x="578" y="330"/>
                      </a:lnTo>
                      <a:lnTo>
                        <a:pt x="584" y="334"/>
                      </a:lnTo>
                      <a:lnTo>
                        <a:pt x="593" y="338"/>
                      </a:lnTo>
                      <a:lnTo>
                        <a:pt x="600" y="343"/>
                      </a:lnTo>
                      <a:lnTo>
                        <a:pt x="606" y="345"/>
                      </a:lnTo>
                      <a:lnTo>
                        <a:pt x="613" y="347"/>
                      </a:lnTo>
                      <a:lnTo>
                        <a:pt x="620" y="347"/>
                      </a:lnTo>
                      <a:lnTo>
                        <a:pt x="626" y="349"/>
                      </a:lnTo>
                      <a:lnTo>
                        <a:pt x="631" y="347"/>
                      </a:lnTo>
                      <a:lnTo>
                        <a:pt x="635" y="347"/>
                      </a:lnTo>
                      <a:lnTo>
                        <a:pt x="639" y="347"/>
                      </a:lnTo>
                      <a:lnTo>
                        <a:pt x="646" y="347"/>
                      </a:lnTo>
                      <a:lnTo>
                        <a:pt x="650" y="347"/>
                      </a:lnTo>
                      <a:lnTo>
                        <a:pt x="655" y="345"/>
                      </a:lnTo>
                      <a:lnTo>
                        <a:pt x="659" y="345"/>
                      </a:lnTo>
                      <a:lnTo>
                        <a:pt x="666" y="345"/>
                      </a:lnTo>
                      <a:lnTo>
                        <a:pt x="670" y="343"/>
                      </a:lnTo>
                      <a:lnTo>
                        <a:pt x="675" y="341"/>
                      </a:lnTo>
                      <a:lnTo>
                        <a:pt x="679" y="338"/>
                      </a:lnTo>
                      <a:lnTo>
                        <a:pt x="683" y="338"/>
                      </a:lnTo>
                      <a:lnTo>
                        <a:pt x="692" y="334"/>
                      </a:lnTo>
                      <a:lnTo>
                        <a:pt x="701" y="332"/>
                      </a:lnTo>
                      <a:lnTo>
                        <a:pt x="710" y="327"/>
                      </a:lnTo>
                      <a:lnTo>
                        <a:pt x="718" y="325"/>
                      </a:lnTo>
                      <a:lnTo>
                        <a:pt x="725" y="321"/>
                      </a:lnTo>
                      <a:lnTo>
                        <a:pt x="732" y="316"/>
                      </a:lnTo>
                      <a:lnTo>
                        <a:pt x="738" y="312"/>
                      </a:lnTo>
                      <a:lnTo>
                        <a:pt x="747" y="305"/>
                      </a:lnTo>
                      <a:lnTo>
                        <a:pt x="749" y="299"/>
                      </a:lnTo>
                      <a:lnTo>
                        <a:pt x="754" y="297"/>
                      </a:lnTo>
                      <a:lnTo>
                        <a:pt x="756" y="290"/>
                      </a:lnTo>
                      <a:lnTo>
                        <a:pt x="760" y="286"/>
                      </a:lnTo>
                      <a:lnTo>
                        <a:pt x="765" y="277"/>
                      </a:lnTo>
                      <a:lnTo>
                        <a:pt x="767" y="270"/>
                      </a:lnTo>
                      <a:lnTo>
                        <a:pt x="769" y="261"/>
                      </a:lnTo>
                      <a:lnTo>
                        <a:pt x="771" y="253"/>
                      </a:lnTo>
                      <a:lnTo>
                        <a:pt x="771" y="248"/>
                      </a:lnTo>
                      <a:lnTo>
                        <a:pt x="771" y="244"/>
                      </a:lnTo>
                      <a:lnTo>
                        <a:pt x="773" y="239"/>
                      </a:lnTo>
                      <a:lnTo>
                        <a:pt x="773" y="235"/>
                      </a:lnTo>
                      <a:lnTo>
                        <a:pt x="776" y="224"/>
                      </a:lnTo>
                      <a:lnTo>
                        <a:pt x="778" y="218"/>
                      </a:lnTo>
                      <a:lnTo>
                        <a:pt x="778" y="207"/>
                      </a:lnTo>
                      <a:lnTo>
                        <a:pt x="778" y="200"/>
                      </a:lnTo>
                      <a:lnTo>
                        <a:pt x="780" y="193"/>
                      </a:lnTo>
                      <a:lnTo>
                        <a:pt x="780" y="187"/>
                      </a:lnTo>
                      <a:lnTo>
                        <a:pt x="780" y="182"/>
                      </a:lnTo>
                      <a:lnTo>
                        <a:pt x="780" y="178"/>
                      </a:lnTo>
                      <a:lnTo>
                        <a:pt x="780" y="176"/>
                      </a:lnTo>
                      <a:lnTo>
                        <a:pt x="782" y="176"/>
                      </a:lnTo>
                      <a:lnTo>
                        <a:pt x="848" y="171"/>
                      </a:lnTo>
                      <a:lnTo>
                        <a:pt x="848" y="174"/>
                      </a:lnTo>
                      <a:lnTo>
                        <a:pt x="848" y="178"/>
                      </a:lnTo>
                      <a:lnTo>
                        <a:pt x="848" y="180"/>
                      </a:lnTo>
                      <a:lnTo>
                        <a:pt x="848" y="182"/>
                      </a:lnTo>
                      <a:lnTo>
                        <a:pt x="848" y="187"/>
                      </a:lnTo>
                      <a:lnTo>
                        <a:pt x="848" y="193"/>
                      </a:lnTo>
                      <a:lnTo>
                        <a:pt x="848" y="198"/>
                      </a:lnTo>
                      <a:lnTo>
                        <a:pt x="848" y="202"/>
                      </a:lnTo>
                      <a:lnTo>
                        <a:pt x="848" y="209"/>
                      </a:lnTo>
                      <a:lnTo>
                        <a:pt x="848" y="215"/>
                      </a:lnTo>
                      <a:lnTo>
                        <a:pt x="848" y="222"/>
                      </a:lnTo>
                      <a:lnTo>
                        <a:pt x="848" y="229"/>
                      </a:lnTo>
                      <a:lnTo>
                        <a:pt x="848" y="235"/>
                      </a:lnTo>
                      <a:lnTo>
                        <a:pt x="850" y="244"/>
                      </a:lnTo>
                      <a:lnTo>
                        <a:pt x="848" y="250"/>
                      </a:lnTo>
                      <a:lnTo>
                        <a:pt x="848" y="257"/>
                      </a:lnTo>
                      <a:lnTo>
                        <a:pt x="848" y="264"/>
                      </a:lnTo>
                      <a:lnTo>
                        <a:pt x="848" y="272"/>
                      </a:lnTo>
                      <a:lnTo>
                        <a:pt x="848" y="279"/>
                      </a:lnTo>
                      <a:lnTo>
                        <a:pt x="848" y="288"/>
                      </a:lnTo>
                      <a:lnTo>
                        <a:pt x="848" y="294"/>
                      </a:lnTo>
                      <a:lnTo>
                        <a:pt x="848" y="303"/>
                      </a:lnTo>
                      <a:lnTo>
                        <a:pt x="848" y="310"/>
                      </a:lnTo>
                      <a:lnTo>
                        <a:pt x="846" y="316"/>
                      </a:lnTo>
                      <a:lnTo>
                        <a:pt x="846" y="323"/>
                      </a:lnTo>
                      <a:lnTo>
                        <a:pt x="846" y="332"/>
                      </a:lnTo>
                      <a:lnTo>
                        <a:pt x="844" y="336"/>
                      </a:lnTo>
                      <a:lnTo>
                        <a:pt x="844" y="343"/>
                      </a:lnTo>
                      <a:lnTo>
                        <a:pt x="842" y="347"/>
                      </a:lnTo>
                      <a:lnTo>
                        <a:pt x="842" y="356"/>
                      </a:lnTo>
                      <a:lnTo>
                        <a:pt x="837" y="358"/>
                      </a:lnTo>
                      <a:lnTo>
                        <a:pt x="837" y="365"/>
                      </a:lnTo>
                      <a:lnTo>
                        <a:pt x="833" y="369"/>
                      </a:lnTo>
                      <a:lnTo>
                        <a:pt x="833" y="373"/>
                      </a:lnTo>
                      <a:lnTo>
                        <a:pt x="828" y="382"/>
                      </a:lnTo>
                      <a:lnTo>
                        <a:pt x="824" y="391"/>
                      </a:lnTo>
                      <a:lnTo>
                        <a:pt x="817" y="398"/>
                      </a:lnTo>
                      <a:lnTo>
                        <a:pt x="813" y="406"/>
                      </a:lnTo>
                      <a:lnTo>
                        <a:pt x="809" y="413"/>
                      </a:lnTo>
                      <a:lnTo>
                        <a:pt x="802" y="422"/>
                      </a:lnTo>
                      <a:lnTo>
                        <a:pt x="798" y="426"/>
                      </a:lnTo>
                      <a:lnTo>
                        <a:pt x="791" y="433"/>
                      </a:lnTo>
                      <a:lnTo>
                        <a:pt x="787" y="439"/>
                      </a:lnTo>
                      <a:lnTo>
                        <a:pt x="782" y="444"/>
                      </a:lnTo>
                      <a:lnTo>
                        <a:pt x="778" y="448"/>
                      </a:lnTo>
                      <a:lnTo>
                        <a:pt x="771" y="455"/>
                      </a:lnTo>
                      <a:lnTo>
                        <a:pt x="767" y="457"/>
                      </a:lnTo>
                      <a:lnTo>
                        <a:pt x="765" y="463"/>
                      </a:lnTo>
                      <a:lnTo>
                        <a:pt x="760" y="463"/>
                      </a:lnTo>
                      <a:lnTo>
                        <a:pt x="758" y="466"/>
                      </a:lnTo>
                      <a:lnTo>
                        <a:pt x="754" y="468"/>
                      </a:lnTo>
                      <a:lnTo>
                        <a:pt x="749" y="470"/>
                      </a:lnTo>
                      <a:lnTo>
                        <a:pt x="743" y="472"/>
                      </a:lnTo>
                      <a:lnTo>
                        <a:pt x="736" y="472"/>
                      </a:lnTo>
                      <a:lnTo>
                        <a:pt x="729" y="474"/>
                      </a:lnTo>
                      <a:lnTo>
                        <a:pt x="723" y="477"/>
                      </a:lnTo>
                      <a:lnTo>
                        <a:pt x="714" y="479"/>
                      </a:lnTo>
                      <a:lnTo>
                        <a:pt x="708" y="481"/>
                      </a:lnTo>
                      <a:lnTo>
                        <a:pt x="699" y="483"/>
                      </a:lnTo>
                      <a:lnTo>
                        <a:pt x="690" y="485"/>
                      </a:lnTo>
                      <a:lnTo>
                        <a:pt x="686" y="485"/>
                      </a:lnTo>
                      <a:lnTo>
                        <a:pt x="681" y="485"/>
                      </a:lnTo>
                      <a:lnTo>
                        <a:pt x="677" y="488"/>
                      </a:lnTo>
                      <a:lnTo>
                        <a:pt x="672" y="490"/>
                      </a:lnTo>
                      <a:lnTo>
                        <a:pt x="661" y="490"/>
                      </a:lnTo>
                      <a:lnTo>
                        <a:pt x="655" y="492"/>
                      </a:lnTo>
                      <a:lnTo>
                        <a:pt x="648" y="492"/>
                      </a:lnTo>
                      <a:lnTo>
                        <a:pt x="644" y="494"/>
                      </a:lnTo>
                      <a:lnTo>
                        <a:pt x="639" y="494"/>
                      </a:lnTo>
                      <a:lnTo>
                        <a:pt x="635" y="496"/>
                      </a:lnTo>
                      <a:lnTo>
                        <a:pt x="626" y="496"/>
                      </a:lnTo>
                      <a:lnTo>
                        <a:pt x="617" y="499"/>
                      </a:lnTo>
                      <a:lnTo>
                        <a:pt x="609" y="501"/>
                      </a:lnTo>
                      <a:lnTo>
                        <a:pt x="602" y="503"/>
                      </a:lnTo>
                      <a:lnTo>
                        <a:pt x="593" y="503"/>
                      </a:lnTo>
                      <a:lnTo>
                        <a:pt x="589" y="507"/>
                      </a:lnTo>
                      <a:lnTo>
                        <a:pt x="580" y="507"/>
                      </a:lnTo>
                      <a:lnTo>
                        <a:pt x="576" y="510"/>
                      </a:lnTo>
                      <a:lnTo>
                        <a:pt x="569" y="510"/>
                      </a:lnTo>
                      <a:lnTo>
                        <a:pt x="567" y="512"/>
                      </a:lnTo>
                      <a:lnTo>
                        <a:pt x="560" y="514"/>
                      </a:lnTo>
                      <a:lnTo>
                        <a:pt x="560" y="514"/>
                      </a:lnTo>
                      <a:lnTo>
                        <a:pt x="560" y="516"/>
                      </a:lnTo>
                      <a:lnTo>
                        <a:pt x="567" y="518"/>
                      </a:lnTo>
                      <a:lnTo>
                        <a:pt x="569" y="521"/>
                      </a:lnTo>
                      <a:lnTo>
                        <a:pt x="576" y="523"/>
                      </a:lnTo>
                      <a:lnTo>
                        <a:pt x="580" y="525"/>
                      </a:lnTo>
                      <a:lnTo>
                        <a:pt x="587" y="529"/>
                      </a:lnTo>
                      <a:lnTo>
                        <a:pt x="591" y="532"/>
                      </a:lnTo>
                      <a:lnTo>
                        <a:pt x="600" y="534"/>
                      </a:lnTo>
                      <a:lnTo>
                        <a:pt x="606" y="538"/>
                      </a:lnTo>
                      <a:lnTo>
                        <a:pt x="613" y="543"/>
                      </a:lnTo>
                      <a:lnTo>
                        <a:pt x="622" y="545"/>
                      </a:lnTo>
                      <a:lnTo>
                        <a:pt x="628" y="549"/>
                      </a:lnTo>
                      <a:lnTo>
                        <a:pt x="637" y="551"/>
                      </a:lnTo>
                      <a:lnTo>
                        <a:pt x="646" y="558"/>
                      </a:lnTo>
                      <a:lnTo>
                        <a:pt x="655" y="560"/>
                      </a:lnTo>
                      <a:lnTo>
                        <a:pt x="664" y="564"/>
                      </a:lnTo>
                      <a:lnTo>
                        <a:pt x="670" y="569"/>
                      </a:lnTo>
                      <a:lnTo>
                        <a:pt x="679" y="573"/>
                      </a:lnTo>
                      <a:lnTo>
                        <a:pt x="688" y="575"/>
                      </a:lnTo>
                      <a:lnTo>
                        <a:pt x="697" y="580"/>
                      </a:lnTo>
                      <a:lnTo>
                        <a:pt x="703" y="584"/>
                      </a:lnTo>
                      <a:lnTo>
                        <a:pt x="712" y="589"/>
                      </a:lnTo>
                      <a:lnTo>
                        <a:pt x="718" y="591"/>
                      </a:lnTo>
                      <a:lnTo>
                        <a:pt x="725" y="595"/>
                      </a:lnTo>
                      <a:lnTo>
                        <a:pt x="732" y="597"/>
                      </a:lnTo>
                      <a:lnTo>
                        <a:pt x="738" y="602"/>
                      </a:lnTo>
                      <a:lnTo>
                        <a:pt x="743" y="604"/>
                      </a:lnTo>
                      <a:lnTo>
                        <a:pt x="747" y="608"/>
                      </a:lnTo>
                      <a:lnTo>
                        <a:pt x="751" y="611"/>
                      </a:lnTo>
                      <a:lnTo>
                        <a:pt x="756" y="613"/>
                      </a:lnTo>
                      <a:lnTo>
                        <a:pt x="758" y="615"/>
                      </a:lnTo>
                      <a:lnTo>
                        <a:pt x="762" y="617"/>
                      </a:lnTo>
                      <a:lnTo>
                        <a:pt x="767" y="619"/>
                      </a:lnTo>
                      <a:lnTo>
                        <a:pt x="776" y="624"/>
                      </a:lnTo>
                      <a:lnTo>
                        <a:pt x="782" y="626"/>
                      </a:lnTo>
                      <a:lnTo>
                        <a:pt x="789" y="630"/>
                      </a:lnTo>
                      <a:lnTo>
                        <a:pt x="793" y="633"/>
                      </a:lnTo>
                      <a:lnTo>
                        <a:pt x="800" y="635"/>
                      </a:lnTo>
                      <a:lnTo>
                        <a:pt x="804" y="635"/>
                      </a:lnTo>
                      <a:lnTo>
                        <a:pt x="809" y="637"/>
                      </a:lnTo>
                      <a:lnTo>
                        <a:pt x="813" y="639"/>
                      </a:lnTo>
                      <a:lnTo>
                        <a:pt x="817" y="641"/>
                      </a:lnTo>
                      <a:lnTo>
                        <a:pt x="824" y="644"/>
                      </a:lnTo>
                      <a:lnTo>
                        <a:pt x="828" y="646"/>
                      </a:lnTo>
                      <a:lnTo>
                        <a:pt x="833" y="648"/>
                      </a:lnTo>
                      <a:lnTo>
                        <a:pt x="839" y="650"/>
                      </a:lnTo>
                      <a:lnTo>
                        <a:pt x="846" y="652"/>
                      </a:lnTo>
                      <a:lnTo>
                        <a:pt x="853" y="655"/>
                      </a:lnTo>
                      <a:lnTo>
                        <a:pt x="857" y="657"/>
                      </a:lnTo>
                      <a:lnTo>
                        <a:pt x="861" y="659"/>
                      </a:lnTo>
                      <a:lnTo>
                        <a:pt x="868" y="661"/>
                      </a:lnTo>
                      <a:lnTo>
                        <a:pt x="875" y="663"/>
                      </a:lnTo>
                      <a:lnTo>
                        <a:pt x="881" y="666"/>
                      </a:lnTo>
                      <a:lnTo>
                        <a:pt x="885" y="668"/>
                      </a:lnTo>
                      <a:lnTo>
                        <a:pt x="892" y="670"/>
                      </a:lnTo>
                      <a:lnTo>
                        <a:pt x="899" y="672"/>
                      </a:lnTo>
                      <a:lnTo>
                        <a:pt x="903" y="674"/>
                      </a:lnTo>
                      <a:lnTo>
                        <a:pt x="910" y="676"/>
                      </a:lnTo>
                      <a:lnTo>
                        <a:pt x="914" y="679"/>
                      </a:lnTo>
                      <a:lnTo>
                        <a:pt x="921" y="681"/>
                      </a:lnTo>
                      <a:lnTo>
                        <a:pt x="925" y="683"/>
                      </a:lnTo>
                      <a:lnTo>
                        <a:pt x="932" y="685"/>
                      </a:lnTo>
                      <a:lnTo>
                        <a:pt x="936" y="687"/>
                      </a:lnTo>
                      <a:lnTo>
                        <a:pt x="943" y="690"/>
                      </a:lnTo>
                      <a:lnTo>
                        <a:pt x="947" y="690"/>
                      </a:lnTo>
                      <a:lnTo>
                        <a:pt x="954" y="692"/>
                      </a:lnTo>
                      <a:lnTo>
                        <a:pt x="958" y="694"/>
                      </a:lnTo>
                      <a:lnTo>
                        <a:pt x="962" y="696"/>
                      </a:lnTo>
                      <a:lnTo>
                        <a:pt x="967" y="696"/>
                      </a:lnTo>
                      <a:lnTo>
                        <a:pt x="971" y="698"/>
                      </a:lnTo>
                      <a:lnTo>
                        <a:pt x="976" y="701"/>
                      </a:lnTo>
                      <a:lnTo>
                        <a:pt x="982" y="703"/>
                      </a:lnTo>
                      <a:lnTo>
                        <a:pt x="989" y="705"/>
                      </a:lnTo>
                      <a:lnTo>
                        <a:pt x="995" y="707"/>
                      </a:lnTo>
                      <a:lnTo>
                        <a:pt x="1002" y="709"/>
                      </a:lnTo>
                      <a:lnTo>
                        <a:pt x="1009" y="712"/>
                      </a:lnTo>
                      <a:lnTo>
                        <a:pt x="1013" y="714"/>
                      </a:lnTo>
                      <a:lnTo>
                        <a:pt x="1015" y="714"/>
                      </a:lnTo>
                      <a:lnTo>
                        <a:pt x="1017" y="716"/>
                      </a:lnTo>
                      <a:lnTo>
                        <a:pt x="1020" y="716"/>
                      </a:lnTo>
                      <a:lnTo>
                        <a:pt x="1017" y="718"/>
                      </a:lnTo>
                      <a:lnTo>
                        <a:pt x="1015" y="723"/>
                      </a:lnTo>
                      <a:lnTo>
                        <a:pt x="1013" y="727"/>
                      </a:lnTo>
                      <a:lnTo>
                        <a:pt x="1013" y="731"/>
                      </a:lnTo>
                      <a:lnTo>
                        <a:pt x="1011" y="736"/>
                      </a:lnTo>
                      <a:lnTo>
                        <a:pt x="1009" y="742"/>
                      </a:lnTo>
                      <a:lnTo>
                        <a:pt x="1006" y="749"/>
                      </a:lnTo>
                      <a:lnTo>
                        <a:pt x="1004" y="756"/>
                      </a:lnTo>
                      <a:lnTo>
                        <a:pt x="1002" y="764"/>
                      </a:lnTo>
                      <a:lnTo>
                        <a:pt x="1000" y="771"/>
                      </a:lnTo>
                      <a:lnTo>
                        <a:pt x="998" y="780"/>
                      </a:lnTo>
                      <a:lnTo>
                        <a:pt x="995" y="788"/>
                      </a:lnTo>
                      <a:lnTo>
                        <a:pt x="991" y="795"/>
                      </a:lnTo>
                      <a:lnTo>
                        <a:pt x="989" y="806"/>
                      </a:lnTo>
                      <a:lnTo>
                        <a:pt x="987" y="813"/>
                      </a:lnTo>
                      <a:lnTo>
                        <a:pt x="984" y="821"/>
                      </a:lnTo>
                      <a:lnTo>
                        <a:pt x="980" y="830"/>
                      </a:lnTo>
                      <a:lnTo>
                        <a:pt x="978" y="839"/>
                      </a:lnTo>
                      <a:lnTo>
                        <a:pt x="976" y="846"/>
                      </a:lnTo>
                      <a:lnTo>
                        <a:pt x="973" y="854"/>
                      </a:lnTo>
                      <a:lnTo>
                        <a:pt x="971" y="861"/>
                      </a:lnTo>
                      <a:lnTo>
                        <a:pt x="967" y="870"/>
                      </a:lnTo>
                      <a:lnTo>
                        <a:pt x="965" y="874"/>
                      </a:lnTo>
                      <a:lnTo>
                        <a:pt x="962" y="881"/>
                      </a:lnTo>
                      <a:lnTo>
                        <a:pt x="960" y="885"/>
                      </a:lnTo>
                      <a:lnTo>
                        <a:pt x="958" y="890"/>
                      </a:lnTo>
                      <a:lnTo>
                        <a:pt x="956" y="898"/>
                      </a:lnTo>
                      <a:lnTo>
                        <a:pt x="954" y="903"/>
                      </a:lnTo>
                      <a:lnTo>
                        <a:pt x="951" y="903"/>
                      </a:lnTo>
                      <a:lnTo>
                        <a:pt x="947" y="903"/>
                      </a:lnTo>
                      <a:lnTo>
                        <a:pt x="943" y="900"/>
                      </a:lnTo>
                      <a:lnTo>
                        <a:pt x="936" y="900"/>
                      </a:lnTo>
                      <a:lnTo>
                        <a:pt x="932" y="898"/>
                      </a:lnTo>
                      <a:lnTo>
                        <a:pt x="929" y="898"/>
                      </a:lnTo>
                      <a:lnTo>
                        <a:pt x="925" y="896"/>
                      </a:lnTo>
                      <a:lnTo>
                        <a:pt x="921" y="896"/>
                      </a:lnTo>
                      <a:lnTo>
                        <a:pt x="914" y="894"/>
                      </a:lnTo>
                      <a:lnTo>
                        <a:pt x="910" y="894"/>
                      </a:lnTo>
                      <a:lnTo>
                        <a:pt x="905" y="892"/>
                      </a:lnTo>
                      <a:lnTo>
                        <a:pt x="901" y="890"/>
                      </a:lnTo>
                      <a:lnTo>
                        <a:pt x="894" y="887"/>
                      </a:lnTo>
                      <a:lnTo>
                        <a:pt x="890" y="887"/>
                      </a:lnTo>
                      <a:lnTo>
                        <a:pt x="883" y="885"/>
                      </a:lnTo>
                      <a:lnTo>
                        <a:pt x="877" y="883"/>
                      </a:lnTo>
                      <a:lnTo>
                        <a:pt x="870" y="881"/>
                      </a:lnTo>
                      <a:lnTo>
                        <a:pt x="866" y="879"/>
                      </a:lnTo>
                      <a:lnTo>
                        <a:pt x="859" y="876"/>
                      </a:lnTo>
                      <a:lnTo>
                        <a:pt x="853" y="874"/>
                      </a:lnTo>
                      <a:lnTo>
                        <a:pt x="846" y="872"/>
                      </a:lnTo>
                      <a:lnTo>
                        <a:pt x="839" y="870"/>
                      </a:lnTo>
                      <a:lnTo>
                        <a:pt x="833" y="868"/>
                      </a:lnTo>
                      <a:lnTo>
                        <a:pt x="826" y="865"/>
                      </a:lnTo>
                      <a:lnTo>
                        <a:pt x="820" y="863"/>
                      </a:lnTo>
                      <a:lnTo>
                        <a:pt x="813" y="859"/>
                      </a:lnTo>
                      <a:lnTo>
                        <a:pt x="806" y="857"/>
                      </a:lnTo>
                      <a:lnTo>
                        <a:pt x="800" y="854"/>
                      </a:lnTo>
                      <a:lnTo>
                        <a:pt x="791" y="852"/>
                      </a:lnTo>
                      <a:lnTo>
                        <a:pt x="784" y="850"/>
                      </a:lnTo>
                      <a:lnTo>
                        <a:pt x="778" y="848"/>
                      </a:lnTo>
                      <a:lnTo>
                        <a:pt x="771" y="843"/>
                      </a:lnTo>
                      <a:lnTo>
                        <a:pt x="762" y="841"/>
                      </a:lnTo>
                      <a:lnTo>
                        <a:pt x="756" y="839"/>
                      </a:lnTo>
                      <a:lnTo>
                        <a:pt x="749" y="837"/>
                      </a:lnTo>
                      <a:lnTo>
                        <a:pt x="743" y="835"/>
                      </a:lnTo>
                      <a:lnTo>
                        <a:pt x="736" y="830"/>
                      </a:lnTo>
                      <a:lnTo>
                        <a:pt x="729" y="828"/>
                      </a:lnTo>
                      <a:lnTo>
                        <a:pt x="723" y="826"/>
                      </a:lnTo>
                      <a:lnTo>
                        <a:pt x="716" y="824"/>
                      </a:lnTo>
                      <a:lnTo>
                        <a:pt x="710" y="821"/>
                      </a:lnTo>
                      <a:lnTo>
                        <a:pt x="705" y="819"/>
                      </a:lnTo>
                      <a:lnTo>
                        <a:pt x="699" y="817"/>
                      </a:lnTo>
                      <a:lnTo>
                        <a:pt x="694" y="815"/>
                      </a:lnTo>
                      <a:lnTo>
                        <a:pt x="688" y="813"/>
                      </a:lnTo>
                      <a:lnTo>
                        <a:pt x="681" y="810"/>
                      </a:lnTo>
                      <a:lnTo>
                        <a:pt x="677" y="808"/>
                      </a:lnTo>
                      <a:lnTo>
                        <a:pt x="672" y="806"/>
                      </a:lnTo>
                      <a:lnTo>
                        <a:pt x="668" y="804"/>
                      </a:lnTo>
                      <a:lnTo>
                        <a:pt x="664" y="802"/>
                      </a:lnTo>
                      <a:lnTo>
                        <a:pt x="659" y="799"/>
                      </a:lnTo>
                      <a:lnTo>
                        <a:pt x="655" y="799"/>
                      </a:lnTo>
                      <a:lnTo>
                        <a:pt x="648" y="795"/>
                      </a:lnTo>
                      <a:lnTo>
                        <a:pt x="644" y="793"/>
                      </a:lnTo>
                      <a:lnTo>
                        <a:pt x="637" y="791"/>
                      </a:lnTo>
                      <a:lnTo>
                        <a:pt x="637" y="791"/>
                      </a:lnTo>
                      <a:lnTo>
                        <a:pt x="633" y="788"/>
                      </a:lnTo>
                      <a:lnTo>
                        <a:pt x="631" y="786"/>
                      </a:lnTo>
                      <a:lnTo>
                        <a:pt x="626" y="784"/>
                      </a:lnTo>
                      <a:lnTo>
                        <a:pt x="622" y="782"/>
                      </a:lnTo>
                      <a:lnTo>
                        <a:pt x="615" y="778"/>
                      </a:lnTo>
                      <a:lnTo>
                        <a:pt x="611" y="775"/>
                      </a:lnTo>
                      <a:lnTo>
                        <a:pt x="604" y="773"/>
                      </a:lnTo>
                      <a:lnTo>
                        <a:pt x="600" y="771"/>
                      </a:lnTo>
                      <a:lnTo>
                        <a:pt x="591" y="767"/>
                      </a:lnTo>
                      <a:lnTo>
                        <a:pt x="584" y="762"/>
                      </a:lnTo>
                      <a:lnTo>
                        <a:pt x="578" y="760"/>
                      </a:lnTo>
                      <a:lnTo>
                        <a:pt x="571" y="756"/>
                      </a:lnTo>
                      <a:lnTo>
                        <a:pt x="562" y="751"/>
                      </a:lnTo>
                      <a:lnTo>
                        <a:pt x="556" y="749"/>
                      </a:lnTo>
                      <a:lnTo>
                        <a:pt x="547" y="745"/>
                      </a:lnTo>
                      <a:lnTo>
                        <a:pt x="541" y="742"/>
                      </a:lnTo>
                      <a:lnTo>
                        <a:pt x="534" y="738"/>
                      </a:lnTo>
                      <a:lnTo>
                        <a:pt x="525" y="736"/>
                      </a:lnTo>
                      <a:lnTo>
                        <a:pt x="519" y="731"/>
                      </a:lnTo>
                      <a:lnTo>
                        <a:pt x="512" y="729"/>
                      </a:lnTo>
                      <a:lnTo>
                        <a:pt x="505" y="725"/>
                      </a:lnTo>
                      <a:lnTo>
                        <a:pt x="499" y="723"/>
                      </a:lnTo>
                      <a:lnTo>
                        <a:pt x="494" y="720"/>
                      </a:lnTo>
                      <a:lnTo>
                        <a:pt x="488" y="718"/>
                      </a:lnTo>
                      <a:lnTo>
                        <a:pt x="483" y="714"/>
                      </a:lnTo>
                      <a:lnTo>
                        <a:pt x="479" y="712"/>
                      </a:lnTo>
                      <a:lnTo>
                        <a:pt x="475" y="712"/>
                      </a:lnTo>
                      <a:lnTo>
                        <a:pt x="472" y="709"/>
                      </a:lnTo>
                      <a:lnTo>
                        <a:pt x="466" y="707"/>
                      </a:lnTo>
                      <a:lnTo>
                        <a:pt x="466" y="707"/>
                      </a:lnTo>
                      <a:lnTo>
                        <a:pt x="466" y="707"/>
                      </a:lnTo>
                      <a:lnTo>
                        <a:pt x="468" y="712"/>
                      </a:lnTo>
                      <a:lnTo>
                        <a:pt x="472" y="716"/>
                      </a:lnTo>
                      <a:lnTo>
                        <a:pt x="477" y="723"/>
                      </a:lnTo>
                      <a:lnTo>
                        <a:pt x="483" y="731"/>
                      </a:lnTo>
                      <a:lnTo>
                        <a:pt x="490" y="740"/>
                      </a:lnTo>
                      <a:lnTo>
                        <a:pt x="494" y="745"/>
                      </a:lnTo>
                      <a:lnTo>
                        <a:pt x="499" y="749"/>
                      </a:lnTo>
                      <a:lnTo>
                        <a:pt x="503" y="756"/>
                      </a:lnTo>
                      <a:lnTo>
                        <a:pt x="508" y="760"/>
                      </a:lnTo>
                      <a:lnTo>
                        <a:pt x="512" y="767"/>
                      </a:lnTo>
                      <a:lnTo>
                        <a:pt x="516" y="771"/>
                      </a:lnTo>
                      <a:lnTo>
                        <a:pt x="521" y="775"/>
                      </a:lnTo>
                      <a:lnTo>
                        <a:pt x="525" y="782"/>
                      </a:lnTo>
                      <a:lnTo>
                        <a:pt x="530" y="786"/>
                      </a:lnTo>
                      <a:lnTo>
                        <a:pt x="534" y="793"/>
                      </a:lnTo>
                      <a:lnTo>
                        <a:pt x="538" y="797"/>
                      </a:lnTo>
                      <a:lnTo>
                        <a:pt x="543" y="804"/>
                      </a:lnTo>
                      <a:lnTo>
                        <a:pt x="547" y="808"/>
                      </a:lnTo>
                      <a:lnTo>
                        <a:pt x="552" y="813"/>
                      </a:lnTo>
                      <a:lnTo>
                        <a:pt x="554" y="817"/>
                      </a:lnTo>
                      <a:lnTo>
                        <a:pt x="560" y="821"/>
                      </a:lnTo>
                      <a:lnTo>
                        <a:pt x="567" y="828"/>
                      </a:lnTo>
                      <a:lnTo>
                        <a:pt x="573" y="835"/>
                      </a:lnTo>
                      <a:lnTo>
                        <a:pt x="576" y="837"/>
                      </a:lnTo>
                      <a:lnTo>
                        <a:pt x="580" y="841"/>
                      </a:lnTo>
                      <a:lnTo>
                        <a:pt x="584" y="843"/>
                      </a:lnTo>
                      <a:lnTo>
                        <a:pt x="589" y="848"/>
                      </a:lnTo>
                      <a:lnTo>
                        <a:pt x="593" y="852"/>
                      </a:lnTo>
                      <a:lnTo>
                        <a:pt x="600" y="854"/>
                      </a:lnTo>
                      <a:lnTo>
                        <a:pt x="604" y="861"/>
                      </a:lnTo>
                      <a:lnTo>
                        <a:pt x="611" y="865"/>
                      </a:lnTo>
                      <a:lnTo>
                        <a:pt x="617" y="870"/>
                      </a:lnTo>
                      <a:lnTo>
                        <a:pt x="624" y="874"/>
                      </a:lnTo>
                      <a:lnTo>
                        <a:pt x="631" y="881"/>
                      </a:lnTo>
                      <a:lnTo>
                        <a:pt x="637" y="885"/>
                      </a:lnTo>
                      <a:lnTo>
                        <a:pt x="644" y="890"/>
                      </a:lnTo>
                      <a:lnTo>
                        <a:pt x="653" y="894"/>
                      </a:lnTo>
                      <a:lnTo>
                        <a:pt x="659" y="900"/>
                      </a:lnTo>
                      <a:lnTo>
                        <a:pt x="666" y="905"/>
                      </a:lnTo>
                      <a:lnTo>
                        <a:pt x="672" y="909"/>
                      </a:lnTo>
                      <a:lnTo>
                        <a:pt x="679" y="914"/>
                      </a:lnTo>
                      <a:lnTo>
                        <a:pt x="686" y="918"/>
                      </a:lnTo>
                      <a:lnTo>
                        <a:pt x="692" y="922"/>
                      </a:lnTo>
                      <a:lnTo>
                        <a:pt x="699" y="927"/>
                      </a:lnTo>
                      <a:lnTo>
                        <a:pt x="705" y="931"/>
                      </a:lnTo>
                      <a:lnTo>
                        <a:pt x="710" y="936"/>
                      </a:lnTo>
                      <a:lnTo>
                        <a:pt x="716" y="940"/>
                      </a:lnTo>
                      <a:lnTo>
                        <a:pt x="725" y="944"/>
                      </a:lnTo>
                      <a:lnTo>
                        <a:pt x="732" y="951"/>
                      </a:lnTo>
                      <a:lnTo>
                        <a:pt x="736" y="953"/>
                      </a:lnTo>
                      <a:lnTo>
                        <a:pt x="738" y="953"/>
                      </a:lnTo>
                      <a:lnTo>
                        <a:pt x="697" y="1028"/>
                      </a:lnTo>
                      <a:lnTo>
                        <a:pt x="694" y="1028"/>
                      </a:lnTo>
                      <a:lnTo>
                        <a:pt x="692" y="1026"/>
                      </a:lnTo>
                      <a:lnTo>
                        <a:pt x="688" y="1023"/>
                      </a:lnTo>
                      <a:lnTo>
                        <a:pt x="683" y="1021"/>
                      </a:lnTo>
                      <a:lnTo>
                        <a:pt x="677" y="1017"/>
                      </a:lnTo>
                      <a:lnTo>
                        <a:pt x="670" y="1012"/>
                      </a:lnTo>
                      <a:lnTo>
                        <a:pt x="661" y="1006"/>
                      </a:lnTo>
                      <a:lnTo>
                        <a:pt x="653" y="1002"/>
                      </a:lnTo>
                      <a:lnTo>
                        <a:pt x="648" y="997"/>
                      </a:lnTo>
                      <a:lnTo>
                        <a:pt x="642" y="995"/>
                      </a:lnTo>
                      <a:lnTo>
                        <a:pt x="637" y="991"/>
                      </a:lnTo>
                      <a:lnTo>
                        <a:pt x="631" y="988"/>
                      </a:lnTo>
                      <a:lnTo>
                        <a:pt x="626" y="984"/>
                      </a:lnTo>
                      <a:lnTo>
                        <a:pt x="620" y="982"/>
                      </a:lnTo>
                      <a:lnTo>
                        <a:pt x="613" y="977"/>
                      </a:lnTo>
                      <a:lnTo>
                        <a:pt x="609" y="975"/>
                      </a:lnTo>
                      <a:lnTo>
                        <a:pt x="602" y="971"/>
                      </a:lnTo>
                      <a:lnTo>
                        <a:pt x="595" y="966"/>
                      </a:lnTo>
                      <a:lnTo>
                        <a:pt x="589" y="962"/>
                      </a:lnTo>
                      <a:lnTo>
                        <a:pt x="584" y="958"/>
                      </a:lnTo>
                      <a:lnTo>
                        <a:pt x="578" y="953"/>
                      </a:lnTo>
                      <a:lnTo>
                        <a:pt x="571" y="951"/>
                      </a:lnTo>
                      <a:lnTo>
                        <a:pt x="565" y="947"/>
                      </a:lnTo>
                      <a:lnTo>
                        <a:pt x="560" y="942"/>
                      </a:lnTo>
                      <a:lnTo>
                        <a:pt x="552" y="938"/>
                      </a:lnTo>
                      <a:lnTo>
                        <a:pt x="547" y="936"/>
                      </a:lnTo>
                      <a:lnTo>
                        <a:pt x="541" y="929"/>
                      </a:lnTo>
                      <a:lnTo>
                        <a:pt x="534" y="927"/>
                      </a:lnTo>
                      <a:lnTo>
                        <a:pt x="527" y="922"/>
                      </a:lnTo>
                      <a:lnTo>
                        <a:pt x="521" y="918"/>
                      </a:lnTo>
                      <a:lnTo>
                        <a:pt x="514" y="914"/>
                      </a:lnTo>
                      <a:lnTo>
                        <a:pt x="508" y="911"/>
                      </a:lnTo>
                      <a:lnTo>
                        <a:pt x="501" y="907"/>
                      </a:lnTo>
                      <a:lnTo>
                        <a:pt x="497" y="903"/>
                      </a:lnTo>
                      <a:lnTo>
                        <a:pt x="490" y="898"/>
                      </a:lnTo>
                      <a:lnTo>
                        <a:pt x="486" y="896"/>
                      </a:lnTo>
                      <a:lnTo>
                        <a:pt x="479" y="892"/>
                      </a:lnTo>
                      <a:lnTo>
                        <a:pt x="475" y="890"/>
                      </a:lnTo>
                      <a:lnTo>
                        <a:pt x="470" y="885"/>
                      </a:lnTo>
                      <a:lnTo>
                        <a:pt x="466" y="883"/>
                      </a:lnTo>
                      <a:lnTo>
                        <a:pt x="459" y="881"/>
                      </a:lnTo>
                      <a:lnTo>
                        <a:pt x="455" y="876"/>
                      </a:lnTo>
                      <a:lnTo>
                        <a:pt x="450" y="874"/>
                      </a:lnTo>
                      <a:lnTo>
                        <a:pt x="446" y="872"/>
                      </a:lnTo>
                      <a:lnTo>
                        <a:pt x="439" y="865"/>
                      </a:lnTo>
                      <a:lnTo>
                        <a:pt x="433" y="863"/>
                      </a:lnTo>
                      <a:lnTo>
                        <a:pt x="426" y="859"/>
                      </a:lnTo>
                      <a:lnTo>
                        <a:pt x="422" y="857"/>
                      </a:lnTo>
                      <a:lnTo>
                        <a:pt x="420" y="854"/>
                      </a:lnTo>
                      <a:lnTo>
                        <a:pt x="420" y="854"/>
                      </a:lnTo>
                      <a:lnTo>
                        <a:pt x="417" y="854"/>
                      </a:lnTo>
                      <a:lnTo>
                        <a:pt x="413" y="852"/>
                      </a:lnTo>
                      <a:lnTo>
                        <a:pt x="411" y="848"/>
                      </a:lnTo>
                      <a:lnTo>
                        <a:pt x="406" y="846"/>
                      </a:lnTo>
                      <a:lnTo>
                        <a:pt x="400" y="841"/>
                      </a:lnTo>
                      <a:lnTo>
                        <a:pt x="396" y="837"/>
                      </a:lnTo>
                      <a:lnTo>
                        <a:pt x="389" y="830"/>
                      </a:lnTo>
                      <a:lnTo>
                        <a:pt x="382" y="826"/>
                      </a:lnTo>
                      <a:lnTo>
                        <a:pt x="371" y="819"/>
                      </a:lnTo>
                      <a:lnTo>
                        <a:pt x="365" y="810"/>
                      </a:lnTo>
                      <a:lnTo>
                        <a:pt x="354" y="804"/>
                      </a:lnTo>
                      <a:lnTo>
                        <a:pt x="347" y="797"/>
                      </a:lnTo>
                      <a:lnTo>
                        <a:pt x="341" y="791"/>
                      </a:lnTo>
                      <a:lnTo>
                        <a:pt x="336" y="788"/>
                      </a:lnTo>
                      <a:lnTo>
                        <a:pt x="332" y="784"/>
                      </a:lnTo>
                      <a:lnTo>
                        <a:pt x="325" y="780"/>
                      </a:lnTo>
                      <a:lnTo>
                        <a:pt x="321" y="775"/>
                      </a:lnTo>
                      <a:lnTo>
                        <a:pt x="316" y="771"/>
                      </a:lnTo>
                      <a:lnTo>
                        <a:pt x="312" y="767"/>
                      </a:lnTo>
                      <a:lnTo>
                        <a:pt x="308" y="764"/>
                      </a:lnTo>
                      <a:lnTo>
                        <a:pt x="301" y="760"/>
                      </a:lnTo>
                      <a:lnTo>
                        <a:pt x="297" y="756"/>
                      </a:lnTo>
                      <a:lnTo>
                        <a:pt x="292" y="751"/>
                      </a:lnTo>
                      <a:lnTo>
                        <a:pt x="286" y="747"/>
                      </a:lnTo>
                      <a:lnTo>
                        <a:pt x="281" y="742"/>
                      </a:lnTo>
                      <a:lnTo>
                        <a:pt x="277" y="738"/>
                      </a:lnTo>
                      <a:lnTo>
                        <a:pt x="270" y="734"/>
                      </a:lnTo>
                      <a:lnTo>
                        <a:pt x="266" y="729"/>
                      </a:lnTo>
                      <a:lnTo>
                        <a:pt x="261" y="725"/>
                      </a:lnTo>
                      <a:lnTo>
                        <a:pt x="257" y="720"/>
                      </a:lnTo>
                      <a:lnTo>
                        <a:pt x="253" y="716"/>
                      </a:lnTo>
                      <a:lnTo>
                        <a:pt x="248" y="712"/>
                      </a:lnTo>
                      <a:lnTo>
                        <a:pt x="240" y="705"/>
                      </a:lnTo>
                      <a:lnTo>
                        <a:pt x="231" y="698"/>
                      </a:lnTo>
                      <a:lnTo>
                        <a:pt x="224" y="690"/>
                      </a:lnTo>
                      <a:lnTo>
                        <a:pt x="218" y="685"/>
                      </a:lnTo>
                      <a:lnTo>
                        <a:pt x="211" y="679"/>
                      </a:lnTo>
                      <a:lnTo>
                        <a:pt x="204" y="674"/>
                      </a:lnTo>
                      <a:lnTo>
                        <a:pt x="200" y="668"/>
                      </a:lnTo>
                      <a:lnTo>
                        <a:pt x="198" y="666"/>
                      </a:lnTo>
                      <a:lnTo>
                        <a:pt x="196" y="661"/>
                      </a:lnTo>
                      <a:lnTo>
                        <a:pt x="193" y="661"/>
                      </a:lnTo>
                      <a:lnTo>
                        <a:pt x="191" y="655"/>
                      </a:lnTo>
                      <a:lnTo>
                        <a:pt x="187" y="648"/>
                      </a:lnTo>
                      <a:lnTo>
                        <a:pt x="182" y="644"/>
                      </a:lnTo>
                      <a:lnTo>
                        <a:pt x="180" y="639"/>
                      </a:lnTo>
                      <a:lnTo>
                        <a:pt x="178" y="635"/>
                      </a:lnTo>
                      <a:lnTo>
                        <a:pt x="176" y="628"/>
                      </a:lnTo>
                      <a:lnTo>
                        <a:pt x="171" y="622"/>
                      </a:lnTo>
                      <a:lnTo>
                        <a:pt x="167" y="615"/>
                      </a:lnTo>
                      <a:lnTo>
                        <a:pt x="163" y="608"/>
                      </a:lnTo>
                      <a:lnTo>
                        <a:pt x="160" y="602"/>
                      </a:lnTo>
                      <a:lnTo>
                        <a:pt x="156" y="595"/>
                      </a:lnTo>
                      <a:lnTo>
                        <a:pt x="152" y="589"/>
                      </a:lnTo>
                      <a:lnTo>
                        <a:pt x="147" y="582"/>
                      </a:lnTo>
                      <a:lnTo>
                        <a:pt x="145" y="578"/>
                      </a:lnTo>
                      <a:lnTo>
                        <a:pt x="141" y="569"/>
                      </a:lnTo>
                      <a:lnTo>
                        <a:pt x="136" y="562"/>
                      </a:lnTo>
                      <a:lnTo>
                        <a:pt x="132" y="556"/>
                      </a:lnTo>
                      <a:lnTo>
                        <a:pt x="130" y="549"/>
                      </a:lnTo>
                      <a:lnTo>
                        <a:pt x="125" y="543"/>
                      </a:lnTo>
                      <a:lnTo>
                        <a:pt x="121" y="538"/>
                      </a:lnTo>
                      <a:lnTo>
                        <a:pt x="119" y="532"/>
                      </a:lnTo>
                      <a:lnTo>
                        <a:pt x="116" y="527"/>
                      </a:lnTo>
                      <a:lnTo>
                        <a:pt x="112" y="523"/>
                      </a:lnTo>
                      <a:lnTo>
                        <a:pt x="110" y="518"/>
                      </a:lnTo>
                      <a:lnTo>
                        <a:pt x="108" y="514"/>
                      </a:lnTo>
                      <a:lnTo>
                        <a:pt x="105" y="512"/>
                      </a:lnTo>
                      <a:lnTo>
                        <a:pt x="103" y="507"/>
                      </a:lnTo>
                      <a:lnTo>
                        <a:pt x="103" y="507"/>
                      </a:lnTo>
                      <a:lnTo>
                        <a:pt x="0" y="501"/>
                      </a:lnTo>
                      <a:lnTo>
                        <a:pt x="48" y="211"/>
                      </a:lnTo>
                      <a:lnTo>
                        <a:pt x="48" y="211"/>
                      </a:lnTo>
                      <a:close/>
                    </a:path>
                  </a:pathLst>
                </a:custGeom>
                <a:solidFill>
                  <a:srgbClr val="ffc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717"/>
                <p:cNvSpPr/>
                <p:nvPr/>
              </p:nvSpPr>
              <p:spPr>
                <a:xfrm>
                  <a:off x="1074240" y="5194080"/>
                  <a:ext cx="738720" cy="764280"/>
                </a:xfrm>
                <a:custGeom>
                  <a:avLst/>
                  <a:gdLst>
                    <a:gd name="textAreaLeft" fmla="*/ 0 w 738720"/>
                    <a:gd name="textAreaRight" fmla="*/ 739080 w 738720"/>
                    <a:gd name="textAreaTop" fmla="*/ 0 h 764280"/>
                    <a:gd name="textAreaBottom" fmla="*/ 764640 h 764280"/>
                  </a:gdLst>
                  <a:ahLst/>
                  <a:rect l="textAreaLeft" t="textAreaTop" r="textAreaRight" b="textAreaBottom"/>
                  <a:pathLst>
                    <a:path w="1038" h="1047">
                      <a:moveTo>
                        <a:pt x="616" y="0"/>
                      </a:moveTo>
                      <a:lnTo>
                        <a:pt x="618" y="0"/>
                      </a:lnTo>
                      <a:lnTo>
                        <a:pt x="620" y="0"/>
                      </a:lnTo>
                      <a:lnTo>
                        <a:pt x="627" y="2"/>
                      </a:lnTo>
                      <a:lnTo>
                        <a:pt x="633" y="4"/>
                      </a:lnTo>
                      <a:lnTo>
                        <a:pt x="638" y="4"/>
                      </a:lnTo>
                      <a:lnTo>
                        <a:pt x="642" y="6"/>
                      </a:lnTo>
                      <a:lnTo>
                        <a:pt x="649" y="6"/>
                      </a:lnTo>
                      <a:lnTo>
                        <a:pt x="653" y="8"/>
                      </a:lnTo>
                      <a:lnTo>
                        <a:pt x="660" y="8"/>
                      </a:lnTo>
                      <a:lnTo>
                        <a:pt x="664" y="11"/>
                      </a:lnTo>
                      <a:lnTo>
                        <a:pt x="668" y="11"/>
                      </a:lnTo>
                      <a:lnTo>
                        <a:pt x="675" y="13"/>
                      </a:lnTo>
                      <a:lnTo>
                        <a:pt x="679" y="13"/>
                      </a:lnTo>
                      <a:lnTo>
                        <a:pt x="686" y="15"/>
                      </a:lnTo>
                      <a:lnTo>
                        <a:pt x="690" y="17"/>
                      </a:lnTo>
                      <a:lnTo>
                        <a:pt x="697" y="17"/>
                      </a:lnTo>
                      <a:lnTo>
                        <a:pt x="701" y="19"/>
                      </a:lnTo>
                      <a:lnTo>
                        <a:pt x="706" y="19"/>
                      </a:lnTo>
                      <a:lnTo>
                        <a:pt x="710" y="21"/>
                      </a:lnTo>
                      <a:lnTo>
                        <a:pt x="715" y="24"/>
                      </a:lnTo>
                      <a:lnTo>
                        <a:pt x="721" y="24"/>
                      </a:lnTo>
                      <a:lnTo>
                        <a:pt x="728" y="28"/>
                      </a:lnTo>
                      <a:lnTo>
                        <a:pt x="730" y="28"/>
                      </a:lnTo>
                      <a:lnTo>
                        <a:pt x="732" y="30"/>
                      </a:lnTo>
                      <a:lnTo>
                        <a:pt x="730" y="32"/>
                      </a:lnTo>
                      <a:lnTo>
                        <a:pt x="730" y="35"/>
                      </a:lnTo>
                      <a:lnTo>
                        <a:pt x="728" y="39"/>
                      </a:lnTo>
                      <a:lnTo>
                        <a:pt x="725" y="46"/>
                      </a:lnTo>
                      <a:lnTo>
                        <a:pt x="723" y="50"/>
                      </a:lnTo>
                      <a:lnTo>
                        <a:pt x="721" y="57"/>
                      </a:lnTo>
                      <a:lnTo>
                        <a:pt x="719" y="63"/>
                      </a:lnTo>
                      <a:lnTo>
                        <a:pt x="719" y="70"/>
                      </a:lnTo>
                      <a:lnTo>
                        <a:pt x="715" y="76"/>
                      </a:lnTo>
                      <a:lnTo>
                        <a:pt x="712" y="83"/>
                      </a:lnTo>
                      <a:lnTo>
                        <a:pt x="710" y="90"/>
                      </a:lnTo>
                      <a:lnTo>
                        <a:pt x="708" y="94"/>
                      </a:lnTo>
                      <a:lnTo>
                        <a:pt x="706" y="98"/>
                      </a:lnTo>
                      <a:lnTo>
                        <a:pt x="704" y="103"/>
                      </a:lnTo>
                      <a:lnTo>
                        <a:pt x="701" y="105"/>
                      </a:lnTo>
                      <a:lnTo>
                        <a:pt x="699" y="107"/>
                      </a:lnTo>
                      <a:lnTo>
                        <a:pt x="695" y="105"/>
                      </a:lnTo>
                      <a:lnTo>
                        <a:pt x="690" y="105"/>
                      </a:lnTo>
                      <a:lnTo>
                        <a:pt x="684" y="105"/>
                      </a:lnTo>
                      <a:lnTo>
                        <a:pt x="675" y="105"/>
                      </a:lnTo>
                      <a:lnTo>
                        <a:pt x="668" y="103"/>
                      </a:lnTo>
                      <a:lnTo>
                        <a:pt x="664" y="103"/>
                      </a:lnTo>
                      <a:lnTo>
                        <a:pt x="657" y="101"/>
                      </a:lnTo>
                      <a:lnTo>
                        <a:pt x="653" y="101"/>
                      </a:lnTo>
                      <a:lnTo>
                        <a:pt x="644" y="101"/>
                      </a:lnTo>
                      <a:lnTo>
                        <a:pt x="640" y="101"/>
                      </a:lnTo>
                      <a:lnTo>
                        <a:pt x="633" y="101"/>
                      </a:lnTo>
                      <a:lnTo>
                        <a:pt x="627" y="101"/>
                      </a:lnTo>
                      <a:lnTo>
                        <a:pt x="620" y="101"/>
                      </a:lnTo>
                      <a:lnTo>
                        <a:pt x="613" y="101"/>
                      </a:lnTo>
                      <a:lnTo>
                        <a:pt x="607" y="101"/>
                      </a:lnTo>
                      <a:lnTo>
                        <a:pt x="600" y="103"/>
                      </a:lnTo>
                      <a:lnTo>
                        <a:pt x="591" y="105"/>
                      </a:lnTo>
                      <a:lnTo>
                        <a:pt x="587" y="105"/>
                      </a:lnTo>
                      <a:lnTo>
                        <a:pt x="580" y="107"/>
                      </a:lnTo>
                      <a:lnTo>
                        <a:pt x="574" y="109"/>
                      </a:lnTo>
                      <a:lnTo>
                        <a:pt x="567" y="112"/>
                      </a:lnTo>
                      <a:lnTo>
                        <a:pt x="561" y="114"/>
                      </a:lnTo>
                      <a:lnTo>
                        <a:pt x="556" y="118"/>
                      </a:lnTo>
                      <a:lnTo>
                        <a:pt x="552" y="123"/>
                      </a:lnTo>
                      <a:lnTo>
                        <a:pt x="548" y="125"/>
                      </a:lnTo>
                      <a:lnTo>
                        <a:pt x="543" y="129"/>
                      </a:lnTo>
                      <a:lnTo>
                        <a:pt x="539" y="136"/>
                      </a:lnTo>
                      <a:lnTo>
                        <a:pt x="537" y="140"/>
                      </a:lnTo>
                      <a:lnTo>
                        <a:pt x="534" y="147"/>
                      </a:lnTo>
                      <a:lnTo>
                        <a:pt x="532" y="151"/>
                      </a:lnTo>
                      <a:lnTo>
                        <a:pt x="530" y="158"/>
                      </a:lnTo>
                      <a:lnTo>
                        <a:pt x="526" y="162"/>
                      </a:lnTo>
                      <a:lnTo>
                        <a:pt x="523" y="169"/>
                      </a:lnTo>
                      <a:lnTo>
                        <a:pt x="523" y="173"/>
                      </a:lnTo>
                      <a:lnTo>
                        <a:pt x="521" y="180"/>
                      </a:lnTo>
                      <a:lnTo>
                        <a:pt x="521" y="186"/>
                      </a:lnTo>
                      <a:lnTo>
                        <a:pt x="519" y="191"/>
                      </a:lnTo>
                      <a:lnTo>
                        <a:pt x="519" y="197"/>
                      </a:lnTo>
                      <a:lnTo>
                        <a:pt x="519" y="202"/>
                      </a:lnTo>
                      <a:lnTo>
                        <a:pt x="519" y="206"/>
                      </a:lnTo>
                      <a:lnTo>
                        <a:pt x="519" y="213"/>
                      </a:lnTo>
                      <a:lnTo>
                        <a:pt x="519" y="217"/>
                      </a:lnTo>
                      <a:lnTo>
                        <a:pt x="521" y="224"/>
                      </a:lnTo>
                      <a:lnTo>
                        <a:pt x="523" y="228"/>
                      </a:lnTo>
                      <a:lnTo>
                        <a:pt x="523" y="235"/>
                      </a:lnTo>
                      <a:lnTo>
                        <a:pt x="523" y="239"/>
                      </a:lnTo>
                      <a:lnTo>
                        <a:pt x="526" y="243"/>
                      </a:lnTo>
                      <a:lnTo>
                        <a:pt x="528" y="250"/>
                      </a:lnTo>
                      <a:lnTo>
                        <a:pt x="530" y="254"/>
                      </a:lnTo>
                      <a:lnTo>
                        <a:pt x="532" y="259"/>
                      </a:lnTo>
                      <a:lnTo>
                        <a:pt x="534" y="263"/>
                      </a:lnTo>
                      <a:lnTo>
                        <a:pt x="539" y="270"/>
                      </a:lnTo>
                      <a:lnTo>
                        <a:pt x="543" y="276"/>
                      </a:lnTo>
                      <a:lnTo>
                        <a:pt x="550" y="287"/>
                      </a:lnTo>
                      <a:lnTo>
                        <a:pt x="554" y="292"/>
                      </a:lnTo>
                      <a:lnTo>
                        <a:pt x="559" y="294"/>
                      </a:lnTo>
                      <a:lnTo>
                        <a:pt x="563" y="298"/>
                      </a:lnTo>
                      <a:lnTo>
                        <a:pt x="567" y="303"/>
                      </a:lnTo>
                      <a:lnTo>
                        <a:pt x="576" y="309"/>
                      </a:lnTo>
                      <a:lnTo>
                        <a:pt x="585" y="316"/>
                      </a:lnTo>
                      <a:lnTo>
                        <a:pt x="589" y="318"/>
                      </a:lnTo>
                      <a:lnTo>
                        <a:pt x="596" y="320"/>
                      </a:lnTo>
                      <a:lnTo>
                        <a:pt x="600" y="322"/>
                      </a:lnTo>
                      <a:lnTo>
                        <a:pt x="605" y="327"/>
                      </a:lnTo>
                      <a:lnTo>
                        <a:pt x="609" y="329"/>
                      </a:lnTo>
                      <a:lnTo>
                        <a:pt x="613" y="329"/>
                      </a:lnTo>
                      <a:lnTo>
                        <a:pt x="618" y="331"/>
                      </a:lnTo>
                      <a:lnTo>
                        <a:pt x="622" y="333"/>
                      </a:lnTo>
                      <a:lnTo>
                        <a:pt x="627" y="333"/>
                      </a:lnTo>
                      <a:lnTo>
                        <a:pt x="631" y="336"/>
                      </a:lnTo>
                      <a:lnTo>
                        <a:pt x="635" y="338"/>
                      </a:lnTo>
                      <a:lnTo>
                        <a:pt x="642" y="338"/>
                      </a:lnTo>
                      <a:lnTo>
                        <a:pt x="649" y="338"/>
                      </a:lnTo>
                      <a:lnTo>
                        <a:pt x="660" y="340"/>
                      </a:lnTo>
                      <a:lnTo>
                        <a:pt x="666" y="338"/>
                      </a:lnTo>
                      <a:lnTo>
                        <a:pt x="677" y="338"/>
                      </a:lnTo>
                      <a:lnTo>
                        <a:pt x="684" y="336"/>
                      </a:lnTo>
                      <a:lnTo>
                        <a:pt x="693" y="333"/>
                      </a:lnTo>
                      <a:lnTo>
                        <a:pt x="701" y="329"/>
                      </a:lnTo>
                      <a:lnTo>
                        <a:pt x="710" y="327"/>
                      </a:lnTo>
                      <a:lnTo>
                        <a:pt x="717" y="320"/>
                      </a:lnTo>
                      <a:lnTo>
                        <a:pt x="725" y="316"/>
                      </a:lnTo>
                      <a:lnTo>
                        <a:pt x="730" y="311"/>
                      </a:lnTo>
                      <a:lnTo>
                        <a:pt x="736" y="305"/>
                      </a:lnTo>
                      <a:lnTo>
                        <a:pt x="741" y="298"/>
                      </a:lnTo>
                      <a:lnTo>
                        <a:pt x="745" y="294"/>
                      </a:lnTo>
                      <a:lnTo>
                        <a:pt x="750" y="287"/>
                      </a:lnTo>
                      <a:lnTo>
                        <a:pt x="754" y="283"/>
                      </a:lnTo>
                      <a:lnTo>
                        <a:pt x="756" y="276"/>
                      </a:lnTo>
                      <a:lnTo>
                        <a:pt x="761" y="270"/>
                      </a:lnTo>
                      <a:lnTo>
                        <a:pt x="763" y="263"/>
                      </a:lnTo>
                      <a:lnTo>
                        <a:pt x="765" y="256"/>
                      </a:lnTo>
                      <a:lnTo>
                        <a:pt x="767" y="250"/>
                      </a:lnTo>
                      <a:lnTo>
                        <a:pt x="767" y="245"/>
                      </a:lnTo>
                      <a:lnTo>
                        <a:pt x="769" y="239"/>
                      </a:lnTo>
                      <a:lnTo>
                        <a:pt x="772" y="232"/>
                      </a:lnTo>
                      <a:lnTo>
                        <a:pt x="772" y="226"/>
                      </a:lnTo>
                      <a:lnTo>
                        <a:pt x="774" y="221"/>
                      </a:lnTo>
                      <a:lnTo>
                        <a:pt x="774" y="215"/>
                      </a:lnTo>
                      <a:lnTo>
                        <a:pt x="774" y="210"/>
                      </a:lnTo>
                      <a:lnTo>
                        <a:pt x="774" y="206"/>
                      </a:lnTo>
                      <a:lnTo>
                        <a:pt x="776" y="199"/>
                      </a:lnTo>
                      <a:lnTo>
                        <a:pt x="776" y="195"/>
                      </a:lnTo>
                      <a:lnTo>
                        <a:pt x="778" y="193"/>
                      </a:lnTo>
                      <a:lnTo>
                        <a:pt x="778" y="184"/>
                      </a:lnTo>
                      <a:lnTo>
                        <a:pt x="780" y="180"/>
                      </a:lnTo>
                      <a:lnTo>
                        <a:pt x="780" y="175"/>
                      </a:lnTo>
                      <a:lnTo>
                        <a:pt x="780" y="175"/>
                      </a:lnTo>
                      <a:lnTo>
                        <a:pt x="862" y="162"/>
                      </a:lnTo>
                      <a:lnTo>
                        <a:pt x="862" y="164"/>
                      </a:lnTo>
                      <a:lnTo>
                        <a:pt x="862" y="169"/>
                      </a:lnTo>
                      <a:lnTo>
                        <a:pt x="862" y="171"/>
                      </a:lnTo>
                      <a:lnTo>
                        <a:pt x="864" y="175"/>
                      </a:lnTo>
                      <a:lnTo>
                        <a:pt x="864" y="180"/>
                      </a:lnTo>
                      <a:lnTo>
                        <a:pt x="866" y="186"/>
                      </a:lnTo>
                      <a:lnTo>
                        <a:pt x="866" y="191"/>
                      </a:lnTo>
                      <a:lnTo>
                        <a:pt x="868" y="197"/>
                      </a:lnTo>
                      <a:lnTo>
                        <a:pt x="868" y="204"/>
                      </a:lnTo>
                      <a:lnTo>
                        <a:pt x="868" y="210"/>
                      </a:lnTo>
                      <a:lnTo>
                        <a:pt x="871" y="217"/>
                      </a:lnTo>
                      <a:lnTo>
                        <a:pt x="871" y="226"/>
                      </a:lnTo>
                      <a:lnTo>
                        <a:pt x="873" y="235"/>
                      </a:lnTo>
                      <a:lnTo>
                        <a:pt x="873" y="243"/>
                      </a:lnTo>
                      <a:lnTo>
                        <a:pt x="873" y="252"/>
                      </a:lnTo>
                      <a:lnTo>
                        <a:pt x="873" y="261"/>
                      </a:lnTo>
                      <a:lnTo>
                        <a:pt x="873" y="265"/>
                      </a:lnTo>
                      <a:lnTo>
                        <a:pt x="873" y="270"/>
                      </a:lnTo>
                      <a:lnTo>
                        <a:pt x="873" y="274"/>
                      </a:lnTo>
                      <a:lnTo>
                        <a:pt x="873" y="281"/>
                      </a:lnTo>
                      <a:lnTo>
                        <a:pt x="873" y="285"/>
                      </a:lnTo>
                      <a:lnTo>
                        <a:pt x="873" y="289"/>
                      </a:lnTo>
                      <a:lnTo>
                        <a:pt x="873" y="294"/>
                      </a:lnTo>
                      <a:lnTo>
                        <a:pt x="873" y="300"/>
                      </a:lnTo>
                      <a:lnTo>
                        <a:pt x="871" y="305"/>
                      </a:lnTo>
                      <a:lnTo>
                        <a:pt x="871" y="309"/>
                      </a:lnTo>
                      <a:lnTo>
                        <a:pt x="871" y="316"/>
                      </a:lnTo>
                      <a:lnTo>
                        <a:pt x="871" y="320"/>
                      </a:lnTo>
                      <a:lnTo>
                        <a:pt x="868" y="327"/>
                      </a:lnTo>
                      <a:lnTo>
                        <a:pt x="868" y="331"/>
                      </a:lnTo>
                      <a:lnTo>
                        <a:pt x="866" y="336"/>
                      </a:lnTo>
                      <a:lnTo>
                        <a:pt x="866" y="340"/>
                      </a:lnTo>
                      <a:lnTo>
                        <a:pt x="866" y="347"/>
                      </a:lnTo>
                      <a:lnTo>
                        <a:pt x="864" y="351"/>
                      </a:lnTo>
                      <a:lnTo>
                        <a:pt x="862" y="355"/>
                      </a:lnTo>
                      <a:lnTo>
                        <a:pt x="862" y="362"/>
                      </a:lnTo>
                      <a:lnTo>
                        <a:pt x="860" y="366"/>
                      </a:lnTo>
                      <a:lnTo>
                        <a:pt x="860" y="371"/>
                      </a:lnTo>
                      <a:lnTo>
                        <a:pt x="857" y="375"/>
                      </a:lnTo>
                      <a:lnTo>
                        <a:pt x="855" y="382"/>
                      </a:lnTo>
                      <a:lnTo>
                        <a:pt x="853" y="386"/>
                      </a:lnTo>
                      <a:lnTo>
                        <a:pt x="851" y="390"/>
                      </a:lnTo>
                      <a:lnTo>
                        <a:pt x="849" y="397"/>
                      </a:lnTo>
                      <a:lnTo>
                        <a:pt x="849" y="401"/>
                      </a:lnTo>
                      <a:lnTo>
                        <a:pt x="842" y="410"/>
                      </a:lnTo>
                      <a:lnTo>
                        <a:pt x="838" y="419"/>
                      </a:lnTo>
                      <a:lnTo>
                        <a:pt x="831" y="428"/>
                      </a:lnTo>
                      <a:lnTo>
                        <a:pt x="824" y="434"/>
                      </a:lnTo>
                      <a:lnTo>
                        <a:pt x="818" y="441"/>
                      </a:lnTo>
                      <a:lnTo>
                        <a:pt x="813" y="448"/>
                      </a:lnTo>
                      <a:lnTo>
                        <a:pt x="807" y="454"/>
                      </a:lnTo>
                      <a:lnTo>
                        <a:pt x="800" y="461"/>
                      </a:lnTo>
                      <a:lnTo>
                        <a:pt x="791" y="465"/>
                      </a:lnTo>
                      <a:lnTo>
                        <a:pt x="785" y="472"/>
                      </a:lnTo>
                      <a:lnTo>
                        <a:pt x="778" y="474"/>
                      </a:lnTo>
                      <a:lnTo>
                        <a:pt x="774" y="478"/>
                      </a:lnTo>
                      <a:lnTo>
                        <a:pt x="765" y="483"/>
                      </a:lnTo>
                      <a:lnTo>
                        <a:pt x="758" y="487"/>
                      </a:lnTo>
                      <a:lnTo>
                        <a:pt x="752" y="489"/>
                      </a:lnTo>
                      <a:lnTo>
                        <a:pt x="745" y="494"/>
                      </a:lnTo>
                      <a:lnTo>
                        <a:pt x="739" y="496"/>
                      </a:lnTo>
                      <a:lnTo>
                        <a:pt x="732" y="498"/>
                      </a:lnTo>
                      <a:lnTo>
                        <a:pt x="725" y="498"/>
                      </a:lnTo>
                      <a:lnTo>
                        <a:pt x="721" y="502"/>
                      </a:lnTo>
                      <a:lnTo>
                        <a:pt x="715" y="502"/>
                      </a:lnTo>
                      <a:lnTo>
                        <a:pt x="708" y="505"/>
                      </a:lnTo>
                      <a:lnTo>
                        <a:pt x="704" y="505"/>
                      </a:lnTo>
                      <a:lnTo>
                        <a:pt x="699" y="507"/>
                      </a:lnTo>
                      <a:lnTo>
                        <a:pt x="695" y="509"/>
                      </a:lnTo>
                      <a:lnTo>
                        <a:pt x="690" y="509"/>
                      </a:lnTo>
                      <a:lnTo>
                        <a:pt x="686" y="509"/>
                      </a:lnTo>
                      <a:lnTo>
                        <a:pt x="684" y="511"/>
                      </a:lnTo>
                      <a:lnTo>
                        <a:pt x="677" y="511"/>
                      </a:lnTo>
                      <a:lnTo>
                        <a:pt x="675" y="513"/>
                      </a:lnTo>
                      <a:lnTo>
                        <a:pt x="671" y="513"/>
                      </a:lnTo>
                      <a:lnTo>
                        <a:pt x="666" y="516"/>
                      </a:lnTo>
                      <a:lnTo>
                        <a:pt x="660" y="516"/>
                      </a:lnTo>
                      <a:lnTo>
                        <a:pt x="655" y="518"/>
                      </a:lnTo>
                      <a:lnTo>
                        <a:pt x="649" y="518"/>
                      </a:lnTo>
                      <a:lnTo>
                        <a:pt x="640" y="520"/>
                      </a:lnTo>
                      <a:lnTo>
                        <a:pt x="633" y="520"/>
                      </a:lnTo>
                      <a:lnTo>
                        <a:pt x="627" y="522"/>
                      </a:lnTo>
                      <a:lnTo>
                        <a:pt x="618" y="524"/>
                      </a:lnTo>
                      <a:lnTo>
                        <a:pt x="611" y="524"/>
                      </a:lnTo>
                      <a:lnTo>
                        <a:pt x="605" y="524"/>
                      </a:lnTo>
                      <a:lnTo>
                        <a:pt x="600" y="527"/>
                      </a:lnTo>
                      <a:lnTo>
                        <a:pt x="594" y="527"/>
                      </a:lnTo>
                      <a:lnTo>
                        <a:pt x="591" y="527"/>
                      </a:lnTo>
                      <a:lnTo>
                        <a:pt x="589" y="527"/>
                      </a:lnTo>
                      <a:lnTo>
                        <a:pt x="589" y="529"/>
                      </a:lnTo>
                      <a:lnTo>
                        <a:pt x="589" y="529"/>
                      </a:lnTo>
                      <a:lnTo>
                        <a:pt x="596" y="531"/>
                      </a:lnTo>
                      <a:lnTo>
                        <a:pt x="600" y="533"/>
                      </a:lnTo>
                      <a:lnTo>
                        <a:pt x="607" y="535"/>
                      </a:lnTo>
                      <a:lnTo>
                        <a:pt x="613" y="540"/>
                      </a:lnTo>
                      <a:lnTo>
                        <a:pt x="620" y="542"/>
                      </a:lnTo>
                      <a:lnTo>
                        <a:pt x="629" y="544"/>
                      </a:lnTo>
                      <a:lnTo>
                        <a:pt x="638" y="549"/>
                      </a:lnTo>
                      <a:lnTo>
                        <a:pt x="642" y="551"/>
                      </a:lnTo>
                      <a:lnTo>
                        <a:pt x="646" y="553"/>
                      </a:lnTo>
                      <a:lnTo>
                        <a:pt x="651" y="555"/>
                      </a:lnTo>
                      <a:lnTo>
                        <a:pt x="655" y="557"/>
                      </a:lnTo>
                      <a:lnTo>
                        <a:pt x="660" y="560"/>
                      </a:lnTo>
                      <a:lnTo>
                        <a:pt x="666" y="562"/>
                      </a:lnTo>
                      <a:lnTo>
                        <a:pt x="671" y="566"/>
                      </a:lnTo>
                      <a:lnTo>
                        <a:pt x="677" y="568"/>
                      </a:lnTo>
                      <a:lnTo>
                        <a:pt x="682" y="570"/>
                      </a:lnTo>
                      <a:lnTo>
                        <a:pt x="686" y="573"/>
                      </a:lnTo>
                      <a:lnTo>
                        <a:pt x="693" y="575"/>
                      </a:lnTo>
                      <a:lnTo>
                        <a:pt x="699" y="577"/>
                      </a:lnTo>
                      <a:lnTo>
                        <a:pt x="704" y="579"/>
                      </a:lnTo>
                      <a:lnTo>
                        <a:pt x="708" y="581"/>
                      </a:lnTo>
                      <a:lnTo>
                        <a:pt x="715" y="584"/>
                      </a:lnTo>
                      <a:lnTo>
                        <a:pt x="721" y="586"/>
                      </a:lnTo>
                      <a:lnTo>
                        <a:pt x="725" y="590"/>
                      </a:lnTo>
                      <a:lnTo>
                        <a:pt x="732" y="592"/>
                      </a:lnTo>
                      <a:lnTo>
                        <a:pt x="736" y="595"/>
                      </a:lnTo>
                      <a:lnTo>
                        <a:pt x="743" y="597"/>
                      </a:lnTo>
                      <a:lnTo>
                        <a:pt x="747" y="599"/>
                      </a:lnTo>
                      <a:lnTo>
                        <a:pt x="754" y="601"/>
                      </a:lnTo>
                      <a:lnTo>
                        <a:pt x="758" y="603"/>
                      </a:lnTo>
                      <a:lnTo>
                        <a:pt x="765" y="608"/>
                      </a:lnTo>
                      <a:lnTo>
                        <a:pt x="769" y="610"/>
                      </a:lnTo>
                      <a:lnTo>
                        <a:pt x="776" y="612"/>
                      </a:lnTo>
                      <a:lnTo>
                        <a:pt x="783" y="614"/>
                      </a:lnTo>
                      <a:lnTo>
                        <a:pt x="787" y="617"/>
                      </a:lnTo>
                      <a:lnTo>
                        <a:pt x="791" y="619"/>
                      </a:lnTo>
                      <a:lnTo>
                        <a:pt x="798" y="621"/>
                      </a:lnTo>
                      <a:lnTo>
                        <a:pt x="802" y="621"/>
                      </a:lnTo>
                      <a:lnTo>
                        <a:pt x="807" y="625"/>
                      </a:lnTo>
                      <a:lnTo>
                        <a:pt x="811" y="625"/>
                      </a:lnTo>
                      <a:lnTo>
                        <a:pt x="816" y="628"/>
                      </a:lnTo>
                      <a:lnTo>
                        <a:pt x="820" y="630"/>
                      </a:lnTo>
                      <a:lnTo>
                        <a:pt x="827" y="632"/>
                      </a:lnTo>
                      <a:lnTo>
                        <a:pt x="833" y="636"/>
                      </a:lnTo>
                      <a:lnTo>
                        <a:pt x="842" y="641"/>
                      </a:lnTo>
                      <a:lnTo>
                        <a:pt x="849" y="643"/>
                      </a:lnTo>
                      <a:lnTo>
                        <a:pt x="855" y="645"/>
                      </a:lnTo>
                      <a:lnTo>
                        <a:pt x="862" y="647"/>
                      </a:lnTo>
                      <a:lnTo>
                        <a:pt x="868" y="650"/>
                      </a:lnTo>
                      <a:lnTo>
                        <a:pt x="873" y="650"/>
                      </a:lnTo>
                      <a:lnTo>
                        <a:pt x="882" y="654"/>
                      </a:lnTo>
                      <a:lnTo>
                        <a:pt x="888" y="656"/>
                      </a:lnTo>
                      <a:lnTo>
                        <a:pt x="895" y="658"/>
                      </a:lnTo>
                      <a:lnTo>
                        <a:pt x="903" y="661"/>
                      </a:lnTo>
                      <a:lnTo>
                        <a:pt x="910" y="665"/>
                      </a:lnTo>
                      <a:lnTo>
                        <a:pt x="917" y="667"/>
                      </a:lnTo>
                      <a:lnTo>
                        <a:pt x="925" y="669"/>
                      </a:lnTo>
                      <a:lnTo>
                        <a:pt x="932" y="672"/>
                      </a:lnTo>
                      <a:lnTo>
                        <a:pt x="939" y="674"/>
                      </a:lnTo>
                      <a:lnTo>
                        <a:pt x="947" y="676"/>
                      </a:lnTo>
                      <a:lnTo>
                        <a:pt x="954" y="680"/>
                      </a:lnTo>
                      <a:lnTo>
                        <a:pt x="963" y="682"/>
                      </a:lnTo>
                      <a:lnTo>
                        <a:pt x="969" y="685"/>
                      </a:lnTo>
                      <a:lnTo>
                        <a:pt x="976" y="687"/>
                      </a:lnTo>
                      <a:lnTo>
                        <a:pt x="983" y="689"/>
                      </a:lnTo>
                      <a:lnTo>
                        <a:pt x="989" y="693"/>
                      </a:lnTo>
                      <a:lnTo>
                        <a:pt x="996" y="696"/>
                      </a:lnTo>
                      <a:lnTo>
                        <a:pt x="1000" y="696"/>
                      </a:lnTo>
                      <a:lnTo>
                        <a:pt x="1007" y="700"/>
                      </a:lnTo>
                      <a:lnTo>
                        <a:pt x="1011" y="702"/>
                      </a:lnTo>
                      <a:lnTo>
                        <a:pt x="1018" y="704"/>
                      </a:lnTo>
                      <a:lnTo>
                        <a:pt x="1024" y="707"/>
                      </a:lnTo>
                      <a:lnTo>
                        <a:pt x="1031" y="711"/>
                      </a:lnTo>
                      <a:lnTo>
                        <a:pt x="1035" y="713"/>
                      </a:lnTo>
                      <a:lnTo>
                        <a:pt x="1038" y="715"/>
                      </a:lnTo>
                      <a:lnTo>
                        <a:pt x="1038" y="718"/>
                      </a:lnTo>
                      <a:lnTo>
                        <a:pt x="1035" y="724"/>
                      </a:lnTo>
                      <a:lnTo>
                        <a:pt x="1033" y="726"/>
                      </a:lnTo>
                      <a:lnTo>
                        <a:pt x="1033" y="733"/>
                      </a:lnTo>
                      <a:lnTo>
                        <a:pt x="1031" y="737"/>
                      </a:lnTo>
                      <a:lnTo>
                        <a:pt x="1031" y="746"/>
                      </a:lnTo>
                      <a:lnTo>
                        <a:pt x="1029" y="751"/>
                      </a:lnTo>
                      <a:lnTo>
                        <a:pt x="1027" y="757"/>
                      </a:lnTo>
                      <a:lnTo>
                        <a:pt x="1024" y="766"/>
                      </a:lnTo>
                      <a:lnTo>
                        <a:pt x="1022" y="773"/>
                      </a:lnTo>
                      <a:lnTo>
                        <a:pt x="1020" y="781"/>
                      </a:lnTo>
                      <a:lnTo>
                        <a:pt x="1018" y="790"/>
                      </a:lnTo>
                      <a:lnTo>
                        <a:pt x="1016" y="799"/>
                      </a:lnTo>
                      <a:lnTo>
                        <a:pt x="1013" y="808"/>
                      </a:lnTo>
                      <a:lnTo>
                        <a:pt x="1009" y="816"/>
                      </a:lnTo>
                      <a:lnTo>
                        <a:pt x="1007" y="825"/>
                      </a:lnTo>
                      <a:lnTo>
                        <a:pt x="1002" y="832"/>
                      </a:lnTo>
                      <a:lnTo>
                        <a:pt x="1000" y="841"/>
                      </a:lnTo>
                      <a:lnTo>
                        <a:pt x="998" y="849"/>
                      </a:lnTo>
                      <a:lnTo>
                        <a:pt x="994" y="858"/>
                      </a:lnTo>
                      <a:lnTo>
                        <a:pt x="991" y="865"/>
                      </a:lnTo>
                      <a:lnTo>
                        <a:pt x="989" y="874"/>
                      </a:lnTo>
                      <a:lnTo>
                        <a:pt x="985" y="878"/>
                      </a:lnTo>
                      <a:lnTo>
                        <a:pt x="983" y="887"/>
                      </a:lnTo>
                      <a:lnTo>
                        <a:pt x="980" y="891"/>
                      </a:lnTo>
                      <a:lnTo>
                        <a:pt x="978" y="898"/>
                      </a:lnTo>
                      <a:lnTo>
                        <a:pt x="974" y="902"/>
                      </a:lnTo>
                      <a:lnTo>
                        <a:pt x="972" y="906"/>
                      </a:lnTo>
                      <a:lnTo>
                        <a:pt x="969" y="909"/>
                      </a:lnTo>
                      <a:lnTo>
                        <a:pt x="967" y="911"/>
                      </a:lnTo>
                      <a:lnTo>
                        <a:pt x="965" y="913"/>
                      </a:lnTo>
                      <a:lnTo>
                        <a:pt x="961" y="913"/>
                      </a:lnTo>
                      <a:lnTo>
                        <a:pt x="954" y="913"/>
                      </a:lnTo>
                      <a:lnTo>
                        <a:pt x="950" y="913"/>
                      </a:lnTo>
                      <a:lnTo>
                        <a:pt x="941" y="911"/>
                      </a:lnTo>
                      <a:lnTo>
                        <a:pt x="934" y="911"/>
                      </a:lnTo>
                      <a:lnTo>
                        <a:pt x="925" y="909"/>
                      </a:lnTo>
                      <a:lnTo>
                        <a:pt x="917" y="906"/>
                      </a:lnTo>
                      <a:lnTo>
                        <a:pt x="912" y="906"/>
                      </a:lnTo>
                      <a:lnTo>
                        <a:pt x="908" y="904"/>
                      </a:lnTo>
                      <a:lnTo>
                        <a:pt x="901" y="902"/>
                      </a:lnTo>
                      <a:lnTo>
                        <a:pt x="897" y="902"/>
                      </a:lnTo>
                      <a:lnTo>
                        <a:pt x="890" y="900"/>
                      </a:lnTo>
                      <a:lnTo>
                        <a:pt x="886" y="898"/>
                      </a:lnTo>
                      <a:lnTo>
                        <a:pt x="879" y="896"/>
                      </a:lnTo>
                      <a:lnTo>
                        <a:pt x="875" y="896"/>
                      </a:lnTo>
                      <a:lnTo>
                        <a:pt x="868" y="893"/>
                      </a:lnTo>
                      <a:lnTo>
                        <a:pt x="864" y="891"/>
                      </a:lnTo>
                      <a:lnTo>
                        <a:pt x="857" y="889"/>
                      </a:lnTo>
                      <a:lnTo>
                        <a:pt x="851" y="887"/>
                      </a:lnTo>
                      <a:lnTo>
                        <a:pt x="844" y="885"/>
                      </a:lnTo>
                      <a:lnTo>
                        <a:pt x="840" y="882"/>
                      </a:lnTo>
                      <a:lnTo>
                        <a:pt x="833" y="880"/>
                      </a:lnTo>
                      <a:lnTo>
                        <a:pt x="829" y="878"/>
                      </a:lnTo>
                      <a:lnTo>
                        <a:pt x="822" y="876"/>
                      </a:lnTo>
                      <a:lnTo>
                        <a:pt x="816" y="874"/>
                      </a:lnTo>
                      <a:lnTo>
                        <a:pt x="809" y="871"/>
                      </a:lnTo>
                      <a:lnTo>
                        <a:pt x="805" y="869"/>
                      </a:lnTo>
                      <a:lnTo>
                        <a:pt x="798" y="867"/>
                      </a:lnTo>
                      <a:lnTo>
                        <a:pt x="791" y="865"/>
                      </a:lnTo>
                      <a:lnTo>
                        <a:pt x="787" y="863"/>
                      </a:lnTo>
                      <a:lnTo>
                        <a:pt x="783" y="860"/>
                      </a:lnTo>
                      <a:lnTo>
                        <a:pt x="776" y="858"/>
                      </a:lnTo>
                      <a:lnTo>
                        <a:pt x="769" y="856"/>
                      </a:lnTo>
                      <a:lnTo>
                        <a:pt x="765" y="854"/>
                      </a:lnTo>
                      <a:lnTo>
                        <a:pt x="761" y="854"/>
                      </a:lnTo>
                      <a:lnTo>
                        <a:pt x="754" y="849"/>
                      </a:lnTo>
                      <a:lnTo>
                        <a:pt x="750" y="849"/>
                      </a:lnTo>
                      <a:lnTo>
                        <a:pt x="745" y="847"/>
                      </a:lnTo>
                      <a:lnTo>
                        <a:pt x="741" y="845"/>
                      </a:lnTo>
                      <a:lnTo>
                        <a:pt x="736" y="843"/>
                      </a:lnTo>
                      <a:lnTo>
                        <a:pt x="730" y="841"/>
                      </a:lnTo>
                      <a:lnTo>
                        <a:pt x="725" y="841"/>
                      </a:lnTo>
                      <a:lnTo>
                        <a:pt x="723" y="838"/>
                      </a:lnTo>
                      <a:lnTo>
                        <a:pt x="715" y="836"/>
                      </a:lnTo>
                      <a:lnTo>
                        <a:pt x="708" y="834"/>
                      </a:lnTo>
                      <a:lnTo>
                        <a:pt x="704" y="830"/>
                      </a:lnTo>
                      <a:lnTo>
                        <a:pt x="697" y="830"/>
                      </a:lnTo>
                      <a:lnTo>
                        <a:pt x="695" y="827"/>
                      </a:lnTo>
                      <a:lnTo>
                        <a:pt x="693" y="827"/>
                      </a:lnTo>
                      <a:lnTo>
                        <a:pt x="690" y="825"/>
                      </a:lnTo>
                      <a:lnTo>
                        <a:pt x="686" y="823"/>
                      </a:lnTo>
                      <a:lnTo>
                        <a:pt x="682" y="821"/>
                      </a:lnTo>
                      <a:lnTo>
                        <a:pt x="677" y="819"/>
                      </a:lnTo>
                      <a:lnTo>
                        <a:pt x="671" y="816"/>
                      </a:lnTo>
                      <a:lnTo>
                        <a:pt x="664" y="814"/>
                      </a:lnTo>
                      <a:lnTo>
                        <a:pt x="657" y="810"/>
                      </a:lnTo>
                      <a:lnTo>
                        <a:pt x="651" y="808"/>
                      </a:lnTo>
                      <a:lnTo>
                        <a:pt x="642" y="803"/>
                      </a:lnTo>
                      <a:lnTo>
                        <a:pt x="635" y="799"/>
                      </a:lnTo>
                      <a:lnTo>
                        <a:pt x="627" y="794"/>
                      </a:lnTo>
                      <a:lnTo>
                        <a:pt x="618" y="790"/>
                      </a:lnTo>
                      <a:lnTo>
                        <a:pt x="609" y="786"/>
                      </a:lnTo>
                      <a:lnTo>
                        <a:pt x="600" y="781"/>
                      </a:lnTo>
                      <a:lnTo>
                        <a:pt x="591" y="777"/>
                      </a:lnTo>
                      <a:lnTo>
                        <a:pt x="585" y="773"/>
                      </a:lnTo>
                      <a:lnTo>
                        <a:pt x="576" y="768"/>
                      </a:lnTo>
                      <a:lnTo>
                        <a:pt x="567" y="764"/>
                      </a:lnTo>
                      <a:lnTo>
                        <a:pt x="556" y="759"/>
                      </a:lnTo>
                      <a:lnTo>
                        <a:pt x="550" y="755"/>
                      </a:lnTo>
                      <a:lnTo>
                        <a:pt x="541" y="753"/>
                      </a:lnTo>
                      <a:lnTo>
                        <a:pt x="534" y="748"/>
                      </a:lnTo>
                      <a:lnTo>
                        <a:pt x="528" y="746"/>
                      </a:lnTo>
                      <a:lnTo>
                        <a:pt x="521" y="742"/>
                      </a:lnTo>
                      <a:lnTo>
                        <a:pt x="515" y="740"/>
                      </a:lnTo>
                      <a:lnTo>
                        <a:pt x="510" y="737"/>
                      </a:lnTo>
                      <a:lnTo>
                        <a:pt x="506" y="735"/>
                      </a:lnTo>
                      <a:lnTo>
                        <a:pt x="501" y="735"/>
                      </a:lnTo>
                      <a:lnTo>
                        <a:pt x="495" y="733"/>
                      </a:lnTo>
                      <a:lnTo>
                        <a:pt x="495" y="733"/>
                      </a:lnTo>
                      <a:lnTo>
                        <a:pt x="495" y="735"/>
                      </a:lnTo>
                      <a:lnTo>
                        <a:pt x="499" y="740"/>
                      </a:lnTo>
                      <a:lnTo>
                        <a:pt x="504" y="746"/>
                      </a:lnTo>
                      <a:lnTo>
                        <a:pt x="510" y="755"/>
                      </a:lnTo>
                      <a:lnTo>
                        <a:pt x="515" y="759"/>
                      </a:lnTo>
                      <a:lnTo>
                        <a:pt x="519" y="764"/>
                      </a:lnTo>
                      <a:lnTo>
                        <a:pt x="523" y="768"/>
                      </a:lnTo>
                      <a:lnTo>
                        <a:pt x="528" y="773"/>
                      </a:lnTo>
                      <a:lnTo>
                        <a:pt x="532" y="779"/>
                      </a:lnTo>
                      <a:lnTo>
                        <a:pt x="537" y="784"/>
                      </a:lnTo>
                      <a:lnTo>
                        <a:pt x="543" y="790"/>
                      </a:lnTo>
                      <a:lnTo>
                        <a:pt x="550" y="797"/>
                      </a:lnTo>
                      <a:lnTo>
                        <a:pt x="554" y="801"/>
                      </a:lnTo>
                      <a:lnTo>
                        <a:pt x="561" y="808"/>
                      </a:lnTo>
                      <a:lnTo>
                        <a:pt x="565" y="814"/>
                      </a:lnTo>
                      <a:lnTo>
                        <a:pt x="572" y="821"/>
                      </a:lnTo>
                      <a:lnTo>
                        <a:pt x="578" y="825"/>
                      </a:lnTo>
                      <a:lnTo>
                        <a:pt x="585" y="832"/>
                      </a:lnTo>
                      <a:lnTo>
                        <a:pt x="591" y="838"/>
                      </a:lnTo>
                      <a:lnTo>
                        <a:pt x="598" y="845"/>
                      </a:lnTo>
                      <a:lnTo>
                        <a:pt x="605" y="849"/>
                      </a:lnTo>
                      <a:lnTo>
                        <a:pt x="611" y="854"/>
                      </a:lnTo>
                      <a:lnTo>
                        <a:pt x="616" y="860"/>
                      </a:lnTo>
                      <a:lnTo>
                        <a:pt x="624" y="865"/>
                      </a:lnTo>
                      <a:lnTo>
                        <a:pt x="629" y="869"/>
                      </a:lnTo>
                      <a:lnTo>
                        <a:pt x="635" y="876"/>
                      </a:lnTo>
                      <a:lnTo>
                        <a:pt x="642" y="878"/>
                      </a:lnTo>
                      <a:lnTo>
                        <a:pt x="649" y="882"/>
                      </a:lnTo>
                      <a:lnTo>
                        <a:pt x="653" y="887"/>
                      </a:lnTo>
                      <a:lnTo>
                        <a:pt x="657" y="889"/>
                      </a:lnTo>
                      <a:lnTo>
                        <a:pt x="662" y="893"/>
                      </a:lnTo>
                      <a:lnTo>
                        <a:pt x="668" y="896"/>
                      </a:lnTo>
                      <a:lnTo>
                        <a:pt x="673" y="900"/>
                      </a:lnTo>
                      <a:lnTo>
                        <a:pt x="679" y="902"/>
                      </a:lnTo>
                      <a:lnTo>
                        <a:pt x="684" y="906"/>
                      </a:lnTo>
                      <a:lnTo>
                        <a:pt x="690" y="909"/>
                      </a:lnTo>
                      <a:lnTo>
                        <a:pt x="695" y="911"/>
                      </a:lnTo>
                      <a:lnTo>
                        <a:pt x="699" y="915"/>
                      </a:lnTo>
                      <a:lnTo>
                        <a:pt x="704" y="917"/>
                      </a:lnTo>
                      <a:lnTo>
                        <a:pt x="708" y="920"/>
                      </a:lnTo>
                      <a:lnTo>
                        <a:pt x="712" y="922"/>
                      </a:lnTo>
                      <a:lnTo>
                        <a:pt x="719" y="924"/>
                      </a:lnTo>
                      <a:lnTo>
                        <a:pt x="721" y="928"/>
                      </a:lnTo>
                      <a:lnTo>
                        <a:pt x="728" y="931"/>
                      </a:lnTo>
                      <a:lnTo>
                        <a:pt x="734" y="935"/>
                      </a:lnTo>
                      <a:lnTo>
                        <a:pt x="741" y="939"/>
                      </a:lnTo>
                      <a:lnTo>
                        <a:pt x="747" y="942"/>
                      </a:lnTo>
                      <a:lnTo>
                        <a:pt x="754" y="946"/>
                      </a:lnTo>
                      <a:lnTo>
                        <a:pt x="761" y="953"/>
                      </a:lnTo>
                      <a:lnTo>
                        <a:pt x="763" y="957"/>
                      </a:lnTo>
                      <a:lnTo>
                        <a:pt x="761" y="957"/>
                      </a:lnTo>
                      <a:lnTo>
                        <a:pt x="761" y="961"/>
                      </a:lnTo>
                      <a:lnTo>
                        <a:pt x="756" y="966"/>
                      </a:lnTo>
                      <a:lnTo>
                        <a:pt x="754" y="972"/>
                      </a:lnTo>
                      <a:lnTo>
                        <a:pt x="750" y="979"/>
                      </a:lnTo>
                      <a:lnTo>
                        <a:pt x="747" y="988"/>
                      </a:lnTo>
                      <a:lnTo>
                        <a:pt x="743" y="994"/>
                      </a:lnTo>
                      <a:lnTo>
                        <a:pt x="739" y="1003"/>
                      </a:lnTo>
                      <a:lnTo>
                        <a:pt x="734" y="1012"/>
                      </a:lnTo>
                      <a:lnTo>
                        <a:pt x="730" y="1018"/>
                      </a:lnTo>
                      <a:lnTo>
                        <a:pt x="725" y="1027"/>
                      </a:lnTo>
                      <a:lnTo>
                        <a:pt x="721" y="1034"/>
                      </a:lnTo>
                      <a:lnTo>
                        <a:pt x="717" y="1038"/>
                      </a:lnTo>
                      <a:lnTo>
                        <a:pt x="712" y="1043"/>
                      </a:lnTo>
                      <a:lnTo>
                        <a:pt x="710" y="1045"/>
                      </a:lnTo>
                      <a:lnTo>
                        <a:pt x="708" y="1047"/>
                      </a:lnTo>
                      <a:lnTo>
                        <a:pt x="704" y="1047"/>
                      </a:lnTo>
                      <a:lnTo>
                        <a:pt x="701" y="1045"/>
                      </a:lnTo>
                      <a:lnTo>
                        <a:pt x="697" y="1043"/>
                      </a:lnTo>
                      <a:lnTo>
                        <a:pt x="693" y="1040"/>
                      </a:lnTo>
                      <a:lnTo>
                        <a:pt x="686" y="1038"/>
                      </a:lnTo>
                      <a:lnTo>
                        <a:pt x="679" y="1034"/>
                      </a:lnTo>
                      <a:lnTo>
                        <a:pt x="671" y="1029"/>
                      </a:lnTo>
                      <a:lnTo>
                        <a:pt x="664" y="1027"/>
                      </a:lnTo>
                      <a:lnTo>
                        <a:pt x="660" y="1023"/>
                      </a:lnTo>
                      <a:lnTo>
                        <a:pt x="653" y="1021"/>
                      </a:lnTo>
                      <a:lnTo>
                        <a:pt x="649" y="1018"/>
                      </a:lnTo>
                      <a:lnTo>
                        <a:pt x="644" y="1016"/>
                      </a:lnTo>
                      <a:lnTo>
                        <a:pt x="638" y="1012"/>
                      </a:lnTo>
                      <a:lnTo>
                        <a:pt x="633" y="1010"/>
                      </a:lnTo>
                      <a:lnTo>
                        <a:pt x="629" y="1008"/>
                      </a:lnTo>
                      <a:lnTo>
                        <a:pt x="624" y="1005"/>
                      </a:lnTo>
                      <a:lnTo>
                        <a:pt x="618" y="1001"/>
                      </a:lnTo>
                      <a:lnTo>
                        <a:pt x="611" y="999"/>
                      </a:lnTo>
                      <a:lnTo>
                        <a:pt x="607" y="994"/>
                      </a:lnTo>
                      <a:lnTo>
                        <a:pt x="600" y="992"/>
                      </a:lnTo>
                      <a:lnTo>
                        <a:pt x="596" y="990"/>
                      </a:lnTo>
                      <a:lnTo>
                        <a:pt x="589" y="986"/>
                      </a:lnTo>
                      <a:lnTo>
                        <a:pt x="585" y="983"/>
                      </a:lnTo>
                      <a:lnTo>
                        <a:pt x="578" y="981"/>
                      </a:lnTo>
                      <a:lnTo>
                        <a:pt x="572" y="977"/>
                      </a:lnTo>
                      <a:lnTo>
                        <a:pt x="567" y="972"/>
                      </a:lnTo>
                      <a:lnTo>
                        <a:pt x="561" y="968"/>
                      </a:lnTo>
                      <a:lnTo>
                        <a:pt x="554" y="966"/>
                      </a:lnTo>
                      <a:lnTo>
                        <a:pt x="548" y="961"/>
                      </a:lnTo>
                      <a:lnTo>
                        <a:pt x="543" y="959"/>
                      </a:lnTo>
                      <a:lnTo>
                        <a:pt x="537" y="955"/>
                      </a:lnTo>
                      <a:lnTo>
                        <a:pt x="532" y="953"/>
                      </a:lnTo>
                      <a:lnTo>
                        <a:pt x="526" y="948"/>
                      </a:lnTo>
                      <a:lnTo>
                        <a:pt x="519" y="944"/>
                      </a:lnTo>
                      <a:lnTo>
                        <a:pt x="512" y="942"/>
                      </a:lnTo>
                      <a:lnTo>
                        <a:pt x="508" y="937"/>
                      </a:lnTo>
                      <a:lnTo>
                        <a:pt x="501" y="935"/>
                      </a:lnTo>
                      <a:lnTo>
                        <a:pt x="497" y="931"/>
                      </a:lnTo>
                      <a:lnTo>
                        <a:pt x="490" y="928"/>
                      </a:lnTo>
                      <a:lnTo>
                        <a:pt x="486" y="924"/>
                      </a:lnTo>
                      <a:lnTo>
                        <a:pt x="479" y="922"/>
                      </a:lnTo>
                      <a:lnTo>
                        <a:pt x="475" y="917"/>
                      </a:lnTo>
                      <a:lnTo>
                        <a:pt x="471" y="915"/>
                      </a:lnTo>
                      <a:lnTo>
                        <a:pt x="466" y="913"/>
                      </a:lnTo>
                      <a:lnTo>
                        <a:pt x="455" y="906"/>
                      </a:lnTo>
                      <a:lnTo>
                        <a:pt x="449" y="902"/>
                      </a:lnTo>
                      <a:lnTo>
                        <a:pt x="440" y="896"/>
                      </a:lnTo>
                      <a:lnTo>
                        <a:pt x="433" y="891"/>
                      </a:lnTo>
                      <a:lnTo>
                        <a:pt x="427" y="887"/>
                      </a:lnTo>
                      <a:lnTo>
                        <a:pt x="420" y="882"/>
                      </a:lnTo>
                      <a:lnTo>
                        <a:pt x="413" y="878"/>
                      </a:lnTo>
                      <a:lnTo>
                        <a:pt x="409" y="874"/>
                      </a:lnTo>
                      <a:lnTo>
                        <a:pt x="403" y="869"/>
                      </a:lnTo>
                      <a:lnTo>
                        <a:pt x="396" y="865"/>
                      </a:lnTo>
                      <a:lnTo>
                        <a:pt x="389" y="858"/>
                      </a:lnTo>
                      <a:lnTo>
                        <a:pt x="383" y="852"/>
                      </a:lnTo>
                      <a:lnTo>
                        <a:pt x="376" y="847"/>
                      </a:lnTo>
                      <a:lnTo>
                        <a:pt x="367" y="841"/>
                      </a:lnTo>
                      <a:lnTo>
                        <a:pt x="361" y="834"/>
                      </a:lnTo>
                      <a:lnTo>
                        <a:pt x="352" y="827"/>
                      </a:lnTo>
                      <a:lnTo>
                        <a:pt x="343" y="821"/>
                      </a:lnTo>
                      <a:lnTo>
                        <a:pt x="337" y="814"/>
                      </a:lnTo>
                      <a:lnTo>
                        <a:pt x="328" y="805"/>
                      </a:lnTo>
                      <a:lnTo>
                        <a:pt x="319" y="799"/>
                      </a:lnTo>
                      <a:lnTo>
                        <a:pt x="312" y="792"/>
                      </a:lnTo>
                      <a:lnTo>
                        <a:pt x="304" y="786"/>
                      </a:lnTo>
                      <a:lnTo>
                        <a:pt x="295" y="777"/>
                      </a:lnTo>
                      <a:lnTo>
                        <a:pt x="286" y="770"/>
                      </a:lnTo>
                      <a:lnTo>
                        <a:pt x="277" y="764"/>
                      </a:lnTo>
                      <a:lnTo>
                        <a:pt x="271" y="755"/>
                      </a:lnTo>
                      <a:lnTo>
                        <a:pt x="262" y="748"/>
                      </a:lnTo>
                      <a:lnTo>
                        <a:pt x="255" y="742"/>
                      </a:lnTo>
                      <a:lnTo>
                        <a:pt x="247" y="733"/>
                      </a:lnTo>
                      <a:lnTo>
                        <a:pt x="240" y="726"/>
                      </a:lnTo>
                      <a:lnTo>
                        <a:pt x="233" y="720"/>
                      </a:lnTo>
                      <a:lnTo>
                        <a:pt x="227" y="711"/>
                      </a:lnTo>
                      <a:lnTo>
                        <a:pt x="220" y="704"/>
                      </a:lnTo>
                      <a:lnTo>
                        <a:pt x="214" y="698"/>
                      </a:lnTo>
                      <a:lnTo>
                        <a:pt x="207" y="691"/>
                      </a:lnTo>
                      <a:lnTo>
                        <a:pt x="203" y="685"/>
                      </a:lnTo>
                      <a:lnTo>
                        <a:pt x="198" y="678"/>
                      </a:lnTo>
                      <a:lnTo>
                        <a:pt x="194" y="674"/>
                      </a:lnTo>
                      <a:lnTo>
                        <a:pt x="189" y="667"/>
                      </a:lnTo>
                      <a:lnTo>
                        <a:pt x="185" y="661"/>
                      </a:lnTo>
                      <a:lnTo>
                        <a:pt x="181" y="654"/>
                      </a:lnTo>
                      <a:lnTo>
                        <a:pt x="176" y="650"/>
                      </a:lnTo>
                      <a:lnTo>
                        <a:pt x="172" y="643"/>
                      </a:lnTo>
                      <a:lnTo>
                        <a:pt x="167" y="636"/>
                      </a:lnTo>
                      <a:lnTo>
                        <a:pt x="163" y="630"/>
                      </a:lnTo>
                      <a:lnTo>
                        <a:pt x="161" y="625"/>
                      </a:lnTo>
                      <a:lnTo>
                        <a:pt x="154" y="619"/>
                      </a:lnTo>
                      <a:lnTo>
                        <a:pt x="152" y="612"/>
                      </a:lnTo>
                      <a:lnTo>
                        <a:pt x="148" y="606"/>
                      </a:lnTo>
                      <a:lnTo>
                        <a:pt x="145" y="601"/>
                      </a:lnTo>
                      <a:lnTo>
                        <a:pt x="141" y="595"/>
                      </a:lnTo>
                      <a:lnTo>
                        <a:pt x="137" y="588"/>
                      </a:lnTo>
                      <a:lnTo>
                        <a:pt x="134" y="584"/>
                      </a:lnTo>
                      <a:lnTo>
                        <a:pt x="132" y="579"/>
                      </a:lnTo>
                      <a:lnTo>
                        <a:pt x="130" y="573"/>
                      </a:lnTo>
                      <a:lnTo>
                        <a:pt x="126" y="568"/>
                      </a:lnTo>
                      <a:lnTo>
                        <a:pt x="123" y="562"/>
                      </a:lnTo>
                      <a:lnTo>
                        <a:pt x="121" y="557"/>
                      </a:lnTo>
                      <a:lnTo>
                        <a:pt x="117" y="551"/>
                      </a:lnTo>
                      <a:lnTo>
                        <a:pt x="112" y="544"/>
                      </a:lnTo>
                      <a:lnTo>
                        <a:pt x="110" y="538"/>
                      </a:lnTo>
                      <a:lnTo>
                        <a:pt x="108" y="533"/>
                      </a:lnTo>
                      <a:lnTo>
                        <a:pt x="108" y="531"/>
                      </a:lnTo>
                      <a:lnTo>
                        <a:pt x="3" y="520"/>
                      </a:lnTo>
                      <a:lnTo>
                        <a:pt x="0" y="491"/>
                      </a:lnTo>
                      <a:lnTo>
                        <a:pt x="119" y="505"/>
                      </a:lnTo>
                      <a:lnTo>
                        <a:pt x="119" y="507"/>
                      </a:lnTo>
                      <a:lnTo>
                        <a:pt x="123" y="511"/>
                      </a:lnTo>
                      <a:lnTo>
                        <a:pt x="123" y="516"/>
                      </a:lnTo>
                      <a:lnTo>
                        <a:pt x="128" y="520"/>
                      </a:lnTo>
                      <a:lnTo>
                        <a:pt x="130" y="524"/>
                      </a:lnTo>
                      <a:lnTo>
                        <a:pt x="134" y="533"/>
                      </a:lnTo>
                      <a:lnTo>
                        <a:pt x="139" y="538"/>
                      </a:lnTo>
                      <a:lnTo>
                        <a:pt x="143" y="546"/>
                      </a:lnTo>
                      <a:lnTo>
                        <a:pt x="150" y="553"/>
                      </a:lnTo>
                      <a:lnTo>
                        <a:pt x="154" y="562"/>
                      </a:lnTo>
                      <a:lnTo>
                        <a:pt x="161" y="570"/>
                      </a:lnTo>
                      <a:lnTo>
                        <a:pt x="167" y="579"/>
                      </a:lnTo>
                      <a:lnTo>
                        <a:pt x="172" y="586"/>
                      </a:lnTo>
                      <a:lnTo>
                        <a:pt x="176" y="590"/>
                      </a:lnTo>
                      <a:lnTo>
                        <a:pt x="178" y="595"/>
                      </a:lnTo>
                      <a:lnTo>
                        <a:pt x="183" y="601"/>
                      </a:lnTo>
                      <a:lnTo>
                        <a:pt x="185" y="606"/>
                      </a:lnTo>
                      <a:lnTo>
                        <a:pt x="189" y="612"/>
                      </a:lnTo>
                      <a:lnTo>
                        <a:pt x="194" y="617"/>
                      </a:lnTo>
                      <a:lnTo>
                        <a:pt x="196" y="621"/>
                      </a:lnTo>
                      <a:lnTo>
                        <a:pt x="200" y="625"/>
                      </a:lnTo>
                      <a:lnTo>
                        <a:pt x="205" y="632"/>
                      </a:lnTo>
                      <a:lnTo>
                        <a:pt x="209" y="636"/>
                      </a:lnTo>
                      <a:lnTo>
                        <a:pt x="214" y="643"/>
                      </a:lnTo>
                      <a:lnTo>
                        <a:pt x="218" y="647"/>
                      </a:lnTo>
                      <a:lnTo>
                        <a:pt x="222" y="654"/>
                      </a:lnTo>
                      <a:lnTo>
                        <a:pt x="227" y="658"/>
                      </a:lnTo>
                      <a:lnTo>
                        <a:pt x="231" y="665"/>
                      </a:lnTo>
                      <a:lnTo>
                        <a:pt x="236" y="669"/>
                      </a:lnTo>
                      <a:lnTo>
                        <a:pt x="240" y="676"/>
                      </a:lnTo>
                      <a:lnTo>
                        <a:pt x="247" y="682"/>
                      </a:lnTo>
                      <a:lnTo>
                        <a:pt x="251" y="687"/>
                      </a:lnTo>
                      <a:lnTo>
                        <a:pt x="255" y="693"/>
                      </a:lnTo>
                      <a:lnTo>
                        <a:pt x="260" y="698"/>
                      </a:lnTo>
                      <a:lnTo>
                        <a:pt x="264" y="702"/>
                      </a:lnTo>
                      <a:lnTo>
                        <a:pt x="271" y="709"/>
                      </a:lnTo>
                      <a:lnTo>
                        <a:pt x="275" y="713"/>
                      </a:lnTo>
                      <a:lnTo>
                        <a:pt x="279" y="720"/>
                      </a:lnTo>
                      <a:lnTo>
                        <a:pt x="284" y="724"/>
                      </a:lnTo>
                      <a:lnTo>
                        <a:pt x="290" y="731"/>
                      </a:lnTo>
                      <a:lnTo>
                        <a:pt x="295" y="735"/>
                      </a:lnTo>
                      <a:lnTo>
                        <a:pt x="299" y="740"/>
                      </a:lnTo>
                      <a:lnTo>
                        <a:pt x="306" y="744"/>
                      </a:lnTo>
                      <a:lnTo>
                        <a:pt x="310" y="748"/>
                      </a:lnTo>
                      <a:lnTo>
                        <a:pt x="317" y="755"/>
                      </a:lnTo>
                      <a:lnTo>
                        <a:pt x="321" y="759"/>
                      </a:lnTo>
                      <a:lnTo>
                        <a:pt x="326" y="764"/>
                      </a:lnTo>
                      <a:lnTo>
                        <a:pt x="332" y="770"/>
                      </a:lnTo>
                      <a:lnTo>
                        <a:pt x="337" y="773"/>
                      </a:lnTo>
                      <a:lnTo>
                        <a:pt x="343" y="777"/>
                      </a:lnTo>
                      <a:lnTo>
                        <a:pt x="348" y="781"/>
                      </a:lnTo>
                      <a:lnTo>
                        <a:pt x="352" y="786"/>
                      </a:lnTo>
                      <a:lnTo>
                        <a:pt x="356" y="790"/>
                      </a:lnTo>
                      <a:lnTo>
                        <a:pt x="363" y="794"/>
                      </a:lnTo>
                      <a:lnTo>
                        <a:pt x="367" y="797"/>
                      </a:lnTo>
                      <a:lnTo>
                        <a:pt x="372" y="801"/>
                      </a:lnTo>
                      <a:lnTo>
                        <a:pt x="376" y="805"/>
                      </a:lnTo>
                      <a:lnTo>
                        <a:pt x="383" y="810"/>
                      </a:lnTo>
                      <a:lnTo>
                        <a:pt x="385" y="812"/>
                      </a:lnTo>
                      <a:lnTo>
                        <a:pt x="392" y="816"/>
                      </a:lnTo>
                      <a:lnTo>
                        <a:pt x="396" y="821"/>
                      </a:lnTo>
                      <a:lnTo>
                        <a:pt x="400" y="823"/>
                      </a:lnTo>
                      <a:lnTo>
                        <a:pt x="405" y="827"/>
                      </a:lnTo>
                      <a:lnTo>
                        <a:pt x="409" y="832"/>
                      </a:lnTo>
                      <a:lnTo>
                        <a:pt x="418" y="836"/>
                      </a:lnTo>
                      <a:lnTo>
                        <a:pt x="427" y="843"/>
                      </a:lnTo>
                      <a:lnTo>
                        <a:pt x="433" y="849"/>
                      </a:lnTo>
                      <a:lnTo>
                        <a:pt x="442" y="856"/>
                      </a:lnTo>
                      <a:lnTo>
                        <a:pt x="449" y="860"/>
                      </a:lnTo>
                      <a:lnTo>
                        <a:pt x="457" y="867"/>
                      </a:lnTo>
                      <a:lnTo>
                        <a:pt x="464" y="871"/>
                      </a:lnTo>
                      <a:lnTo>
                        <a:pt x="473" y="878"/>
                      </a:lnTo>
                      <a:lnTo>
                        <a:pt x="477" y="882"/>
                      </a:lnTo>
                      <a:lnTo>
                        <a:pt x="484" y="887"/>
                      </a:lnTo>
                      <a:lnTo>
                        <a:pt x="490" y="889"/>
                      </a:lnTo>
                      <a:lnTo>
                        <a:pt x="497" y="893"/>
                      </a:lnTo>
                      <a:lnTo>
                        <a:pt x="501" y="898"/>
                      </a:lnTo>
                      <a:lnTo>
                        <a:pt x="508" y="900"/>
                      </a:lnTo>
                      <a:lnTo>
                        <a:pt x="512" y="904"/>
                      </a:lnTo>
                      <a:lnTo>
                        <a:pt x="519" y="909"/>
                      </a:lnTo>
                      <a:lnTo>
                        <a:pt x="523" y="911"/>
                      </a:lnTo>
                      <a:lnTo>
                        <a:pt x="528" y="915"/>
                      </a:lnTo>
                      <a:lnTo>
                        <a:pt x="532" y="917"/>
                      </a:lnTo>
                      <a:lnTo>
                        <a:pt x="537" y="920"/>
                      </a:lnTo>
                      <a:lnTo>
                        <a:pt x="543" y="924"/>
                      </a:lnTo>
                      <a:lnTo>
                        <a:pt x="552" y="931"/>
                      </a:lnTo>
                      <a:lnTo>
                        <a:pt x="554" y="931"/>
                      </a:lnTo>
                      <a:lnTo>
                        <a:pt x="559" y="935"/>
                      </a:lnTo>
                      <a:lnTo>
                        <a:pt x="563" y="937"/>
                      </a:lnTo>
                      <a:lnTo>
                        <a:pt x="567" y="939"/>
                      </a:lnTo>
                      <a:lnTo>
                        <a:pt x="572" y="942"/>
                      </a:lnTo>
                      <a:lnTo>
                        <a:pt x="576" y="946"/>
                      </a:lnTo>
                      <a:lnTo>
                        <a:pt x="583" y="948"/>
                      </a:lnTo>
                      <a:lnTo>
                        <a:pt x="589" y="953"/>
                      </a:lnTo>
                      <a:lnTo>
                        <a:pt x="594" y="957"/>
                      </a:lnTo>
                      <a:lnTo>
                        <a:pt x="600" y="959"/>
                      </a:lnTo>
                      <a:lnTo>
                        <a:pt x="607" y="964"/>
                      </a:lnTo>
                      <a:lnTo>
                        <a:pt x="613" y="968"/>
                      </a:lnTo>
                      <a:lnTo>
                        <a:pt x="620" y="970"/>
                      </a:lnTo>
                      <a:lnTo>
                        <a:pt x="627" y="975"/>
                      </a:lnTo>
                      <a:lnTo>
                        <a:pt x="633" y="979"/>
                      </a:lnTo>
                      <a:lnTo>
                        <a:pt x="640" y="983"/>
                      </a:lnTo>
                      <a:lnTo>
                        <a:pt x="646" y="986"/>
                      </a:lnTo>
                      <a:lnTo>
                        <a:pt x="653" y="988"/>
                      </a:lnTo>
                      <a:lnTo>
                        <a:pt x="657" y="992"/>
                      </a:lnTo>
                      <a:lnTo>
                        <a:pt x="664" y="994"/>
                      </a:lnTo>
                      <a:lnTo>
                        <a:pt x="668" y="999"/>
                      </a:lnTo>
                      <a:lnTo>
                        <a:pt x="675" y="1001"/>
                      </a:lnTo>
                      <a:lnTo>
                        <a:pt x="679" y="1003"/>
                      </a:lnTo>
                      <a:lnTo>
                        <a:pt x="686" y="1008"/>
                      </a:lnTo>
                      <a:lnTo>
                        <a:pt x="693" y="1012"/>
                      </a:lnTo>
                      <a:lnTo>
                        <a:pt x="699" y="1014"/>
                      </a:lnTo>
                      <a:lnTo>
                        <a:pt x="704" y="1016"/>
                      </a:lnTo>
                      <a:lnTo>
                        <a:pt x="706" y="1018"/>
                      </a:lnTo>
                      <a:lnTo>
                        <a:pt x="730" y="957"/>
                      </a:lnTo>
                      <a:lnTo>
                        <a:pt x="730" y="957"/>
                      </a:lnTo>
                      <a:lnTo>
                        <a:pt x="725" y="955"/>
                      </a:lnTo>
                      <a:lnTo>
                        <a:pt x="721" y="953"/>
                      </a:lnTo>
                      <a:lnTo>
                        <a:pt x="715" y="950"/>
                      </a:lnTo>
                      <a:lnTo>
                        <a:pt x="708" y="946"/>
                      </a:lnTo>
                      <a:lnTo>
                        <a:pt x="699" y="942"/>
                      </a:lnTo>
                      <a:lnTo>
                        <a:pt x="695" y="939"/>
                      </a:lnTo>
                      <a:lnTo>
                        <a:pt x="688" y="935"/>
                      </a:lnTo>
                      <a:lnTo>
                        <a:pt x="684" y="933"/>
                      </a:lnTo>
                      <a:lnTo>
                        <a:pt x="679" y="931"/>
                      </a:lnTo>
                      <a:lnTo>
                        <a:pt x="673" y="926"/>
                      </a:lnTo>
                      <a:lnTo>
                        <a:pt x="666" y="922"/>
                      </a:lnTo>
                      <a:lnTo>
                        <a:pt x="660" y="917"/>
                      </a:lnTo>
                      <a:lnTo>
                        <a:pt x="653" y="913"/>
                      </a:lnTo>
                      <a:lnTo>
                        <a:pt x="644" y="909"/>
                      </a:lnTo>
                      <a:lnTo>
                        <a:pt x="638" y="904"/>
                      </a:lnTo>
                      <a:lnTo>
                        <a:pt x="631" y="898"/>
                      </a:lnTo>
                      <a:lnTo>
                        <a:pt x="624" y="893"/>
                      </a:lnTo>
                      <a:lnTo>
                        <a:pt x="616" y="887"/>
                      </a:lnTo>
                      <a:lnTo>
                        <a:pt x="609" y="882"/>
                      </a:lnTo>
                      <a:lnTo>
                        <a:pt x="602" y="876"/>
                      </a:lnTo>
                      <a:lnTo>
                        <a:pt x="594" y="869"/>
                      </a:lnTo>
                      <a:lnTo>
                        <a:pt x="585" y="863"/>
                      </a:lnTo>
                      <a:lnTo>
                        <a:pt x="578" y="856"/>
                      </a:lnTo>
                      <a:lnTo>
                        <a:pt x="572" y="847"/>
                      </a:lnTo>
                      <a:lnTo>
                        <a:pt x="563" y="841"/>
                      </a:lnTo>
                      <a:lnTo>
                        <a:pt x="554" y="834"/>
                      </a:lnTo>
                      <a:lnTo>
                        <a:pt x="548" y="825"/>
                      </a:lnTo>
                      <a:lnTo>
                        <a:pt x="539" y="819"/>
                      </a:lnTo>
                      <a:lnTo>
                        <a:pt x="532" y="812"/>
                      </a:lnTo>
                      <a:lnTo>
                        <a:pt x="526" y="803"/>
                      </a:lnTo>
                      <a:lnTo>
                        <a:pt x="521" y="797"/>
                      </a:lnTo>
                      <a:lnTo>
                        <a:pt x="515" y="790"/>
                      </a:lnTo>
                      <a:lnTo>
                        <a:pt x="510" y="786"/>
                      </a:lnTo>
                      <a:lnTo>
                        <a:pt x="504" y="779"/>
                      </a:lnTo>
                      <a:lnTo>
                        <a:pt x="499" y="775"/>
                      </a:lnTo>
                      <a:lnTo>
                        <a:pt x="495" y="770"/>
                      </a:lnTo>
                      <a:lnTo>
                        <a:pt x="490" y="764"/>
                      </a:lnTo>
                      <a:lnTo>
                        <a:pt x="486" y="759"/>
                      </a:lnTo>
                      <a:lnTo>
                        <a:pt x="484" y="755"/>
                      </a:lnTo>
                      <a:lnTo>
                        <a:pt x="479" y="751"/>
                      </a:lnTo>
                      <a:lnTo>
                        <a:pt x="477" y="746"/>
                      </a:lnTo>
                      <a:lnTo>
                        <a:pt x="473" y="737"/>
                      </a:lnTo>
                      <a:lnTo>
                        <a:pt x="468" y="731"/>
                      </a:lnTo>
                      <a:lnTo>
                        <a:pt x="464" y="724"/>
                      </a:lnTo>
                      <a:lnTo>
                        <a:pt x="462" y="720"/>
                      </a:lnTo>
                      <a:lnTo>
                        <a:pt x="462" y="713"/>
                      </a:lnTo>
                      <a:lnTo>
                        <a:pt x="462" y="709"/>
                      </a:lnTo>
                      <a:lnTo>
                        <a:pt x="462" y="707"/>
                      </a:lnTo>
                      <a:lnTo>
                        <a:pt x="464" y="704"/>
                      </a:lnTo>
                      <a:lnTo>
                        <a:pt x="466" y="702"/>
                      </a:lnTo>
                      <a:lnTo>
                        <a:pt x="473" y="704"/>
                      </a:lnTo>
                      <a:lnTo>
                        <a:pt x="477" y="704"/>
                      </a:lnTo>
                      <a:lnTo>
                        <a:pt x="484" y="707"/>
                      </a:lnTo>
                      <a:lnTo>
                        <a:pt x="488" y="709"/>
                      </a:lnTo>
                      <a:lnTo>
                        <a:pt x="495" y="711"/>
                      </a:lnTo>
                      <a:lnTo>
                        <a:pt x="501" y="713"/>
                      </a:lnTo>
                      <a:lnTo>
                        <a:pt x="508" y="715"/>
                      </a:lnTo>
                      <a:lnTo>
                        <a:pt x="517" y="720"/>
                      </a:lnTo>
                      <a:lnTo>
                        <a:pt x="526" y="724"/>
                      </a:lnTo>
                      <a:lnTo>
                        <a:pt x="532" y="726"/>
                      </a:lnTo>
                      <a:lnTo>
                        <a:pt x="541" y="731"/>
                      </a:lnTo>
                      <a:lnTo>
                        <a:pt x="550" y="735"/>
                      </a:lnTo>
                      <a:lnTo>
                        <a:pt x="559" y="740"/>
                      </a:lnTo>
                      <a:lnTo>
                        <a:pt x="567" y="742"/>
                      </a:lnTo>
                      <a:lnTo>
                        <a:pt x="576" y="746"/>
                      </a:lnTo>
                      <a:lnTo>
                        <a:pt x="583" y="751"/>
                      </a:lnTo>
                      <a:lnTo>
                        <a:pt x="591" y="755"/>
                      </a:lnTo>
                      <a:lnTo>
                        <a:pt x="600" y="759"/>
                      </a:lnTo>
                      <a:lnTo>
                        <a:pt x="609" y="764"/>
                      </a:lnTo>
                      <a:lnTo>
                        <a:pt x="616" y="766"/>
                      </a:lnTo>
                      <a:lnTo>
                        <a:pt x="624" y="770"/>
                      </a:lnTo>
                      <a:lnTo>
                        <a:pt x="629" y="773"/>
                      </a:lnTo>
                      <a:lnTo>
                        <a:pt x="635" y="777"/>
                      </a:lnTo>
                      <a:lnTo>
                        <a:pt x="642" y="779"/>
                      </a:lnTo>
                      <a:lnTo>
                        <a:pt x="646" y="781"/>
                      </a:lnTo>
                      <a:lnTo>
                        <a:pt x="651" y="784"/>
                      </a:lnTo>
                      <a:lnTo>
                        <a:pt x="655" y="786"/>
                      </a:lnTo>
                      <a:lnTo>
                        <a:pt x="657" y="786"/>
                      </a:lnTo>
                      <a:lnTo>
                        <a:pt x="660" y="788"/>
                      </a:lnTo>
                      <a:lnTo>
                        <a:pt x="664" y="788"/>
                      </a:lnTo>
                      <a:lnTo>
                        <a:pt x="671" y="790"/>
                      </a:lnTo>
                      <a:lnTo>
                        <a:pt x="673" y="792"/>
                      </a:lnTo>
                      <a:lnTo>
                        <a:pt x="677" y="794"/>
                      </a:lnTo>
                      <a:lnTo>
                        <a:pt x="684" y="794"/>
                      </a:lnTo>
                      <a:lnTo>
                        <a:pt x="688" y="797"/>
                      </a:lnTo>
                      <a:lnTo>
                        <a:pt x="693" y="799"/>
                      </a:lnTo>
                      <a:lnTo>
                        <a:pt x="697" y="801"/>
                      </a:lnTo>
                      <a:lnTo>
                        <a:pt x="704" y="801"/>
                      </a:lnTo>
                      <a:lnTo>
                        <a:pt x="710" y="805"/>
                      </a:lnTo>
                      <a:lnTo>
                        <a:pt x="717" y="808"/>
                      </a:lnTo>
                      <a:lnTo>
                        <a:pt x="723" y="810"/>
                      </a:lnTo>
                      <a:lnTo>
                        <a:pt x="730" y="812"/>
                      </a:lnTo>
                      <a:lnTo>
                        <a:pt x="736" y="814"/>
                      </a:lnTo>
                      <a:lnTo>
                        <a:pt x="743" y="816"/>
                      </a:lnTo>
                      <a:lnTo>
                        <a:pt x="750" y="819"/>
                      </a:lnTo>
                      <a:lnTo>
                        <a:pt x="756" y="821"/>
                      </a:lnTo>
                      <a:lnTo>
                        <a:pt x="763" y="823"/>
                      </a:lnTo>
                      <a:lnTo>
                        <a:pt x="769" y="825"/>
                      </a:lnTo>
                      <a:lnTo>
                        <a:pt x="776" y="830"/>
                      </a:lnTo>
                      <a:lnTo>
                        <a:pt x="783" y="832"/>
                      </a:lnTo>
                      <a:lnTo>
                        <a:pt x="789" y="834"/>
                      </a:lnTo>
                      <a:lnTo>
                        <a:pt x="796" y="836"/>
                      </a:lnTo>
                      <a:lnTo>
                        <a:pt x="800" y="838"/>
                      </a:lnTo>
                      <a:lnTo>
                        <a:pt x="807" y="841"/>
                      </a:lnTo>
                      <a:lnTo>
                        <a:pt x="813" y="843"/>
                      </a:lnTo>
                      <a:lnTo>
                        <a:pt x="818" y="845"/>
                      </a:lnTo>
                      <a:lnTo>
                        <a:pt x="822" y="847"/>
                      </a:lnTo>
                      <a:lnTo>
                        <a:pt x="827" y="849"/>
                      </a:lnTo>
                      <a:lnTo>
                        <a:pt x="833" y="852"/>
                      </a:lnTo>
                      <a:lnTo>
                        <a:pt x="835" y="854"/>
                      </a:lnTo>
                      <a:lnTo>
                        <a:pt x="840" y="854"/>
                      </a:lnTo>
                      <a:lnTo>
                        <a:pt x="846" y="856"/>
                      </a:lnTo>
                      <a:lnTo>
                        <a:pt x="851" y="858"/>
                      </a:lnTo>
                      <a:lnTo>
                        <a:pt x="855" y="858"/>
                      </a:lnTo>
                      <a:lnTo>
                        <a:pt x="862" y="860"/>
                      </a:lnTo>
                      <a:lnTo>
                        <a:pt x="866" y="863"/>
                      </a:lnTo>
                      <a:lnTo>
                        <a:pt x="873" y="865"/>
                      </a:lnTo>
                      <a:lnTo>
                        <a:pt x="877" y="865"/>
                      </a:lnTo>
                      <a:lnTo>
                        <a:pt x="884" y="867"/>
                      </a:lnTo>
                      <a:lnTo>
                        <a:pt x="888" y="869"/>
                      </a:lnTo>
                      <a:lnTo>
                        <a:pt x="892" y="869"/>
                      </a:lnTo>
                      <a:lnTo>
                        <a:pt x="899" y="871"/>
                      </a:lnTo>
                      <a:lnTo>
                        <a:pt x="903" y="871"/>
                      </a:lnTo>
                      <a:lnTo>
                        <a:pt x="910" y="874"/>
                      </a:lnTo>
                      <a:lnTo>
                        <a:pt x="917" y="876"/>
                      </a:lnTo>
                      <a:lnTo>
                        <a:pt x="921" y="876"/>
                      </a:lnTo>
                      <a:lnTo>
                        <a:pt x="925" y="878"/>
                      </a:lnTo>
                      <a:lnTo>
                        <a:pt x="930" y="878"/>
                      </a:lnTo>
                      <a:lnTo>
                        <a:pt x="934" y="880"/>
                      </a:lnTo>
                      <a:lnTo>
                        <a:pt x="939" y="880"/>
                      </a:lnTo>
                      <a:lnTo>
                        <a:pt x="943" y="882"/>
                      </a:lnTo>
                      <a:lnTo>
                        <a:pt x="947" y="882"/>
                      </a:lnTo>
                      <a:lnTo>
                        <a:pt x="952" y="882"/>
                      </a:lnTo>
                      <a:lnTo>
                        <a:pt x="956" y="885"/>
                      </a:lnTo>
                      <a:lnTo>
                        <a:pt x="963" y="885"/>
                      </a:lnTo>
                      <a:lnTo>
                        <a:pt x="965" y="887"/>
                      </a:lnTo>
                      <a:lnTo>
                        <a:pt x="967" y="887"/>
                      </a:lnTo>
                      <a:lnTo>
                        <a:pt x="1009" y="729"/>
                      </a:lnTo>
                      <a:lnTo>
                        <a:pt x="1009" y="726"/>
                      </a:lnTo>
                      <a:lnTo>
                        <a:pt x="1007" y="726"/>
                      </a:lnTo>
                      <a:lnTo>
                        <a:pt x="1002" y="724"/>
                      </a:lnTo>
                      <a:lnTo>
                        <a:pt x="998" y="724"/>
                      </a:lnTo>
                      <a:lnTo>
                        <a:pt x="994" y="722"/>
                      </a:lnTo>
                      <a:lnTo>
                        <a:pt x="989" y="720"/>
                      </a:lnTo>
                      <a:lnTo>
                        <a:pt x="980" y="718"/>
                      </a:lnTo>
                      <a:lnTo>
                        <a:pt x="974" y="715"/>
                      </a:lnTo>
                      <a:lnTo>
                        <a:pt x="965" y="711"/>
                      </a:lnTo>
                      <a:lnTo>
                        <a:pt x="956" y="709"/>
                      </a:lnTo>
                      <a:lnTo>
                        <a:pt x="952" y="707"/>
                      </a:lnTo>
                      <a:lnTo>
                        <a:pt x="947" y="704"/>
                      </a:lnTo>
                      <a:lnTo>
                        <a:pt x="943" y="702"/>
                      </a:lnTo>
                      <a:lnTo>
                        <a:pt x="939" y="700"/>
                      </a:lnTo>
                      <a:lnTo>
                        <a:pt x="932" y="698"/>
                      </a:lnTo>
                      <a:lnTo>
                        <a:pt x="928" y="696"/>
                      </a:lnTo>
                      <a:lnTo>
                        <a:pt x="921" y="693"/>
                      </a:lnTo>
                      <a:lnTo>
                        <a:pt x="917" y="693"/>
                      </a:lnTo>
                      <a:lnTo>
                        <a:pt x="910" y="689"/>
                      </a:lnTo>
                      <a:lnTo>
                        <a:pt x="906" y="689"/>
                      </a:lnTo>
                      <a:lnTo>
                        <a:pt x="899" y="687"/>
                      </a:lnTo>
                      <a:lnTo>
                        <a:pt x="895" y="685"/>
                      </a:lnTo>
                      <a:lnTo>
                        <a:pt x="888" y="682"/>
                      </a:lnTo>
                      <a:lnTo>
                        <a:pt x="882" y="680"/>
                      </a:lnTo>
                      <a:lnTo>
                        <a:pt x="875" y="678"/>
                      </a:lnTo>
                      <a:lnTo>
                        <a:pt x="871" y="674"/>
                      </a:lnTo>
                      <a:lnTo>
                        <a:pt x="864" y="672"/>
                      </a:lnTo>
                      <a:lnTo>
                        <a:pt x="860" y="669"/>
                      </a:lnTo>
                      <a:lnTo>
                        <a:pt x="851" y="667"/>
                      </a:lnTo>
                      <a:lnTo>
                        <a:pt x="846" y="665"/>
                      </a:lnTo>
                      <a:lnTo>
                        <a:pt x="840" y="663"/>
                      </a:lnTo>
                      <a:lnTo>
                        <a:pt x="835" y="661"/>
                      </a:lnTo>
                      <a:lnTo>
                        <a:pt x="829" y="658"/>
                      </a:lnTo>
                      <a:lnTo>
                        <a:pt x="822" y="656"/>
                      </a:lnTo>
                      <a:lnTo>
                        <a:pt x="816" y="654"/>
                      </a:lnTo>
                      <a:lnTo>
                        <a:pt x="811" y="652"/>
                      </a:lnTo>
                      <a:lnTo>
                        <a:pt x="805" y="650"/>
                      </a:lnTo>
                      <a:lnTo>
                        <a:pt x="800" y="647"/>
                      </a:lnTo>
                      <a:lnTo>
                        <a:pt x="794" y="645"/>
                      </a:lnTo>
                      <a:lnTo>
                        <a:pt x="789" y="643"/>
                      </a:lnTo>
                      <a:lnTo>
                        <a:pt x="783" y="641"/>
                      </a:lnTo>
                      <a:lnTo>
                        <a:pt x="778" y="636"/>
                      </a:lnTo>
                      <a:lnTo>
                        <a:pt x="772" y="634"/>
                      </a:lnTo>
                      <a:lnTo>
                        <a:pt x="767" y="632"/>
                      </a:lnTo>
                      <a:lnTo>
                        <a:pt x="763" y="630"/>
                      </a:lnTo>
                      <a:lnTo>
                        <a:pt x="756" y="628"/>
                      </a:lnTo>
                      <a:lnTo>
                        <a:pt x="752" y="625"/>
                      </a:lnTo>
                      <a:lnTo>
                        <a:pt x="747" y="625"/>
                      </a:lnTo>
                      <a:lnTo>
                        <a:pt x="743" y="623"/>
                      </a:lnTo>
                      <a:lnTo>
                        <a:pt x="739" y="621"/>
                      </a:lnTo>
                      <a:lnTo>
                        <a:pt x="732" y="617"/>
                      </a:lnTo>
                      <a:lnTo>
                        <a:pt x="725" y="614"/>
                      </a:lnTo>
                      <a:lnTo>
                        <a:pt x="717" y="610"/>
                      </a:lnTo>
                      <a:lnTo>
                        <a:pt x="710" y="608"/>
                      </a:lnTo>
                      <a:lnTo>
                        <a:pt x="701" y="603"/>
                      </a:lnTo>
                      <a:lnTo>
                        <a:pt x="695" y="601"/>
                      </a:lnTo>
                      <a:lnTo>
                        <a:pt x="686" y="597"/>
                      </a:lnTo>
                      <a:lnTo>
                        <a:pt x="679" y="595"/>
                      </a:lnTo>
                      <a:lnTo>
                        <a:pt x="673" y="590"/>
                      </a:lnTo>
                      <a:lnTo>
                        <a:pt x="666" y="586"/>
                      </a:lnTo>
                      <a:lnTo>
                        <a:pt x="657" y="584"/>
                      </a:lnTo>
                      <a:lnTo>
                        <a:pt x="651" y="579"/>
                      </a:lnTo>
                      <a:lnTo>
                        <a:pt x="642" y="575"/>
                      </a:lnTo>
                      <a:lnTo>
                        <a:pt x="635" y="573"/>
                      </a:lnTo>
                      <a:lnTo>
                        <a:pt x="627" y="570"/>
                      </a:lnTo>
                      <a:lnTo>
                        <a:pt x="620" y="566"/>
                      </a:lnTo>
                      <a:lnTo>
                        <a:pt x="613" y="564"/>
                      </a:lnTo>
                      <a:lnTo>
                        <a:pt x="609" y="562"/>
                      </a:lnTo>
                      <a:lnTo>
                        <a:pt x="600" y="557"/>
                      </a:lnTo>
                      <a:lnTo>
                        <a:pt x="596" y="555"/>
                      </a:lnTo>
                      <a:lnTo>
                        <a:pt x="589" y="551"/>
                      </a:lnTo>
                      <a:lnTo>
                        <a:pt x="585" y="549"/>
                      </a:lnTo>
                      <a:lnTo>
                        <a:pt x="578" y="544"/>
                      </a:lnTo>
                      <a:lnTo>
                        <a:pt x="574" y="542"/>
                      </a:lnTo>
                      <a:lnTo>
                        <a:pt x="567" y="540"/>
                      </a:lnTo>
                      <a:lnTo>
                        <a:pt x="565" y="538"/>
                      </a:lnTo>
                      <a:lnTo>
                        <a:pt x="556" y="531"/>
                      </a:lnTo>
                      <a:lnTo>
                        <a:pt x="552" y="527"/>
                      </a:lnTo>
                      <a:lnTo>
                        <a:pt x="548" y="522"/>
                      </a:lnTo>
                      <a:lnTo>
                        <a:pt x="548" y="518"/>
                      </a:lnTo>
                      <a:lnTo>
                        <a:pt x="545" y="516"/>
                      </a:lnTo>
                      <a:lnTo>
                        <a:pt x="545" y="516"/>
                      </a:lnTo>
                      <a:lnTo>
                        <a:pt x="545" y="513"/>
                      </a:lnTo>
                      <a:lnTo>
                        <a:pt x="550" y="511"/>
                      </a:lnTo>
                      <a:lnTo>
                        <a:pt x="554" y="509"/>
                      </a:lnTo>
                      <a:lnTo>
                        <a:pt x="559" y="509"/>
                      </a:lnTo>
                      <a:lnTo>
                        <a:pt x="565" y="507"/>
                      </a:lnTo>
                      <a:lnTo>
                        <a:pt x="574" y="505"/>
                      </a:lnTo>
                      <a:lnTo>
                        <a:pt x="578" y="502"/>
                      </a:lnTo>
                      <a:lnTo>
                        <a:pt x="583" y="502"/>
                      </a:lnTo>
                      <a:lnTo>
                        <a:pt x="589" y="502"/>
                      </a:lnTo>
                      <a:lnTo>
                        <a:pt x="596" y="500"/>
                      </a:lnTo>
                      <a:lnTo>
                        <a:pt x="602" y="498"/>
                      </a:lnTo>
                      <a:lnTo>
                        <a:pt x="609" y="498"/>
                      </a:lnTo>
                      <a:lnTo>
                        <a:pt x="613" y="498"/>
                      </a:lnTo>
                      <a:lnTo>
                        <a:pt x="618" y="498"/>
                      </a:lnTo>
                      <a:lnTo>
                        <a:pt x="622" y="498"/>
                      </a:lnTo>
                      <a:lnTo>
                        <a:pt x="627" y="498"/>
                      </a:lnTo>
                      <a:lnTo>
                        <a:pt x="635" y="496"/>
                      </a:lnTo>
                      <a:lnTo>
                        <a:pt x="644" y="494"/>
                      </a:lnTo>
                      <a:lnTo>
                        <a:pt x="653" y="491"/>
                      </a:lnTo>
                      <a:lnTo>
                        <a:pt x="662" y="491"/>
                      </a:lnTo>
                      <a:lnTo>
                        <a:pt x="668" y="489"/>
                      </a:lnTo>
                      <a:lnTo>
                        <a:pt x="677" y="487"/>
                      </a:lnTo>
                      <a:lnTo>
                        <a:pt x="684" y="485"/>
                      </a:lnTo>
                      <a:lnTo>
                        <a:pt x="693" y="485"/>
                      </a:lnTo>
                      <a:lnTo>
                        <a:pt x="699" y="480"/>
                      </a:lnTo>
                      <a:lnTo>
                        <a:pt x="706" y="478"/>
                      </a:lnTo>
                      <a:lnTo>
                        <a:pt x="712" y="476"/>
                      </a:lnTo>
                      <a:lnTo>
                        <a:pt x="719" y="474"/>
                      </a:lnTo>
                      <a:lnTo>
                        <a:pt x="725" y="472"/>
                      </a:lnTo>
                      <a:lnTo>
                        <a:pt x="732" y="469"/>
                      </a:lnTo>
                      <a:lnTo>
                        <a:pt x="736" y="467"/>
                      </a:lnTo>
                      <a:lnTo>
                        <a:pt x="743" y="465"/>
                      </a:lnTo>
                      <a:lnTo>
                        <a:pt x="747" y="463"/>
                      </a:lnTo>
                      <a:lnTo>
                        <a:pt x="752" y="461"/>
                      </a:lnTo>
                      <a:lnTo>
                        <a:pt x="756" y="459"/>
                      </a:lnTo>
                      <a:lnTo>
                        <a:pt x="763" y="456"/>
                      </a:lnTo>
                      <a:lnTo>
                        <a:pt x="769" y="450"/>
                      </a:lnTo>
                      <a:lnTo>
                        <a:pt x="778" y="445"/>
                      </a:lnTo>
                      <a:lnTo>
                        <a:pt x="785" y="441"/>
                      </a:lnTo>
                      <a:lnTo>
                        <a:pt x="789" y="437"/>
                      </a:lnTo>
                      <a:lnTo>
                        <a:pt x="794" y="432"/>
                      </a:lnTo>
                      <a:lnTo>
                        <a:pt x="798" y="428"/>
                      </a:lnTo>
                      <a:lnTo>
                        <a:pt x="802" y="423"/>
                      </a:lnTo>
                      <a:lnTo>
                        <a:pt x="807" y="419"/>
                      </a:lnTo>
                      <a:lnTo>
                        <a:pt x="809" y="412"/>
                      </a:lnTo>
                      <a:lnTo>
                        <a:pt x="813" y="408"/>
                      </a:lnTo>
                      <a:lnTo>
                        <a:pt x="818" y="399"/>
                      </a:lnTo>
                      <a:lnTo>
                        <a:pt x="822" y="393"/>
                      </a:lnTo>
                      <a:lnTo>
                        <a:pt x="827" y="384"/>
                      </a:lnTo>
                      <a:lnTo>
                        <a:pt x="831" y="377"/>
                      </a:lnTo>
                      <a:lnTo>
                        <a:pt x="831" y="373"/>
                      </a:lnTo>
                      <a:lnTo>
                        <a:pt x="835" y="368"/>
                      </a:lnTo>
                      <a:lnTo>
                        <a:pt x="835" y="362"/>
                      </a:lnTo>
                      <a:lnTo>
                        <a:pt x="838" y="357"/>
                      </a:lnTo>
                      <a:lnTo>
                        <a:pt x="838" y="353"/>
                      </a:lnTo>
                      <a:lnTo>
                        <a:pt x="840" y="349"/>
                      </a:lnTo>
                      <a:lnTo>
                        <a:pt x="842" y="344"/>
                      </a:lnTo>
                      <a:lnTo>
                        <a:pt x="844" y="340"/>
                      </a:lnTo>
                      <a:lnTo>
                        <a:pt x="844" y="336"/>
                      </a:lnTo>
                      <a:lnTo>
                        <a:pt x="844" y="329"/>
                      </a:lnTo>
                      <a:lnTo>
                        <a:pt x="846" y="325"/>
                      </a:lnTo>
                      <a:lnTo>
                        <a:pt x="849" y="320"/>
                      </a:lnTo>
                      <a:lnTo>
                        <a:pt x="849" y="316"/>
                      </a:lnTo>
                      <a:lnTo>
                        <a:pt x="849" y="311"/>
                      </a:lnTo>
                      <a:lnTo>
                        <a:pt x="849" y="305"/>
                      </a:lnTo>
                      <a:lnTo>
                        <a:pt x="849" y="303"/>
                      </a:lnTo>
                      <a:lnTo>
                        <a:pt x="849" y="296"/>
                      </a:lnTo>
                      <a:lnTo>
                        <a:pt x="849" y="292"/>
                      </a:lnTo>
                      <a:lnTo>
                        <a:pt x="849" y="285"/>
                      </a:lnTo>
                      <a:lnTo>
                        <a:pt x="849" y="281"/>
                      </a:lnTo>
                      <a:lnTo>
                        <a:pt x="849" y="274"/>
                      </a:lnTo>
                      <a:lnTo>
                        <a:pt x="849" y="270"/>
                      </a:lnTo>
                      <a:lnTo>
                        <a:pt x="849" y="265"/>
                      </a:lnTo>
                      <a:lnTo>
                        <a:pt x="849" y="259"/>
                      </a:lnTo>
                      <a:lnTo>
                        <a:pt x="846" y="254"/>
                      </a:lnTo>
                      <a:lnTo>
                        <a:pt x="846" y="250"/>
                      </a:lnTo>
                      <a:lnTo>
                        <a:pt x="846" y="245"/>
                      </a:lnTo>
                      <a:lnTo>
                        <a:pt x="846" y="239"/>
                      </a:lnTo>
                      <a:lnTo>
                        <a:pt x="844" y="230"/>
                      </a:lnTo>
                      <a:lnTo>
                        <a:pt x="844" y="224"/>
                      </a:lnTo>
                      <a:lnTo>
                        <a:pt x="844" y="215"/>
                      </a:lnTo>
                      <a:lnTo>
                        <a:pt x="844" y="208"/>
                      </a:lnTo>
                      <a:lnTo>
                        <a:pt x="842" y="202"/>
                      </a:lnTo>
                      <a:lnTo>
                        <a:pt x="842" y="197"/>
                      </a:lnTo>
                      <a:lnTo>
                        <a:pt x="842" y="188"/>
                      </a:lnTo>
                      <a:lnTo>
                        <a:pt x="842" y="188"/>
                      </a:lnTo>
                      <a:lnTo>
                        <a:pt x="796" y="197"/>
                      </a:lnTo>
                      <a:lnTo>
                        <a:pt x="796" y="199"/>
                      </a:lnTo>
                      <a:lnTo>
                        <a:pt x="796" y="204"/>
                      </a:lnTo>
                      <a:lnTo>
                        <a:pt x="796" y="208"/>
                      </a:lnTo>
                      <a:lnTo>
                        <a:pt x="796" y="215"/>
                      </a:lnTo>
                      <a:lnTo>
                        <a:pt x="796" y="221"/>
                      </a:lnTo>
                      <a:lnTo>
                        <a:pt x="796" y="226"/>
                      </a:lnTo>
                      <a:lnTo>
                        <a:pt x="796" y="230"/>
                      </a:lnTo>
                      <a:lnTo>
                        <a:pt x="794" y="235"/>
                      </a:lnTo>
                      <a:lnTo>
                        <a:pt x="794" y="239"/>
                      </a:lnTo>
                      <a:lnTo>
                        <a:pt x="791" y="243"/>
                      </a:lnTo>
                      <a:lnTo>
                        <a:pt x="791" y="250"/>
                      </a:lnTo>
                      <a:lnTo>
                        <a:pt x="789" y="254"/>
                      </a:lnTo>
                      <a:lnTo>
                        <a:pt x="789" y="259"/>
                      </a:lnTo>
                      <a:lnTo>
                        <a:pt x="785" y="263"/>
                      </a:lnTo>
                      <a:lnTo>
                        <a:pt x="783" y="270"/>
                      </a:lnTo>
                      <a:lnTo>
                        <a:pt x="780" y="274"/>
                      </a:lnTo>
                      <a:lnTo>
                        <a:pt x="778" y="281"/>
                      </a:lnTo>
                      <a:lnTo>
                        <a:pt x="776" y="285"/>
                      </a:lnTo>
                      <a:lnTo>
                        <a:pt x="772" y="292"/>
                      </a:lnTo>
                      <a:lnTo>
                        <a:pt x="767" y="296"/>
                      </a:lnTo>
                      <a:lnTo>
                        <a:pt x="765" y="303"/>
                      </a:lnTo>
                      <a:lnTo>
                        <a:pt x="761" y="307"/>
                      </a:lnTo>
                      <a:lnTo>
                        <a:pt x="756" y="311"/>
                      </a:lnTo>
                      <a:lnTo>
                        <a:pt x="752" y="318"/>
                      </a:lnTo>
                      <a:lnTo>
                        <a:pt x="745" y="325"/>
                      </a:lnTo>
                      <a:lnTo>
                        <a:pt x="739" y="329"/>
                      </a:lnTo>
                      <a:lnTo>
                        <a:pt x="734" y="333"/>
                      </a:lnTo>
                      <a:lnTo>
                        <a:pt x="730" y="338"/>
                      </a:lnTo>
                      <a:lnTo>
                        <a:pt x="723" y="340"/>
                      </a:lnTo>
                      <a:lnTo>
                        <a:pt x="719" y="344"/>
                      </a:lnTo>
                      <a:lnTo>
                        <a:pt x="712" y="347"/>
                      </a:lnTo>
                      <a:lnTo>
                        <a:pt x="708" y="349"/>
                      </a:lnTo>
                      <a:lnTo>
                        <a:pt x="704" y="353"/>
                      </a:lnTo>
                      <a:lnTo>
                        <a:pt x="699" y="353"/>
                      </a:lnTo>
                      <a:lnTo>
                        <a:pt x="695" y="357"/>
                      </a:lnTo>
                      <a:lnTo>
                        <a:pt x="688" y="357"/>
                      </a:lnTo>
                      <a:lnTo>
                        <a:pt x="684" y="360"/>
                      </a:lnTo>
                      <a:lnTo>
                        <a:pt x="675" y="362"/>
                      </a:lnTo>
                      <a:lnTo>
                        <a:pt x="668" y="364"/>
                      </a:lnTo>
                      <a:lnTo>
                        <a:pt x="660" y="364"/>
                      </a:lnTo>
                      <a:lnTo>
                        <a:pt x="651" y="364"/>
                      </a:lnTo>
                      <a:lnTo>
                        <a:pt x="642" y="362"/>
                      </a:lnTo>
                      <a:lnTo>
                        <a:pt x="635" y="362"/>
                      </a:lnTo>
                      <a:lnTo>
                        <a:pt x="627" y="357"/>
                      </a:lnTo>
                      <a:lnTo>
                        <a:pt x="620" y="357"/>
                      </a:lnTo>
                      <a:lnTo>
                        <a:pt x="611" y="355"/>
                      </a:lnTo>
                      <a:lnTo>
                        <a:pt x="605" y="353"/>
                      </a:lnTo>
                      <a:lnTo>
                        <a:pt x="596" y="351"/>
                      </a:lnTo>
                      <a:lnTo>
                        <a:pt x="589" y="347"/>
                      </a:lnTo>
                      <a:lnTo>
                        <a:pt x="580" y="344"/>
                      </a:lnTo>
                      <a:lnTo>
                        <a:pt x="574" y="340"/>
                      </a:lnTo>
                      <a:lnTo>
                        <a:pt x="565" y="336"/>
                      </a:lnTo>
                      <a:lnTo>
                        <a:pt x="559" y="329"/>
                      </a:lnTo>
                      <a:lnTo>
                        <a:pt x="552" y="325"/>
                      </a:lnTo>
                      <a:lnTo>
                        <a:pt x="545" y="320"/>
                      </a:lnTo>
                      <a:lnTo>
                        <a:pt x="539" y="311"/>
                      </a:lnTo>
                      <a:lnTo>
                        <a:pt x="532" y="305"/>
                      </a:lnTo>
                      <a:lnTo>
                        <a:pt x="528" y="298"/>
                      </a:lnTo>
                      <a:lnTo>
                        <a:pt x="523" y="292"/>
                      </a:lnTo>
                      <a:lnTo>
                        <a:pt x="517" y="281"/>
                      </a:lnTo>
                      <a:lnTo>
                        <a:pt x="515" y="274"/>
                      </a:lnTo>
                      <a:lnTo>
                        <a:pt x="512" y="267"/>
                      </a:lnTo>
                      <a:lnTo>
                        <a:pt x="510" y="263"/>
                      </a:lnTo>
                      <a:lnTo>
                        <a:pt x="508" y="259"/>
                      </a:lnTo>
                      <a:lnTo>
                        <a:pt x="508" y="254"/>
                      </a:lnTo>
                      <a:lnTo>
                        <a:pt x="506" y="250"/>
                      </a:lnTo>
                      <a:lnTo>
                        <a:pt x="506" y="243"/>
                      </a:lnTo>
                      <a:lnTo>
                        <a:pt x="504" y="239"/>
                      </a:lnTo>
                      <a:lnTo>
                        <a:pt x="504" y="232"/>
                      </a:lnTo>
                      <a:lnTo>
                        <a:pt x="501" y="228"/>
                      </a:lnTo>
                      <a:lnTo>
                        <a:pt x="501" y="224"/>
                      </a:lnTo>
                      <a:lnTo>
                        <a:pt x="501" y="217"/>
                      </a:lnTo>
                      <a:lnTo>
                        <a:pt x="501" y="213"/>
                      </a:lnTo>
                      <a:lnTo>
                        <a:pt x="499" y="208"/>
                      </a:lnTo>
                      <a:lnTo>
                        <a:pt x="499" y="204"/>
                      </a:lnTo>
                      <a:lnTo>
                        <a:pt x="499" y="197"/>
                      </a:lnTo>
                      <a:lnTo>
                        <a:pt x="499" y="193"/>
                      </a:lnTo>
                      <a:lnTo>
                        <a:pt x="499" y="184"/>
                      </a:lnTo>
                      <a:lnTo>
                        <a:pt x="501" y="175"/>
                      </a:lnTo>
                      <a:lnTo>
                        <a:pt x="501" y="166"/>
                      </a:lnTo>
                      <a:lnTo>
                        <a:pt x="504" y="158"/>
                      </a:lnTo>
                      <a:lnTo>
                        <a:pt x="506" y="151"/>
                      </a:lnTo>
                      <a:lnTo>
                        <a:pt x="508" y="142"/>
                      </a:lnTo>
                      <a:lnTo>
                        <a:pt x="510" y="136"/>
                      </a:lnTo>
                      <a:lnTo>
                        <a:pt x="515" y="129"/>
                      </a:lnTo>
                      <a:lnTo>
                        <a:pt x="519" y="123"/>
                      </a:lnTo>
                      <a:lnTo>
                        <a:pt x="523" y="118"/>
                      </a:lnTo>
                      <a:lnTo>
                        <a:pt x="528" y="112"/>
                      </a:lnTo>
                      <a:lnTo>
                        <a:pt x="534" y="107"/>
                      </a:lnTo>
                      <a:lnTo>
                        <a:pt x="539" y="103"/>
                      </a:lnTo>
                      <a:lnTo>
                        <a:pt x="548" y="101"/>
                      </a:lnTo>
                      <a:lnTo>
                        <a:pt x="554" y="96"/>
                      </a:lnTo>
                      <a:lnTo>
                        <a:pt x="561" y="94"/>
                      </a:lnTo>
                      <a:lnTo>
                        <a:pt x="569" y="92"/>
                      </a:lnTo>
                      <a:lnTo>
                        <a:pt x="576" y="90"/>
                      </a:lnTo>
                      <a:lnTo>
                        <a:pt x="583" y="87"/>
                      </a:lnTo>
                      <a:lnTo>
                        <a:pt x="589" y="87"/>
                      </a:lnTo>
                      <a:lnTo>
                        <a:pt x="596" y="85"/>
                      </a:lnTo>
                      <a:lnTo>
                        <a:pt x="602" y="85"/>
                      </a:lnTo>
                      <a:lnTo>
                        <a:pt x="609" y="83"/>
                      </a:lnTo>
                      <a:lnTo>
                        <a:pt x="613" y="83"/>
                      </a:lnTo>
                      <a:lnTo>
                        <a:pt x="618" y="83"/>
                      </a:lnTo>
                      <a:lnTo>
                        <a:pt x="622" y="83"/>
                      </a:lnTo>
                      <a:lnTo>
                        <a:pt x="624" y="83"/>
                      </a:lnTo>
                      <a:lnTo>
                        <a:pt x="631" y="83"/>
                      </a:lnTo>
                      <a:lnTo>
                        <a:pt x="633" y="83"/>
                      </a:lnTo>
                      <a:lnTo>
                        <a:pt x="640" y="83"/>
                      </a:lnTo>
                      <a:lnTo>
                        <a:pt x="644" y="83"/>
                      </a:lnTo>
                      <a:lnTo>
                        <a:pt x="651" y="83"/>
                      </a:lnTo>
                      <a:lnTo>
                        <a:pt x="655" y="83"/>
                      </a:lnTo>
                      <a:lnTo>
                        <a:pt x="662" y="83"/>
                      </a:lnTo>
                      <a:lnTo>
                        <a:pt x="668" y="83"/>
                      </a:lnTo>
                      <a:lnTo>
                        <a:pt x="673" y="83"/>
                      </a:lnTo>
                      <a:lnTo>
                        <a:pt x="677" y="83"/>
                      </a:lnTo>
                      <a:lnTo>
                        <a:pt x="682" y="85"/>
                      </a:lnTo>
                      <a:lnTo>
                        <a:pt x="688" y="85"/>
                      </a:lnTo>
                      <a:lnTo>
                        <a:pt x="690" y="87"/>
                      </a:lnTo>
                      <a:lnTo>
                        <a:pt x="699" y="37"/>
                      </a:lnTo>
                      <a:lnTo>
                        <a:pt x="596" y="19"/>
                      </a:lnTo>
                      <a:lnTo>
                        <a:pt x="616" y="0"/>
                      </a:lnTo>
                      <a:lnTo>
                        <a:pt x="6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Group 718"/>
                <p:cNvGrpSpPr/>
                <p:nvPr/>
              </p:nvGrpSpPr>
              <p:grpSpPr>
                <a:xfrm>
                  <a:off x="756720" y="4504320"/>
                  <a:ext cx="1699200" cy="1290960"/>
                  <a:chOff x="756720" y="4504320"/>
                  <a:chExt cx="1699200" cy="1290960"/>
                </a:xfrm>
              </p:grpSpPr>
              <p:sp>
                <p:nvSpPr>
                  <p:cNvPr id="158" name="Freeform 719"/>
                  <p:cNvSpPr/>
                  <p:nvPr/>
                </p:nvSpPr>
                <p:spPr>
                  <a:xfrm>
                    <a:off x="764280" y="5096520"/>
                    <a:ext cx="367920" cy="662400"/>
                  </a:xfrm>
                  <a:custGeom>
                    <a:avLst/>
                    <a:gdLst>
                      <a:gd name="textAreaLeft" fmla="*/ 0 w 367920"/>
                      <a:gd name="textAreaRight" fmla="*/ 368280 w 367920"/>
                      <a:gd name="textAreaTop" fmla="*/ 0 h 662400"/>
                      <a:gd name="textAreaBottom" fmla="*/ 662760 h 662400"/>
                    </a:gdLst>
                    <a:ahLst/>
                    <a:rect l="textAreaLeft" t="textAreaTop" r="textAreaRight" b="textAreaBottom"/>
                    <a:pathLst>
                      <a:path w="517" h="907">
                        <a:moveTo>
                          <a:pt x="36" y="907"/>
                        </a:moveTo>
                        <a:lnTo>
                          <a:pt x="33" y="904"/>
                        </a:lnTo>
                        <a:lnTo>
                          <a:pt x="33" y="902"/>
                        </a:lnTo>
                        <a:lnTo>
                          <a:pt x="33" y="898"/>
                        </a:lnTo>
                        <a:lnTo>
                          <a:pt x="33" y="891"/>
                        </a:lnTo>
                        <a:lnTo>
                          <a:pt x="31" y="882"/>
                        </a:lnTo>
                        <a:lnTo>
                          <a:pt x="29" y="876"/>
                        </a:lnTo>
                        <a:lnTo>
                          <a:pt x="29" y="869"/>
                        </a:lnTo>
                        <a:lnTo>
                          <a:pt x="27" y="865"/>
                        </a:lnTo>
                        <a:lnTo>
                          <a:pt x="27" y="858"/>
                        </a:lnTo>
                        <a:lnTo>
                          <a:pt x="27" y="854"/>
                        </a:lnTo>
                        <a:lnTo>
                          <a:pt x="25" y="847"/>
                        </a:lnTo>
                        <a:lnTo>
                          <a:pt x="25" y="841"/>
                        </a:lnTo>
                        <a:lnTo>
                          <a:pt x="22" y="832"/>
                        </a:lnTo>
                        <a:lnTo>
                          <a:pt x="22" y="825"/>
                        </a:lnTo>
                        <a:lnTo>
                          <a:pt x="20" y="819"/>
                        </a:lnTo>
                        <a:lnTo>
                          <a:pt x="20" y="810"/>
                        </a:lnTo>
                        <a:lnTo>
                          <a:pt x="18" y="803"/>
                        </a:lnTo>
                        <a:lnTo>
                          <a:pt x="18" y="795"/>
                        </a:lnTo>
                        <a:lnTo>
                          <a:pt x="18" y="786"/>
                        </a:lnTo>
                        <a:lnTo>
                          <a:pt x="16" y="779"/>
                        </a:lnTo>
                        <a:lnTo>
                          <a:pt x="16" y="770"/>
                        </a:lnTo>
                        <a:lnTo>
                          <a:pt x="16" y="762"/>
                        </a:lnTo>
                        <a:lnTo>
                          <a:pt x="14" y="753"/>
                        </a:lnTo>
                        <a:lnTo>
                          <a:pt x="14" y="744"/>
                        </a:lnTo>
                        <a:lnTo>
                          <a:pt x="11" y="735"/>
                        </a:lnTo>
                        <a:lnTo>
                          <a:pt x="11" y="726"/>
                        </a:lnTo>
                        <a:lnTo>
                          <a:pt x="9" y="718"/>
                        </a:lnTo>
                        <a:lnTo>
                          <a:pt x="9" y="707"/>
                        </a:lnTo>
                        <a:lnTo>
                          <a:pt x="9" y="698"/>
                        </a:lnTo>
                        <a:lnTo>
                          <a:pt x="7" y="689"/>
                        </a:lnTo>
                        <a:lnTo>
                          <a:pt x="7" y="678"/>
                        </a:lnTo>
                        <a:lnTo>
                          <a:pt x="5" y="669"/>
                        </a:lnTo>
                        <a:lnTo>
                          <a:pt x="5" y="661"/>
                        </a:lnTo>
                        <a:lnTo>
                          <a:pt x="5" y="652"/>
                        </a:lnTo>
                        <a:lnTo>
                          <a:pt x="5" y="641"/>
                        </a:lnTo>
                        <a:lnTo>
                          <a:pt x="3" y="632"/>
                        </a:lnTo>
                        <a:lnTo>
                          <a:pt x="3" y="623"/>
                        </a:lnTo>
                        <a:lnTo>
                          <a:pt x="3" y="614"/>
                        </a:lnTo>
                        <a:lnTo>
                          <a:pt x="0" y="606"/>
                        </a:lnTo>
                        <a:lnTo>
                          <a:pt x="0" y="597"/>
                        </a:lnTo>
                        <a:lnTo>
                          <a:pt x="0" y="586"/>
                        </a:lnTo>
                        <a:lnTo>
                          <a:pt x="0" y="579"/>
                        </a:lnTo>
                        <a:lnTo>
                          <a:pt x="0" y="568"/>
                        </a:lnTo>
                        <a:lnTo>
                          <a:pt x="0" y="562"/>
                        </a:lnTo>
                        <a:lnTo>
                          <a:pt x="0" y="553"/>
                        </a:lnTo>
                        <a:lnTo>
                          <a:pt x="0" y="544"/>
                        </a:lnTo>
                        <a:lnTo>
                          <a:pt x="0" y="535"/>
                        </a:lnTo>
                        <a:lnTo>
                          <a:pt x="0" y="527"/>
                        </a:lnTo>
                        <a:lnTo>
                          <a:pt x="0" y="520"/>
                        </a:lnTo>
                        <a:lnTo>
                          <a:pt x="0" y="513"/>
                        </a:lnTo>
                        <a:lnTo>
                          <a:pt x="0" y="505"/>
                        </a:lnTo>
                        <a:lnTo>
                          <a:pt x="0" y="498"/>
                        </a:lnTo>
                        <a:lnTo>
                          <a:pt x="3" y="491"/>
                        </a:lnTo>
                        <a:lnTo>
                          <a:pt x="3" y="485"/>
                        </a:lnTo>
                        <a:lnTo>
                          <a:pt x="5" y="478"/>
                        </a:lnTo>
                        <a:lnTo>
                          <a:pt x="5" y="472"/>
                        </a:lnTo>
                        <a:lnTo>
                          <a:pt x="7" y="467"/>
                        </a:lnTo>
                        <a:lnTo>
                          <a:pt x="9" y="463"/>
                        </a:lnTo>
                        <a:lnTo>
                          <a:pt x="9" y="456"/>
                        </a:lnTo>
                        <a:lnTo>
                          <a:pt x="9" y="450"/>
                        </a:lnTo>
                        <a:lnTo>
                          <a:pt x="11" y="443"/>
                        </a:lnTo>
                        <a:lnTo>
                          <a:pt x="11" y="439"/>
                        </a:lnTo>
                        <a:lnTo>
                          <a:pt x="14" y="432"/>
                        </a:lnTo>
                        <a:lnTo>
                          <a:pt x="16" y="426"/>
                        </a:lnTo>
                        <a:lnTo>
                          <a:pt x="16" y="417"/>
                        </a:lnTo>
                        <a:lnTo>
                          <a:pt x="18" y="410"/>
                        </a:lnTo>
                        <a:lnTo>
                          <a:pt x="20" y="401"/>
                        </a:lnTo>
                        <a:lnTo>
                          <a:pt x="22" y="395"/>
                        </a:lnTo>
                        <a:lnTo>
                          <a:pt x="22" y="386"/>
                        </a:lnTo>
                        <a:lnTo>
                          <a:pt x="25" y="379"/>
                        </a:lnTo>
                        <a:lnTo>
                          <a:pt x="27" y="371"/>
                        </a:lnTo>
                        <a:lnTo>
                          <a:pt x="29" y="362"/>
                        </a:lnTo>
                        <a:lnTo>
                          <a:pt x="33" y="353"/>
                        </a:lnTo>
                        <a:lnTo>
                          <a:pt x="36" y="344"/>
                        </a:lnTo>
                        <a:lnTo>
                          <a:pt x="36" y="336"/>
                        </a:lnTo>
                        <a:lnTo>
                          <a:pt x="40" y="327"/>
                        </a:lnTo>
                        <a:lnTo>
                          <a:pt x="40" y="318"/>
                        </a:lnTo>
                        <a:lnTo>
                          <a:pt x="42" y="309"/>
                        </a:lnTo>
                        <a:lnTo>
                          <a:pt x="47" y="298"/>
                        </a:lnTo>
                        <a:lnTo>
                          <a:pt x="49" y="292"/>
                        </a:lnTo>
                        <a:lnTo>
                          <a:pt x="51" y="281"/>
                        </a:lnTo>
                        <a:lnTo>
                          <a:pt x="53" y="272"/>
                        </a:lnTo>
                        <a:lnTo>
                          <a:pt x="55" y="263"/>
                        </a:lnTo>
                        <a:lnTo>
                          <a:pt x="58" y="252"/>
                        </a:lnTo>
                        <a:lnTo>
                          <a:pt x="62" y="243"/>
                        </a:lnTo>
                        <a:lnTo>
                          <a:pt x="64" y="235"/>
                        </a:lnTo>
                        <a:lnTo>
                          <a:pt x="66" y="226"/>
                        </a:lnTo>
                        <a:lnTo>
                          <a:pt x="68" y="217"/>
                        </a:lnTo>
                        <a:lnTo>
                          <a:pt x="71" y="208"/>
                        </a:lnTo>
                        <a:lnTo>
                          <a:pt x="73" y="199"/>
                        </a:lnTo>
                        <a:lnTo>
                          <a:pt x="75" y="188"/>
                        </a:lnTo>
                        <a:lnTo>
                          <a:pt x="77" y="180"/>
                        </a:lnTo>
                        <a:lnTo>
                          <a:pt x="79" y="171"/>
                        </a:lnTo>
                        <a:lnTo>
                          <a:pt x="82" y="162"/>
                        </a:lnTo>
                        <a:lnTo>
                          <a:pt x="86" y="153"/>
                        </a:lnTo>
                        <a:lnTo>
                          <a:pt x="88" y="145"/>
                        </a:lnTo>
                        <a:lnTo>
                          <a:pt x="90" y="136"/>
                        </a:lnTo>
                        <a:lnTo>
                          <a:pt x="93" y="129"/>
                        </a:lnTo>
                        <a:lnTo>
                          <a:pt x="95" y="120"/>
                        </a:lnTo>
                        <a:lnTo>
                          <a:pt x="97" y="112"/>
                        </a:lnTo>
                        <a:lnTo>
                          <a:pt x="99" y="105"/>
                        </a:lnTo>
                        <a:lnTo>
                          <a:pt x="101" y="96"/>
                        </a:lnTo>
                        <a:lnTo>
                          <a:pt x="101" y="90"/>
                        </a:lnTo>
                        <a:lnTo>
                          <a:pt x="106" y="81"/>
                        </a:lnTo>
                        <a:lnTo>
                          <a:pt x="108" y="74"/>
                        </a:lnTo>
                        <a:lnTo>
                          <a:pt x="110" y="70"/>
                        </a:lnTo>
                        <a:lnTo>
                          <a:pt x="112" y="61"/>
                        </a:lnTo>
                        <a:lnTo>
                          <a:pt x="112" y="57"/>
                        </a:lnTo>
                        <a:lnTo>
                          <a:pt x="115" y="48"/>
                        </a:lnTo>
                        <a:lnTo>
                          <a:pt x="117" y="43"/>
                        </a:lnTo>
                        <a:lnTo>
                          <a:pt x="119" y="39"/>
                        </a:lnTo>
                        <a:lnTo>
                          <a:pt x="119" y="35"/>
                        </a:lnTo>
                        <a:lnTo>
                          <a:pt x="121" y="28"/>
                        </a:lnTo>
                        <a:lnTo>
                          <a:pt x="123" y="24"/>
                        </a:lnTo>
                        <a:lnTo>
                          <a:pt x="126" y="17"/>
                        </a:lnTo>
                        <a:lnTo>
                          <a:pt x="128" y="11"/>
                        </a:lnTo>
                        <a:lnTo>
                          <a:pt x="130" y="4"/>
                        </a:lnTo>
                        <a:lnTo>
                          <a:pt x="134" y="2"/>
                        </a:lnTo>
                        <a:lnTo>
                          <a:pt x="134" y="0"/>
                        </a:lnTo>
                        <a:lnTo>
                          <a:pt x="141" y="0"/>
                        </a:lnTo>
                        <a:lnTo>
                          <a:pt x="145" y="0"/>
                        </a:lnTo>
                        <a:lnTo>
                          <a:pt x="154" y="0"/>
                        </a:lnTo>
                        <a:lnTo>
                          <a:pt x="159" y="0"/>
                        </a:lnTo>
                        <a:lnTo>
                          <a:pt x="163" y="0"/>
                        </a:lnTo>
                        <a:lnTo>
                          <a:pt x="170" y="2"/>
                        </a:lnTo>
                        <a:lnTo>
                          <a:pt x="174" y="2"/>
                        </a:lnTo>
                        <a:lnTo>
                          <a:pt x="181" y="4"/>
                        </a:lnTo>
                        <a:lnTo>
                          <a:pt x="187" y="6"/>
                        </a:lnTo>
                        <a:lnTo>
                          <a:pt x="194" y="6"/>
                        </a:lnTo>
                        <a:lnTo>
                          <a:pt x="200" y="8"/>
                        </a:lnTo>
                        <a:lnTo>
                          <a:pt x="207" y="11"/>
                        </a:lnTo>
                        <a:lnTo>
                          <a:pt x="214" y="11"/>
                        </a:lnTo>
                        <a:lnTo>
                          <a:pt x="222" y="13"/>
                        </a:lnTo>
                        <a:lnTo>
                          <a:pt x="229" y="15"/>
                        </a:lnTo>
                        <a:lnTo>
                          <a:pt x="238" y="17"/>
                        </a:lnTo>
                        <a:lnTo>
                          <a:pt x="244" y="19"/>
                        </a:lnTo>
                        <a:lnTo>
                          <a:pt x="253" y="22"/>
                        </a:lnTo>
                        <a:lnTo>
                          <a:pt x="262" y="24"/>
                        </a:lnTo>
                        <a:lnTo>
                          <a:pt x="271" y="26"/>
                        </a:lnTo>
                        <a:lnTo>
                          <a:pt x="277" y="28"/>
                        </a:lnTo>
                        <a:lnTo>
                          <a:pt x="286" y="30"/>
                        </a:lnTo>
                        <a:lnTo>
                          <a:pt x="295" y="35"/>
                        </a:lnTo>
                        <a:lnTo>
                          <a:pt x="304" y="37"/>
                        </a:lnTo>
                        <a:lnTo>
                          <a:pt x="312" y="39"/>
                        </a:lnTo>
                        <a:lnTo>
                          <a:pt x="323" y="41"/>
                        </a:lnTo>
                        <a:lnTo>
                          <a:pt x="332" y="46"/>
                        </a:lnTo>
                        <a:lnTo>
                          <a:pt x="341" y="48"/>
                        </a:lnTo>
                        <a:lnTo>
                          <a:pt x="348" y="50"/>
                        </a:lnTo>
                        <a:lnTo>
                          <a:pt x="356" y="52"/>
                        </a:lnTo>
                        <a:lnTo>
                          <a:pt x="365" y="57"/>
                        </a:lnTo>
                        <a:lnTo>
                          <a:pt x="374" y="59"/>
                        </a:lnTo>
                        <a:lnTo>
                          <a:pt x="383" y="61"/>
                        </a:lnTo>
                        <a:lnTo>
                          <a:pt x="389" y="63"/>
                        </a:lnTo>
                        <a:lnTo>
                          <a:pt x="400" y="65"/>
                        </a:lnTo>
                        <a:lnTo>
                          <a:pt x="407" y="68"/>
                        </a:lnTo>
                        <a:lnTo>
                          <a:pt x="413" y="70"/>
                        </a:lnTo>
                        <a:lnTo>
                          <a:pt x="422" y="72"/>
                        </a:lnTo>
                        <a:lnTo>
                          <a:pt x="431" y="76"/>
                        </a:lnTo>
                        <a:lnTo>
                          <a:pt x="438" y="79"/>
                        </a:lnTo>
                        <a:lnTo>
                          <a:pt x="446" y="81"/>
                        </a:lnTo>
                        <a:lnTo>
                          <a:pt x="453" y="83"/>
                        </a:lnTo>
                        <a:lnTo>
                          <a:pt x="460" y="85"/>
                        </a:lnTo>
                        <a:lnTo>
                          <a:pt x="466" y="87"/>
                        </a:lnTo>
                        <a:lnTo>
                          <a:pt x="471" y="90"/>
                        </a:lnTo>
                        <a:lnTo>
                          <a:pt x="477" y="90"/>
                        </a:lnTo>
                        <a:lnTo>
                          <a:pt x="482" y="94"/>
                        </a:lnTo>
                        <a:lnTo>
                          <a:pt x="486" y="94"/>
                        </a:lnTo>
                        <a:lnTo>
                          <a:pt x="493" y="96"/>
                        </a:lnTo>
                        <a:lnTo>
                          <a:pt x="495" y="98"/>
                        </a:lnTo>
                        <a:lnTo>
                          <a:pt x="501" y="101"/>
                        </a:lnTo>
                        <a:lnTo>
                          <a:pt x="508" y="101"/>
                        </a:lnTo>
                        <a:lnTo>
                          <a:pt x="512" y="105"/>
                        </a:lnTo>
                        <a:lnTo>
                          <a:pt x="517" y="105"/>
                        </a:lnTo>
                        <a:lnTo>
                          <a:pt x="517" y="105"/>
                        </a:lnTo>
                        <a:lnTo>
                          <a:pt x="517" y="107"/>
                        </a:lnTo>
                        <a:lnTo>
                          <a:pt x="517" y="109"/>
                        </a:lnTo>
                        <a:lnTo>
                          <a:pt x="515" y="114"/>
                        </a:lnTo>
                        <a:lnTo>
                          <a:pt x="515" y="123"/>
                        </a:lnTo>
                        <a:lnTo>
                          <a:pt x="512" y="125"/>
                        </a:lnTo>
                        <a:lnTo>
                          <a:pt x="512" y="129"/>
                        </a:lnTo>
                        <a:lnTo>
                          <a:pt x="510" y="134"/>
                        </a:lnTo>
                        <a:lnTo>
                          <a:pt x="510" y="140"/>
                        </a:lnTo>
                        <a:lnTo>
                          <a:pt x="508" y="145"/>
                        </a:lnTo>
                        <a:lnTo>
                          <a:pt x="508" y="151"/>
                        </a:lnTo>
                        <a:lnTo>
                          <a:pt x="508" y="158"/>
                        </a:lnTo>
                        <a:lnTo>
                          <a:pt x="508" y="164"/>
                        </a:lnTo>
                        <a:lnTo>
                          <a:pt x="506" y="171"/>
                        </a:lnTo>
                        <a:lnTo>
                          <a:pt x="506" y="180"/>
                        </a:lnTo>
                        <a:lnTo>
                          <a:pt x="504" y="186"/>
                        </a:lnTo>
                        <a:lnTo>
                          <a:pt x="501" y="195"/>
                        </a:lnTo>
                        <a:lnTo>
                          <a:pt x="501" y="202"/>
                        </a:lnTo>
                        <a:lnTo>
                          <a:pt x="499" y="210"/>
                        </a:lnTo>
                        <a:lnTo>
                          <a:pt x="499" y="219"/>
                        </a:lnTo>
                        <a:lnTo>
                          <a:pt x="497" y="228"/>
                        </a:lnTo>
                        <a:lnTo>
                          <a:pt x="495" y="237"/>
                        </a:lnTo>
                        <a:lnTo>
                          <a:pt x="495" y="246"/>
                        </a:lnTo>
                        <a:lnTo>
                          <a:pt x="493" y="254"/>
                        </a:lnTo>
                        <a:lnTo>
                          <a:pt x="493" y="263"/>
                        </a:lnTo>
                        <a:lnTo>
                          <a:pt x="490" y="274"/>
                        </a:lnTo>
                        <a:lnTo>
                          <a:pt x="488" y="283"/>
                        </a:lnTo>
                        <a:lnTo>
                          <a:pt x="488" y="294"/>
                        </a:lnTo>
                        <a:lnTo>
                          <a:pt x="486" y="303"/>
                        </a:lnTo>
                        <a:lnTo>
                          <a:pt x="484" y="311"/>
                        </a:lnTo>
                        <a:lnTo>
                          <a:pt x="484" y="322"/>
                        </a:lnTo>
                        <a:lnTo>
                          <a:pt x="482" y="331"/>
                        </a:lnTo>
                        <a:lnTo>
                          <a:pt x="482" y="340"/>
                        </a:lnTo>
                        <a:lnTo>
                          <a:pt x="477" y="351"/>
                        </a:lnTo>
                        <a:lnTo>
                          <a:pt x="477" y="360"/>
                        </a:lnTo>
                        <a:lnTo>
                          <a:pt x="475" y="371"/>
                        </a:lnTo>
                        <a:lnTo>
                          <a:pt x="475" y="379"/>
                        </a:lnTo>
                        <a:lnTo>
                          <a:pt x="473" y="388"/>
                        </a:lnTo>
                        <a:lnTo>
                          <a:pt x="473" y="399"/>
                        </a:lnTo>
                        <a:lnTo>
                          <a:pt x="471" y="408"/>
                        </a:lnTo>
                        <a:lnTo>
                          <a:pt x="471" y="417"/>
                        </a:lnTo>
                        <a:lnTo>
                          <a:pt x="468" y="426"/>
                        </a:lnTo>
                        <a:lnTo>
                          <a:pt x="466" y="434"/>
                        </a:lnTo>
                        <a:lnTo>
                          <a:pt x="466" y="443"/>
                        </a:lnTo>
                        <a:lnTo>
                          <a:pt x="466" y="452"/>
                        </a:lnTo>
                        <a:lnTo>
                          <a:pt x="464" y="461"/>
                        </a:lnTo>
                        <a:lnTo>
                          <a:pt x="464" y="467"/>
                        </a:lnTo>
                        <a:lnTo>
                          <a:pt x="462" y="474"/>
                        </a:lnTo>
                        <a:lnTo>
                          <a:pt x="460" y="483"/>
                        </a:lnTo>
                        <a:lnTo>
                          <a:pt x="460" y="489"/>
                        </a:lnTo>
                        <a:lnTo>
                          <a:pt x="460" y="498"/>
                        </a:lnTo>
                        <a:lnTo>
                          <a:pt x="457" y="505"/>
                        </a:lnTo>
                        <a:lnTo>
                          <a:pt x="457" y="511"/>
                        </a:lnTo>
                        <a:lnTo>
                          <a:pt x="457" y="516"/>
                        </a:lnTo>
                        <a:lnTo>
                          <a:pt x="457" y="522"/>
                        </a:lnTo>
                        <a:lnTo>
                          <a:pt x="455" y="527"/>
                        </a:lnTo>
                        <a:lnTo>
                          <a:pt x="455" y="533"/>
                        </a:lnTo>
                        <a:lnTo>
                          <a:pt x="455" y="542"/>
                        </a:lnTo>
                        <a:lnTo>
                          <a:pt x="455" y="549"/>
                        </a:lnTo>
                        <a:lnTo>
                          <a:pt x="455" y="553"/>
                        </a:lnTo>
                        <a:lnTo>
                          <a:pt x="455" y="562"/>
                        </a:lnTo>
                        <a:lnTo>
                          <a:pt x="455" y="568"/>
                        </a:lnTo>
                        <a:lnTo>
                          <a:pt x="455" y="577"/>
                        </a:lnTo>
                        <a:lnTo>
                          <a:pt x="455" y="584"/>
                        </a:lnTo>
                        <a:lnTo>
                          <a:pt x="455" y="595"/>
                        </a:lnTo>
                        <a:lnTo>
                          <a:pt x="455" y="599"/>
                        </a:lnTo>
                        <a:lnTo>
                          <a:pt x="455" y="603"/>
                        </a:lnTo>
                        <a:lnTo>
                          <a:pt x="455" y="608"/>
                        </a:lnTo>
                        <a:lnTo>
                          <a:pt x="455" y="614"/>
                        </a:lnTo>
                        <a:lnTo>
                          <a:pt x="455" y="619"/>
                        </a:lnTo>
                        <a:lnTo>
                          <a:pt x="455" y="625"/>
                        </a:lnTo>
                        <a:lnTo>
                          <a:pt x="455" y="630"/>
                        </a:lnTo>
                        <a:lnTo>
                          <a:pt x="455" y="636"/>
                        </a:lnTo>
                        <a:lnTo>
                          <a:pt x="455" y="641"/>
                        </a:lnTo>
                        <a:lnTo>
                          <a:pt x="455" y="647"/>
                        </a:lnTo>
                        <a:lnTo>
                          <a:pt x="455" y="652"/>
                        </a:lnTo>
                        <a:lnTo>
                          <a:pt x="455" y="658"/>
                        </a:lnTo>
                        <a:lnTo>
                          <a:pt x="455" y="663"/>
                        </a:lnTo>
                        <a:lnTo>
                          <a:pt x="455" y="669"/>
                        </a:lnTo>
                        <a:lnTo>
                          <a:pt x="455" y="676"/>
                        </a:lnTo>
                        <a:lnTo>
                          <a:pt x="455" y="680"/>
                        </a:lnTo>
                        <a:lnTo>
                          <a:pt x="455" y="685"/>
                        </a:lnTo>
                        <a:lnTo>
                          <a:pt x="455" y="691"/>
                        </a:lnTo>
                        <a:lnTo>
                          <a:pt x="455" y="698"/>
                        </a:lnTo>
                        <a:lnTo>
                          <a:pt x="457" y="704"/>
                        </a:lnTo>
                        <a:lnTo>
                          <a:pt x="455" y="709"/>
                        </a:lnTo>
                        <a:lnTo>
                          <a:pt x="455" y="715"/>
                        </a:lnTo>
                        <a:lnTo>
                          <a:pt x="455" y="720"/>
                        </a:lnTo>
                        <a:lnTo>
                          <a:pt x="455" y="726"/>
                        </a:lnTo>
                        <a:lnTo>
                          <a:pt x="455" y="731"/>
                        </a:lnTo>
                        <a:lnTo>
                          <a:pt x="455" y="737"/>
                        </a:lnTo>
                        <a:lnTo>
                          <a:pt x="455" y="742"/>
                        </a:lnTo>
                        <a:lnTo>
                          <a:pt x="455" y="748"/>
                        </a:lnTo>
                        <a:lnTo>
                          <a:pt x="455" y="753"/>
                        </a:lnTo>
                        <a:lnTo>
                          <a:pt x="455" y="757"/>
                        </a:lnTo>
                        <a:lnTo>
                          <a:pt x="455" y="762"/>
                        </a:lnTo>
                        <a:lnTo>
                          <a:pt x="455" y="766"/>
                        </a:lnTo>
                        <a:lnTo>
                          <a:pt x="455" y="770"/>
                        </a:lnTo>
                        <a:lnTo>
                          <a:pt x="455" y="777"/>
                        </a:lnTo>
                        <a:lnTo>
                          <a:pt x="455" y="781"/>
                        </a:lnTo>
                        <a:lnTo>
                          <a:pt x="455" y="786"/>
                        </a:lnTo>
                        <a:lnTo>
                          <a:pt x="455" y="795"/>
                        </a:lnTo>
                        <a:lnTo>
                          <a:pt x="453" y="801"/>
                        </a:lnTo>
                        <a:lnTo>
                          <a:pt x="453" y="808"/>
                        </a:lnTo>
                        <a:lnTo>
                          <a:pt x="453" y="816"/>
                        </a:lnTo>
                        <a:lnTo>
                          <a:pt x="451" y="821"/>
                        </a:lnTo>
                        <a:lnTo>
                          <a:pt x="451" y="825"/>
                        </a:lnTo>
                        <a:lnTo>
                          <a:pt x="449" y="830"/>
                        </a:lnTo>
                        <a:lnTo>
                          <a:pt x="449" y="834"/>
                        </a:lnTo>
                        <a:lnTo>
                          <a:pt x="446" y="834"/>
                        </a:lnTo>
                        <a:lnTo>
                          <a:pt x="442" y="836"/>
                        </a:lnTo>
                        <a:lnTo>
                          <a:pt x="433" y="841"/>
                        </a:lnTo>
                        <a:lnTo>
                          <a:pt x="427" y="843"/>
                        </a:lnTo>
                        <a:lnTo>
                          <a:pt x="420" y="843"/>
                        </a:lnTo>
                        <a:lnTo>
                          <a:pt x="416" y="845"/>
                        </a:lnTo>
                        <a:lnTo>
                          <a:pt x="409" y="845"/>
                        </a:lnTo>
                        <a:lnTo>
                          <a:pt x="405" y="847"/>
                        </a:lnTo>
                        <a:lnTo>
                          <a:pt x="398" y="849"/>
                        </a:lnTo>
                        <a:lnTo>
                          <a:pt x="391" y="852"/>
                        </a:lnTo>
                        <a:lnTo>
                          <a:pt x="385" y="852"/>
                        </a:lnTo>
                        <a:lnTo>
                          <a:pt x="378" y="854"/>
                        </a:lnTo>
                        <a:lnTo>
                          <a:pt x="370" y="854"/>
                        </a:lnTo>
                        <a:lnTo>
                          <a:pt x="363" y="856"/>
                        </a:lnTo>
                        <a:lnTo>
                          <a:pt x="354" y="858"/>
                        </a:lnTo>
                        <a:lnTo>
                          <a:pt x="345" y="860"/>
                        </a:lnTo>
                        <a:lnTo>
                          <a:pt x="337" y="860"/>
                        </a:lnTo>
                        <a:lnTo>
                          <a:pt x="328" y="863"/>
                        </a:lnTo>
                        <a:lnTo>
                          <a:pt x="319" y="865"/>
                        </a:lnTo>
                        <a:lnTo>
                          <a:pt x="310" y="865"/>
                        </a:lnTo>
                        <a:lnTo>
                          <a:pt x="301" y="867"/>
                        </a:lnTo>
                        <a:lnTo>
                          <a:pt x="293" y="869"/>
                        </a:lnTo>
                        <a:lnTo>
                          <a:pt x="282" y="869"/>
                        </a:lnTo>
                        <a:lnTo>
                          <a:pt x="273" y="871"/>
                        </a:lnTo>
                        <a:lnTo>
                          <a:pt x="264" y="871"/>
                        </a:lnTo>
                        <a:lnTo>
                          <a:pt x="255" y="876"/>
                        </a:lnTo>
                        <a:lnTo>
                          <a:pt x="246" y="876"/>
                        </a:lnTo>
                        <a:lnTo>
                          <a:pt x="235" y="878"/>
                        </a:lnTo>
                        <a:lnTo>
                          <a:pt x="227" y="880"/>
                        </a:lnTo>
                        <a:lnTo>
                          <a:pt x="216" y="880"/>
                        </a:lnTo>
                        <a:lnTo>
                          <a:pt x="207" y="882"/>
                        </a:lnTo>
                        <a:lnTo>
                          <a:pt x="198" y="882"/>
                        </a:lnTo>
                        <a:lnTo>
                          <a:pt x="187" y="885"/>
                        </a:lnTo>
                        <a:lnTo>
                          <a:pt x="178" y="887"/>
                        </a:lnTo>
                        <a:lnTo>
                          <a:pt x="170" y="887"/>
                        </a:lnTo>
                        <a:lnTo>
                          <a:pt x="161" y="889"/>
                        </a:lnTo>
                        <a:lnTo>
                          <a:pt x="152" y="889"/>
                        </a:lnTo>
                        <a:lnTo>
                          <a:pt x="143" y="891"/>
                        </a:lnTo>
                        <a:lnTo>
                          <a:pt x="134" y="891"/>
                        </a:lnTo>
                        <a:lnTo>
                          <a:pt x="128" y="893"/>
                        </a:lnTo>
                        <a:lnTo>
                          <a:pt x="119" y="893"/>
                        </a:lnTo>
                        <a:lnTo>
                          <a:pt x="110" y="896"/>
                        </a:lnTo>
                        <a:lnTo>
                          <a:pt x="104" y="898"/>
                        </a:lnTo>
                        <a:lnTo>
                          <a:pt x="97" y="898"/>
                        </a:lnTo>
                        <a:lnTo>
                          <a:pt x="88" y="898"/>
                        </a:lnTo>
                        <a:lnTo>
                          <a:pt x="82" y="900"/>
                        </a:lnTo>
                        <a:lnTo>
                          <a:pt x="75" y="900"/>
                        </a:lnTo>
                        <a:lnTo>
                          <a:pt x="71" y="900"/>
                        </a:lnTo>
                        <a:lnTo>
                          <a:pt x="64" y="902"/>
                        </a:lnTo>
                        <a:lnTo>
                          <a:pt x="60" y="902"/>
                        </a:lnTo>
                        <a:lnTo>
                          <a:pt x="55" y="904"/>
                        </a:lnTo>
                        <a:lnTo>
                          <a:pt x="51" y="904"/>
                        </a:lnTo>
                        <a:lnTo>
                          <a:pt x="44" y="904"/>
                        </a:lnTo>
                        <a:lnTo>
                          <a:pt x="40" y="907"/>
                        </a:lnTo>
                        <a:lnTo>
                          <a:pt x="36" y="907"/>
                        </a:lnTo>
                        <a:lnTo>
                          <a:pt x="36" y="907"/>
                        </a:lnTo>
                        <a:lnTo>
                          <a:pt x="36" y="907"/>
                        </a:lnTo>
                        <a:close/>
                      </a:path>
                    </a:pathLst>
                  </a:custGeom>
                  <a:solidFill>
                    <a:srgbClr val="b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720"/>
                  <p:cNvSpPr/>
                  <p:nvPr/>
                </p:nvSpPr>
                <p:spPr>
                  <a:xfrm>
                    <a:off x="1420200" y="4728960"/>
                    <a:ext cx="753840" cy="662400"/>
                  </a:xfrm>
                  <a:custGeom>
                    <a:avLst/>
                    <a:gdLst>
                      <a:gd name="textAreaLeft" fmla="*/ 0 w 753840"/>
                      <a:gd name="textAreaRight" fmla="*/ 754200 w 753840"/>
                      <a:gd name="textAreaTop" fmla="*/ 0 h 662400"/>
                      <a:gd name="textAreaBottom" fmla="*/ 662760 h 662400"/>
                    </a:gdLst>
                    <a:ahLst/>
                    <a:rect l="textAreaLeft" t="textAreaTop" r="textAreaRight" b="textAreaBottom"/>
                    <a:pathLst>
                      <a:path w="1059" h="907">
                        <a:moveTo>
                          <a:pt x="958" y="26"/>
                        </a:moveTo>
                        <a:lnTo>
                          <a:pt x="954" y="26"/>
                        </a:lnTo>
                        <a:lnTo>
                          <a:pt x="947" y="30"/>
                        </a:lnTo>
                        <a:lnTo>
                          <a:pt x="940" y="30"/>
                        </a:lnTo>
                        <a:lnTo>
                          <a:pt x="936" y="35"/>
                        </a:lnTo>
                        <a:lnTo>
                          <a:pt x="932" y="37"/>
                        </a:lnTo>
                        <a:lnTo>
                          <a:pt x="927" y="39"/>
                        </a:lnTo>
                        <a:lnTo>
                          <a:pt x="921" y="41"/>
                        </a:lnTo>
                        <a:lnTo>
                          <a:pt x="916" y="44"/>
                        </a:lnTo>
                        <a:lnTo>
                          <a:pt x="910" y="46"/>
                        </a:lnTo>
                        <a:lnTo>
                          <a:pt x="903" y="48"/>
                        </a:lnTo>
                        <a:lnTo>
                          <a:pt x="896" y="52"/>
                        </a:lnTo>
                        <a:lnTo>
                          <a:pt x="890" y="55"/>
                        </a:lnTo>
                        <a:lnTo>
                          <a:pt x="883" y="59"/>
                        </a:lnTo>
                        <a:lnTo>
                          <a:pt x="877" y="61"/>
                        </a:lnTo>
                        <a:lnTo>
                          <a:pt x="870" y="63"/>
                        </a:lnTo>
                        <a:lnTo>
                          <a:pt x="864" y="66"/>
                        </a:lnTo>
                        <a:lnTo>
                          <a:pt x="857" y="70"/>
                        </a:lnTo>
                        <a:lnTo>
                          <a:pt x="850" y="72"/>
                        </a:lnTo>
                        <a:lnTo>
                          <a:pt x="844" y="74"/>
                        </a:lnTo>
                        <a:lnTo>
                          <a:pt x="839" y="77"/>
                        </a:lnTo>
                        <a:lnTo>
                          <a:pt x="833" y="79"/>
                        </a:lnTo>
                        <a:lnTo>
                          <a:pt x="828" y="83"/>
                        </a:lnTo>
                        <a:lnTo>
                          <a:pt x="824" y="85"/>
                        </a:lnTo>
                        <a:lnTo>
                          <a:pt x="820" y="88"/>
                        </a:lnTo>
                        <a:lnTo>
                          <a:pt x="815" y="88"/>
                        </a:lnTo>
                        <a:lnTo>
                          <a:pt x="813" y="90"/>
                        </a:lnTo>
                        <a:lnTo>
                          <a:pt x="809" y="92"/>
                        </a:lnTo>
                        <a:lnTo>
                          <a:pt x="806" y="94"/>
                        </a:lnTo>
                        <a:lnTo>
                          <a:pt x="804" y="92"/>
                        </a:lnTo>
                        <a:lnTo>
                          <a:pt x="800" y="90"/>
                        </a:lnTo>
                        <a:lnTo>
                          <a:pt x="795" y="88"/>
                        </a:lnTo>
                        <a:lnTo>
                          <a:pt x="793" y="85"/>
                        </a:lnTo>
                        <a:lnTo>
                          <a:pt x="789" y="83"/>
                        </a:lnTo>
                        <a:lnTo>
                          <a:pt x="784" y="81"/>
                        </a:lnTo>
                        <a:lnTo>
                          <a:pt x="778" y="79"/>
                        </a:lnTo>
                        <a:lnTo>
                          <a:pt x="771" y="74"/>
                        </a:lnTo>
                        <a:lnTo>
                          <a:pt x="765" y="72"/>
                        </a:lnTo>
                        <a:lnTo>
                          <a:pt x="760" y="70"/>
                        </a:lnTo>
                        <a:lnTo>
                          <a:pt x="751" y="66"/>
                        </a:lnTo>
                        <a:lnTo>
                          <a:pt x="745" y="61"/>
                        </a:lnTo>
                        <a:lnTo>
                          <a:pt x="736" y="59"/>
                        </a:lnTo>
                        <a:lnTo>
                          <a:pt x="729" y="55"/>
                        </a:lnTo>
                        <a:lnTo>
                          <a:pt x="721" y="50"/>
                        </a:lnTo>
                        <a:lnTo>
                          <a:pt x="712" y="46"/>
                        </a:lnTo>
                        <a:lnTo>
                          <a:pt x="703" y="41"/>
                        </a:lnTo>
                        <a:lnTo>
                          <a:pt x="694" y="39"/>
                        </a:lnTo>
                        <a:lnTo>
                          <a:pt x="686" y="35"/>
                        </a:lnTo>
                        <a:lnTo>
                          <a:pt x="677" y="30"/>
                        </a:lnTo>
                        <a:lnTo>
                          <a:pt x="668" y="28"/>
                        </a:lnTo>
                        <a:lnTo>
                          <a:pt x="659" y="26"/>
                        </a:lnTo>
                        <a:lnTo>
                          <a:pt x="655" y="24"/>
                        </a:lnTo>
                        <a:lnTo>
                          <a:pt x="650" y="22"/>
                        </a:lnTo>
                        <a:lnTo>
                          <a:pt x="646" y="19"/>
                        </a:lnTo>
                        <a:lnTo>
                          <a:pt x="642" y="19"/>
                        </a:lnTo>
                        <a:lnTo>
                          <a:pt x="633" y="17"/>
                        </a:lnTo>
                        <a:lnTo>
                          <a:pt x="624" y="15"/>
                        </a:lnTo>
                        <a:lnTo>
                          <a:pt x="615" y="13"/>
                        </a:lnTo>
                        <a:lnTo>
                          <a:pt x="606" y="11"/>
                        </a:lnTo>
                        <a:lnTo>
                          <a:pt x="600" y="8"/>
                        </a:lnTo>
                        <a:lnTo>
                          <a:pt x="591" y="8"/>
                        </a:lnTo>
                        <a:lnTo>
                          <a:pt x="582" y="6"/>
                        </a:lnTo>
                        <a:lnTo>
                          <a:pt x="576" y="6"/>
                        </a:lnTo>
                        <a:lnTo>
                          <a:pt x="567" y="4"/>
                        </a:lnTo>
                        <a:lnTo>
                          <a:pt x="560" y="4"/>
                        </a:lnTo>
                        <a:lnTo>
                          <a:pt x="552" y="2"/>
                        </a:lnTo>
                        <a:lnTo>
                          <a:pt x="543" y="2"/>
                        </a:lnTo>
                        <a:lnTo>
                          <a:pt x="534" y="2"/>
                        </a:lnTo>
                        <a:lnTo>
                          <a:pt x="527" y="2"/>
                        </a:lnTo>
                        <a:lnTo>
                          <a:pt x="516" y="2"/>
                        </a:lnTo>
                        <a:lnTo>
                          <a:pt x="510" y="0"/>
                        </a:lnTo>
                        <a:lnTo>
                          <a:pt x="499" y="0"/>
                        </a:lnTo>
                        <a:lnTo>
                          <a:pt x="492" y="0"/>
                        </a:lnTo>
                        <a:lnTo>
                          <a:pt x="483" y="0"/>
                        </a:lnTo>
                        <a:lnTo>
                          <a:pt x="475" y="0"/>
                        </a:lnTo>
                        <a:lnTo>
                          <a:pt x="468" y="0"/>
                        </a:lnTo>
                        <a:lnTo>
                          <a:pt x="459" y="0"/>
                        </a:lnTo>
                        <a:lnTo>
                          <a:pt x="450" y="0"/>
                        </a:lnTo>
                        <a:lnTo>
                          <a:pt x="442" y="0"/>
                        </a:lnTo>
                        <a:lnTo>
                          <a:pt x="435" y="0"/>
                        </a:lnTo>
                        <a:lnTo>
                          <a:pt x="428" y="0"/>
                        </a:lnTo>
                        <a:lnTo>
                          <a:pt x="422" y="0"/>
                        </a:lnTo>
                        <a:lnTo>
                          <a:pt x="415" y="0"/>
                        </a:lnTo>
                        <a:lnTo>
                          <a:pt x="406" y="0"/>
                        </a:lnTo>
                        <a:lnTo>
                          <a:pt x="402" y="2"/>
                        </a:lnTo>
                        <a:lnTo>
                          <a:pt x="398" y="2"/>
                        </a:lnTo>
                        <a:lnTo>
                          <a:pt x="391" y="2"/>
                        </a:lnTo>
                        <a:lnTo>
                          <a:pt x="387" y="2"/>
                        </a:lnTo>
                        <a:lnTo>
                          <a:pt x="382" y="2"/>
                        </a:lnTo>
                        <a:lnTo>
                          <a:pt x="376" y="4"/>
                        </a:lnTo>
                        <a:lnTo>
                          <a:pt x="369" y="6"/>
                        </a:lnTo>
                        <a:lnTo>
                          <a:pt x="367" y="6"/>
                        </a:lnTo>
                        <a:lnTo>
                          <a:pt x="363" y="6"/>
                        </a:lnTo>
                        <a:lnTo>
                          <a:pt x="358" y="6"/>
                        </a:lnTo>
                        <a:lnTo>
                          <a:pt x="352" y="6"/>
                        </a:lnTo>
                        <a:lnTo>
                          <a:pt x="345" y="6"/>
                        </a:lnTo>
                        <a:lnTo>
                          <a:pt x="341" y="6"/>
                        </a:lnTo>
                        <a:lnTo>
                          <a:pt x="332" y="6"/>
                        </a:lnTo>
                        <a:lnTo>
                          <a:pt x="325" y="6"/>
                        </a:lnTo>
                        <a:lnTo>
                          <a:pt x="316" y="6"/>
                        </a:lnTo>
                        <a:lnTo>
                          <a:pt x="308" y="6"/>
                        </a:lnTo>
                        <a:lnTo>
                          <a:pt x="303" y="6"/>
                        </a:lnTo>
                        <a:lnTo>
                          <a:pt x="299" y="6"/>
                        </a:lnTo>
                        <a:lnTo>
                          <a:pt x="292" y="6"/>
                        </a:lnTo>
                        <a:lnTo>
                          <a:pt x="288" y="6"/>
                        </a:lnTo>
                        <a:lnTo>
                          <a:pt x="283" y="6"/>
                        </a:lnTo>
                        <a:lnTo>
                          <a:pt x="279" y="6"/>
                        </a:lnTo>
                        <a:lnTo>
                          <a:pt x="275" y="6"/>
                        </a:lnTo>
                        <a:lnTo>
                          <a:pt x="270" y="6"/>
                        </a:lnTo>
                        <a:lnTo>
                          <a:pt x="264" y="6"/>
                        </a:lnTo>
                        <a:lnTo>
                          <a:pt x="259" y="6"/>
                        </a:lnTo>
                        <a:lnTo>
                          <a:pt x="255" y="6"/>
                        </a:lnTo>
                        <a:lnTo>
                          <a:pt x="250" y="8"/>
                        </a:lnTo>
                        <a:lnTo>
                          <a:pt x="246" y="8"/>
                        </a:lnTo>
                        <a:lnTo>
                          <a:pt x="239" y="8"/>
                        </a:lnTo>
                        <a:lnTo>
                          <a:pt x="235" y="8"/>
                        </a:lnTo>
                        <a:lnTo>
                          <a:pt x="231" y="8"/>
                        </a:lnTo>
                        <a:lnTo>
                          <a:pt x="222" y="8"/>
                        </a:lnTo>
                        <a:lnTo>
                          <a:pt x="213" y="8"/>
                        </a:lnTo>
                        <a:lnTo>
                          <a:pt x="204" y="8"/>
                        </a:lnTo>
                        <a:lnTo>
                          <a:pt x="196" y="8"/>
                        </a:lnTo>
                        <a:lnTo>
                          <a:pt x="187" y="8"/>
                        </a:lnTo>
                        <a:lnTo>
                          <a:pt x="180" y="8"/>
                        </a:lnTo>
                        <a:lnTo>
                          <a:pt x="174" y="8"/>
                        </a:lnTo>
                        <a:lnTo>
                          <a:pt x="169" y="8"/>
                        </a:lnTo>
                        <a:lnTo>
                          <a:pt x="163" y="8"/>
                        </a:lnTo>
                        <a:lnTo>
                          <a:pt x="158" y="8"/>
                        </a:lnTo>
                        <a:lnTo>
                          <a:pt x="152" y="8"/>
                        </a:lnTo>
                        <a:lnTo>
                          <a:pt x="152" y="8"/>
                        </a:lnTo>
                        <a:lnTo>
                          <a:pt x="169" y="96"/>
                        </a:lnTo>
                        <a:lnTo>
                          <a:pt x="169" y="96"/>
                        </a:lnTo>
                        <a:lnTo>
                          <a:pt x="174" y="96"/>
                        </a:lnTo>
                        <a:lnTo>
                          <a:pt x="178" y="96"/>
                        </a:lnTo>
                        <a:lnTo>
                          <a:pt x="182" y="96"/>
                        </a:lnTo>
                        <a:lnTo>
                          <a:pt x="187" y="99"/>
                        </a:lnTo>
                        <a:lnTo>
                          <a:pt x="193" y="99"/>
                        </a:lnTo>
                        <a:lnTo>
                          <a:pt x="198" y="99"/>
                        </a:lnTo>
                        <a:lnTo>
                          <a:pt x="204" y="99"/>
                        </a:lnTo>
                        <a:lnTo>
                          <a:pt x="211" y="99"/>
                        </a:lnTo>
                        <a:lnTo>
                          <a:pt x="220" y="101"/>
                        </a:lnTo>
                        <a:lnTo>
                          <a:pt x="226" y="101"/>
                        </a:lnTo>
                        <a:lnTo>
                          <a:pt x="235" y="101"/>
                        </a:lnTo>
                        <a:lnTo>
                          <a:pt x="244" y="101"/>
                        </a:lnTo>
                        <a:lnTo>
                          <a:pt x="250" y="103"/>
                        </a:lnTo>
                        <a:lnTo>
                          <a:pt x="259" y="103"/>
                        </a:lnTo>
                        <a:lnTo>
                          <a:pt x="268" y="105"/>
                        </a:lnTo>
                        <a:lnTo>
                          <a:pt x="275" y="105"/>
                        </a:lnTo>
                        <a:lnTo>
                          <a:pt x="283" y="107"/>
                        </a:lnTo>
                        <a:lnTo>
                          <a:pt x="292" y="107"/>
                        </a:lnTo>
                        <a:lnTo>
                          <a:pt x="301" y="107"/>
                        </a:lnTo>
                        <a:lnTo>
                          <a:pt x="308" y="109"/>
                        </a:lnTo>
                        <a:lnTo>
                          <a:pt x="316" y="112"/>
                        </a:lnTo>
                        <a:lnTo>
                          <a:pt x="323" y="112"/>
                        </a:lnTo>
                        <a:lnTo>
                          <a:pt x="330" y="112"/>
                        </a:lnTo>
                        <a:lnTo>
                          <a:pt x="336" y="112"/>
                        </a:lnTo>
                        <a:lnTo>
                          <a:pt x="343" y="114"/>
                        </a:lnTo>
                        <a:lnTo>
                          <a:pt x="349" y="116"/>
                        </a:lnTo>
                        <a:lnTo>
                          <a:pt x="354" y="116"/>
                        </a:lnTo>
                        <a:lnTo>
                          <a:pt x="358" y="116"/>
                        </a:lnTo>
                        <a:lnTo>
                          <a:pt x="363" y="118"/>
                        </a:lnTo>
                        <a:lnTo>
                          <a:pt x="369" y="118"/>
                        </a:lnTo>
                        <a:lnTo>
                          <a:pt x="378" y="123"/>
                        </a:lnTo>
                        <a:lnTo>
                          <a:pt x="387" y="125"/>
                        </a:lnTo>
                        <a:lnTo>
                          <a:pt x="396" y="129"/>
                        </a:lnTo>
                        <a:lnTo>
                          <a:pt x="402" y="131"/>
                        </a:lnTo>
                        <a:lnTo>
                          <a:pt x="411" y="136"/>
                        </a:lnTo>
                        <a:lnTo>
                          <a:pt x="417" y="140"/>
                        </a:lnTo>
                        <a:lnTo>
                          <a:pt x="426" y="147"/>
                        </a:lnTo>
                        <a:lnTo>
                          <a:pt x="433" y="151"/>
                        </a:lnTo>
                        <a:lnTo>
                          <a:pt x="439" y="156"/>
                        </a:lnTo>
                        <a:lnTo>
                          <a:pt x="444" y="162"/>
                        </a:lnTo>
                        <a:lnTo>
                          <a:pt x="448" y="169"/>
                        </a:lnTo>
                        <a:lnTo>
                          <a:pt x="450" y="175"/>
                        </a:lnTo>
                        <a:lnTo>
                          <a:pt x="450" y="184"/>
                        </a:lnTo>
                        <a:lnTo>
                          <a:pt x="450" y="191"/>
                        </a:lnTo>
                        <a:lnTo>
                          <a:pt x="450" y="200"/>
                        </a:lnTo>
                        <a:lnTo>
                          <a:pt x="446" y="206"/>
                        </a:lnTo>
                        <a:lnTo>
                          <a:pt x="439" y="215"/>
                        </a:lnTo>
                        <a:lnTo>
                          <a:pt x="435" y="221"/>
                        </a:lnTo>
                        <a:lnTo>
                          <a:pt x="428" y="228"/>
                        </a:lnTo>
                        <a:lnTo>
                          <a:pt x="422" y="235"/>
                        </a:lnTo>
                        <a:lnTo>
                          <a:pt x="413" y="241"/>
                        </a:lnTo>
                        <a:lnTo>
                          <a:pt x="404" y="246"/>
                        </a:lnTo>
                        <a:lnTo>
                          <a:pt x="398" y="252"/>
                        </a:lnTo>
                        <a:lnTo>
                          <a:pt x="389" y="254"/>
                        </a:lnTo>
                        <a:lnTo>
                          <a:pt x="382" y="259"/>
                        </a:lnTo>
                        <a:lnTo>
                          <a:pt x="374" y="263"/>
                        </a:lnTo>
                        <a:lnTo>
                          <a:pt x="369" y="265"/>
                        </a:lnTo>
                        <a:lnTo>
                          <a:pt x="363" y="268"/>
                        </a:lnTo>
                        <a:lnTo>
                          <a:pt x="360" y="270"/>
                        </a:lnTo>
                        <a:lnTo>
                          <a:pt x="358" y="270"/>
                        </a:lnTo>
                        <a:lnTo>
                          <a:pt x="358" y="272"/>
                        </a:lnTo>
                        <a:lnTo>
                          <a:pt x="356" y="272"/>
                        </a:lnTo>
                        <a:lnTo>
                          <a:pt x="352" y="274"/>
                        </a:lnTo>
                        <a:lnTo>
                          <a:pt x="347" y="274"/>
                        </a:lnTo>
                        <a:lnTo>
                          <a:pt x="341" y="279"/>
                        </a:lnTo>
                        <a:lnTo>
                          <a:pt x="334" y="281"/>
                        </a:lnTo>
                        <a:lnTo>
                          <a:pt x="330" y="283"/>
                        </a:lnTo>
                        <a:lnTo>
                          <a:pt x="325" y="285"/>
                        </a:lnTo>
                        <a:lnTo>
                          <a:pt x="321" y="287"/>
                        </a:lnTo>
                        <a:lnTo>
                          <a:pt x="314" y="290"/>
                        </a:lnTo>
                        <a:lnTo>
                          <a:pt x="310" y="294"/>
                        </a:lnTo>
                        <a:lnTo>
                          <a:pt x="305" y="296"/>
                        </a:lnTo>
                        <a:lnTo>
                          <a:pt x="299" y="298"/>
                        </a:lnTo>
                        <a:lnTo>
                          <a:pt x="292" y="301"/>
                        </a:lnTo>
                        <a:lnTo>
                          <a:pt x="288" y="305"/>
                        </a:lnTo>
                        <a:lnTo>
                          <a:pt x="281" y="307"/>
                        </a:lnTo>
                        <a:lnTo>
                          <a:pt x="275" y="309"/>
                        </a:lnTo>
                        <a:lnTo>
                          <a:pt x="270" y="312"/>
                        </a:lnTo>
                        <a:lnTo>
                          <a:pt x="264" y="316"/>
                        </a:lnTo>
                        <a:lnTo>
                          <a:pt x="259" y="318"/>
                        </a:lnTo>
                        <a:lnTo>
                          <a:pt x="253" y="323"/>
                        </a:lnTo>
                        <a:lnTo>
                          <a:pt x="248" y="325"/>
                        </a:lnTo>
                        <a:lnTo>
                          <a:pt x="244" y="327"/>
                        </a:lnTo>
                        <a:lnTo>
                          <a:pt x="237" y="329"/>
                        </a:lnTo>
                        <a:lnTo>
                          <a:pt x="235" y="331"/>
                        </a:lnTo>
                        <a:lnTo>
                          <a:pt x="226" y="336"/>
                        </a:lnTo>
                        <a:lnTo>
                          <a:pt x="222" y="340"/>
                        </a:lnTo>
                        <a:lnTo>
                          <a:pt x="218" y="340"/>
                        </a:lnTo>
                        <a:lnTo>
                          <a:pt x="213" y="342"/>
                        </a:lnTo>
                        <a:lnTo>
                          <a:pt x="209" y="344"/>
                        </a:lnTo>
                        <a:lnTo>
                          <a:pt x="202" y="349"/>
                        </a:lnTo>
                        <a:lnTo>
                          <a:pt x="196" y="351"/>
                        </a:lnTo>
                        <a:lnTo>
                          <a:pt x="189" y="355"/>
                        </a:lnTo>
                        <a:lnTo>
                          <a:pt x="182" y="358"/>
                        </a:lnTo>
                        <a:lnTo>
                          <a:pt x="174" y="364"/>
                        </a:lnTo>
                        <a:lnTo>
                          <a:pt x="165" y="369"/>
                        </a:lnTo>
                        <a:lnTo>
                          <a:pt x="156" y="373"/>
                        </a:lnTo>
                        <a:lnTo>
                          <a:pt x="152" y="375"/>
                        </a:lnTo>
                        <a:lnTo>
                          <a:pt x="147" y="377"/>
                        </a:lnTo>
                        <a:lnTo>
                          <a:pt x="143" y="380"/>
                        </a:lnTo>
                        <a:lnTo>
                          <a:pt x="138" y="382"/>
                        </a:lnTo>
                        <a:lnTo>
                          <a:pt x="134" y="384"/>
                        </a:lnTo>
                        <a:lnTo>
                          <a:pt x="127" y="386"/>
                        </a:lnTo>
                        <a:lnTo>
                          <a:pt x="123" y="391"/>
                        </a:lnTo>
                        <a:lnTo>
                          <a:pt x="119" y="393"/>
                        </a:lnTo>
                        <a:lnTo>
                          <a:pt x="114" y="395"/>
                        </a:lnTo>
                        <a:lnTo>
                          <a:pt x="110" y="397"/>
                        </a:lnTo>
                        <a:lnTo>
                          <a:pt x="103" y="399"/>
                        </a:lnTo>
                        <a:lnTo>
                          <a:pt x="99" y="404"/>
                        </a:lnTo>
                        <a:lnTo>
                          <a:pt x="94" y="404"/>
                        </a:lnTo>
                        <a:lnTo>
                          <a:pt x="90" y="408"/>
                        </a:lnTo>
                        <a:lnTo>
                          <a:pt x="86" y="410"/>
                        </a:lnTo>
                        <a:lnTo>
                          <a:pt x="79" y="413"/>
                        </a:lnTo>
                        <a:lnTo>
                          <a:pt x="70" y="417"/>
                        </a:lnTo>
                        <a:lnTo>
                          <a:pt x="62" y="421"/>
                        </a:lnTo>
                        <a:lnTo>
                          <a:pt x="57" y="424"/>
                        </a:lnTo>
                        <a:lnTo>
                          <a:pt x="53" y="426"/>
                        </a:lnTo>
                        <a:lnTo>
                          <a:pt x="48" y="428"/>
                        </a:lnTo>
                        <a:lnTo>
                          <a:pt x="44" y="430"/>
                        </a:lnTo>
                        <a:lnTo>
                          <a:pt x="37" y="434"/>
                        </a:lnTo>
                        <a:lnTo>
                          <a:pt x="29" y="439"/>
                        </a:lnTo>
                        <a:lnTo>
                          <a:pt x="22" y="441"/>
                        </a:lnTo>
                        <a:lnTo>
                          <a:pt x="18" y="443"/>
                        </a:lnTo>
                        <a:lnTo>
                          <a:pt x="11" y="445"/>
                        </a:lnTo>
                        <a:lnTo>
                          <a:pt x="7" y="450"/>
                        </a:lnTo>
                        <a:lnTo>
                          <a:pt x="0" y="452"/>
                        </a:lnTo>
                        <a:lnTo>
                          <a:pt x="0" y="454"/>
                        </a:lnTo>
                        <a:lnTo>
                          <a:pt x="0" y="456"/>
                        </a:lnTo>
                        <a:lnTo>
                          <a:pt x="0" y="463"/>
                        </a:lnTo>
                        <a:lnTo>
                          <a:pt x="0" y="467"/>
                        </a:lnTo>
                        <a:lnTo>
                          <a:pt x="2" y="472"/>
                        </a:lnTo>
                        <a:lnTo>
                          <a:pt x="4" y="478"/>
                        </a:lnTo>
                        <a:lnTo>
                          <a:pt x="7" y="485"/>
                        </a:lnTo>
                        <a:lnTo>
                          <a:pt x="9" y="494"/>
                        </a:lnTo>
                        <a:lnTo>
                          <a:pt x="11" y="500"/>
                        </a:lnTo>
                        <a:lnTo>
                          <a:pt x="11" y="505"/>
                        </a:lnTo>
                        <a:lnTo>
                          <a:pt x="13" y="509"/>
                        </a:lnTo>
                        <a:lnTo>
                          <a:pt x="13" y="514"/>
                        </a:lnTo>
                        <a:lnTo>
                          <a:pt x="15" y="520"/>
                        </a:lnTo>
                        <a:lnTo>
                          <a:pt x="15" y="522"/>
                        </a:lnTo>
                        <a:lnTo>
                          <a:pt x="18" y="529"/>
                        </a:lnTo>
                        <a:lnTo>
                          <a:pt x="20" y="533"/>
                        </a:lnTo>
                        <a:lnTo>
                          <a:pt x="20" y="538"/>
                        </a:lnTo>
                        <a:lnTo>
                          <a:pt x="22" y="544"/>
                        </a:lnTo>
                        <a:lnTo>
                          <a:pt x="22" y="549"/>
                        </a:lnTo>
                        <a:lnTo>
                          <a:pt x="24" y="553"/>
                        </a:lnTo>
                        <a:lnTo>
                          <a:pt x="26" y="560"/>
                        </a:lnTo>
                        <a:lnTo>
                          <a:pt x="26" y="562"/>
                        </a:lnTo>
                        <a:lnTo>
                          <a:pt x="26" y="568"/>
                        </a:lnTo>
                        <a:lnTo>
                          <a:pt x="29" y="573"/>
                        </a:lnTo>
                        <a:lnTo>
                          <a:pt x="29" y="577"/>
                        </a:lnTo>
                        <a:lnTo>
                          <a:pt x="31" y="582"/>
                        </a:lnTo>
                        <a:lnTo>
                          <a:pt x="33" y="586"/>
                        </a:lnTo>
                        <a:lnTo>
                          <a:pt x="33" y="593"/>
                        </a:lnTo>
                        <a:lnTo>
                          <a:pt x="35" y="597"/>
                        </a:lnTo>
                        <a:lnTo>
                          <a:pt x="37" y="606"/>
                        </a:lnTo>
                        <a:lnTo>
                          <a:pt x="40" y="615"/>
                        </a:lnTo>
                        <a:lnTo>
                          <a:pt x="42" y="621"/>
                        </a:lnTo>
                        <a:lnTo>
                          <a:pt x="44" y="630"/>
                        </a:lnTo>
                        <a:lnTo>
                          <a:pt x="46" y="637"/>
                        </a:lnTo>
                        <a:lnTo>
                          <a:pt x="48" y="643"/>
                        </a:lnTo>
                        <a:lnTo>
                          <a:pt x="51" y="650"/>
                        </a:lnTo>
                        <a:lnTo>
                          <a:pt x="53" y="654"/>
                        </a:lnTo>
                        <a:lnTo>
                          <a:pt x="55" y="661"/>
                        </a:lnTo>
                        <a:lnTo>
                          <a:pt x="57" y="665"/>
                        </a:lnTo>
                        <a:lnTo>
                          <a:pt x="57" y="663"/>
                        </a:lnTo>
                        <a:lnTo>
                          <a:pt x="62" y="661"/>
                        </a:lnTo>
                        <a:lnTo>
                          <a:pt x="64" y="661"/>
                        </a:lnTo>
                        <a:lnTo>
                          <a:pt x="68" y="658"/>
                        </a:lnTo>
                        <a:lnTo>
                          <a:pt x="73" y="656"/>
                        </a:lnTo>
                        <a:lnTo>
                          <a:pt x="77" y="654"/>
                        </a:lnTo>
                        <a:lnTo>
                          <a:pt x="81" y="652"/>
                        </a:lnTo>
                        <a:lnTo>
                          <a:pt x="86" y="650"/>
                        </a:lnTo>
                        <a:lnTo>
                          <a:pt x="92" y="648"/>
                        </a:lnTo>
                        <a:lnTo>
                          <a:pt x="99" y="645"/>
                        </a:lnTo>
                        <a:lnTo>
                          <a:pt x="105" y="643"/>
                        </a:lnTo>
                        <a:lnTo>
                          <a:pt x="112" y="641"/>
                        </a:lnTo>
                        <a:lnTo>
                          <a:pt x="119" y="637"/>
                        </a:lnTo>
                        <a:lnTo>
                          <a:pt x="127" y="634"/>
                        </a:lnTo>
                        <a:lnTo>
                          <a:pt x="134" y="630"/>
                        </a:lnTo>
                        <a:lnTo>
                          <a:pt x="143" y="626"/>
                        </a:lnTo>
                        <a:lnTo>
                          <a:pt x="152" y="621"/>
                        </a:lnTo>
                        <a:lnTo>
                          <a:pt x="160" y="619"/>
                        </a:lnTo>
                        <a:lnTo>
                          <a:pt x="169" y="615"/>
                        </a:lnTo>
                        <a:lnTo>
                          <a:pt x="178" y="610"/>
                        </a:lnTo>
                        <a:lnTo>
                          <a:pt x="187" y="606"/>
                        </a:lnTo>
                        <a:lnTo>
                          <a:pt x="198" y="604"/>
                        </a:lnTo>
                        <a:lnTo>
                          <a:pt x="207" y="597"/>
                        </a:lnTo>
                        <a:lnTo>
                          <a:pt x="218" y="593"/>
                        </a:lnTo>
                        <a:lnTo>
                          <a:pt x="226" y="590"/>
                        </a:lnTo>
                        <a:lnTo>
                          <a:pt x="237" y="586"/>
                        </a:lnTo>
                        <a:lnTo>
                          <a:pt x="246" y="582"/>
                        </a:lnTo>
                        <a:lnTo>
                          <a:pt x="257" y="577"/>
                        </a:lnTo>
                        <a:lnTo>
                          <a:pt x="268" y="573"/>
                        </a:lnTo>
                        <a:lnTo>
                          <a:pt x="277" y="568"/>
                        </a:lnTo>
                        <a:lnTo>
                          <a:pt x="288" y="564"/>
                        </a:lnTo>
                        <a:lnTo>
                          <a:pt x="297" y="560"/>
                        </a:lnTo>
                        <a:lnTo>
                          <a:pt x="308" y="555"/>
                        </a:lnTo>
                        <a:lnTo>
                          <a:pt x="316" y="551"/>
                        </a:lnTo>
                        <a:lnTo>
                          <a:pt x="327" y="544"/>
                        </a:lnTo>
                        <a:lnTo>
                          <a:pt x="338" y="542"/>
                        </a:lnTo>
                        <a:lnTo>
                          <a:pt x="347" y="538"/>
                        </a:lnTo>
                        <a:lnTo>
                          <a:pt x="358" y="533"/>
                        </a:lnTo>
                        <a:lnTo>
                          <a:pt x="365" y="527"/>
                        </a:lnTo>
                        <a:lnTo>
                          <a:pt x="376" y="525"/>
                        </a:lnTo>
                        <a:lnTo>
                          <a:pt x="385" y="520"/>
                        </a:lnTo>
                        <a:lnTo>
                          <a:pt x="393" y="516"/>
                        </a:lnTo>
                        <a:lnTo>
                          <a:pt x="402" y="514"/>
                        </a:lnTo>
                        <a:lnTo>
                          <a:pt x="411" y="509"/>
                        </a:lnTo>
                        <a:lnTo>
                          <a:pt x="417" y="505"/>
                        </a:lnTo>
                        <a:lnTo>
                          <a:pt x="426" y="503"/>
                        </a:lnTo>
                        <a:lnTo>
                          <a:pt x="433" y="498"/>
                        </a:lnTo>
                        <a:lnTo>
                          <a:pt x="442" y="496"/>
                        </a:lnTo>
                        <a:lnTo>
                          <a:pt x="446" y="492"/>
                        </a:lnTo>
                        <a:lnTo>
                          <a:pt x="453" y="489"/>
                        </a:lnTo>
                        <a:lnTo>
                          <a:pt x="459" y="487"/>
                        </a:lnTo>
                        <a:lnTo>
                          <a:pt x="466" y="485"/>
                        </a:lnTo>
                        <a:lnTo>
                          <a:pt x="470" y="483"/>
                        </a:lnTo>
                        <a:lnTo>
                          <a:pt x="475" y="481"/>
                        </a:lnTo>
                        <a:lnTo>
                          <a:pt x="483" y="476"/>
                        </a:lnTo>
                        <a:lnTo>
                          <a:pt x="488" y="474"/>
                        </a:lnTo>
                        <a:lnTo>
                          <a:pt x="492" y="474"/>
                        </a:lnTo>
                        <a:lnTo>
                          <a:pt x="494" y="474"/>
                        </a:lnTo>
                        <a:lnTo>
                          <a:pt x="497" y="476"/>
                        </a:lnTo>
                        <a:lnTo>
                          <a:pt x="499" y="481"/>
                        </a:lnTo>
                        <a:lnTo>
                          <a:pt x="499" y="487"/>
                        </a:lnTo>
                        <a:lnTo>
                          <a:pt x="499" y="494"/>
                        </a:lnTo>
                        <a:lnTo>
                          <a:pt x="497" y="500"/>
                        </a:lnTo>
                        <a:lnTo>
                          <a:pt x="494" y="505"/>
                        </a:lnTo>
                        <a:lnTo>
                          <a:pt x="492" y="509"/>
                        </a:lnTo>
                        <a:lnTo>
                          <a:pt x="488" y="514"/>
                        </a:lnTo>
                        <a:lnTo>
                          <a:pt x="483" y="516"/>
                        </a:lnTo>
                        <a:lnTo>
                          <a:pt x="479" y="518"/>
                        </a:lnTo>
                        <a:lnTo>
                          <a:pt x="475" y="522"/>
                        </a:lnTo>
                        <a:lnTo>
                          <a:pt x="468" y="527"/>
                        </a:lnTo>
                        <a:lnTo>
                          <a:pt x="461" y="533"/>
                        </a:lnTo>
                        <a:lnTo>
                          <a:pt x="457" y="538"/>
                        </a:lnTo>
                        <a:lnTo>
                          <a:pt x="453" y="542"/>
                        </a:lnTo>
                        <a:lnTo>
                          <a:pt x="448" y="544"/>
                        </a:lnTo>
                        <a:lnTo>
                          <a:pt x="444" y="549"/>
                        </a:lnTo>
                        <a:lnTo>
                          <a:pt x="439" y="553"/>
                        </a:lnTo>
                        <a:lnTo>
                          <a:pt x="433" y="560"/>
                        </a:lnTo>
                        <a:lnTo>
                          <a:pt x="428" y="564"/>
                        </a:lnTo>
                        <a:lnTo>
                          <a:pt x="424" y="568"/>
                        </a:lnTo>
                        <a:lnTo>
                          <a:pt x="417" y="573"/>
                        </a:lnTo>
                        <a:lnTo>
                          <a:pt x="411" y="579"/>
                        </a:lnTo>
                        <a:lnTo>
                          <a:pt x="404" y="584"/>
                        </a:lnTo>
                        <a:lnTo>
                          <a:pt x="400" y="590"/>
                        </a:lnTo>
                        <a:lnTo>
                          <a:pt x="393" y="595"/>
                        </a:lnTo>
                        <a:lnTo>
                          <a:pt x="387" y="601"/>
                        </a:lnTo>
                        <a:lnTo>
                          <a:pt x="380" y="606"/>
                        </a:lnTo>
                        <a:lnTo>
                          <a:pt x="374" y="612"/>
                        </a:lnTo>
                        <a:lnTo>
                          <a:pt x="367" y="619"/>
                        </a:lnTo>
                        <a:lnTo>
                          <a:pt x="360" y="626"/>
                        </a:lnTo>
                        <a:lnTo>
                          <a:pt x="354" y="630"/>
                        </a:lnTo>
                        <a:lnTo>
                          <a:pt x="347" y="637"/>
                        </a:lnTo>
                        <a:lnTo>
                          <a:pt x="341" y="643"/>
                        </a:lnTo>
                        <a:lnTo>
                          <a:pt x="334" y="650"/>
                        </a:lnTo>
                        <a:lnTo>
                          <a:pt x="327" y="656"/>
                        </a:lnTo>
                        <a:lnTo>
                          <a:pt x="321" y="663"/>
                        </a:lnTo>
                        <a:lnTo>
                          <a:pt x="312" y="667"/>
                        </a:lnTo>
                        <a:lnTo>
                          <a:pt x="305" y="674"/>
                        </a:lnTo>
                        <a:lnTo>
                          <a:pt x="299" y="680"/>
                        </a:lnTo>
                        <a:lnTo>
                          <a:pt x="292" y="687"/>
                        </a:lnTo>
                        <a:lnTo>
                          <a:pt x="286" y="691"/>
                        </a:lnTo>
                        <a:lnTo>
                          <a:pt x="279" y="698"/>
                        </a:lnTo>
                        <a:lnTo>
                          <a:pt x="272" y="705"/>
                        </a:lnTo>
                        <a:lnTo>
                          <a:pt x="268" y="711"/>
                        </a:lnTo>
                        <a:lnTo>
                          <a:pt x="259" y="716"/>
                        </a:lnTo>
                        <a:lnTo>
                          <a:pt x="255" y="722"/>
                        </a:lnTo>
                        <a:lnTo>
                          <a:pt x="248" y="727"/>
                        </a:lnTo>
                        <a:lnTo>
                          <a:pt x="244" y="733"/>
                        </a:lnTo>
                        <a:lnTo>
                          <a:pt x="237" y="738"/>
                        </a:lnTo>
                        <a:lnTo>
                          <a:pt x="233" y="742"/>
                        </a:lnTo>
                        <a:lnTo>
                          <a:pt x="226" y="749"/>
                        </a:lnTo>
                        <a:lnTo>
                          <a:pt x="222" y="753"/>
                        </a:lnTo>
                        <a:lnTo>
                          <a:pt x="218" y="755"/>
                        </a:lnTo>
                        <a:lnTo>
                          <a:pt x="211" y="760"/>
                        </a:lnTo>
                        <a:lnTo>
                          <a:pt x="207" y="764"/>
                        </a:lnTo>
                        <a:lnTo>
                          <a:pt x="204" y="768"/>
                        </a:lnTo>
                        <a:lnTo>
                          <a:pt x="196" y="775"/>
                        </a:lnTo>
                        <a:lnTo>
                          <a:pt x="191" y="781"/>
                        </a:lnTo>
                        <a:lnTo>
                          <a:pt x="185" y="786"/>
                        </a:lnTo>
                        <a:lnTo>
                          <a:pt x="182" y="790"/>
                        </a:lnTo>
                        <a:lnTo>
                          <a:pt x="180" y="792"/>
                        </a:lnTo>
                        <a:lnTo>
                          <a:pt x="180" y="795"/>
                        </a:lnTo>
                        <a:lnTo>
                          <a:pt x="235" y="847"/>
                        </a:lnTo>
                        <a:lnTo>
                          <a:pt x="237" y="845"/>
                        </a:lnTo>
                        <a:lnTo>
                          <a:pt x="244" y="841"/>
                        </a:lnTo>
                        <a:lnTo>
                          <a:pt x="248" y="834"/>
                        </a:lnTo>
                        <a:lnTo>
                          <a:pt x="255" y="830"/>
                        </a:lnTo>
                        <a:lnTo>
                          <a:pt x="261" y="823"/>
                        </a:lnTo>
                        <a:lnTo>
                          <a:pt x="268" y="819"/>
                        </a:lnTo>
                        <a:lnTo>
                          <a:pt x="277" y="810"/>
                        </a:lnTo>
                        <a:lnTo>
                          <a:pt x="286" y="803"/>
                        </a:lnTo>
                        <a:lnTo>
                          <a:pt x="288" y="799"/>
                        </a:lnTo>
                        <a:lnTo>
                          <a:pt x="292" y="795"/>
                        </a:lnTo>
                        <a:lnTo>
                          <a:pt x="299" y="790"/>
                        </a:lnTo>
                        <a:lnTo>
                          <a:pt x="303" y="788"/>
                        </a:lnTo>
                        <a:lnTo>
                          <a:pt x="308" y="784"/>
                        </a:lnTo>
                        <a:lnTo>
                          <a:pt x="312" y="779"/>
                        </a:lnTo>
                        <a:lnTo>
                          <a:pt x="319" y="775"/>
                        </a:lnTo>
                        <a:lnTo>
                          <a:pt x="323" y="770"/>
                        </a:lnTo>
                        <a:lnTo>
                          <a:pt x="327" y="766"/>
                        </a:lnTo>
                        <a:lnTo>
                          <a:pt x="334" y="762"/>
                        </a:lnTo>
                        <a:lnTo>
                          <a:pt x="338" y="757"/>
                        </a:lnTo>
                        <a:lnTo>
                          <a:pt x="345" y="753"/>
                        </a:lnTo>
                        <a:lnTo>
                          <a:pt x="349" y="749"/>
                        </a:lnTo>
                        <a:lnTo>
                          <a:pt x="354" y="742"/>
                        </a:lnTo>
                        <a:lnTo>
                          <a:pt x="358" y="738"/>
                        </a:lnTo>
                        <a:lnTo>
                          <a:pt x="365" y="735"/>
                        </a:lnTo>
                        <a:lnTo>
                          <a:pt x="369" y="729"/>
                        </a:lnTo>
                        <a:lnTo>
                          <a:pt x="374" y="724"/>
                        </a:lnTo>
                        <a:lnTo>
                          <a:pt x="380" y="720"/>
                        </a:lnTo>
                        <a:lnTo>
                          <a:pt x="385" y="718"/>
                        </a:lnTo>
                        <a:lnTo>
                          <a:pt x="389" y="711"/>
                        </a:lnTo>
                        <a:lnTo>
                          <a:pt x="393" y="707"/>
                        </a:lnTo>
                        <a:lnTo>
                          <a:pt x="400" y="702"/>
                        </a:lnTo>
                        <a:lnTo>
                          <a:pt x="404" y="700"/>
                        </a:lnTo>
                        <a:lnTo>
                          <a:pt x="413" y="691"/>
                        </a:lnTo>
                        <a:lnTo>
                          <a:pt x="422" y="685"/>
                        </a:lnTo>
                        <a:lnTo>
                          <a:pt x="428" y="678"/>
                        </a:lnTo>
                        <a:lnTo>
                          <a:pt x="437" y="672"/>
                        </a:lnTo>
                        <a:lnTo>
                          <a:pt x="444" y="665"/>
                        </a:lnTo>
                        <a:lnTo>
                          <a:pt x="450" y="661"/>
                        </a:lnTo>
                        <a:lnTo>
                          <a:pt x="453" y="656"/>
                        </a:lnTo>
                        <a:lnTo>
                          <a:pt x="459" y="654"/>
                        </a:lnTo>
                        <a:lnTo>
                          <a:pt x="461" y="652"/>
                        </a:lnTo>
                        <a:lnTo>
                          <a:pt x="464" y="652"/>
                        </a:lnTo>
                        <a:lnTo>
                          <a:pt x="466" y="648"/>
                        </a:lnTo>
                        <a:lnTo>
                          <a:pt x="472" y="645"/>
                        </a:lnTo>
                        <a:lnTo>
                          <a:pt x="479" y="639"/>
                        </a:lnTo>
                        <a:lnTo>
                          <a:pt x="488" y="632"/>
                        </a:lnTo>
                        <a:lnTo>
                          <a:pt x="492" y="630"/>
                        </a:lnTo>
                        <a:lnTo>
                          <a:pt x="497" y="626"/>
                        </a:lnTo>
                        <a:lnTo>
                          <a:pt x="503" y="621"/>
                        </a:lnTo>
                        <a:lnTo>
                          <a:pt x="508" y="619"/>
                        </a:lnTo>
                        <a:lnTo>
                          <a:pt x="512" y="615"/>
                        </a:lnTo>
                        <a:lnTo>
                          <a:pt x="519" y="610"/>
                        </a:lnTo>
                        <a:lnTo>
                          <a:pt x="523" y="606"/>
                        </a:lnTo>
                        <a:lnTo>
                          <a:pt x="530" y="604"/>
                        </a:lnTo>
                        <a:lnTo>
                          <a:pt x="534" y="597"/>
                        </a:lnTo>
                        <a:lnTo>
                          <a:pt x="541" y="595"/>
                        </a:lnTo>
                        <a:lnTo>
                          <a:pt x="545" y="590"/>
                        </a:lnTo>
                        <a:lnTo>
                          <a:pt x="552" y="586"/>
                        </a:lnTo>
                        <a:lnTo>
                          <a:pt x="556" y="584"/>
                        </a:lnTo>
                        <a:lnTo>
                          <a:pt x="562" y="579"/>
                        </a:lnTo>
                        <a:lnTo>
                          <a:pt x="567" y="575"/>
                        </a:lnTo>
                        <a:lnTo>
                          <a:pt x="571" y="573"/>
                        </a:lnTo>
                        <a:lnTo>
                          <a:pt x="580" y="568"/>
                        </a:lnTo>
                        <a:lnTo>
                          <a:pt x="587" y="564"/>
                        </a:lnTo>
                        <a:lnTo>
                          <a:pt x="593" y="560"/>
                        </a:lnTo>
                        <a:lnTo>
                          <a:pt x="600" y="560"/>
                        </a:lnTo>
                        <a:lnTo>
                          <a:pt x="604" y="560"/>
                        </a:lnTo>
                        <a:lnTo>
                          <a:pt x="611" y="560"/>
                        </a:lnTo>
                        <a:lnTo>
                          <a:pt x="615" y="562"/>
                        </a:lnTo>
                        <a:lnTo>
                          <a:pt x="622" y="568"/>
                        </a:lnTo>
                        <a:lnTo>
                          <a:pt x="624" y="573"/>
                        </a:lnTo>
                        <a:lnTo>
                          <a:pt x="626" y="579"/>
                        </a:lnTo>
                        <a:lnTo>
                          <a:pt x="624" y="584"/>
                        </a:lnTo>
                        <a:lnTo>
                          <a:pt x="624" y="588"/>
                        </a:lnTo>
                        <a:lnTo>
                          <a:pt x="624" y="593"/>
                        </a:lnTo>
                        <a:lnTo>
                          <a:pt x="622" y="599"/>
                        </a:lnTo>
                        <a:lnTo>
                          <a:pt x="620" y="601"/>
                        </a:lnTo>
                        <a:lnTo>
                          <a:pt x="617" y="608"/>
                        </a:lnTo>
                        <a:lnTo>
                          <a:pt x="615" y="612"/>
                        </a:lnTo>
                        <a:lnTo>
                          <a:pt x="613" y="619"/>
                        </a:lnTo>
                        <a:lnTo>
                          <a:pt x="611" y="623"/>
                        </a:lnTo>
                        <a:lnTo>
                          <a:pt x="609" y="628"/>
                        </a:lnTo>
                        <a:lnTo>
                          <a:pt x="609" y="632"/>
                        </a:lnTo>
                        <a:lnTo>
                          <a:pt x="606" y="637"/>
                        </a:lnTo>
                        <a:lnTo>
                          <a:pt x="604" y="641"/>
                        </a:lnTo>
                        <a:lnTo>
                          <a:pt x="602" y="645"/>
                        </a:lnTo>
                        <a:lnTo>
                          <a:pt x="600" y="650"/>
                        </a:lnTo>
                        <a:lnTo>
                          <a:pt x="600" y="656"/>
                        </a:lnTo>
                        <a:lnTo>
                          <a:pt x="598" y="661"/>
                        </a:lnTo>
                        <a:lnTo>
                          <a:pt x="593" y="667"/>
                        </a:lnTo>
                        <a:lnTo>
                          <a:pt x="591" y="672"/>
                        </a:lnTo>
                        <a:lnTo>
                          <a:pt x="589" y="678"/>
                        </a:lnTo>
                        <a:lnTo>
                          <a:pt x="587" y="685"/>
                        </a:lnTo>
                        <a:lnTo>
                          <a:pt x="584" y="689"/>
                        </a:lnTo>
                        <a:lnTo>
                          <a:pt x="582" y="696"/>
                        </a:lnTo>
                        <a:lnTo>
                          <a:pt x="580" y="702"/>
                        </a:lnTo>
                        <a:lnTo>
                          <a:pt x="578" y="709"/>
                        </a:lnTo>
                        <a:lnTo>
                          <a:pt x="576" y="716"/>
                        </a:lnTo>
                        <a:lnTo>
                          <a:pt x="571" y="720"/>
                        </a:lnTo>
                        <a:lnTo>
                          <a:pt x="569" y="727"/>
                        </a:lnTo>
                        <a:lnTo>
                          <a:pt x="567" y="733"/>
                        </a:lnTo>
                        <a:lnTo>
                          <a:pt x="565" y="742"/>
                        </a:lnTo>
                        <a:lnTo>
                          <a:pt x="562" y="746"/>
                        </a:lnTo>
                        <a:lnTo>
                          <a:pt x="560" y="755"/>
                        </a:lnTo>
                        <a:lnTo>
                          <a:pt x="558" y="760"/>
                        </a:lnTo>
                        <a:lnTo>
                          <a:pt x="556" y="766"/>
                        </a:lnTo>
                        <a:lnTo>
                          <a:pt x="554" y="773"/>
                        </a:lnTo>
                        <a:lnTo>
                          <a:pt x="552" y="779"/>
                        </a:lnTo>
                        <a:lnTo>
                          <a:pt x="547" y="784"/>
                        </a:lnTo>
                        <a:lnTo>
                          <a:pt x="545" y="790"/>
                        </a:lnTo>
                        <a:lnTo>
                          <a:pt x="543" y="797"/>
                        </a:lnTo>
                        <a:lnTo>
                          <a:pt x="541" y="803"/>
                        </a:lnTo>
                        <a:lnTo>
                          <a:pt x="538" y="808"/>
                        </a:lnTo>
                        <a:lnTo>
                          <a:pt x="536" y="814"/>
                        </a:lnTo>
                        <a:lnTo>
                          <a:pt x="534" y="821"/>
                        </a:lnTo>
                        <a:lnTo>
                          <a:pt x="532" y="825"/>
                        </a:lnTo>
                        <a:lnTo>
                          <a:pt x="530" y="832"/>
                        </a:lnTo>
                        <a:lnTo>
                          <a:pt x="527" y="836"/>
                        </a:lnTo>
                        <a:lnTo>
                          <a:pt x="525" y="841"/>
                        </a:lnTo>
                        <a:lnTo>
                          <a:pt x="525" y="847"/>
                        </a:lnTo>
                        <a:lnTo>
                          <a:pt x="521" y="856"/>
                        </a:lnTo>
                        <a:lnTo>
                          <a:pt x="516" y="865"/>
                        </a:lnTo>
                        <a:lnTo>
                          <a:pt x="514" y="872"/>
                        </a:lnTo>
                        <a:lnTo>
                          <a:pt x="512" y="878"/>
                        </a:lnTo>
                        <a:lnTo>
                          <a:pt x="510" y="882"/>
                        </a:lnTo>
                        <a:lnTo>
                          <a:pt x="510" y="887"/>
                        </a:lnTo>
                        <a:lnTo>
                          <a:pt x="510" y="887"/>
                        </a:lnTo>
                        <a:lnTo>
                          <a:pt x="510" y="889"/>
                        </a:lnTo>
                        <a:lnTo>
                          <a:pt x="589" y="907"/>
                        </a:lnTo>
                        <a:lnTo>
                          <a:pt x="589" y="904"/>
                        </a:lnTo>
                        <a:lnTo>
                          <a:pt x="591" y="902"/>
                        </a:lnTo>
                        <a:lnTo>
                          <a:pt x="593" y="898"/>
                        </a:lnTo>
                        <a:lnTo>
                          <a:pt x="595" y="893"/>
                        </a:lnTo>
                        <a:lnTo>
                          <a:pt x="598" y="885"/>
                        </a:lnTo>
                        <a:lnTo>
                          <a:pt x="602" y="878"/>
                        </a:lnTo>
                        <a:lnTo>
                          <a:pt x="604" y="872"/>
                        </a:lnTo>
                        <a:lnTo>
                          <a:pt x="606" y="867"/>
                        </a:lnTo>
                        <a:lnTo>
                          <a:pt x="609" y="863"/>
                        </a:lnTo>
                        <a:lnTo>
                          <a:pt x="613" y="858"/>
                        </a:lnTo>
                        <a:lnTo>
                          <a:pt x="615" y="854"/>
                        </a:lnTo>
                        <a:lnTo>
                          <a:pt x="617" y="847"/>
                        </a:lnTo>
                        <a:lnTo>
                          <a:pt x="620" y="841"/>
                        </a:lnTo>
                        <a:lnTo>
                          <a:pt x="622" y="836"/>
                        </a:lnTo>
                        <a:lnTo>
                          <a:pt x="624" y="830"/>
                        </a:lnTo>
                        <a:lnTo>
                          <a:pt x="628" y="823"/>
                        </a:lnTo>
                        <a:lnTo>
                          <a:pt x="633" y="817"/>
                        </a:lnTo>
                        <a:lnTo>
                          <a:pt x="635" y="810"/>
                        </a:lnTo>
                        <a:lnTo>
                          <a:pt x="637" y="803"/>
                        </a:lnTo>
                        <a:lnTo>
                          <a:pt x="642" y="797"/>
                        </a:lnTo>
                        <a:lnTo>
                          <a:pt x="644" y="788"/>
                        </a:lnTo>
                        <a:lnTo>
                          <a:pt x="648" y="781"/>
                        </a:lnTo>
                        <a:lnTo>
                          <a:pt x="653" y="775"/>
                        </a:lnTo>
                        <a:lnTo>
                          <a:pt x="657" y="768"/>
                        </a:lnTo>
                        <a:lnTo>
                          <a:pt x="659" y="762"/>
                        </a:lnTo>
                        <a:lnTo>
                          <a:pt x="664" y="755"/>
                        </a:lnTo>
                        <a:lnTo>
                          <a:pt x="666" y="746"/>
                        </a:lnTo>
                        <a:lnTo>
                          <a:pt x="670" y="740"/>
                        </a:lnTo>
                        <a:lnTo>
                          <a:pt x="672" y="731"/>
                        </a:lnTo>
                        <a:lnTo>
                          <a:pt x="677" y="724"/>
                        </a:lnTo>
                        <a:lnTo>
                          <a:pt x="681" y="718"/>
                        </a:lnTo>
                        <a:lnTo>
                          <a:pt x="683" y="711"/>
                        </a:lnTo>
                        <a:lnTo>
                          <a:pt x="688" y="702"/>
                        </a:lnTo>
                        <a:lnTo>
                          <a:pt x="690" y="696"/>
                        </a:lnTo>
                        <a:lnTo>
                          <a:pt x="694" y="689"/>
                        </a:lnTo>
                        <a:lnTo>
                          <a:pt x="697" y="683"/>
                        </a:lnTo>
                        <a:lnTo>
                          <a:pt x="701" y="676"/>
                        </a:lnTo>
                        <a:lnTo>
                          <a:pt x="703" y="669"/>
                        </a:lnTo>
                        <a:lnTo>
                          <a:pt x="705" y="663"/>
                        </a:lnTo>
                        <a:lnTo>
                          <a:pt x="710" y="656"/>
                        </a:lnTo>
                        <a:lnTo>
                          <a:pt x="712" y="652"/>
                        </a:lnTo>
                        <a:lnTo>
                          <a:pt x="716" y="645"/>
                        </a:lnTo>
                        <a:lnTo>
                          <a:pt x="718" y="641"/>
                        </a:lnTo>
                        <a:lnTo>
                          <a:pt x="721" y="634"/>
                        </a:lnTo>
                        <a:lnTo>
                          <a:pt x="723" y="630"/>
                        </a:lnTo>
                        <a:lnTo>
                          <a:pt x="727" y="623"/>
                        </a:lnTo>
                        <a:lnTo>
                          <a:pt x="729" y="615"/>
                        </a:lnTo>
                        <a:lnTo>
                          <a:pt x="736" y="608"/>
                        </a:lnTo>
                        <a:lnTo>
                          <a:pt x="738" y="599"/>
                        </a:lnTo>
                        <a:lnTo>
                          <a:pt x="743" y="595"/>
                        </a:lnTo>
                        <a:lnTo>
                          <a:pt x="743" y="590"/>
                        </a:lnTo>
                        <a:lnTo>
                          <a:pt x="747" y="588"/>
                        </a:lnTo>
                        <a:lnTo>
                          <a:pt x="749" y="584"/>
                        </a:lnTo>
                        <a:lnTo>
                          <a:pt x="754" y="575"/>
                        </a:lnTo>
                        <a:lnTo>
                          <a:pt x="758" y="571"/>
                        </a:lnTo>
                        <a:lnTo>
                          <a:pt x="762" y="566"/>
                        </a:lnTo>
                        <a:lnTo>
                          <a:pt x="765" y="562"/>
                        </a:lnTo>
                        <a:lnTo>
                          <a:pt x="771" y="557"/>
                        </a:lnTo>
                        <a:lnTo>
                          <a:pt x="776" y="551"/>
                        </a:lnTo>
                        <a:lnTo>
                          <a:pt x="780" y="544"/>
                        </a:lnTo>
                        <a:lnTo>
                          <a:pt x="784" y="538"/>
                        </a:lnTo>
                        <a:lnTo>
                          <a:pt x="791" y="531"/>
                        </a:lnTo>
                        <a:lnTo>
                          <a:pt x="795" y="525"/>
                        </a:lnTo>
                        <a:lnTo>
                          <a:pt x="802" y="518"/>
                        </a:lnTo>
                        <a:lnTo>
                          <a:pt x="806" y="511"/>
                        </a:lnTo>
                        <a:lnTo>
                          <a:pt x="815" y="505"/>
                        </a:lnTo>
                        <a:lnTo>
                          <a:pt x="820" y="498"/>
                        </a:lnTo>
                        <a:lnTo>
                          <a:pt x="824" y="492"/>
                        </a:lnTo>
                        <a:lnTo>
                          <a:pt x="831" y="485"/>
                        </a:lnTo>
                        <a:lnTo>
                          <a:pt x="837" y="478"/>
                        </a:lnTo>
                        <a:lnTo>
                          <a:pt x="842" y="470"/>
                        </a:lnTo>
                        <a:lnTo>
                          <a:pt x="846" y="465"/>
                        </a:lnTo>
                        <a:lnTo>
                          <a:pt x="853" y="459"/>
                        </a:lnTo>
                        <a:lnTo>
                          <a:pt x="857" y="452"/>
                        </a:lnTo>
                        <a:lnTo>
                          <a:pt x="861" y="448"/>
                        </a:lnTo>
                        <a:lnTo>
                          <a:pt x="866" y="443"/>
                        </a:lnTo>
                        <a:lnTo>
                          <a:pt x="868" y="437"/>
                        </a:lnTo>
                        <a:lnTo>
                          <a:pt x="872" y="434"/>
                        </a:lnTo>
                        <a:lnTo>
                          <a:pt x="877" y="428"/>
                        </a:lnTo>
                        <a:lnTo>
                          <a:pt x="881" y="424"/>
                        </a:lnTo>
                        <a:lnTo>
                          <a:pt x="883" y="419"/>
                        </a:lnTo>
                        <a:lnTo>
                          <a:pt x="888" y="410"/>
                        </a:lnTo>
                        <a:lnTo>
                          <a:pt x="890" y="404"/>
                        </a:lnTo>
                        <a:lnTo>
                          <a:pt x="894" y="395"/>
                        </a:lnTo>
                        <a:lnTo>
                          <a:pt x="896" y="391"/>
                        </a:lnTo>
                        <a:lnTo>
                          <a:pt x="899" y="386"/>
                        </a:lnTo>
                        <a:lnTo>
                          <a:pt x="899" y="380"/>
                        </a:lnTo>
                        <a:lnTo>
                          <a:pt x="901" y="375"/>
                        </a:lnTo>
                        <a:lnTo>
                          <a:pt x="903" y="369"/>
                        </a:lnTo>
                        <a:lnTo>
                          <a:pt x="905" y="364"/>
                        </a:lnTo>
                        <a:lnTo>
                          <a:pt x="910" y="360"/>
                        </a:lnTo>
                        <a:lnTo>
                          <a:pt x="912" y="353"/>
                        </a:lnTo>
                        <a:lnTo>
                          <a:pt x="912" y="349"/>
                        </a:lnTo>
                        <a:lnTo>
                          <a:pt x="914" y="342"/>
                        </a:lnTo>
                        <a:lnTo>
                          <a:pt x="916" y="338"/>
                        </a:lnTo>
                        <a:lnTo>
                          <a:pt x="918" y="333"/>
                        </a:lnTo>
                        <a:lnTo>
                          <a:pt x="918" y="327"/>
                        </a:lnTo>
                        <a:lnTo>
                          <a:pt x="921" y="323"/>
                        </a:lnTo>
                        <a:lnTo>
                          <a:pt x="923" y="318"/>
                        </a:lnTo>
                        <a:lnTo>
                          <a:pt x="925" y="314"/>
                        </a:lnTo>
                        <a:lnTo>
                          <a:pt x="927" y="305"/>
                        </a:lnTo>
                        <a:lnTo>
                          <a:pt x="929" y="298"/>
                        </a:lnTo>
                        <a:lnTo>
                          <a:pt x="932" y="292"/>
                        </a:lnTo>
                        <a:lnTo>
                          <a:pt x="934" y="287"/>
                        </a:lnTo>
                        <a:lnTo>
                          <a:pt x="936" y="285"/>
                        </a:lnTo>
                        <a:lnTo>
                          <a:pt x="940" y="281"/>
                        </a:lnTo>
                        <a:lnTo>
                          <a:pt x="943" y="276"/>
                        </a:lnTo>
                        <a:lnTo>
                          <a:pt x="945" y="274"/>
                        </a:lnTo>
                        <a:lnTo>
                          <a:pt x="949" y="272"/>
                        </a:lnTo>
                        <a:lnTo>
                          <a:pt x="954" y="270"/>
                        </a:lnTo>
                        <a:lnTo>
                          <a:pt x="958" y="268"/>
                        </a:lnTo>
                        <a:lnTo>
                          <a:pt x="965" y="265"/>
                        </a:lnTo>
                        <a:lnTo>
                          <a:pt x="969" y="263"/>
                        </a:lnTo>
                        <a:lnTo>
                          <a:pt x="976" y="261"/>
                        </a:lnTo>
                        <a:lnTo>
                          <a:pt x="980" y="259"/>
                        </a:lnTo>
                        <a:lnTo>
                          <a:pt x="987" y="257"/>
                        </a:lnTo>
                        <a:lnTo>
                          <a:pt x="991" y="257"/>
                        </a:lnTo>
                        <a:lnTo>
                          <a:pt x="998" y="254"/>
                        </a:lnTo>
                        <a:lnTo>
                          <a:pt x="1002" y="252"/>
                        </a:lnTo>
                        <a:lnTo>
                          <a:pt x="1009" y="248"/>
                        </a:lnTo>
                        <a:lnTo>
                          <a:pt x="1013" y="248"/>
                        </a:lnTo>
                        <a:lnTo>
                          <a:pt x="1020" y="246"/>
                        </a:lnTo>
                        <a:lnTo>
                          <a:pt x="1024" y="243"/>
                        </a:lnTo>
                        <a:lnTo>
                          <a:pt x="1030" y="243"/>
                        </a:lnTo>
                        <a:lnTo>
                          <a:pt x="1035" y="241"/>
                        </a:lnTo>
                        <a:lnTo>
                          <a:pt x="1039" y="241"/>
                        </a:lnTo>
                        <a:lnTo>
                          <a:pt x="1048" y="239"/>
                        </a:lnTo>
                        <a:lnTo>
                          <a:pt x="1055" y="237"/>
                        </a:lnTo>
                        <a:lnTo>
                          <a:pt x="1059" y="235"/>
                        </a:lnTo>
                        <a:lnTo>
                          <a:pt x="1059" y="235"/>
                        </a:lnTo>
                        <a:lnTo>
                          <a:pt x="976" y="17"/>
                        </a:lnTo>
                        <a:lnTo>
                          <a:pt x="958" y="26"/>
                        </a:lnTo>
                        <a:lnTo>
                          <a:pt x="958" y="26"/>
                        </a:lnTo>
                        <a:close/>
                      </a:path>
                    </a:pathLst>
                  </a:custGeom>
                  <a:solidFill>
                    <a:srgbClr val="ffe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721"/>
                  <p:cNvSpPr/>
                  <p:nvPr/>
                </p:nvSpPr>
                <p:spPr>
                  <a:xfrm>
                    <a:off x="2044440" y="4523760"/>
                    <a:ext cx="399960" cy="532440"/>
                  </a:xfrm>
                  <a:custGeom>
                    <a:avLst/>
                    <a:gdLst>
                      <a:gd name="textAreaLeft" fmla="*/ 0 w 399960"/>
                      <a:gd name="textAreaRight" fmla="*/ 400320 w 399960"/>
                      <a:gd name="textAreaTop" fmla="*/ 0 h 532440"/>
                      <a:gd name="textAreaBottom" fmla="*/ 532800 h 532440"/>
                    </a:gdLst>
                    <a:ahLst/>
                    <a:rect l="textAreaLeft" t="textAreaTop" r="textAreaRight" b="textAreaBottom"/>
                    <a:pathLst>
                      <a:path w="562" h="729">
                        <a:moveTo>
                          <a:pt x="378" y="0"/>
                        </a:moveTo>
                        <a:lnTo>
                          <a:pt x="375" y="0"/>
                        </a:lnTo>
                        <a:lnTo>
                          <a:pt x="371" y="0"/>
                        </a:lnTo>
                        <a:lnTo>
                          <a:pt x="364" y="0"/>
                        </a:lnTo>
                        <a:lnTo>
                          <a:pt x="356" y="2"/>
                        </a:lnTo>
                        <a:lnTo>
                          <a:pt x="351" y="2"/>
                        </a:lnTo>
                        <a:lnTo>
                          <a:pt x="347" y="2"/>
                        </a:lnTo>
                        <a:lnTo>
                          <a:pt x="340" y="2"/>
                        </a:lnTo>
                        <a:lnTo>
                          <a:pt x="336" y="4"/>
                        </a:lnTo>
                        <a:lnTo>
                          <a:pt x="329" y="4"/>
                        </a:lnTo>
                        <a:lnTo>
                          <a:pt x="323" y="4"/>
                        </a:lnTo>
                        <a:lnTo>
                          <a:pt x="318" y="6"/>
                        </a:lnTo>
                        <a:lnTo>
                          <a:pt x="312" y="6"/>
                        </a:lnTo>
                        <a:lnTo>
                          <a:pt x="305" y="6"/>
                        </a:lnTo>
                        <a:lnTo>
                          <a:pt x="296" y="8"/>
                        </a:lnTo>
                        <a:lnTo>
                          <a:pt x="290" y="8"/>
                        </a:lnTo>
                        <a:lnTo>
                          <a:pt x="283" y="8"/>
                        </a:lnTo>
                        <a:lnTo>
                          <a:pt x="274" y="11"/>
                        </a:lnTo>
                        <a:lnTo>
                          <a:pt x="266" y="11"/>
                        </a:lnTo>
                        <a:lnTo>
                          <a:pt x="259" y="13"/>
                        </a:lnTo>
                        <a:lnTo>
                          <a:pt x="250" y="13"/>
                        </a:lnTo>
                        <a:lnTo>
                          <a:pt x="241" y="15"/>
                        </a:lnTo>
                        <a:lnTo>
                          <a:pt x="233" y="15"/>
                        </a:lnTo>
                        <a:lnTo>
                          <a:pt x="224" y="17"/>
                        </a:lnTo>
                        <a:lnTo>
                          <a:pt x="217" y="19"/>
                        </a:lnTo>
                        <a:lnTo>
                          <a:pt x="206" y="19"/>
                        </a:lnTo>
                        <a:lnTo>
                          <a:pt x="200" y="22"/>
                        </a:lnTo>
                        <a:lnTo>
                          <a:pt x="191" y="22"/>
                        </a:lnTo>
                        <a:lnTo>
                          <a:pt x="182" y="24"/>
                        </a:lnTo>
                        <a:lnTo>
                          <a:pt x="173" y="24"/>
                        </a:lnTo>
                        <a:lnTo>
                          <a:pt x="164" y="26"/>
                        </a:lnTo>
                        <a:lnTo>
                          <a:pt x="156" y="26"/>
                        </a:lnTo>
                        <a:lnTo>
                          <a:pt x="147" y="28"/>
                        </a:lnTo>
                        <a:lnTo>
                          <a:pt x="138" y="30"/>
                        </a:lnTo>
                        <a:lnTo>
                          <a:pt x="129" y="30"/>
                        </a:lnTo>
                        <a:lnTo>
                          <a:pt x="123" y="33"/>
                        </a:lnTo>
                        <a:lnTo>
                          <a:pt x="114" y="35"/>
                        </a:lnTo>
                        <a:lnTo>
                          <a:pt x="105" y="35"/>
                        </a:lnTo>
                        <a:lnTo>
                          <a:pt x="99" y="37"/>
                        </a:lnTo>
                        <a:lnTo>
                          <a:pt x="90" y="37"/>
                        </a:lnTo>
                        <a:lnTo>
                          <a:pt x="83" y="39"/>
                        </a:lnTo>
                        <a:lnTo>
                          <a:pt x="77" y="39"/>
                        </a:lnTo>
                        <a:lnTo>
                          <a:pt x="70" y="41"/>
                        </a:lnTo>
                        <a:lnTo>
                          <a:pt x="63" y="41"/>
                        </a:lnTo>
                        <a:lnTo>
                          <a:pt x="57" y="44"/>
                        </a:lnTo>
                        <a:lnTo>
                          <a:pt x="48" y="46"/>
                        </a:lnTo>
                        <a:lnTo>
                          <a:pt x="44" y="48"/>
                        </a:lnTo>
                        <a:lnTo>
                          <a:pt x="37" y="48"/>
                        </a:lnTo>
                        <a:lnTo>
                          <a:pt x="33" y="50"/>
                        </a:lnTo>
                        <a:lnTo>
                          <a:pt x="28" y="50"/>
                        </a:lnTo>
                        <a:lnTo>
                          <a:pt x="22" y="52"/>
                        </a:lnTo>
                        <a:lnTo>
                          <a:pt x="17" y="52"/>
                        </a:lnTo>
                        <a:lnTo>
                          <a:pt x="15" y="54"/>
                        </a:lnTo>
                        <a:lnTo>
                          <a:pt x="8" y="57"/>
                        </a:lnTo>
                        <a:lnTo>
                          <a:pt x="4" y="59"/>
                        </a:lnTo>
                        <a:lnTo>
                          <a:pt x="0" y="61"/>
                        </a:lnTo>
                        <a:lnTo>
                          <a:pt x="0" y="65"/>
                        </a:lnTo>
                        <a:lnTo>
                          <a:pt x="0" y="68"/>
                        </a:lnTo>
                        <a:lnTo>
                          <a:pt x="2" y="72"/>
                        </a:lnTo>
                        <a:lnTo>
                          <a:pt x="4" y="79"/>
                        </a:lnTo>
                        <a:lnTo>
                          <a:pt x="6" y="87"/>
                        </a:lnTo>
                        <a:lnTo>
                          <a:pt x="8" y="92"/>
                        </a:lnTo>
                        <a:lnTo>
                          <a:pt x="11" y="96"/>
                        </a:lnTo>
                        <a:lnTo>
                          <a:pt x="13" y="103"/>
                        </a:lnTo>
                        <a:lnTo>
                          <a:pt x="15" y="107"/>
                        </a:lnTo>
                        <a:lnTo>
                          <a:pt x="17" y="114"/>
                        </a:lnTo>
                        <a:lnTo>
                          <a:pt x="19" y="120"/>
                        </a:lnTo>
                        <a:lnTo>
                          <a:pt x="22" y="127"/>
                        </a:lnTo>
                        <a:lnTo>
                          <a:pt x="24" y="136"/>
                        </a:lnTo>
                        <a:lnTo>
                          <a:pt x="28" y="142"/>
                        </a:lnTo>
                        <a:lnTo>
                          <a:pt x="30" y="149"/>
                        </a:lnTo>
                        <a:lnTo>
                          <a:pt x="33" y="158"/>
                        </a:lnTo>
                        <a:lnTo>
                          <a:pt x="37" y="164"/>
                        </a:lnTo>
                        <a:lnTo>
                          <a:pt x="39" y="171"/>
                        </a:lnTo>
                        <a:lnTo>
                          <a:pt x="41" y="180"/>
                        </a:lnTo>
                        <a:lnTo>
                          <a:pt x="46" y="188"/>
                        </a:lnTo>
                        <a:lnTo>
                          <a:pt x="50" y="197"/>
                        </a:lnTo>
                        <a:lnTo>
                          <a:pt x="52" y="206"/>
                        </a:lnTo>
                        <a:lnTo>
                          <a:pt x="57" y="215"/>
                        </a:lnTo>
                        <a:lnTo>
                          <a:pt x="59" y="224"/>
                        </a:lnTo>
                        <a:lnTo>
                          <a:pt x="63" y="232"/>
                        </a:lnTo>
                        <a:lnTo>
                          <a:pt x="68" y="241"/>
                        </a:lnTo>
                        <a:lnTo>
                          <a:pt x="72" y="250"/>
                        </a:lnTo>
                        <a:lnTo>
                          <a:pt x="74" y="259"/>
                        </a:lnTo>
                        <a:lnTo>
                          <a:pt x="79" y="270"/>
                        </a:lnTo>
                        <a:lnTo>
                          <a:pt x="81" y="276"/>
                        </a:lnTo>
                        <a:lnTo>
                          <a:pt x="85" y="287"/>
                        </a:lnTo>
                        <a:lnTo>
                          <a:pt x="90" y="294"/>
                        </a:lnTo>
                        <a:lnTo>
                          <a:pt x="94" y="305"/>
                        </a:lnTo>
                        <a:lnTo>
                          <a:pt x="96" y="311"/>
                        </a:lnTo>
                        <a:lnTo>
                          <a:pt x="101" y="322"/>
                        </a:lnTo>
                        <a:lnTo>
                          <a:pt x="103" y="329"/>
                        </a:lnTo>
                        <a:lnTo>
                          <a:pt x="107" y="340"/>
                        </a:lnTo>
                        <a:lnTo>
                          <a:pt x="110" y="347"/>
                        </a:lnTo>
                        <a:lnTo>
                          <a:pt x="114" y="355"/>
                        </a:lnTo>
                        <a:lnTo>
                          <a:pt x="116" y="364"/>
                        </a:lnTo>
                        <a:lnTo>
                          <a:pt x="121" y="371"/>
                        </a:lnTo>
                        <a:lnTo>
                          <a:pt x="123" y="380"/>
                        </a:lnTo>
                        <a:lnTo>
                          <a:pt x="127" y="386"/>
                        </a:lnTo>
                        <a:lnTo>
                          <a:pt x="129" y="395"/>
                        </a:lnTo>
                        <a:lnTo>
                          <a:pt x="134" y="401"/>
                        </a:lnTo>
                        <a:lnTo>
                          <a:pt x="136" y="408"/>
                        </a:lnTo>
                        <a:lnTo>
                          <a:pt x="138" y="415"/>
                        </a:lnTo>
                        <a:lnTo>
                          <a:pt x="140" y="421"/>
                        </a:lnTo>
                        <a:lnTo>
                          <a:pt x="145" y="428"/>
                        </a:lnTo>
                        <a:lnTo>
                          <a:pt x="145" y="432"/>
                        </a:lnTo>
                        <a:lnTo>
                          <a:pt x="147" y="439"/>
                        </a:lnTo>
                        <a:lnTo>
                          <a:pt x="151" y="443"/>
                        </a:lnTo>
                        <a:lnTo>
                          <a:pt x="153" y="450"/>
                        </a:lnTo>
                        <a:lnTo>
                          <a:pt x="156" y="456"/>
                        </a:lnTo>
                        <a:lnTo>
                          <a:pt x="158" y="463"/>
                        </a:lnTo>
                        <a:lnTo>
                          <a:pt x="160" y="470"/>
                        </a:lnTo>
                        <a:lnTo>
                          <a:pt x="162" y="474"/>
                        </a:lnTo>
                        <a:lnTo>
                          <a:pt x="162" y="474"/>
                        </a:lnTo>
                        <a:lnTo>
                          <a:pt x="164" y="478"/>
                        </a:lnTo>
                        <a:lnTo>
                          <a:pt x="164" y="483"/>
                        </a:lnTo>
                        <a:lnTo>
                          <a:pt x="169" y="489"/>
                        </a:lnTo>
                        <a:lnTo>
                          <a:pt x="171" y="496"/>
                        </a:lnTo>
                        <a:lnTo>
                          <a:pt x="173" y="502"/>
                        </a:lnTo>
                        <a:lnTo>
                          <a:pt x="173" y="507"/>
                        </a:lnTo>
                        <a:lnTo>
                          <a:pt x="175" y="511"/>
                        </a:lnTo>
                        <a:lnTo>
                          <a:pt x="175" y="516"/>
                        </a:lnTo>
                        <a:lnTo>
                          <a:pt x="178" y="520"/>
                        </a:lnTo>
                        <a:lnTo>
                          <a:pt x="180" y="524"/>
                        </a:lnTo>
                        <a:lnTo>
                          <a:pt x="182" y="529"/>
                        </a:lnTo>
                        <a:lnTo>
                          <a:pt x="182" y="533"/>
                        </a:lnTo>
                        <a:lnTo>
                          <a:pt x="184" y="540"/>
                        </a:lnTo>
                        <a:lnTo>
                          <a:pt x="186" y="544"/>
                        </a:lnTo>
                        <a:lnTo>
                          <a:pt x="189" y="549"/>
                        </a:lnTo>
                        <a:lnTo>
                          <a:pt x="189" y="555"/>
                        </a:lnTo>
                        <a:lnTo>
                          <a:pt x="193" y="560"/>
                        </a:lnTo>
                        <a:lnTo>
                          <a:pt x="193" y="566"/>
                        </a:lnTo>
                        <a:lnTo>
                          <a:pt x="195" y="571"/>
                        </a:lnTo>
                        <a:lnTo>
                          <a:pt x="197" y="577"/>
                        </a:lnTo>
                        <a:lnTo>
                          <a:pt x="200" y="582"/>
                        </a:lnTo>
                        <a:lnTo>
                          <a:pt x="202" y="588"/>
                        </a:lnTo>
                        <a:lnTo>
                          <a:pt x="204" y="593"/>
                        </a:lnTo>
                        <a:lnTo>
                          <a:pt x="206" y="599"/>
                        </a:lnTo>
                        <a:lnTo>
                          <a:pt x="208" y="606"/>
                        </a:lnTo>
                        <a:lnTo>
                          <a:pt x="211" y="610"/>
                        </a:lnTo>
                        <a:lnTo>
                          <a:pt x="211" y="617"/>
                        </a:lnTo>
                        <a:lnTo>
                          <a:pt x="213" y="621"/>
                        </a:lnTo>
                        <a:lnTo>
                          <a:pt x="215" y="628"/>
                        </a:lnTo>
                        <a:lnTo>
                          <a:pt x="217" y="632"/>
                        </a:lnTo>
                        <a:lnTo>
                          <a:pt x="217" y="639"/>
                        </a:lnTo>
                        <a:lnTo>
                          <a:pt x="219" y="643"/>
                        </a:lnTo>
                        <a:lnTo>
                          <a:pt x="222" y="650"/>
                        </a:lnTo>
                        <a:lnTo>
                          <a:pt x="224" y="654"/>
                        </a:lnTo>
                        <a:lnTo>
                          <a:pt x="226" y="658"/>
                        </a:lnTo>
                        <a:lnTo>
                          <a:pt x="228" y="663"/>
                        </a:lnTo>
                        <a:lnTo>
                          <a:pt x="228" y="669"/>
                        </a:lnTo>
                        <a:lnTo>
                          <a:pt x="230" y="674"/>
                        </a:lnTo>
                        <a:lnTo>
                          <a:pt x="233" y="678"/>
                        </a:lnTo>
                        <a:lnTo>
                          <a:pt x="235" y="683"/>
                        </a:lnTo>
                        <a:lnTo>
                          <a:pt x="237" y="687"/>
                        </a:lnTo>
                        <a:lnTo>
                          <a:pt x="239" y="696"/>
                        </a:lnTo>
                        <a:lnTo>
                          <a:pt x="241" y="702"/>
                        </a:lnTo>
                        <a:lnTo>
                          <a:pt x="244" y="709"/>
                        </a:lnTo>
                        <a:lnTo>
                          <a:pt x="246" y="715"/>
                        </a:lnTo>
                        <a:lnTo>
                          <a:pt x="248" y="720"/>
                        </a:lnTo>
                        <a:lnTo>
                          <a:pt x="250" y="724"/>
                        </a:lnTo>
                        <a:lnTo>
                          <a:pt x="252" y="726"/>
                        </a:lnTo>
                        <a:lnTo>
                          <a:pt x="252" y="729"/>
                        </a:lnTo>
                        <a:lnTo>
                          <a:pt x="255" y="729"/>
                        </a:lnTo>
                        <a:lnTo>
                          <a:pt x="257" y="729"/>
                        </a:lnTo>
                        <a:lnTo>
                          <a:pt x="261" y="729"/>
                        </a:lnTo>
                        <a:lnTo>
                          <a:pt x="268" y="729"/>
                        </a:lnTo>
                        <a:lnTo>
                          <a:pt x="274" y="729"/>
                        </a:lnTo>
                        <a:lnTo>
                          <a:pt x="283" y="726"/>
                        </a:lnTo>
                        <a:lnTo>
                          <a:pt x="288" y="726"/>
                        </a:lnTo>
                        <a:lnTo>
                          <a:pt x="292" y="726"/>
                        </a:lnTo>
                        <a:lnTo>
                          <a:pt x="299" y="724"/>
                        </a:lnTo>
                        <a:lnTo>
                          <a:pt x="305" y="724"/>
                        </a:lnTo>
                        <a:lnTo>
                          <a:pt x="309" y="724"/>
                        </a:lnTo>
                        <a:lnTo>
                          <a:pt x="314" y="722"/>
                        </a:lnTo>
                        <a:lnTo>
                          <a:pt x="320" y="722"/>
                        </a:lnTo>
                        <a:lnTo>
                          <a:pt x="327" y="720"/>
                        </a:lnTo>
                        <a:lnTo>
                          <a:pt x="331" y="720"/>
                        </a:lnTo>
                        <a:lnTo>
                          <a:pt x="340" y="718"/>
                        </a:lnTo>
                        <a:lnTo>
                          <a:pt x="347" y="715"/>
                        </a:lnTo>
                        <a:lnTo>
                          <a:pt x="353" y="715"/>
                        </a:lnTo>
                        <a:lnTo>
                          <a:pt x="360" y="713"/>
                        </a:lnTo>
                        <a:lnTo>
                          <a:pt x="367" y="713"/>
                        </a:lnTo>
                        <a:lnTo>
                          <a:pt x="373" y="711"/>
                        </a:lnTo>
                        <a:lnTo>
                          <a:pt x="382" y="709"/>
                        </a:lnTo>
                        <a:lnTo>
                          <a:pt x="389" y="709"/>
                        </a:lnTo>
                        <a:lnTo>
                          <a:pt x="395" y="707"/>
                        </a:lnTo>
                        <a:lnTo>
                          <a:pt x="402" y="705"/>
                        </a:lnTo>
                        <a:lnTo>
                          <a:pt x="411" y="705"/>
                        </a:lnTo>
                        <a:lnTo>
                          <a:pt x="417" y="702"/>
                        </a:lnTo>
                        <a:lnTo>
                          <a:pt x="424" y="702"/>
                        </a:lnTo>
                        <a:lnTo>
                          <a:pt x="430" y="700"/>
                        </a:lnTo>
                        <a:lnTo>
                          <a:pt x="437" y="698"/>
                        </a:lnTo>
                        <a:lnTo>
                          <a:pt x="446" y="696"/>
                        </a:lnTo>
                        <a:lnTo>
                          <a:pt x="452" y="696"/>
                        </a:lnTo>
                        <a:lnTo>
                          <a:pt x="459" y="694"/>
                        </a:lnTo>
                        <a:lnTo>
                          <a:pt x="465" y="691"/>
                        </a:lnTo>
                        <a:lnTo>
                          <a:pt x="472" y="689"/>
                        </a:lnTo>
                        <a:lnTo>
                          <a:pt x="479" y="689"/>
                        </a:lnTo>
                        <a:lnTo>
                          <a:pt x="485" y="687"/>
                        </a:lnTo>
                        <a:lnTo>
                          <a:pt x="492" y="685"/>
                        </a:lnTo>
                        <a:lnTo>
                          <a:pt x="498" y="685"/>
                        </a:lnTo>
                        <a:lnTo>
                          <a:pt x="503" y="683"/>
                        </a:lnTo>
                        <a:lnTo>
                          <a:pt x="509" y="680"/>
                        </a:lnTo>
                        <a:lnTo>
                          <a:pt x="514" y="680"/>
                        </a:lnTo>
                        <a:lnTo>
                          <a:pt x="518" y="678"/>
                        </a:lnTo>
                        <a:lnTo>
                          <a:pt x="525" y="678"/>
                        </a:lnTo>
                        <a:lnTo>
                          <a:pt x="529" y="676"/>
                        </a:lnTo>
                        <a:lnTo>
                          <a:pt x="534" y="674"/>
                        </a:lnTo>
                        <a:lnTo>
                          <a:pt x="542" y="672"/>
                        </a:lnTo>
                        <a:lnTo>
                          <a:pt x="549" y="672"/>
                        </a:lnTo>
                        <a:lnTo>
                          <a:pt x="553" y="667"/>
                        </a:lnTo>
                        <a:lnTo>
                          <a:pt x="558" y="667"/>
                        </a:lnTo>
                        <a:lnTo>
                          <a:pt x="560" y="665"/>
                        </a:lnTo>
                        <a:lnTo>
                          <a:pt x="562" y="665"/>
                        </a:lnTo>
                        <a:lnTo>
                          <a:pt x="560" y="663"/>
                        </a:lnTo>
                        <a:lnTo>
                          <a:pt x="560" y="656"/>
                        </a:lnTo>
                        <a:lnTo>
                          <a:pt x="558" y="654"/>
                        </a:lnTo>
                        <a:lnTo>
                          <a:pt x="558" y="650"/>
                        </a:lnTo>
                        <a:lnTo>
                          <a:pt x="558" y="645"/>
                        </a:lnTo>
                        <a:lnTo>
                          <a:pt x="556" y="641"/>
                        </a:lnTo>
                        <a:lnTo>
                          <a:pt x="553" y="634"/>
                        </a:lnTo>
                        <a:lnTo>
                          <a:pt x="551" y="628"/>
                        </a:lnTo>
                        <a:lnTo>
                          <a:pt x="551" y="621"/>
                        </a:lnTo>
                        <a:lnTo>
                          <a:pt x="549" y="617"/>
                        </a:lnTo>
                        <a:lnTo>
                          <a:pt x="547" y="608"/>
                        </a:lnTo>
                        <a:lnTo>
                          <a:pt x="545" y="601"/>
                        </a:lnTo>
                        <a:lnTo>
                          <a:pt x="542" y="593"/>
                        </a:lnTo>
                        <a:lnTo>
                          <a:pt x="540" y="586"/>
                        </a:lnTo>
                        <a:lnTo>
                          <a:pt x="538" y="577"/>
                        </a:lnTo>
                        <a:lnTo>
                          <a:pt x="536" y="568"/>
                        </a:lnTo>
                        <a:lnTo>
                          <a:pt x="531" y="557"/>
                        </a:lnTo>
                        <a:lnTo>
                          <a:pt x="529" y="549"/>
                        </a:lnTo>
                        <a:lnTo>
                          <a:pt x="527" y="540"/>
                        </a:lnTo>
                        <a:lnTo>
                          <a:pt x="525" y="529"/>
                        </a:lnTo>
                        <a:lnTo>
                          <a:pt x="523" y="520"/>
                        </a:lnTo>
                        <a:lnTo>
                          <a:pt x="518" y="509"/>
                        </a:lnTo>
                        <a:lnTo>
                          <a:pt x="516" y="498"/>
                        </a:lnTo>
                        <a:lnTo>
                          <a:pt x="512" y="487"/>
                        </a:lnTo>
                        <a:lnTo>
                          <a:pt x="509" y="478"/>
                        </a:lnTo>
                        <a:lnTo>
                          <a:pt x="507" y="467"/>
                        </a:lnTo>
                        <a:lnTo>
                          <a:pt x="503" y="454"/>
                        </a:lnTo>
                        <a:lnTo>
                          <a:pt x="501" y="445"/>
                        </a:lnTo>
                        <a:lnTo>
                          <a:pt x="498" y="432"/>
                        </a:lnTo>
                        <a:lnTo>
                          <a:pt x="494" y="423"/>
                        </a:lnTo>
                        <a:lnTo>
                          <a:pt x="492" y="410"/>
                        </a:lnTo>
                        <a:lnTo>
                          <a:pt x="487" y="399"/>
                        </a:lnTo>
                        <a:lnTo>
                          <a:pt x="485" y="388"/>
                        </a:lnTo>
                        <a:lnTo>
                          <a:pt x="483" y="377"/>
                        </a:lnTo>
                        <a:lnTo>
                          <a:pt x="479" y="366"/>
                        </a:lnTo>
                        <a:lnTo>
                          <a:pt x="476" y="355"/>
                        </a:lnTo>
                        <a:lnTo>
                          <a:pt x="472" y="344"/>
                        </a:lnTo>
                        <a:lnTo>
                          <a:pt x="470" y="333"/>
                        </a:lnTo>
                        <a:lnTo>
                          <a:pt x="465" y="322"/>
                        </a:lnTo>
                        <a:lnTo>
                          <a:pt x="463" y="311"/>
                        </a:lnTo>
                        <a:lnTo>
                          <a:pt x="461" y="303"/>
                        </a:lnTo>
                        <a:lnTo>
                          <a:pt x="459" y="292"/>
                        </a:lnTo>
                        <a:lnTo>
                          <a:pt x="455" y="281"/>
                        </a:lnTo>
                        <a:lnTo>
                          <a:pt x="452" y="272"/>
                        </a:lnTo>
                        <a:lnTo>
                          <a:pt x="450" y="263"/>
                        </a:lnTo>
                        <a:lnTo>
                          <a:pt x="448" y="254"/>
                        </a:lnTo>
                        <a:lnTo>
                          <a:pt x="446" y="243"/>
                        </a:lnTo>
                        <a:lnTo>
                          <a:pt x="444" y="235"/>
                        </a:lnTo>
                        <a:lnTo>
                          <a:pt x="441" y="228"/>
                        </a:lnTo>
                        <a:lnTo>
                          <a:pt x="439" y="219"/>
                        </a:lnTo>
                        <a:lnTo>
                          <a:pt x="437" y="213"/>
                        </a:lnTo>
                        <a:lnTo>
                          <a:pt x="435" y="204"/>
                        </a:lnTo>
                        <a:lnTo>
                          <a:pt x="433" y="197"/>
                        </a:lnTo>
                        <a:lnTo>
                          <a:pt x="433" y="193"/>
                        </a:lnTo>
                        <a:lnTo>
                          <a:pt x="430" y="186"/>
                        </a:lnTo>
                        <a:lnTo>
                          <a:pt x="430" y="182"/>
                        </a:lnTo>
                        <a:lnTo>
                          <a:pt x="428" y="175"/>
                        </a:lnTo>
                        <a:lnTo>
                          <a:pt x="428" y="173"/>
                        </a:lnTo>
                        <a:lnTo>
                          <a:pt x="428" y="166"/>
                        </a:lnTo>
                        <a:lnTo>
                          <a:pt x="428" y="162"/>
                        </a:lnTo>
                        <a:lnTo>
                          <a:pt x="426" y="158"/>
                        </a:lnTo>
                        <a:lnTo>
                          <a:pt x="426" y="153"/>
                        </a:lnTo>
                        <a:lnTo>
                          <a:pt x="424" y="149"/>
                        </a:lnTo>
                        <a:lnTo>
                          <a:pt x="424" y="142"/>
                        </a:lnTo>
                        <a:lnTo>
                          <a:pt x="422" y="138"/>
                        </a:lnTo>
                        <a:lnTo>
                          <a:pt x="422" y="131"/>
                        </a:lnTo>
                        <a:lnTo>
                          <a:pt x="419" y="127"/>
                        </a:lnTo>
                        <a:lnTo>
                          <a:pt x="417" y="120"/>
                        </a:lnTo>
                        <a:lnTo>
                          <a:pt x="415" y="114"/>
                        </a:lnTo>
                        <a:lnTo>
                          <a:pt x="413" y="107"/>
                        </a:lnTo>
                        <a:lnTo>
                          <a:pt x="411" y="101"/>
                        </a:lnTo>
                        <a:lnTo>
                          <a:pt x="411" y="94"/>
                        </a:lnTo>
                        <a:lnTo>
                          <a:pt x="406" y="85"/>
                        </a:lnTo>
                        <a:lnTo>
                          <a:pt x="406" y="81"/>
                        </a:lnTo>
                        <a:lnTo>
                          <a:pt x="402" y="72"/>
                        </a:lnTo>
                        <a:lnTo>
                          <a:pt x="402" y="65"/>
                        </a:lnTo>
                        <a:lnTo>
                          <a:pt x="400" y="59"/>
                        </a:lnTo>
                        <a:lnTo>
                          <a:pt x="395" y="52"/>
                        </a:lnTo>
                        <a:lnTo>
                          <a:pt x="393" y="46"/>
                        </a:lnTo>
                        <a:lnTo>
                          <a:pt x="391" y="39"/>
                        </a:lnTo>
                        <a:lnTo>
                          <a:pt x="389" y="35"/>
                        </a:lnTo>
                        <a:lnTo>
                          <a:pt x="386" y="28"/>
                        </a:lnTo>
                        <a:lnTo>
                          <a:pt x="384" y="24"/>
                        </a:lnTo>
                        <a:lnTo>
                          <a:pt x="384" y="19"/>
                        </a:lnTo>
                        <a:lnTo>
                          <a:pt x="380" y="11"/>
                        </a:lnTo>
                        <a:lnTo>
                          <a:pt x="378" y="4"/>
                        </a:lnTo>
                        <a:lnTo>
                          <a:pt x="378" y="0"/>
                        </a:lnTo>
                        <a:lnTo>
                          <a:pt x="378" y="0"/>
                        </a:lnTo>
                        <a:lnTo>
                          <a:pt x="378" y="0"/>
                        </a:lnTo>
                        <a:close/>
                      </a:path>
                    </a:pathLst>
                  </a:custGeom>
                  <a:solidFill>
                    <a:srgbClr val="ff87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722"/>
                  <p:cNvSpPr/>
                  <p:nvPr/>
                </p:nvSpPr>
                <p:spPr>
                  <a:xfrm>
                    <a:off x="1099440" y="5187960"/>
                    <a:ext cx="358200" cy="180720"/>
                  </a:xfrm>
                  <a:custGeom>
                    <a:avLst/>
                    <a:gdLst>
                      <a:gd name="textAreaLeft" fmla="*/ 0 w 358200"/>
                      <a:gd name="textAreaRight" fmla="*/ 358560 w 358200"/>
                      <a:gd name="textAreaTop" fmla="*/ 0 h 180720"/>
                      <a:gd name="textAreaBottom" fmla="*/ 181080 h 180720"/>
                    </a:gdLst>
                    <a:ahLst/>
                    <a:rect l="textAreaLeft" t="textAreaTop" r="textAreaRight" b="textAreaBottom"/>
                    <a:pathLst>
                      <a:path w="503" h="248">
                        <a:moveTo>
                          <a:pt x="4" y="202"/>
                        </a:moveTo>
                        <a:lnTo>
                          <a:pt x="127" y="215"/>
                        </a:lnTo>
                        <a:lnTo>
                          <a:pt x="127" y="213"/>
                        </a:lnTo>
                        <a:lnTo>
                          <a:pt x="129" y="211"/>
                        </a:lnTo>
                        <a:lnTo>
                          <a:pt x="129" y="206"/>
                        </a:lnTo>
                        <a:lnTo>
                          <a:pt x="134" y="200"/>
                        </a:lnTo>
                        <a:lnTo>
                          <a:pt x="134" y="195"/>
                        </a:lnTo>
                        <a:lnTo>
                          <a:pt x="136" y="191"/>
                        </a:lnTo>
                        <a:lnTo>
                          <a:pt x="138" y="186"/>
                        </a:lnTo>
                        <a:lnTo>
                          <a:pt x="140" y="184"/>
                        </a:lnTo>
                        <a:lnTo>
                          <a:pt x="142" y="178"/>
                        </a:lnTo>
                        <a:lnTo>
                          <a:pt x="147" y="173"/>
                        </a:lnTo>
                        <a:lnTo>
                          <a:pt x="151" y="169"/>
                        </a:lnTo>
                        <a:lnTo>
                          <a:pt x="156" y="162"/>
                        </a:lnTo>
                        <a:lnTo>
                          <a:pt x="158" y="156"/>
                        </a:lnTo>
                        <a:lnTo>
                          <a:pt x="164" y="151"/>
                        </a:lnTo>
                        <a:lnTo>
                          <a:pt x="169" y="145"/>
                        </a:lnTo>
                        <a:lnTo>
                          <a:pt x="175" y="138"/>
                        </a:lnTo>
                        <a:lnTo>
                          <a:pt x="180" y="132"/>
                        </a:lnTo>
                        <a:lnTo>
                          <a:pt x="189" y="127"/>
                        </a:lnTo>
                        <a:lnTo>
                          <a:pt x="195" y="121"/>
                        </a:lnTo>
                        <a:lnTo>
                          <a:pt x="202" y="114"/>
                        </a:lnTo>
                        <a:lnTo>
                          <a:pt x="211" y="107"/>
                        </a:lnTo>
                        <a:lnTo>
                          <a:pt x="219" y="99"/>
                        </a:lnTo>
                        <a:lnTo>
                          <a:pt x="224" y="96"/>
                        </a:lnTo>
                        <a:lnTo>
                          <a:pt x="228" y="92"/>
                        </a:lnTo>
                        <a:lnTo>
                          <a:pt x="232" y="90"/>
                        </a:lnTo>
                        <a:lnTo>
                          <a:pt x="237" y="85"/>
                        </a:lnTo>
                        <a:lnTo>
                          <a:pt x="243" y="83"/>
                        </a:lnTo>
                        <a:lnTo>
                          <a:pt x="248" y="79"/>
                        </a:lnTo>
                        <a:lnTo>
                          <a:pt x="254" y="74"/>
                        </a:lnTo>
                        <a:lnTo>
                          <a:pt x="259" y="72"/>
                        </a:lnTo>
                        <a:lnTo>
                          <a:pt x="265" y="68"/>
                        </a:lnTo>
                        <a:lnTo>
                          <a:pt x="272" y="66"/>
                        </a:lnTo>
                        <a:lnTo>
                          <a:pt x="276" y="61"/>
                        </a:lnTo>
                        <a:lnTo>
                          <a:pt x="283" y="59"/>
                        </a:lnTo>
                        <a:lnTo>
                          <a:pt x="290" y="55"/>
                        </a:lnTo>
                        <a:lnTo>
                          <a:pt x="296" y="52"/>
                        </a:lnTo>
                        <a:lnTo>
                          <a:pt x="301" y="48"/>
                        </a:lnTo>
                        <a:lnTo>
                          <a:pt x="307" y="46"/>
                        </a:lnTo>
                        <a:lnTo>
                          <a:pt x="312" y="44"/>
                        </a:lnTo>
                        <a:lnTo>
                          <a:pt x="318" y="39"/>
                        </a:lnTo>
                        <a:lnTo>
                          <a:pt x="325" y="37"/>
                        </a:lnTo>
                        <a:lnTo>
                          <a:pt x="331" y="35"/>
                        </a:lnTo>
                        <a:lnTo>
                          <a:pt x="336" y="33"/>
                        </a:lnTo>
                        <a:lnTo>
                          <a:pt x="340" y="30"/>
                        </a:lnTo>
                        <a:lnTo>
                          <a:pt x="347" y="28"/>
                        </a:lnTo>
                        <a:lnTo>
                          <a:pt x="351" y="26"/>
                        </a:lnTo>
                        <a:lnTo>
                          <a:pt x="358" y="24"/>
                        </a:lnTo>
                        <a:lnTo>
                          <a:pt x="362" y="22"/>
                        </a:lnTo>
                        <a:lnTo>
                          <a:pt x="367" y="20"/>
                        </a:lnTo>
                        <a:lnTo>
                          <a:pt x="373" y="20"/>
                        </a:lnTo>
                        <a:lnTo>
                          <a:pt x="382" y="15"/>
                        </a:lnTo>
                        <a:lnTo>
                          <a:pt x="391" y="13"/>
                        </a:lnTo>
                        <a:lnTo>
                          <a:pt x="399" y="11"/>
                        </a:lnTo>
                        <a:lnTo>
                          <a:pt x="408" y="9"/>
                        </a:lnTo>
                        <a:lnTo>
                          <a:pt x="415" y="6"/>
                        </a:lnTo>
                        <a:lnTo>
                          <a:pt x="424" y="4"/>
                        </a:lnTo>
                        <a:lnTo>
                          <a:pt x="430" y="4"/>
                        </a:lnTo>
                        <a:lnTo>
                          <a:pt x="439" y="4"/>
                        </a:lnTo>
                        <a:lnTo>
                          <a:pt x="443" y="2"/>
                        </a:lnTo>
                        <a:lnTo>
                          <a:pt x="450" y="2"/>
                        </a:lnTo>
                        <a:lnTo>
                          <a:pt x="457" y="0"/>
                        </a:lnTo>
                        <a:lnTo>
                          <a:pt x="461" y="0"/>
                        </a:lnTo>
                        <a:lnTo>
                          <a:pt x="465" y="0"/>
                        </a:lnTo>
                        <a:lnTo>
                          <a:pt x="472" y="0"/>
                        </a:lnTo>
                        <a:lnTo>
                          <a:pt x="476" y="0"/>
                        </a:lnTo>
                        <a:lnTo>
                          <a:pt x="479" y="0"/>
                        </a:lnTo>
                        <a:lnTo>
                          <a:pt x="485" y="0"/>
                        </a:lnTo>
                        <a:lnTo>
                          <a:pt x="490" y="2"/>
                        </a:lnTo>
                        <a:lnTo>
                          <a:pt x="494" y="2"/>
                        </a:lnTo>
                        <a:lnTo>
                          <a:pt x="494" y="2"/>
                        </a:lnTo>
                        <a:lnTo>
                          <a:pt x="496" y="4"/>
                        </a:lnTo>
                        <a:lnTo>
                          <a:pt x="501" y="11"/>
                        </a:lnTo>
                        <a:lnTo>
                          <a:pt x="503" y="17"/>
                        </a:lnTo>
                        <a:lnTo>
                          <a:pt x="501" y="20"/>
                        </a:lnTo>
                        <a:lnTo>
                          <a:pt x="496" y="20"/>
                        </a:lnTo>
                        <a:lnTo>
                          <a:pt x="490" y="20"/>
                        </a:lnTo>
                        <a:lnTo>
                          <a:pt x="485" y="20"/>
                        </a:lnTo>
                        <a:lnTo>
                          <a:pt x="481" y="22"/>
                        </a:lnTo>
                        <a:lnTo>
                          <a:pt x="474" y="22"/>
                        </a:lnTo>
                        <a:lnTo>
                          <a:pt x="468" y="24"/>
                        </a:lnTo>
                        <a:lnTo>
                          <a:pt x="461" y="24"/>
                        </a:lnTo>
                        <a:lnTo>
                          <a:pt x="452" y="26"/>
                        </a:lnTo>
                        <a:lnTo>
                          <a:pt x="443" y="28"/>
                        </a:lnTo>
                        <a:lnTo>
                          <a:pt x="437" y="30"/>
                        </a:lnTo>
                        <a:lnTo>
                          <a:pt x="430" y="30"/>
                        </a:lnTo>
                        <a:lnTo>
                          <a:pt x="426" y="33"/>
                        </a:lnTo>
                        <a:lnTo>
                          <a:pt x="421" y="33"/>
                        </a:lnTo>
                        <a:lnTo>
                          <a:pt x="417" y="35"/>
                        </a:lnTo>
                        <a:lnTo>
                          <a:pt x="413" y="35"/>
                        </a:lnTo>
                        <a:lnTo>
                          <a:pt x="408" y="37"/>
                        </a:lnTo>
                        <a:lnTo>
                          <a:pt x="402" y="37"/>
                        </a:lnTo>
                        <a:lnTo>
                          <a:pt x="399" y="39"/>
                        </a:lnTo>
                        <a:lnTo>
                          <a:pt x="393" y="41"/>
                        </a:lnTo>
                        <a:lnTo>
                          <a:pt x="388" y="44"/>
                        </a:lnTo>
                        <a:lnTo>
                          <a:pt x="382" y="44"/>
                        </a:lnTo>
                        <a:lnTo>
                          <a:pt x="377" y="46"/>
                        </a:lnTo>
                        <a:lnTo>
                          <a:pt x="371" y="46"/>
                        </a:lnTo>
                        <a:lnTo>
                          <a:pt x="367" y="48"/>
                        </a:lnTo>
                        <a:lnTo>
                          <a:pt x="360" y="50"/>
                        </a:lnTo>
                        <a:lnTo>
                          <a:pt x="356" y="52"/>
                        </a:lnTo>
                        <a:lnTo>
                          <a:pt x="349" y="55"/>
                        </a:lnTo>
                        <a:lnTo>
                          <a:pt x="345" y="57"/>
                        </a:lnTo>
                        <a:lnTo>
                          <a:pt x="340" y="57"/>
                        </a:lnTo>
                        <a:lnTo>
                          <a:pt x="334" y="61"/>
                        </a:lnTo>
                        <a:lnTo>
                          <a:pt x="329" y="63"/>
                        </a:lnTo>
                        <a:lnTo>
                          <a:pt x="323" y="66"/>
                        </a:lnTo>
                        <a:lnTo>
                          <a:pt x="318" y="68"/>
                        </a:lnTo>
                        <a:lnTo>
                          <a:pt x="314" y="70"/>
                        </a:lnTo>
                        <a:lnTo>
                          <a:pt x="307" y="72"/>
                        </a:lnTo>
                        <a:lnTo>
                          <a:pt x="303" y="74"/>
                        </a:lnTo>
                        <a:lnTo>
                          <a:pt x="296" y="77"/>
                        </a:lnTo>
                        <a:lnTo>
                          <a:pt x="292" y="79"/>
                        </a:lnTo>
                        <a:lnTo>
                          <a:pt x="287" y="83"/>
                        </a:lnTo>
                        <a:lnTo>
                          <a:pt x="283" y="85"/>
                        </a:lnTo>
                        <a:lnTo>
                          <a:pt x="276" y="88"/>
                        </a:lnTo>
                        <a:lnTo>
                          <a:pt x="272" y="90"/>
                        </a:lnTo>
                        <a:lnTo>
                          <a:pt x="268" y="92"/>
                        </a:lnTo>
                        <a:lnTo>
                          <a:pt x="263" y="96"/>
                        </a:lnTo>
                        <a:lnTo>
                          <a:pt x="259" y="99"/>
                        </a:lnTo>
                        <a:lnTo>
                          <a:pt x="254" y="103"/>
                        </a:lnTo>
                        <a:lnTo>
                          <a:pt x="246" y="107"/>
                        </a:lnTo>
                        <a:lnTo>
                          <a:pt x="239" y="116"/>
                        </a:lnTo>
                        <a:lnTo>
                          <a:pt x="230" y="121"/>
                        </a:lnTo>
                        <a:lnTo>
                          <a:pt x="224" y="127"/>
                        </a:lnTo>
                        <a:lnTo>
                          <a:pt x="215" y="134"/>
                        </a:lnTo>
                        <a:lnTo>
                          <a:pt x="208" y="140"/>
                        </a:lnTo>
                        <a:lnTo>
                          <a:pt x="202" y="147"/>
                        </a:lnTo>
                        <a:lnTo>
                          <a:pt x="195" y="153"/>
                        </a:lnTo>
                        <a:lnTo>
                          <a:pt x="191" y="158"/>
                        </a:lnTo>
                        <a:lnTo>
                          <a:pt x="186" y="164"/>
                        </a:lnTo>
                        <a:lnTo>
                          <a:pt x="182" y="169"/>
                        </a:lnTo>
                        <a:lnTo>
                          <a:pt x="175" y="175"/>
                        </a:lnTo>
                        <a:lnTo>
                          <a:pt x="171" y="180"/>
                        </a:lnTo>
                        <a:lnTo>
                          <a:pt x="169" y="186"/>
                        </a:lnTo>
                        <a:lnTo>
                          <a:pt x="164" y="191"/>
                        </a:lnTo>
                        <a:lnTo>
                          <a:pt x="162" y="197"/>
                        </a:lnTo>
                        <a:lnTo>
                          <a:pt x="160" y="202"/>
                        </a:lnTo>
                        <a:lnTo>
                          <a:pt x="158" y="206"/>
                        </a:lnTo>
                        <a:lnTo>
                          <a:pt x="151" y="215"/>
                        </a:lnTo>
                        <a:lnTo>
                          <a:pt x="147" y="222"/>
                        </a:lnTo>
                        <a:lnTo>
                          <a:pt x="142" y="228"/>
                        </a:lnTo>
                        <a:lnTo>
                          <a:pt x="140" y="235"/>
                        </a:lnTo>
                        <a:lnTo>
                          <a:pt x="138" y="239"/>
                        </a:lnTo>
                        <a:lnTo>
                          <a:pt x="136" y="244"/>
                        </a:lnTo>
                        <a:lnTo>
                          <a:pt x="136" y="246"/>
                        </a:lnTo>
                        <a:lnTo>
                          <a:pt x="134" y="248"/>
                        </a:lnTo>
                        <a:lnTo>
                          <a:pt x="131" y="246"/>
                        </a:lnTo>
                        <a:lnTo>
                          <a:pt x="125" y="246"/>
                        </a:lnTo>
                        <a:lnTo>
                          <a:pt x="118" y="246"/>
                        </a:lnTo>
                        <a:lnTo>
                          <a:pt x="112" y="246"/>
                        </a:lnTo>
                        <a:lnTo>
                          <a:pt x="105" y="246"/>
                        </a:lnTo>
                        <a:lnTo>
                          <a:pt x="101" y="246"/>
                        </a:lnTo>
                        <a:lnTo>
                          <a:pt x="94" y="244"/>
                        </a:lnTo>
                        <a:lnTo>
                          <a:pt x="87" y="244"/>
                        </a:lnTo>
                        <a:lnTo>
                          <a:pt x="81" y="244"/>
                        </a:lnTo>
                        <a:lnTo>
                          <a:pt x="76" y="244"/>
                        </a:lnTo>
                        <a:lnTo>
                          <a:pt x="70" y="244"/>
                        </a:lnTo>
                        <a:lnTo>
                          <a:pt x="65" y="244"/>
                        </a:lnTo>
                        <a:lnTo>
                          <a:pt x="59" y="244"/>
                        </a:lnTo>
                        <a:lnTo>
                          <a:pt x="52" y="244"/>
                        </a:lnTo>
                        <a:lnTo>
                          <a:pt x="46" y="241"/>
                        </a:lnTo>
                        <a:lnTo>
                          <a:pt x="39" y="241"/>
                        </a:lnTo>
                        <a:lnTo>
                          <a:pt x="35" y="241"/>
                        </a:lnTo>
                        <a:lnTo>
                          <a:pt x="28" y="241"/>
                        </a:lnTo>
                        <a:lnTo>
                          <a:pt x="24" y="241"/>
                        </a:lnTo>
                        <a:lnTo>
                          <a:pt x="19" y="241"/>
                        </a:lnTo>
                        <a:lnTo>
                          <a:pt x="15" y="239"/>
                        </a:lnTo>
                        <a:lnTo>
                          <a:pt x="11" y="239"/>
                        </a:lnTo>
                        <a:lnTo>
                          <a:pt x="6" y="239"/>
                        </a:lnTo>
                        <a:lnTo>
                          <a:pt x="4" y="239"/>
                        </a:lnTo>
                        <a:lnTo>
                          <a:pt x="0" y="239"/>
                        </a:lnTo>
                        <a:lnTo>
                          <a:pt x="0" y="239"/>
                        </a:lnTo>
                        <a:lnTo>
                          <a:pt x="4" y="202"/>
                        </a:lnTo>
                        <a:lnTo>
                          <a:pt x="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723"/>
                  <p:cNvSpPr/>
                  <p:nvPr/>
                </p:nvSpPr>
                <p:spPr>
                  <a:xfrm>
                    <a:off x="1435680" y="5634720"/>
                    <a:ext cx="348840" cy="160560"/>
                  </a:xfrm>
                  <a:custGeom>
                    <a:avLst/>
                    <a:gdLst>
                      <a:gd name="textAreaLeft" fmla="*/ 0 w 348840"/>
                      <a:gd name="textAreaRight" fmla="*/ 349200 w 348840"/>
                      <a:gd name="textAreaTop" fmla="*/ 0 h 160560"/>
                      <a:gd name="textAreaBottom" fmla="*/ 160920 h 160560"/>
                    </a:gdLst>
                    <a:ahLst/>
                    <a:rect l="textAreaLeft" t="textAreaTop" r="textAreaRight" b="textAreaBottom"/>
                    <a:pathLst>
                      <a:path w="490" h="220">
                        <a:moveTo>
                          <a:pt x="11" y="0"/>
                        </a:moveTo>
                        <a:lnTo>
                          <a:pt x="13" y="3"/>
                        </a:lnTo>
                        <a:lnTo>
                          <a:pt x="20" y="7"/>
                        </a:lnTo>
                        <a:lnTo>
                          <a:pt x="24" y="9"/>
                        </a:lnTo>
                        <a:lnTo>
                          <a:pt x="29" y="11"/>
                        </a:lnTo>
                        <a:lnTo>
                          <a:pt x="35" y="16"/>
                        </a:lnTo>
                        <a:lnTo>
                          <a:pt x="42" y="18"/>
                        </a:lnTo>
                        <a:lnTo>
                          <a:pt x="48" y="22"/>
                        </a:lnTo>
                        <a:lnTo>
                          <a:pt x="57" y="25"/>
                        </a:lnTo>
                        <a:lnTo>
                          <a:pt x="64" y="29"/>
                        </a:lnTo>
                        <a:lnTo>
                          <a:pt x="72" y="36"/>
                        </a:lnTo>
                        <a:lnTo>
                          <a:pt x="77" y="38"/>
                        </a:lnTo>
                        <a:lnTo>
                          <a:pt x="81" y="40"/>
                        </a:lnTo>
                        <a:lnTo>
                          <a:pt x="86" y="42"/>
                        </a:lnTo>
                        <a:lnTo>
                          <a:pt x="92" y="44"/>
                        </a:lnTo>
                        <a:lnTo>
                          <a:pt x="97" y="47"/>
                        </a:lnTo>
                        <a:lnTo>
                          <a:pt x="101" y="51"/>
                        </a:lnTo>
                        <a:lnTo>
                          <a:pt x="105" y="53"/>
                        </a:lnTo>
                        <a:lnTo>
                          <a:pt x="112" y="55"/>
                        </a:lnTo>
                        <a:lnTo>
                          <a:pt x="116" y="58"/>
                        </a:lnTo>
                        <a:lnTo>
                          <a:pt x="123" y="60"/>
                        </a:lnTo>
                        <a:lnTo>
                          <a:pt x="127" y="62"/>
                        </a:lnTo>
                        <a:lnTo>
                          <a:pt x="132" y="64"/>
                        </a:lnTo>
                        <a:lnTo>
                          <a:pt x="136" y="66"/>
                        </a:lnTo>
                        <a:lnTo>
                          <a:pt x="143" y="69"/>
                        </a:lnTo>
                        <a:lnTo>
                          <a:pt x="147" y="71"/>
                        </a:lnTo>
                        <a:lnTo>
                          <a:pt x="154" y="75"/>
                        </a:lnTo>
                        <a:lnTo>
                          <a:pt x="158" y="77"/>
                        </a:lnTo>
                        <a:lnTo>
                          <a:pt x="163" y="79"/>
                        </a:lnTo>
                        <a:lnTo>
                          <a:pt x="169" y="82"/>
                        </a:lnTo>
                        <a:lnTo>
                          <a:pt x="174" y="84"/>
                        </a:lnTo>
                        <a:lnTo>
                          <a:pt x="178" y="86"/>
                        </a:lnTo>
                        <a:lnTo>
                          <a:pt x="185" y="90"/>
                        </a:lnTo>
                        <a:lnTo>
                          <a:pt x="189" y="93"/>
                        </a:lnTo>
                        <a:lnTo>
                          <a:pt x="196" y="95"/>
                        </a:lnTo>
                        <a:lnTo>
                          <a:pt x="200" y="97"/>
                        </a:lnTo>
                        <a:lnTo>
                          <a:pt x="207" y="99"/>
                        </a:lnTo>
                        <a:lnTo>
                          <a:pt x="211" y="99"/>
                        </a:lnTo>
                        <a:lnTo>
                          <a:pt x="215" y="104"/>
                        </a:lnTo>
                        <a:lnTo>
                          <a:pt x="222" y="104"/>
                        </a:lnTo>
                        <a:lnTo>
                          <a:pt x="226" y="106"/>
                        </a:lnTo>
                        <a:lnTo>
                          <a:pt x="231" y="108"/>
                        </a:lnTo>
                        <a:lnTo>
                          <a:pt x="235" y="110"/>
                        </a:lnTo>
                        <a:lnTo>
                          <a:pt x="244" y="115"/>
                        </a:lnTo>
                        <a:lnTo>
                          <a:pt x="253" y="119"/>
                        </a:lnTo>
                        <a:lnTo>
                          <a:pt x="261" y="121"/>
                        </a:lnTo>
                        <a:lnTo>
                          <a:pt x="270" y="126"/>
                        </a:lnTo>
                        <a:lnTo>
                          <a:pt x="279" y="128"/>
                        </a:lnTo>
                        <a:lnTo>
                          <a:pt x="286" y="130"/>
                        </a:lnTo>
                        <a:lnTo>
                          <a:pt x="294" y="132"/>
                        </a:lnTo>
                        <a:lnTo>
                          <a:pt x="303" y="134"/>
                        </a:lnTo>
                        <a:lnTo>
                          <a:pt x="312" y="139"/>
                        </a:lnTo>
                        <a:lnTo>
                          <a:pt x="321" y="141"/>
                        </a:lnTo>
                        <a:lnTo>
                          <a:pt x="325" y="143"/>
                        </a:lnTo>
                        <a:lnTo>
                          <a:pt x="330" y="143"/>
                        </a:lnTo>
                        <a:lnTo>
                          <a:pt x="334" y="145"/>
                        </a:lnTo>
                        <a:lnTo>
                          <a:pt x="341" y="148"/>
                        </a:lnTo>
                        <a:lnTo>
                          <a:pt x="347" y="150"/>
                        </a:lnTo>
                        <a:lnTo>
                          <a:pt x="358" y="152"/>
                        </a:lnTo>
                        <a:lnTo>
                          <a:pt x="360" y="154"/>
                        </a:lnTo>
                        <a:lnTo>
                          <a:pt x="367" y="156"/>
                        </a:lnTo>
                        <a:lnTo>
                          <a:pt x="371" y="156"/>
                        </a:lnTo>
                        <a:lnTo>
                          <a:pt x="376" y="159"/>
                        </a:lnTo>
                        <a:lnTo>
                          <a:pt x="384" y="161"/>
                        </a:lnTo>
                        <a:lnTo>
                          <a:pt x="393" y="165"/>
                        </a:lnTo>
                        <a:lnTo>
                          <a:pt x="398" y="165"/>
                        </a:lnTo>
                        <a:lnTo>
                          <a:pt x="402" y="167"/>
                        </a:lnTo>
                        <a:lnTo>
                          <a:pt x="406" y="167"/>
                        </a:lnTo>
                        <a:lnTo>
                          <a:pt x="411" y="170"/>
                        </a:lnTo>
                        <a:lnTo>
                          <a:pt x="420" y="172"/>
                        </a:lnTo>
                        <a:lnTo>
                          <a:pt x="426" y="174"/>
                        </a:lnTo>
                        <a:lnTo>
                          <a:pt x="435" y="176"/>
                        </a:lnTo>
                        <a:lnTo>
                          <a:pt x="442" y="181"/>
                        </a:lnTo>
                        <a:lnTo>
                          <a:pt x="448" y="181"/>
                        </a:lnTo>
                        <a:lnTo>
                          <a:pt x="455" y="185"/>
                        </a:lnTo>
                        <a:lnTo>
                          <a:pt x="461" y="185"/>
                        </a:lnTo>
                        <a:lnTo>
                          <a:pt x="466" y="187"/>
                        </a:lnTo>
                        <a:lnTo>
                          <a:pt x="470" y="189"/>
                        </a:lnTo>
                        <a:lnTo>
                          <a:pt x="477" y="191"/>
                        </a:lnTo>
                        <a:lnTo>
                          <a:pt x="479" y="191"/>
                        </a:lnTo>
                        <a:lnTo>
                          <a:pt x="483" y="194"/>
                        </a:lnTo>
                        <a:lnTo>
                          <a:pt x="488" y="194"/>
                        </a:lnTo>
                        <a:lnTo>
                          <a:pt x="490" y="196"/>
                        </a:lnTo>
                        <a:lnTo>
                          <a:pt x="481" y="220"/>
                        </a:lnTo>
                        <a:lnTo>
                          <a:pt x="479" y="220"/>
                        </a:lnTo>
                        <a:lnTo>
                          <a:pt x="472" y="218"/>
                        </a:lnTo>
                        <a:lnTo>
                          <a:pt x="466" y="216"/>
                        </a:lnTo>
                        <a:lnTo>
                          <a:pt x="461" y="213"/>
                        </a:lnTo>
                        <a:lnTo>
                          <a:pt x="455" y="211"/>
                        </a:lnTo>
                        <a:lnTo>
                          <a:pt x="448" y="209"/>
                        </a:lnTo>
                        <a:lnTo>
                          <a:pt x="439" y="205"/>
                        </a:lnTo>
                        <a:lnTo>
                          <a:pt x="431" y="202"/>
                        </a:lnTo>
                        <a:lnTo>
                          <a:pt x="426" y="202"/>
                        </a:lnTo>
                        <a:lnTo>
                          <a:pt x="422" y="200"/>
                        </a:lnTo>
                        <a:lnTo>
                          <a:pt x="417" y="198"/>
                        </a:lnTo>
                        <a:lnTo>
                          <a:pt x="413" y="198"/>
                        </a:lnTo>
                        <a:lnTo>
                          <a:pt x="409" y="194"/>
                        </a:lnTo>
                        <a:lnTo>
                          <a:pt x="404" y="194"/>
                        </a:lnTo>
                        <a:lnTo>
                          <a:pt x="398" y="191"/>
                        </a:lnTo>
                        <a:lnTo>
                          <a:pt x="393" y="189"/>
                        </a:lnTo>
                        <a:lnTo>
                          <a:pt x="387" y="187"/>
                        </a:lnTo>
                        <a:lnTo>
                          <a:pt x="382" y="187"/>
                        </a:lnTo>
                        <a:lnTo>
                          <a:pt x="378" y="185"/>
                        </a:lnTo>
                        <a:lnTo>
                          <a:pt x="371" y="183"/>
                        </a:lnTo>
                        <a:lnTo>
                          <a:pt x="367" y="181"/>
                        </a:lnTo>
                        <a:lnTo>
                          <a:pt x="360" y="178"/>
                        </a:lnTo>
                        <a:lnTo>
                          <a:pt x="354" y="176"/>
                        </a:lnTo>
                        <a:lnTo>
                          <a:pt x="349" y="174"/>
                        </a:lnTo>
                        <a:lnTo>
                          <a:pt x="343" y="172"/>
                        </a:lnTo>
                        <a:lnTo>
                          <a:pt x="338" y="170"/>
                        </a:lnTo>
                        <a:lnTo>
                          <a:pt x="332" y="170"/>
                        </a:lnTo>
                        <a:lnTo>
                          <a:pt x="327" y="167"/>
                        </a:lnTo>
                        <a:lnTo>
                          <a:pt x="321" y="165"/>
                        </a:lnTo>
                        <a:lnTo>
                          <a:pt x="316" y="163"/>
                        </a:lnTo>
                        <a:lnTo>
                          <a:pt x="310" y="161"/>
                        </a:lnTo>
                        <a:lnTo>
                          <a:pt x="305" y="161"/>
                        </a:lnTo>
                        <a:lnTo>
                          <a:pt x="301" y="156"/>
                        </a:lnTo>
                        <a:lnTo>
                          <a:pt x="294" y="156"/>
                        </a:lnTo>
                        <a:lnTo>
                          <a:pt x="290" y="154"/>
                        </a:lnTo>
                        <a:lnTo>
                          <a:pt x="286" y="152"/>
                        </a:lnTo>
                        <a:lnTo>
                          <a:pt x="281" y="150"/>
                        </a:lnTo>
                        <a:lnTo>
                          <a:pt x="275" y="150"/>
                        </a:lnTo>
                        <a:lnTo>
                          <a:pt x="270" y="148"/>
                        </a:lnTo>
                        <a:lnTo>
                          <a:pt x="266" y="145"/>
                        </a:lnTo>
                        <a:lnTo>
                          <a:pt x="255" y="143"/>
                        </a:lnTo>
                        <a:lnTo>
                          <a:pt x="248" y="139"/>
                        </a:lnTo>
                        <a:lnTo>
                          <a:pt x="239" y="137"/>
                        </a:lnTo>
                        <a:lnTo>
                          <a:pt x="233" y="134"/>
                        </a:lnTo>
                        <a:lnTo>
                          <a:pt x="226" y="132"/>
                        </a:lnTo>
                        <a:lnTo>
                          <a:pt x="222" y="130"/>
                        </a:lnTo>
                        <a:lnTo>
                          <a:pt x="213" y="128"/>
                        </a:lnTo>
                        <a:lnTo>
                          <a:pt x="209" y="126"/>
                        </a:lnTo>
                        <a:lnTo>
                          <a:pt x="202" y="121"/>
                        </a:lnTo>
                        <a:lnTo>
                          <a:pt x="196" y="119"/>
                        </a:lnTo>
                        <a:lnTo>
                          <a:pt x="187" y="117"/>
                        </a:lnTo>
                        <a:lnTo>
                          <a:pt x="178" y="112"/>
                        </a:lnTo>
                        <a:lnTo>
                          <a:pt x="171" y="110"/>
                        </a:lnTo>
                        <a:lnTo>
                          <a:pt x="163" y="106"/>
                        </a:lnTo>
                        <a:lnTo>
                          <a:pt x="158" y="104"/>
                        </a:lnTo>
                        <a:lnTo>
                          <a:pt x="154" y="101"/>
                        </a:lnTo>
                        <a:lnTo>
                          <a:pt x="147" y="99"/>
                        </a:lnTo>
                        <a:lnTo>
                          <a:pt x="145" y="97"/>
                        </a:lnTo>
                        <a:lnTo>
                          <a:pt x="138" y="95"/>
                        </a:lnTo>
                        <a:lnTo>
                          <a:pt x="134" y="93"/>
                        </a:lnTo>
                        <a:lnTo>
                          <a:pt x="130" y="90"/>
                        </a:lnTo>
                        <a:lnTo>
                          <a:pt x="125" y="90"/>
                        </a:lnTo>
                        <a:lnTo>
                          <a:pt x="121" y="86"/>
                        </a:lnTo>
                        <a:lnTo>
                          <a:pt x="116" y="86"/>
                        </a:lnTo>
                        <a:lnTo>
                          <a:pt x="110" y="82"/>
                        </a:lnTo>
                        <a:lnTo>
                          <a:pt x="105" y="82"/>
                        </a:lnTo>
                        <a:lnTo>
                          <a:pt x="97" y="77"/>
                        </a:lnTo>
                        <a:lnTo>
                          <a:pt x="88" y="73"/>
                        </a:lnTo>
                        <a:lnTo>
                          <a:pt x="83" y="71"/>
                        </a:lnTo>
                        <a:lnTo>
                          <a:pt x="79" y="69"/>
                        </a:lnTo>
                        <a:lnTo>
                          <a:pt x="75" y="66"/>
                        </a:lnTo>
                        <a:lnTo>
                          <a:pt x="70" y="64"/>
                        </a:lnTo>
                        <a:lnTo>
                          <a:pt x="61" y="60"/>
                        </a:lnTo>
                        <a:lnTo>
                          <a:pt x="55" y="58"/>
                        </a:lnTo>
                        <a:lnTo>
                          <a:pt x="46" y="51"/>
                        </a:lnTo>
                        <a:lnTo>
                          <a:pt x="40" y="49"/>
                        </a:lnTo>
                        <a:lnTo>
                          <a:pt x="31" y="44"/>
                        </a:lnTo>
                        <a:lnTo>
                          <a:pt x="26" y="42"/>
                        </a:lnTo>
                        <a:lnTo>
                          <a:pt x="20" y="40"/>
                        </a:lnTo>
                        <a:lnTo>
                          <a:pt x="15" y="36"/>
                        </a:lnTo>
                        <a:lnTo>
                          <a:pt x="9" y="33"/>
                        </a:lnTo>
                        <a:lnTo>
                          <a:pt x="7" y="31"/>
                        </a:lnTo>
                        <a:lnTo>
                          <a:pt x="2" y="27"/>
                        </a:lnTo>
                        <a:lnTo>
                          <a:pt x="0" y="25"/>
                        </a:lnTo>
                        <a:lnTo>
                          <a:pt x="2" y="18"/>
                        </a:lnTo>
                        <a:lnTo>
                          <a:pt x="7" y="9"/>
                        </a:lnTo>
                        <a:lnTo>
                          <a:pt x="11"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724"/>
                  <p:cNvSpPr/>
                  <p:nvPr/>
                </p:nvSpPr>
                <p:spPr>
                  <a:xfrm>
                    <a:off x="1410840" y="4722480"/>
                    <a:ext cx="703800" cy="501480"/>
                  </a:xfrm>
                  <a:custGeom>
                    <a:avLst/>
                    <a:gdLst>
                      <a:gd name="textAreaLeft" fmla="*/ 0 w 703800"/>
                      <a:gd name="textAreaRight" fmla="*/ 704160 w 703800"/>
                      <a:gd name="textAreaTop" fmla="*/ 0 h 501480"/>
                      <a:gd name="textAreaBottom" fmla="*/ 501840 h 501480"/>
                    </a:gdLst>
                    <a:ahLst/>
                    <a:rect l="textAreaLeft" t="textAreaTop" r="textAreaRight" b="textAreaBottom"/>
                    <a:pathLst>
                      <a:path w="989" h="687">
                        <a:moveTo>
                          <a:pt x="971" y="17"/>
                        </a:moveTo>
                        <a:lnTo>
                          <a:pt x="824" y="86"/>
                        </a:lnTo>
                        <a:lnTo>
                          <a:pt x="824" y="83"/>
                        </a:lnTo>
                        <a:lnTo>
                          <a:pt x="819" y="81"/>
                        </a:lnTo>
                        <a:lnTo>
                          <a:pt x="815" y="79"/>
                        </a:lnTo>
                        <a:lnTo>
                          <a:pt x="808" y="75"/>
                        </a:lnTo>
                        <a:lnTo>
                          <a:pt x="804" y="72"/>
                        </a:lnTo>
                        <a:lnTo>
                          <a:pt x="800" y="70"/>
                        </a:lnTo>
                        <a:lnTo>
                          <a:pt x="795" y="68"/>
                        </a:lnTo>
                        <a:lnTo>
                          <a:pt x="791" y="66"/>
                        </a:lnTo>
                        <a:lnTo>
                          <a:pt x="784" y="64"/>
                        </a:lnTo>
                        <a:lnTo>
                          <a:pt x="780" y="61"/>
                        </a:lnTo>
                        <a:lnTo>
                          <a:pt x="773" y="59"/>
                        </a:lnTo>
                        <a:lnTo>
                          <a:pt x="767" y="57"/>
                        </a:lnTo>
                        <a:lnTo>
                          <a:pt x="760" y="53"/>
                        </a:lnTo>
                        <a:lnTo>
                          <a:pt x="753" y="50"/>
                        </a:lnTo>
                        <a:lnTo>
                          <a:pt x="747" y="46"/>
                        </a:lnTo>
                        <a:lnTo>
                          <a:pt x="740" y="44"/>
                        </a:lnTo>
                        <a:lnTo>
                          <a:pt x="731" y="39"/>
                        </a:lnTo>
                        <a:lnTo>
                          <a:pt x="723" y="37"/>
                        </a:lnTo>
                        <a:lnTo>
                          <a:pt x="714" y="35"/>
                        </a:lnTo>
                        <a:lnTo>
                          <a:pt x="707" y="33"/>
                        </a:lnTo>
                        <a:lnTo>
                          <a:pt x="699" y="28"/>
                        </a:lnTo>
                        <a:lnTo>
                          <a:pt x="690" y="26"/>
                        </a:lnTo>
                        <a:lnTo>
                          <a:pt x="681" y="22"/>
                        </a:lnTo>
                        <a:lnTo>
                          <a:pt x="672" y="20"/>
                        </a:lnTo>
                        <a:lnTo>
                          <a:pt x="668" y="17"/>
                        </a:lnTo>
                        <a:lnTo>
                          <a:pt x="663" y="17"/>
                        </a:lnTo>
                        <a:lnTo>
                          <a:pt x="659" y="15"/>
                        </a:lnTo>
                        <a:lnTo>
                          <a:pt x="655" y="15"/>
                        </a:lnTo>
                        <a:lnTo>
                          <a:pt x="646" y="13"/>
                        </a:lnTo>
                        <a:lnTo>
                          <a:pt x="637" y="11"/>
                        </a:lnTo>
                        <a:lnTo>
                          <a:pt x="633" y="11"/>
                        </a:lnTo>
                        <a:lnTo>
                          <a:pt x="626" y="9"/>
                        </a:lnTo>
                        <a:lnTo>
                          <a:pt x="624" y="9"/>
                        </a:lnTo>
                        <a:lnTo>
                          <a:pt x="619" y="9"/>
                        </a:lnTo>
                        <a:lnTo>
                          <a:pt x="613" y="6"/>
                        </a:lnTo>
                        <a:lnTo>
                          <a:pt x="608" y="6"/>
                        </a:lnTo>
                        <a:lnTo>
                          <a:pt x="604" y="4"/>
                        </a:lnTo>
                        <a:lnTo>
                          <a:pt x="600" y="4"/>
                        </a:lnTo>
                        <a:lnTo>
                          <a:pt x="591" y="4"/>
                        </a:lnTo>
                        <a:lnTo>
                          <a:pt x="582" y="2"/>
                        </a:lnTo>
                        <a:lnTo>
                          <a:pt x="573" y="2"/>
                        </a:lnTo>
                        <a:lnTo>
                          <a:pt x="567" y="2"/>
                        </a:lnTo>
                        <a:lnTo>
                          <a:pt x="558" y="0"/>
                        </a:lnTo>
                        <a:lnTo>
                          <a:pt x="549" y="0"/>
                        </a:lnTo>
                        <a:lnTo>
                          <a:pt x="540" y="0"/>
                        </a:lnTo>
                        <a:lnTo>
                          <a:pt x="534" y="0"/>
                        </a:lnTo>
                        <a:lnTo>
                          <a:pt x="525" y="0"/>
                        </a:lnTo>
                        <a:lnTo>
                          <a:pt x="516" y="0"/>
                        </a:lnTo>
                        <a:lnTo>
                          <a:pt x="510" y="0"/>
                        </a:lnTo>
                        <a:lnTo>
                          <a:pt x="503" y="0"/>
                        </a:lnTo>
                        <a:lnTo>
                          <a:pt x="494" y="0"/>
                        </a:lnTo>
                        <a:lnTo>
                          <a:pt x="488" y="0"/>
                        </a:lnTo>
                        <a:lnTo>
                          <a:pt x="481" y="0"/>
                        </a:lnTo>
                        <a:lnTo>
                          <a:pt x="474" y="0"/>
                        </a:lnTo>
                        <a:lnTo>
                          <a:pt x="468" y="0"/>
                        </a:lnTo>
                        <a:lnTo>
                          <a:pt x="461" y="0"/>
                        </a:lnTo>
                        <a:lnTo>
                          <a:pt x="455" y="0"/>
                        </a:lnTo>
                        <a:lnTo>
                          <a:pt x="450" y="0"/>
                        </a:lnTo>
                        <a:lnTo>
                          <a:pt x="446" y="0"/>
                        </a:lnTo>
                        <a:lnTo>
                          <a:pt x="439" y="0"/>
                        </a:lnTo>
                        <a:lnTo>
                          <a:pt x="435" y="0"/>
                        </a:lnTo>
                        <a:lnTo>
                          <a:pt x="430" y="2"/>
                        </a:lnTo>
                        <a:lnTo>
                          <a:pt x="424" y="2"/>
                        </a:lnTo>
                        <a:lnTo>
                          <a:pt x="419" y="2"/>
                        </a:lnTo>
                        <a:lnTo>
                          <a:pt x="415" y="2"/>
                        </a:lnTo>
                        <a:lnTo>
                          <a:pt x="411" y="2"/>
                        </a:lnTo>
                        <a:lnTo>
                          <a:pt x="406" y="2"/>
                        </a:lnTo>
                        <a:lnTo>
                          <a:pt x="402" y="2"/>
                        </a:lnTo>
                        <a:lnTo>
                          <a:pt x="398" y="2"/>
                        </a:lnTo>
                        <a:lnTo>
                          <a:pt x="393" y="2"/>
                        </a:lnTo>
                        <a:lnTo>
                          <a:pt x="387" y="2"/>
                        </a:lnTo>
                        <a:lnTo>
                          <a:pt x="382" y="2"/>
                        </a:lnTo>
                        <a:lnTo>
                          <a:pt x="376" y="2"/>
                        </a:lnTo>
                        <a:lnTo>
                          <a:pt x="367" y="2"/>
                        </a:lnTo>
                        <a:lnTo>
                          <a:pt x="362" y="4"/>
                        </a:lnTo>
                        <a:lnTo>
                          <a:pt x="356" y="4"/>
                        </a:lnTo>
                        <a:lnTo>
                          <a:pt x="347" y="4"/>
                        </a:lnTo>
                        <a:lnTo>
                          <a:pt x="340" y="4"/>
                        </a:lnTo>
                        <a:lnTo>
                          <a:pt x="334" y="4"/>
                        </a:lnTo>
                        <a:lnTo>
                          <a:pt x="327" y="6"/>
                        </a:lnTo>
                        <a:lnTo>
                          <a:pt x="318" y="6"/>
                        </a:lnTo>
                        <a:lnTo>
                          <a:pt x="312" y="6"/>
                        </a:lnTo>
                        <a:lnTo>
                          <a:pt x="305" y="6"/>
                        </a:lnTo>
                        <a:lnTo>
                          <a:pt x="299" y="9"/>
                        </a:lnTo>
                        <a:lnTo>
                          <a:pt x="290" y="9"/>
                        </a:lnTo>
                        <a:lnTo>
                          <a:pt x="285" y="9"/>
                        </a:lnTo>
                        <a:lnTo>
                          <a:pt x="279" y="9"/>
                        </a:lnTo>
                        <a:lnTo>
                          <a:pt x="272" y="9"/>
                        </a:lnTo>
                        <a:lnTo>
                          <a:pt x="266" y="9"/>
                        </a:lnTo>
                        <a:lnTo>
                          <a:pt x="261" y="9"/>
                        </a:lnTo>
                        <a:lnTo>
                          <a:pt x="257" y="9"/>
                        </a:lnTo>
                        <a:lnTo>
                          <a:pt x="252" y="9"/>
                        </a:lnTo>
                        <a:lnTo>
                          <a:pt x="246" y="9"/>
                        </a:lnTo>
                        <a:lnTo>
                          <a:pt x="242" y="11"/>
                        </a:lnTo>
                        <a:lnTo>
                          <a:pt x="235" y="9"/>
                        </a:lnTo>
                        <a:lnTo>
                          <a:pt x="231" y="9"/>
                        </a:lnTo>
                        <a:lnTo>
                          <a:pt x="224" y="9"/>
                        </a:lnTo>
                        <a:lnTo>
                          <a:pt x="217" y="9"/>
                        </a:lnTo>
                        <a:lnTo>
                          <a:pt x="211" y="9"/>
                        </a:lnTo>
                        <a:lnTo>
                          <a:pt x="202" y="9"/>
                        </a:lnTo>
                        <a:lnTo>
                          <a:pt x="195" y="9"/>
                        </a:lnTo>
                        <a:lnTo>
                          <a:pt x="187" y="9"/>
                        </a:lnTo>
                        <a:lnTo>
                          <a:pt x="180" y="9"/>
                        </a:lnTo>
                        <a:lnTo>
                          <a:pt x="171" y="9"/>
                        </a:lnTo>
                        <a:lnTo>
                          <a:pt x="165" y="9"/>
                        </a:lnTo>
                        <a:lnTo>
                          <a:pt x="160" y="9"/>
                        </a:lnTo>
                        <a:lnTo>
                          <a:pt x="156" y="9"/>
                        </a:lnTo>
                        <a:lnTo>
                          <a:pt x="151" y="9"/>
                        </a:lnTo>
                        <a:lnTo>
                          <a:pt x="149" y="9"/>
                        </a:lnTo>
                        <a:lnTo>
                          <a:pt x="149" y="9"/>
                        </a:lnTo>
                        <a:lnTo>
                          <a:pt x="149" y="9"/>
                        </a:lnTo>
                        <a:lnTo>
                          <a:pt x="149" y="13"/>
                        </a:lnTo>
                        <a:lnTo>
                          <a:pt x="149" y="17"/>
                        </a:lnTo>
                        <a:lnTo>
                          <a:pt x="149" y="26"/>
                        </a:lnTo>
                        <a:lnTo>
                          <a:pt x="149" y="28"/>
                        </a:lnTo>
                        <a:lnTo>
                          <a:pt x="149" y="33"/>
                        </a:lnTo>
                        <a:lnTo>
                          <a:pt x="149" y="39"/>
                        </a:lnTo>
                        <a:lnTo>
                          <a:pt x="151" y="44"/>
                        </a:lnTo>
                        <a:lnTo>
                          <a:pt x="151" y="48"/>
                        </a:lnTo>
                        <a:lnTo>
                          <a:pt x="151" y="55"/>
                        </a:lnTo>
                        <a:lnTo>
                          <a:pt x="151" y="59"/>
                        </a:lnTo>
                        <a:lnTo>
                          <a:pt x="151" y="64"/>
                        </a:lnTo>
                        <a:lnTo>
                          <a:pt x="151" y="70"/>
                        </a:lnTo>
                        <a:lnTo>
                          <a:pt x="151" y="75"/>
                        </a:lnTo>
                        <a:lnTo>
                          <a:pt x="154" y="79"/>
                        </a:lnTo>
                        <a:lnTo>
                          <a:pt x="154" y="86"/>
                        </a:lnTo>
                        <a:lnTo>
                          <a:pt x="154" y="88"/>
                        </a:lnTo>
                        <a:lnTo>
                          <a:pt x="154" y="94"/>
                        </a:lnTo>
                        <a:lnTo>
                          <a:pt x="156" y="99"/>
                        </a:lnTo>
                        <a:lnTo>
                          <a:pt x="158" y="103"/>
                        </a:lnTo>
                        <a:lnTo>
                          <a:pt x="158" y="110"/>
                        </a:lnTo>
                        <a:lnTo>
                          <a:pt x="160" y="116"/>
                        </a:lnTo>
                        <a:lnTo>
                          <a:pt x="162" y="121"/>
                        </a:lnTo>
                        <a:lnTo>
                          <a:pt x="165" y="123"/>
                        </a:lnTo>
                        <a:lnTo>
                          <a:pt x="169" y="123"/>
                        </a:lnTo>
                        <a:lnTo>
                          <a:pt x="173" y="123"/>
                        </a:lnTo>
                        <a:lnTo>
                          <a:pt x="178" y="123"/>
                        </a:lnTo>
                        <a:lnTo>
                          <a:pt x="182" y="123"/>
                        </a:lnTo>
                        <a:lnTo>
                          <a:pt x="187" y="123"/>
                        </a:lnTo>
                        <a:lnTo>
                          <a:pt x="193" y="125"/>
                        </a:lnTo>
                        <a:lnTo>
                          <a:pt x="198" y="125"/>
                        </a:lnTo>
                        <a:lnTo>
                          <a:pt x="204" y="125"/>
                        </a:lnTo>
                        <a:lnTo>
                          <a:pt x="211" y="125"/>
                        </a:lnTo>
                        <a:lnTo>
                          <a:pt x="217" y="125"/>
                        </a:lnTo>
                        <a:lnTo>
                          <a:pt x="224" y="125"/>
                        </a:lnTo>
                        <a:lnTo>
                          <a:pt x="233" y="125"/>
                        </a:lnTo>
                        <a:lnTo>
                          <a:pt x="239" y="127"/>
                        </a:lnTo>
                        <a:lnTo>
                          <a:pt x="246" y="127"/>
                        </a:lnTo>
                        <a:lnTo>
                          <a:pt x="255" y="127"/>
                        </a:lnTo>
                        <a:lnTo>
                          <a:pt x="261" y="127"/>
                        </a:lnTo>
                        <a:lnTo>
                          <a:pt x="270" y="129"/>
                        </a:lnTo>
                        <a:lnTo>
                          <a:pt x="277" y="129"/>
                        </a:lnTo>
                        <a:lnTo>
                          <a:pt x="285" y="129"/>
                        </a:lnTo>
                        <a:lnTo>
                          <a:pt x="292" y="132"/>
                        </a:lnTo>
                        <a:lnTo>
                          <a:pt x="301" y="132"/>
                        </a:lnTo>
                        <a:lnTo>
                          <a:pt x="310" y="134"/>
                        </a:lnTo>
                        <a:lnTo>
                          <a:pt x="316" y="134"/>
                        </a:lnTo>
                        <a:lnTo>
                          <a:pt x="323" y="134"/>
                        </a:lnTo>
                        <a:lnTo>
                          <a:pt x="329" y="134"/>
                        </a:lnTo>
                        <a:lnTo>
                          <a:pt x="338" y="136"/>
                        </a:lnTo>
                        <a:lnTo>
                          <a:pt x="345" y="138"/>
                        </a:lnTo>
                        <a:lnTo>
                          <a:pt x="351" y="138"/>
                        </a:lnTo>
                        <a:lnTo>
                          <a:pt x="358" y="140"/>
                        </a:lnTo>
                        <a:lnTo>
                          <a:pt x="365" y="143"/>
                        </a:lnTo>
                        <a:lnTo>
                          <a:pt x="369" y="143"/>
                        </a:lnTo>
                        <a:lnTo>
                          <a:pt x="373" y="143"/>
                        </a:lnTo>
                        <a:lnTo>
                          <a:pt x="378" y="145"/>
                        </a:lnTo>
                        <a:lnTo>
                          <a:pt x="384" y="145"/>
                        </a:lnTo>
                        <a:lnTo>
                          <a:pt x="389" y="147"/>
                        </a:lnTo>
                        <a:lnTo>
                          <a:pt x="393" y="149"/>
                        </a:lnTo>
                        <a:lnTo>
                          <a:pt x="398" y="149"/>
                        </a:lnTo>
                        <a:lnTo>
                          <a:pt x="402" y="154"/>
                        </a:lnTo>
                        <a:lnTo>
                          <a:pt x="411" y="156"/>
                        </a:lnTo>
                        <a:lnTo>
                          <a:pt x="419" y="160"/>
                        </a:lnTo>
                        <a:lnTo>
                          <a:pt x="426" y="162"/>
                        </a:lnTo>
                        <a:lnTo>
                          <a:pt x="433" y="169"/>
                        </a:lnTo>
                        <a:lnTo>
                          <a:pt x="437" y="173"/>
                        </a:lnTo>
                        <a:lnTo>
                          <a:pt x="441" y="178"/>
                        </a:lnTo>
                        <a:lnTo>
                          <a:pt x="446" y="182"/>
                        </a:lnTo>
                        <a:lnTo>
                          <a:pt x="448" y="187"/>
                        </a:lnTo>
                        <a:lnTo>
                          <a:pt x="450" y="193"/>
                        </a:lnTo>
                        <a:lnTo>
                          <a:pt x="450" y="198"/>
                        </a:lnTo>
                        <a:lnTo>
                          <a:pt x="450" y="204"/>
                        </a:lnTo>
                        <a:lnTo>
                          <a:pt x="452" y="211"/>
                        </a:lnTo>
                        <a:lnTo>
                          <a:pt x="448" y="215"/>
                        </a:lnTo>
                        <a:lnTo>
                          <a:pt x="446" y="222"/>
                        </a:lnTo>
                        <a:lnTo>
                          <a:pt x="439" y="228"/>
                        </a:lnTo>
                        <a:lnTo>
                          <a:pt x="430" y="235"/>
                        </a:lnTo>
                        <a:lnTo>
                          <a:pt x="426" y="237"/>
                        </a:lnTo>
                        <a:lnTo>
                          <a:pt x="422" y="239"/>
                        </a:lnTo>
                        <a:lnTo>
                          <a:pt x="417" y="244"/>
                        </a:lnTo>
                        <a:lnTo>
                          <a:pt x="411" y="248"/>
                        </a:lnTo>
                        <a:lnTo>
                          <a:pt x="406" y="250"/>
                        </a:lnTo>
                        <a:lnTo>
                          <a:pt x="400" y="255"/>
                        </a:lnTo>
                        <a:lnTo>
                          <a:pt x="395" y="257"/>
                        </a:lnTo>
                        <a:lnTo>
                          <a:pt x="389" y="261"/>
                        </a:lnTo>
                        <a:lnTo>
                          <a:pt x="382" y="263"/>
                        </a:lnTo>
                        <a:lnTo>
                          <a:pt x="378" y="266"/>
                        </a:lnTo>
                        <a:lnTo>
                          <a:pt x="371" y="270"/>
                        </a:lnTo>
                        <a:lnTo>
                          <a:pt x="365" y="272"/>
                        </a:lnTo>
                        <a:lnTo>
                          <a:pt x="358" y="277"/>
                        </a:lnTo>
                        <a:lnTo>
                          <a:pt x="351" y="279"/>
                        </a:lnTo>
                        <a:lnTo>
                          <a:pt x="347" y="283"/>
                        </a:lnTo>
                        <a:lnTo>
                          <a:pt x="340" y="285"/>
                        </a:lnTo>
                        <a:lnTo>
                          <a:pt x="334" y="288"/>
                        </a:lnTo>
                        <a:lnTo>
                          <a:pt x="329" y="290"/>
                        </a:lnTo>
                        <a:lnTo>
                          <a:pt x="323" y="294"/>
                        </a:lnTo>
                        <a:lnTo>
                          <a:pt x="318" y="296"/>
                        </a:lnTo>
                        <a:lnTo>
                          <a:pt x="314" y="299"/>
                        </a:lnTo>
                        <a:lnTo>
                          <a:pt x="310" y="301"/>
                        </a:lnTo>
                        <a:lnTo>
                          <a:pt x="303" y="303"/>
                        </a:lnTo>
                        <a:lnTo>
                          <a:pt x="301" y="307"/>
                        </a:lnTo>
                        <a:lnTo>
                          <a:pt x="294" y="310"/>
                        </a:lnTo>
                        <a:lnTo>
                          <a:pt x="290" y="312"/>
                        </a:lnTo>
                        <a:lnTo>
                          <a:pt x="281" y="314"/>
                        </a:lnTo>
                        <a:lnTo>
                          <a:pt x="274" y="321"/>
                        </a:lnTo>
                        <a:lnTo>
                          <a:pt x="270" y="321"/>
                        </a:lnTo>
                        <a:lnTo>
                          <a:pt x="266" y="323"/>
                        </a:lnTo>
                        <a:lnTo>
                          <a:pt x="259" y="325"/>
                        </a:lnTo>
                        <a:lnTo>
                          <a:pt x="257" y="329"/>
                        </a:lnTo>
                        <a:lnTo>
                          <a:pt x="250" y="332"/>
                        </a:lnTo>
                        <a:lnTo>
                          <a:pt x="246" y="334"/>
                        </a:lnTo>
                        <a:lnTo>
                          <a:pt x="239" y="336"/>
                        </a:lnTo>
                        <a:lnTo>
                          <a:pt x="235" y="338"/>
                        </a:lnTo>
                        <a:lnTo>
                          <a:pt x="228" y="342"/>
                        </a:lnTo>
                        <a:lnTo>
                          <a:pt x="222" y="345"/>
                        </a:lnTo>
                        <a:lnTo>
                          <a:pt x="217" y="347"/>
                        </a:lnTo>
                        <a:lnTo>
                          <a:pt x="211" y="349"/>
                        </a:lnTo>
                        <a:lnTo>
                          <a:pt x="204" y="351"/>
                        </a:lnTo>
                        <a:lnTo>
                          <a:pt x="198" y="356"/>
                        </a:lnTo>
                        <a:lnTo>
                          <a:pt x="191" y="358"/>
                        </a:lnTo>
                        <a:lnTo>
                          <a:pt x="187" y="360"/>
                        </a:lnTo>
                        <a:lnTo>
                          <a:pt x="180" y="362"/>
                        </a:lnTo>
                        <a:lnTo>
                          <a:pt x="171" y="367"/>
                        </a:lnTo>
                        <a:lnTo>
                          <a:pt x="165" y="371"/>
                        </a:lnTo>
                        <a:lnTo>
                          <a:pt x="160" y="373"/>
                        </a:lnTo>
                        <a:lnTo>
                          <a:pt x="154" y="375"/>
                        </a:lnTo>
                        <a:lnTo>
                          <a:pt x="147" y="380"/>
                        </a:lnTo>
                        <a:lnTo>
                          <a:pt x="140" y="382"/>
                        </a:lnTo>
                        <a:lnTo>
                          <a:pt x="134" y="386"/>
                        </a:lnTo>
                        <a:lnTo>
                          <a:pt x="127" y="389"/>
                        </a:lnTo>
                        <a:lnTo>
                          <a:pt x="121" y="391"/>
                        </a:lnTo>
                        <a:lnTo>
                          <a:pt x="114" y="395"/>
                        </a:lnTo>
                        <a:lnTo>
                          <a:pt x="110" y="397"/>
                        </a:lnTo>
                        <a:lnTo>
                          <a:pt x="103" y="400"/>
                        </a:lnTo>
                        <a:lnTo>
                          <a:pt x="96" y="402"/>
                        </a:lnTo>
                        <a:lnTo>
                          <a:pt x="90" y="406"/>
                        </a:lnTo>
                        <a:lnTo>
                          <a:pt x="83" y="408"/>
                        </a:lnTo>
                        <a:lnTo>
                          <a:pt x="77" y="413"/>
                        </a:lnTo>
                        <a:lnTo>
                          <a:pt x="72" y="415"/>
                        </a:lnTo>
                        <a:lnTo>
                          <a:pt x="66" y="417"/>
                        </a:lnTo>
                        <a:lnTo>
                          <a:pt x="61" y="419"/>
                        </a:lnTo>
                        <a:lnTo>
                          <a:pt x="57" y="424"/>
                        </a:lnTo>
                        <a:lnTo>
                          <a:pt x="50" y="426"/>
                        </a:lnTo>
                        <a:lnTo>
                          <a:pt x="46" y="428"/>
                        </a:lnTo>
                        <a:lnTo>
                          <a:pt x="42" y="430"/>
                        </a:lnTo>
                        <a:lnTo>
                          <a:pt x="37" y="433"/>
                        </a:lnTo>
                        <a:lnTo>
                          <a:pt x="33" y="435"/>
                        </a:lnTo>
                        <a:lnTo>
                          <a:pt x="28" y="437"/>
                        </a:lnTo>
                        <a:lnTo>
                          <a:pt x="24" y="441"/>
                        </a:lnTo>
                        <a:lnTo>
                          <a:pt x="17" y="443"/>
                        </a:lnTo>
                        <a:lnTo>
                          <a:pt x="11" y="448"/>
                        </a:lnTo>
                        <a:lnTo>
                          <a:pt x="6" y="452"/>
                        </a:lnTo>
                        <a:lnTo>
                          <a:pt x="2" y="454"/>
                        </a:lnTo>
                        <a:lnTo>
                          <a:pt x="0" y="459"/>
                        </a:lnTo>
                        <a:lnTo>
                          <a:pt x="0" y="461"/>
                        </a:lnTo>
                        <a:lnTo>
                          <a:pt x="64" y="687"/>
                        </a:lnTo>
                        <a:lnTo>
                          <a:pt x="66" y="687"/>
                        </a:lnTo>
                        <a:lnTo>
                          <a:pt x="70" y="685"/>
                        </a:lnTo>
                        <a:lnTo>
                          <a:pt x="77" y="683"/>
                        </a:lnTo>
                        <a:lnTo>
                          <a:pt x="83" y="681"/>
                        </a:lnTo>
                        <a:lnTo>
                          <a:pt x="88" y="676"/>
                        </a:lnTo>
                        <a:lnTo>
                          <a:pt x="92" y="676"/>
                        </a:lnTo>
                        <a:lnTo>
                          <a:pt x="96" y="674"/>
                        </a:lnTo>
                        <a:lnTo>
                          <a:pt x="101" y="672"/>
                        </a:lnTo>
                        <a:lnTo>
                          <a:pt x="105" y="670"/>
                        </a:lnTo>
                        <a:lnTo>
                          <a:pt x="112" y="667"/>
                        </a:lnTo>
                        <a:lnTo>
                          <a:pt x="116" y="665"/>
                        </a:lnTo>
                        <a:lnTo>
                          <a:pt x="123" y="663"/>
                        </a:lnTo>
                        <a:lnTo>
                          <a:pt x="129" y="661"/>
                        </a:lnTo>
                        <a:lnTo>
                          <a:pt x="136" y="659"/>
                        </a:lnTo>
                        <a:lnTo>
                          <a:pt x="140" y="654"/>
                        </a:lnTo>
                        <a:lnTo>
                          <a:pt x="147" y="652"/>
                        </a:lnTo>
                        <a:lnTo>
                          <a:pt x="154" y="650"/>
                        </a:lnTo>
                        <a:lnTo>
                          <a:pt x="160" y="648"/>
                        </a:lnTo>
                        <a:lnTo>
                          <a:pt x="169" y="643"/>
                        </a:lnTo>
                        <a:lnTo>
                          <a:pt x="176" y="641"/>
                        </a:lnTo>
                        <a:lnTo>
                          <a:pt x="182" y="639"/>
                        </a:lnTo>
                        <a:lnTo>
                          <a:pt x="189" y="635"/>
                        </a:lnTo>
                        <a:lnTo>
                          <a:pt x="195" y="630"/>
                        </a:lnTo>
                        <a:lnTo>
                          <a:pt x="204" y="628"/>
                        </a:lnTo>
                        <a:lnTo>
                          <a:pt x="211" y="626"/>
                        </a:lnTo>
                        <a:lnTo>
                          <a:pt x="217" y="621"/>
                        </a:lnTo>
                        <a:lnTo>
                          <a:pt x="226" y="619"/>
                        </a:lnTo>
                        <a:lnTo>
                          <a:pt x="233" y="617"/>
                        </a:lnTo>
                        <a:lnTo>
                          <a:pt x="239" y="613"/>
                        </a:lnTo>
                        <a:lnTo>
                          <a:pt x="246" y="608"/>
                        </a:lnTo>
                        <a:lnTo>
                          <a:pt x="252" y="606"/>
                        </a:lnTo>
                        <a:lnTo>
                          <a:pt x="261" y="602"/>
                        </a:lnTo>
                        <a:lnTo>
                          <a:pt x="268" y="599"/>
                        </a:lnTo>
                        <a:lnTo>
                          <a:pt x="274" y="595"/>
                        </a:lnTo>
                        <a:lnTo>
                          <a:pt x="281" y="593"/>
                        </a:lnTo>
                        <a:lnTo>
                          <a:pt x="290" y="591"/>
                        </a:lnTo>
                        <a:lnTo>
                          <a:pt x="294" y="586"/>
                        </a:lnTo>
                        <a:lnTo>
                          <a:pt x="301" y="584"/>
                        </a:lnTo>
                        <a:lnTo>
                          <a:pt x="307" y="580"/>
                        </a:lnTo>
                        <a:lnTo>
                          <a:pt x="314" y="577"/>
                        </a:lnTo>
                        <a:lnTo>
                          <a:pt x="321" y="575"/>
                        </a:lnTo>
                        <a:lnTo>
                          <a:pt x="325" y="571"/>
                        </a:lnTo>
                        <a:lnTo>
                          <a:pt x="332" y="569"/>
                        </a:lnTo>
                        <a:lnTo>
                          <a:pt x="338" y="566"/>
                        </a:lnTo>
                        <a:lnTo>
                          <a:pt x="343" y="564"/>
                        </a:lnTo>
                        <a:lnTo>
                          <a:pt x="347" y="562"/>
                        </a:lnTo>
                        <a:lnTo>
                          <a:pt x="351" y="560"/>
                        </a:lnTo>
                        <a:lnTo>
                          <a:pt x="358" y="558"/>
                        </a:lnTo>
                        <a:lnTo>
                          <a:pt x="365" y="553"/>
                        </a:lnTo>
                        <a:lnTo>
                          <a:pt x="373" y="551"/>
                        </a:lnTo>
                        <a:lnTo>
                          <a:pt x="378" y="547"/>
                        </a:lnTo>
                        <a:lnTo>
                          <a:pt x="382" y="545"/>
                        </a:lnTo>
                        <a:lnTo>
                          <a:pt x="387" y="542"/>
                        </a:lnTo>
                        <a:lnTo>
                          <a:pt x="389" y="542"/>
                        </a:lnTo>
                        <a:lnTo>
                          <a:pt x="389" y="540"/>
                        </a:lnTo>
                        <a:lnTo>
                          <a:pt x="393" y="538"/>
                        </a:lnTo>
                        <a:lnTo>
                          <a:pt x="400" y="536"/>
                        </a:lnTo>
                        <a:lnTo>
                          <a:pt x="406" y="531"/>
                        </a:lnTo>
                        <a:lnTo>
                          <a:pt x="415" y="527"/>
                        </a:lnTo>
                        <a:lnTo>
                          <a:pt x="422" y="523"/>
                        </a:lnTo>
                        <a:lnTo>
                          <a:pt x="426" y="520"/>
                        </a:lnTo>
                        <a:lnTo>
                          <a:pt x="430" y="518"/>
                        </a:lnTo>
                        <a:lnTo>
                          <a:pt x="437" y="516"/>
                        </a:lnTo>
                        <a:lnTo>
                          <a:pt x="441" y="514"/>
                        </a:lnTo>
                        <a:lnTo>
                          <a:pt x="446" y="512"/>
                        </a:lnTo>
                        <a:lnTo>
                          <a:pt x="450" y="509"/>
                        </a:lnTo>
                        <a:lnTo>
                          <a:pt x="455" y="507"/>
                        </a:lnTo>
                        <a:lnTo>
                          <a:pt x="459" y="505"/>
                        </a:lnTo>
                        <a:lnTo>
                          <a:pt x="468" y="501"/>
                        </a:lnTo>
                        <a:lnTo>
                          <a:pt x="477" y="501"/>
                        </a:lnTo>
                        <a:lnTo>
                          <a:pt x="483" y="498"/>
                        </a:lnTo>
                        <a:lnTo>
                          <a:pt x="488" y="498"/>
                        </a:lnTo>
                        <a:lnTo>
                          <a:pt x="492" y="498"/>
                        </a:lnTo>
                        <a:lnTo>
                          <a:pt x="494" y="503"/>
                        </a:lnTo>
                        <a:lnTo>
                          <a:pt x="494" y="507"/>
                        </a:lnTo>
                        <a:lnTo>
                          <a:pt x="492" y="514"/>
                        </a:lnTo>
                        <a:lnTo>
                          <a:pt x="485" y="523"/>
                        </a:lnTo>
                        <a:lnTo>
                          <a:pt x="479" y="531"/>
                        </a:lnTo>
                        <a:lnTo>
                          <a:pt x="474" y="534"/>
                        </a:lnTo>
                        <a:lnTo>
                          <a:pt x="470" y="538"/>
                        </a:lnTo>
                        <a:lnTo>
                          <a:pt x="463" y="542"/>
                        </a:lnTo>
                        <a:lnTo>
                          <a:pt x="459" y="547"/>
                        </a:lnTo>
                        <a:lnTo>
                          <a:pt x="455" y="551"/>
                        </a:lnTo>
                        <a:lnTo>
                          <a:pt x="450" y="555"/>
                        </a:lnTo>
                        <a:lnTo>
                          <a:pt x="446" y="560"/>
                        </a:lnTo>
                        <a:lnTo>
                          <a:pt x="441" y="564"/>
                        </a:lnTo>
                        <a:lnTo>
                          <a:pt x="435" y="569"/>
                        </a:lnTo>
                        <a:lnTo>
                          <a:pt x="428" y="575"/>
                        </a:lnTo>
                        <a:lnTo>
                          <a:pt x="419" y="582"/>
                        </a:lnTo>
                        <a:lnTo>
                          <a:pt x="411" y="591"/>
                        </a:lnTo>
                        <a:lnTo>
                          <a:pt x="406" y="595"/>
                        </a:lnTo>
                        <a:lnTo>
                          <a:pt x="402" y="599"/>
                        </a:lnTo>
                        <a:lnTo>
                          <a:pt x="395" y="602"/>
                        </a:lnTo>
                        <a:lnTo>
                          <a:pt x="391" y="608"/>
                        </a:lnTo>
                        <a:lnTo>
                          <a:pt x="387" y="613"/>
                        </a:lnTo>
                        <a:lnTo>
                          <a:pt x="382" y="617"/>
                        </a:lnTo>
                        <a:lnTo>
                          <a:pt x="376" y="621"/>
                        </a:lnTo>
                        <a:lnTo>
                          <a:pt x="371" y="626"/>
                        </a:lnTo>
                        <a:lnTo>
                          <a:pt x="367" y="628"/>
                        </a:lnTo>
                        <a:lnTo>
                          <a:pt x="362" y="632"/>
                        </a:lnTo>
                        <a:lnTo>
                          <a:pt x="358" y="637"/>
                        </a:lnTo>
                        <a:lnTo>
                          <a:pt x="354" y="641"/>
                        </a:lnTo>
                        <a:lnTo>
                          <a:pt x="345" y="648"/>
                        </a:lnTo>
                        <a:lnTo>
                          <a:pt x="338" y="654"/>
                        </a:lnTo>
                        <a:lnTo>
                          <a:pt x="332" y="659"/>
                        </a:lnTo>
                        <a:lnTo>
                          <a:pt x="327" y="663"/>
                        </a:lnTo>
                        <a:lnTo>
                          <a:pt x="323" y="665"/>
                        </a:lnTo>
                        <a:lnTo>
                          <a:pt x="323" y="667"/>
                        </a:lnTo>
                        <a:lnTo>
                          <a:pt x="343" y="683"/>
                        </a:lnTo>
                        <a:lnTo>
                          <a:pt x="343" y="681"/>
                        </a:lnTo>
                        <a:lnTo>
                          <a:pt x="349" y="676"/>
                        </a:lnTo>
                        <a:lnTo>
                          <a:pt x="351" y="672"/>
                        </a:lnTo>
                        <a:lnTo>
                          <a:pt x="358" y="667"/>
                        </a:lnTo>
                        <a:lnTo>
                          <a:pt x="362" y="663"/>
                        </a:lnTo>
                        <a:lnTo>
                          <a:pt x="369" y="659"/>
                        </a:lnTo>
                        <a:lnTo>
                          <a:pt x="376" y="652"/>
                        </a:lnTo>
                        <a:lnTo>
                          <a:pt x="382" y="646"/>
                        </a:lnTo>
                        <a:lnTo>
                          <a:pt x="389" y="641"/>
                        </a:lnTo>
                        <a:lnTo>
                          <a:pt x="398" y="635"/>
                        </a:lnTo>
                        <a:lnTo>
                          <a:pt x="404" y="628"/>
                        </a:lnTo>
                        <a:lnTo>
                          <a:pt x="413" y="621"/>
                        </a:lnTo>
                        <a:lnTo>
                          <a:pt x="422" y="613"/>
                        </a:lnTo>
                        <a:lnTo>
                          <a:pt x="430" y="606"/>
                        </a:lnTo>
                        <a:lnTo>
                          <a:pt x="439" y="597"/>
                        </a:lnTo>
                        <a:lnTo>
                          <a:pt x="446" y="591"/>
                        </a:lnTo>
                        <a:lnTo>
                          <a:pt x="455" y="582"/>
                        </a:lnTo>
                        <a:lnTo>
                          <a:pt x="463" y="575"/>
                        </a:lnTo>
                        <a:lnTo>
                          <a:pt x="470" y="569"/>
                        </a:lnTo>
                        <a:lnTo>
                          <a:pt x="477" y="560"/>
                        </a:lnTo>
                        <a:lnTo>
                          <a:pt x="485" y="553"/>
                        </a:lnTo>
                        <a:lnTo>
                          <a:pt x="492" y="547"/>
                        </a:lnTo>
                        <a:lnTo>
                          <a:pt x="499" y="540"/>
                        </a:lnTo>
                        <a:lnTo>
                          <a:pt x="505" y="534"/>
                        </a:lnTo>
                        <a:lnTo>
                          <a:pt x="507" y="527"/>
                        </a:lnTo>
                        <a:lnTo>
                          <a:pt x="514" y="523"/>
                        </a:lnTo>
                        <a:lnTo>
                          <a:pt x="516" y="516"/>
                        </a:lnTo>
                        <a:lnTo>
                          <a:pt x="521" y="512"/>
                        </a:lnTo>
                        <a:lnTo>
                          <a:pt x="523" y="507"/>
                        </a:lnTo>
                        <a:lnTo>
                          <a:pt x="523" y="505"/>
                        </a:lnTo>
                        <a:lnTo>
                          <a:pt x="523" y="501"/>
                        </a:lnTo>
                        <a:lnTo>
                          <a:pt x="523" y="494"/>
                        </a:lnTo>
                        <a:lnTo>
                          <a:pt x="523" y="490"/>
                        </a:lnTo>
                        <a:lnTo>
                          <a:pt x="523" y="487"/>
                        </a:lnTo>
                        <a:lnTo>
                          <a:pt x="521" y="481"/>
                        </a:lnTo>
                        <a:lnTo>
                          <a:pt x="516" y="479"/>
                        </a:lnTo>
                        <a:lnTo>
                          <a:pt x="510" y="476"/>
                        </a:lnTo>
                        <a:lnTo>
                          <a:pt x="503" y="474"/>
                        </a:lnTo>
                        <a:lnTo>
                          <a:pt x="499" y="474"/>
                        </a:lnTo>
                        <a:lnTo>
                          <a:pt x="494" y="474"/>
                        </a:lnTo>
                        <a:lnTo>
                          <a:pt x="490" y="476"/>
                        </a:lnTo>
                        <a:lnTo>
                          <a:pt x="485" y="476"/>
                        </a:lnTo>
                        <a:lnTo>
                          <a:pt x="483" y="476"/>
                        </a:lnTo>
                        <a:lnTo>
                          <a:pt x="479" y="479"/>
                        </a:lnTo>
                        <a:lnTo>
                          <a:pt x="472" y="479"/>
                        </a:lnTo>
                        <a:lnTo>
                          <a:pt x="466" y="483"/>
                        </a:lnTo>
                        <a:lnTo>
                          <a:pt x="459" y="485"/>
                        </a:lnTo>
                        <a:lnTo>
                          <a:pt x="452" y="487"/>
                        </a:lnTo>
                        <a:lnTo>
                          <a:pt x="444" y="490"/>
                        </a:lnTo>
                        <a:lnTo>
                          <a:pt x="435" y="494"/>
                        </a:lnTo>
                        <a:lnTo>
                          <a:pt x="430" y="496"/>
                        </a:lnTo>
                        <a:lnTo>
                          <a:pt x="426" y="498"/>
                        </a:lnTo>
                        <a:lnTo>
                          <a:pt x="419" y="501"/>
                        </a:lnTo>
                        <a:lnTo>
                          <a:pt x="415" y="503"/>
                        </a:lnTo>
                        <a:lnTo>
                          <a:pt x="411" y="505"/>
                        </a:lnTo>
                        <a:lnTo>
                          <a:pt x="406" y="507"/>
                        </a:lnTo>
                        <a:lnTo>
                          <a:pt x="400" y="509"/>
                        </a:lnTo>
                        <a:lnTo>
                          <a:pt x="395" y="512"/>
                        </a:lnTo>
                        <a:lnTo>
                          <a:pt x="389" y="514"/>
                        </a:lnTo>
                        <a:lnTo>
                          <a:pt x="384" y="518"/>
                        </a:lnTo>
                        <a:lnTo>
                          <a:pt x="378" y="520"/>
                        </a:lnTo>
                        <a:lnTo>
                          <a:pt x="373" y="523"/>
                        </a:lnTo>
                        <a:lnTo>
                          <a:pt x="367" y="525"/>
                        </a:lnTo>
                        <a:lnTo>
                          <a:pt x="362" y="527"/>
                        </a:lnTo>
                        <a:lnTo>
                          <a:pt x="358" y="529"/>
                        </a:lnTo>
                        <a:lnTo>
                          <a:pt x="351" y="534"/>
                        </a:lnTo>
                        <a:lnTo>
                          <a:pt x="347" y="536"/>
                        </a:lnTo>
                        <a:lnTo>
                          <a:pt x="340" y="538"/>
                        </a:lnTo>
                        <a:lnTo>
                          <a:pt x="334" y="540"/>
                        </a:lnTo>
                        <a:lnTo>
                          <a:pt x="329" y="542"/>
                        </a:lnTo>
                        <a:lnTo>
                          <a:pt x="323" y="547"/>
                        </a:lnTo>
                        <a:lnTo>
                          <a:pt x="318" y="549"/>
                        </a:lnTo>
                        <a:lnTo>
                          <a:pt x="312" y="551"/>
                        </a:lnTo>
                        <a:lnTo>
                          <a:pt x="307" y="553"/>
                        </a:lnTo>
                        <a:lnTo>
                          <a:pt x="303" y="555"/>
                        </a:lnTo>
                        <a:lnTo>
                          <a:pt x="299" y="558"/>
                        </a:lnTo>
                        <a:lnTo>
                          <a:pt x="292" y="560"/>
                        </a:lnTo>
                        <a:lnTo>
                          <a:pt x="288" y="562"/>
                        </a:lnTo>
                        <a:lnTo>
                          <a:pt x="283" y="564"/>
                        </a:lnTo>
                        <a:lnTo>
                          <a:pt x="277" y="566"/>
                        </a:lnTo>
                        <a:lnTo>
                          <a:pt x="272" y="569"/>
                        </a:lnTo>
                        <a:lnTo>
                          <a:pt x="270" y="571"/>
                        </a:lnTo>
                        <a:lnTo>
                          <a:pt x="261" y="575"/>
                        </a:lnTo>
                        <a:lnTo>
                          <a:pt x="252" y="577"/>
                        </a:lnTo>
                        <a:lnTo>
                          <a:pt x="246" y="582"/>
                        </a:lnTo>
                        <a:lnTo>
                          <a:pt x="242" y="584"/>
                        </a:lnTo>
                        <a:lnTo>
                          <a:pt x="235" y="586"/>
                        </a:lnTo>
                        <a:lnTo>
                          <a:pt x="231" y="588"/>
                        </a:lnTo>
                        <a:lnTo>
                          <a:pt x="228" y="591"/>
                        </a:lnTo>
                        <a:lnTo>
                          <a:pt x="226" y="593"/>
                        </a:lnTo>
                        <a:lnTo>
                          <a:pt x="222" y="593"/>
                        </a:lnTo>
                        <a:lnTo>
                          <a:pt x="215" y="595"/>
                        </a:lnTo>
                        <a:lnTo>
                          <a:pt x="211" y="597"/>
                        </a:lnTo>
                        <a:lnTo>
                          <a:pt x="206" y="599"/>
                        </a:lnTo>
                        <a:lnTo>
                          <a:pt x="202" y="602"/>
                        </a:lnTo>
                        <a:lnTo>
                          <a:pt x="195" y="604"/>
                        </a:lnTo>
                        <a:lnTo>
                          <a:pt x="191" y="606"/>
                        </a:lnTo>
                        <a:lnTo>
                          <a:pt x="184" y="608"/>
                        </a:lnTo>
                        <a:lnTo>
                          <a:pt x="180" y="610"/>
                        </a:lnTo>
                        <a:lnTo>
                          <a:pt x="173" y="613"/>
                        </a:lnTo>
                        <a:lnTo>
                          <a:pt x="167" y="615"/>
                        </a:lnTo>
                        <a:lnTo>
                          <a:pt x="160" y="619"/>
                        </a:lnTo>
                        <a:lnTo>
                          <a:pt x="154" y="621"/>
                        </a:lnTo>
                        <a:lnTo>
                          <a:pt x="147" y="624"/>
                        </a:lnTo>
                        <a:lnTo>
                          <a:pt x="140" y="628"/>
                        </a:lnTo>
                        <a:lnTo>
                          <a:pt x="134" y="630"/>
                        </a:lnTo>
                        <a:lnTo>
                          <a:pt x="127" y="632"/>
                        </a:lnTo>
                        <a:lnTo>
                          <a:pt x="121" y="635"/>
                        </a:lnTo>
                        <a:lnTo>
                          <a:pt x="114" y="637"/>
                        </a:lnTo>
                        <a:lnTo>
                          <a:pt x="110" y="639"/>
                        </a:lnTo>
                        <a:lnTo>
                          <a:pt x="103" y="641"/>
                        </a:lnTo>
                        <a:lnTo>
                          <a:pt x="99" y="646"/>
                        </a:lnTo>
                        <a:lnTo>
                          <a:pt x="94" y="646"/>
                        </a:lnTo>
                        <a:lnTo>
                          <a:pt x="90" y="648"/>
                        </a:lnTo>
                        <a:lnTo>
                          <a:pt x="88" y="650"/>
                        </a:lnTo>
                        <a:lnTo>
                          <a:pt x="83" y="650"/>
                        </a:lnTo>
                        <a:lnTo>
                          <a:pt x="81" y="652"/>
                        </a:lnTo>
                        <a:lnTo>
                          <a:pt x="79" y="654"/>
                        </a:lnTo>
                        <a:lnTo>
                          <a:pt x="77" y="652"/>
                        </a:lnTo>
                        <a:lnTo>
                          <a:pt x="77" y="646"/>
                        </a:lnTo>
                        <a:lnTo>
                          <a:pt x="75" y="641"/>
                        </a:lnTo>
                        <a:lnTo>
                          <a:pt x="72" y="637"/>
                        </a:lnTo>
                        <a:lnTo>
                          <a:pt x="70" y="630"/>
                        </a:lnTo>
                        <a:lnTo>
                          <a:pt x="70" y="624"/>
                        </a:lnTo>
                        <a:lnTo>
                          <a:pt x="68" y="617"/>
                        </a:lnTo>
                        <a:lnTo>
                          <a:pt x="66" y="610"/>
                        </a:lnTo>
                        <a:lnTo>
                          <a:pt x="64" y="602"/>
                        </a:lnTo>
                        <a:lnTo>
                          <a:pt x="59" y="595"/>
                        </a:lnTo>
                        <a:lnTo>
                          <a:pt x="57" y="586"/>
                        </a:lnTo>
                        <a:lnTo>
                          <a:pt x="55" y="577"/>
                        </a:lnTo>
                        <a:lnTo>
                          <a:pt x="53" y="569"/>
                        </a:lnTo>
                        <a:lnTo>
                          <a:pt x="50" y="562"/>
                        </a:lnTo>
                        <a:lnTo>
                          <a:pt x="48" y="553"/>
                        </a:lnTo>
                        <a:lnTo>
                          <a:pt x="46" y="545"/>
                        </a:lnTo>
                        <a:lnTo>
                          <a:pt x="42" y="536"/>
                        </a:lnTo>
                        <a:lnTo>
                          <a:pt x="39" y="527"/>
                        </a:lnTo>
                        <a:lnTo>
                          <a:pt x="37" y="518"/>
                        </a:lnTo>
                        <a:lnTo>
                          <a:pt x="35" y="512"/>
                        </a:lnTo>
                        <a:lnTo>
                          <a:pt x="33" y="503"/>
                        </a:lnTo>
                        <a:lnTo>
                          <a:pt x="33" y="496"/>
                        </a:lnTo>
                        <a:lnTo>
                          <a:pt x="28" y="490"/>
                        </a:lnTo>
                        <a:lnTo>
                          <a:pt x="28" y="483"/>
                        </a:lnTo>
                        <a:lnTo>
                          <a:pt x="26" y="479"/>
                        </a:lnTo>
                        <a:lnTo>
                          <a:pt x="26" y="474"/>
                        </a:lnTo>
                        <a:lnTo>
                          <a:pt x="24" y="468"/>
                        </a:lnTo>
                        <a:lnTo>
                          <a:pt x="24" y="465"/>
                        </a:lnTo>
                        <a:lnTo>
                          <a:pt x="26" y="463"/>
                        </a:lnTo>
                        <a:lnTo>
                          <a:pt x="28" y="461"/>
                        </a:lnTo>
                        <a:lnTo>
                          <a:pt x="33" y="459"/>
                        </a:lnTo>
                        <a:lnTo>
                          <a:pt x="42" y="454"/>
                        </a:lnTo>
                        <a:lnTo>
                          <a:pt x="44" y="452"/>
                        </a:lnTo>
                        <a:lnTo>
                          <a:pt x="48" y="450"/>
                        </a:lnTo>
                        <a:lnTo>
                          <a:pt x="53" y="448"/>
                        </a:lnTo>
                        <a:lnTo>
                          <a:pt x="59" y="446"/>
                        </a:lnTo>
                        <a:lnTo>
                          <a:pt x="64" y="441"/>
                        </a:lnTo>
                        <a:lnTo>
                          <a:pt x="70" y="439"/>
                        </a:lnTo>
                        <a:lnTo>
                          <a:pt x="77" y="437"/>
                        </a:lnTo>
                        <a:lnTo>
                          <a:pt x="83" y="435"/>
                        </a:lnTo>
                        <a:lnTo>
                          <a:pt x="90" y="430"/>
                        </a:lnTo>
                        <a:lnTo>
                          <a:pt x="96" y="428"/>
                        </a:lnTo>
                        <a:lnTo>
                          <a:pt x="103" y="424"/>
                        </a:lnTo>
                        <a:lnTo>
                          <a:pt x="110" y="419"/>
                        </a:lnTo>
                        <a:lnTo>
                          <a:pt x="118" y="417"/>
                        </a:lnTo>
                        <a:lnTo>
                          <a:pt x="125" y="413"/>
                        </a:lnTo>
                        <a:lnTo>
                          <a:pt x="134" y="408"/>
                        </a:lnTo>
                        <a:lnTo>
                          <a:pt x="143" y="406"/>
                        </a:lnTo>
                        <a:lnTo>
                          <a:pt x="149" y="402"/>
                        </a:lnTo>
                        <a:lnTo>
                          <a:pt x="158" y="397"/>
                        </a:lnTo>
                        <a:lnTo>
                          <a:pt x="167" y="393"/>
                        </a:lnTo>
                        <a:lnTo>
                          <a:pt x="176" y="391"/>
                        </a:lnTo>
                        <a:lnTo>
                          <a:pt x="182" y="386"/>
                        </a:lnTo>
                        <a:lnTo>
                          <a:pt x="193" y="382"/>
                        </a:lnTo>
                        <a:lnTo>
                          <a:pt x="200" y="378"/>
                        </a:lnTo>
                        <a:lnTo>
                          <a:pt x="211" y="375"/>
                        </a:lnTo>
                        <a:lnTo>
                          <a:pt x="217" y="371"/>
                        </a:lnTo>
                        <a:lnTo>
                          <a:pt x="226" y="367"/>
                        </a:lnTo>
                        <a:lnTo>
                          <a:pt x="235" y="362"/>
                        </a:lnTo>
                        <a:lnTo>
                          <a:pt x="244" y="358"/>
                        </a:lnTo>
                        <a:lnTo>
                          <a:pt x="252" y="353"/>
                        </a:lnTo>
                        <a:lnTo>
                          <a:pt x="259" y="351"/>
                        </a:lnTo>
                        <a:lnTo>
                          <a:pt x="268" y="347"/>
                        </a:lnTo>
                        <a:lnTo>
                          <a:pt x="277" y="342"/>
                        </a:lnTo>
                        <a:lnTo>
                          <a:pt x="285" y="338"/>
                        </a:lnTo>
                        <a:lnTo>
                          <a:pt x="292" y="336"/>
                        </a:lnTo>
                        <a:lnTo>
                          <a:pt x="301" y="332"/>
                        </a:lnTo>
                        <a:lnTo>
                          <a:pt x="310" y="329"/>
                        </a:lnTo>
                        <a:lnTo>
                          <a:pt x="316" y="325"/>
                        </a:lnTo>
                        <a:lnTo>
                          <a:pt x="323" y="321"/>
                        </a:lnTo>
                        <a:lnTo>
                          <a:pt x="329" y="318"/>
                        </a:lnTo>
                        <a:lnTo>
                          <a:pt x="338" y="316"/>
                        </a:lnTo>
                        <a:lnTo>
                          <a:pt x="343" y="312"/>
                        </a:lnTo>
                        <a:lnTo>
                          <a:pt x="349" y="310"/>
                        </a:lnTo>
                        <a:lnTo>
                          <a:pt x="356" y="307"/>
                        </a:lnTo>
                        <a:lnTo>
                          <a:pt x="362" y="303"/>
                        </a:lnTo>
                        <a:lnTo>
                          <a:pt x="367" y="301"/>
                        </a:lnTo>
                        <a:lnTo>
                          <a:pt x="371" y="299"/>
                        </a:lnTo>
                        <a:lnTo>
                          <a:pt x="376" y="296"/>
                        </a:lnTo>
                        <a:lnTo>
                          <a:pt x="382" y="294"/>
                        </a:lnTo>
                        <a:lnTo>
                          <a:pt x="389" y="290"/>
                        </a:lnTo>
                        <a:lnTo>
                          <a:pt x="395" y="290"/>
                        </a:lnTo>
                        <a:lnTo>
                          <a:pt x="400" y="285"/>
                        </a:lnTo>
                        <a:lnTo>
                          <a:pt x="402" y="285"/>
                        </a:lnTo>
                        <a:lnTo>
                          <a:pt x="404" y="283"/>
                        </a:lnTo>
                        <a:lnTo>
                          <a:pt x="409" y="279"/>
                        </a:lnTo>
                        <a:lnTo>
                          <a:pt x="415" y="274"/>
                        </a:lnTo>
                        <a:lnTo>
                          <a:pt x="422" y="270"/>
                        </a:lnTo>
                        <a:lnTo>
                          <a:pt x="430" y="263"/>
                        </a:lnTo>
                        <a:lnTo>
                          <a:pt x="439" y="257"/>
                        </a:lnTo>
                        <a:lnTo>
                          <a:pt x="448" y="248"/>
                        </a:lnTo>
                        <a:lnTo>
                          <a:pt x="457" y="241"/>
                        </a:lnTo>
                        <a:lnTo>
                          <a:pt x="459" y="237"/>
                        </a:lnTo>
                        <a:lnTo>
                          <a:pt x="463" y="230"/>
                        </a:lnTo>
                        <a:lnTo>
                          <a:pt x="466" y="226"/>
                        </a:lnTo>
                        <a:lnTo>
                          <a:pt x="470" y="222"/>
                        </a:lnTo>
                        <a:lnTo>
                          <a:pt x="472" y="215"/>
                        </a:lnTo>
                        <a:lnTo>
                          <a:pt x="474" y="211"/>
                        </a:lnTo>
                        <a:lnTo>
                          <a:pt x="477" y="206"/>
                        </a:lnTo>
                        <a:lnTo>
                          <a:pt x="477" y="202"/>
                        </a:lnTo>
                        <a:lnTo>
                          <a:pt x="477" y="195"/>
                        </a:lnTo>
                        <a:lnTo>
                          <a:pt x="477" y="189"/>
                        </a:lnTo>
                        <a:lnTo>
                          <a:pt x="477" y="184"/>
                        </a:lnTo>
                        <a:lnTo>
                          <a:pt x="477" y="178"/>
                        </a:lnTo>
                        <a:lnTo>
                          <a:pt x="472" y="173"/>
                        </a:lnTo>
                        <a:lnTo>
                          <a:pt x="470" y="167"/>
                        </a:lnTo>
                        <a:lnTo>
                          <a:pt x="466" y="162"/>
                        </a:lnTo>
                        <a:lnTo>
                          <a:pt x="463" y="156"/>
                        </a:lnTo>
                        <a:lnTo>
                          <a:pt x="457" y="149"/>
                        </a:lnTo>
                        <a:lnTo>
                          <a:pt x="450" y="145"/>
                        </a:lnTo>
                        <a:lnTo>
                          <a:pt x="444" y="140"/>
                        </a:lnTo>
                        <a:lnTo>
                          <a:pt x="437" y="136"/>
                        </a:lnTo>
                        <a:lnTo>
                          <a:pt x="428" y="132"/>
                        </a:lnTo>
                        <a:lnTo>
                          <a:pt x="422" y="127"/>
                        </a:lnTo>
                        <a:lnTo>
                          <a:pt x="413" y="123"/>
                        </a:lnTo>
                        <a:lnTo>
                          <a:pt x="404" y="121"/>
                        </a:lnTo>
                        <a:lnTo>
                          <a:pt x="400" y="116"/>
                        </a:lnTo>
                        <a:lnTo>
                          <a:pt x="395" y="116"/>
                        </a:lnTo>
                        <a:lnTo>
                          <a:pt x="391" y="114"/>
                        </a:lnTo>
                        <a:lnTo>
                          <a:pt x="387" y="114"/>
                        </a:lnTo>
                        <a:lnTo>
                          <a:pt x="382" y="112"/>
                        </a:lnTo>
                        <a:lnTo>
                          <a:pt x="378" y="112"/>
                        </a:lnTo>
                        <a:lnTo>
                          <a:pt x="371" y="110"/>
                        </a:lnTo>
                        <a:lnTo>
                          <a:pt x="367" y="110"/>
                        </a:lnTo>
                        <a:lnTo>
                          <a:pt x="362" y="108"/>
                        </a:lnTo>
                        <a:lnTo>
                          <a:pt x="358" y="108"/>
                        </a:lnTo>
                        <a:lnTo>
                          <a:pt x="354" y="105"/>
                        </a:lnTo>
                        <a:lnTo>
                          <a:pt x="349" y="105"/>
                        </a:lnTo>
                        <a:lnTo>
                          <a:pt x="340" y="103"/>
                        </a:lnTo>
                        <a:lnTo>
                          <a:pt x="332" y="103"/>
                        </a:lnTo>
                        <a:lnTo>
                          <a:pt x="325" y="103"/>
                        </a:lnTo>
                        <a:lnTo>
                          <a:pt x="321" y="101"/>
                        </a:lnTo>
                        <a:lnTo>
                          <a:pt x="316" y="101"/>
                        </a:lnTo>
                        <a:lnTo>
                          <a:pt x="312" y="101"/>
                        </a:lnTo>
                        <a:lnTo>
                          <a:pt x="303" y="99"/>
                        </a:lnTo>
                        <a:lnTo>
                          <a:pt x="294" y="99"/>
                        </a:lnTo>
                        <a:lnTo>
                          <a:pt x="285" y="99"/>
                        </a:lnTo>
                        <a:lnTo>
                          <a:pt x="279" y="99"/>
                        </a:lnTo>
                        <a:lnTo>
                          <a:pt x="270" y="99"/>
                        </a:lnTo>
                        <a:lnTo>
                          <a:pt x="266" y="99"/>
                        </a:lnTo>
                        <a:lnTo>
                          <a:pt x="257" y="97"/>
                        </a:lnTo>
                        <a:lnTo>
                          <a:pt x="252" y="97"/>
                        </a:lnTo>
                        <a:lnTo>
                          <a:pt x="246" y="97"/>
                        </a:lnTo>
                        <a:lnTo>
                          <a:pt x="242" y="97"/>
                        </a:lnTo>
                        <a:lnTo>
                          <a:pt x="235" y="99"/>
                        </a:lnTo>
                        <a:lnTo>
                          <a:pt x="233" y="99"/>
                        </a:lnTo>
                        <a:lnTo>
                          <a:pt x="226" y="99"/>
                        </a:lnTo>
                        <a:lnTo>
                          <a:pt x="220" y="99"/>
                        </a:lnTo>
                        <a:lnTo>
                          <a:pt x="213" y="99"/>
                        </a:lnTo>
                        <a:lnTo>
                          <a:pt x="206" y="99"/>
                        </a:lnTo>
                        <a:lnTo>
                          <a:pt x="198" y="97"/>
                        </a:lnTo>
                        <a:lnTo>
                          <a:pt x="193" y="97"/>
                        </a:lnTo>
                        <a:lnTo>
                          <a:pt x="189" y="97"/>
                        </a:lnTo>
                        <a:lnTo>
                          <a:pt x="187" y="97"/>
                        </a:lnTo>
                        <a:lnTo>
                          <a:pt x="176" y="33"/>
                        </a:lnTo>
                        <a:lnTo>
                          <a:pt x="176" y="31"/>
                        </a:lnTo>
                        <a:lnTo>
                          <a:pt x="184" y="31"/>
                        </a:lnTo>
                        <a:lnTo>
                          <a:pt x="189" y="31"/>
                        </a:lnTo>
                        <a:lnTo>
                          <a:pt x="195" y="31"/>
                        </a:lnTo>
                        <a:lnTo>
                          <a:pt x="202" y="31"/>
                        </a:lnTo>
                        <a:lnTo>
                          <a:pt x="211" y="31"/>
                        </a:lnTo>
                        <a:lnTo>
                          <a:pt x="217" y="31"/>
                        </a:lnTo>
                        <a:lnTo>
                          <a:pt x="226" y="31"/>
                        </a:lnTo>
                        <a:lnTo>
                          <a:pt x="233" y="31"/>
                        </a:lnTo>
                        <a:lnTo>
                          <a:pt x="237" y="31"/>
                        </a:lnTo>
                        <a:lnTo>
                          <a:pt x="242" y="31"/>
                        </a:lnTo>
                        <a:lnTo>
                          <a:pt x="246" y="31"/>
                        </a:lnTo>
                        <a:lnTo>
                          <a:pt x="252" y="31"/>
                        </a:lnTo>
                        <a:lnTo>
                          <a:pt x="257" y="31"/>
                        </a:lnTo>
                        <a:lnTo>
                          <a:pt x="263" y="31"/>
                        </a:lnTo>
                        <a:lnTo>
                          <a:pt x="268" y="31"/>
                        </a:lnTo>
                        <a:lnTo>
                          <a:pt x="272" y="31"/>
                        </a:lnTo>
                        <a:lnTo>
                          <a:pt x="279" y="31"/>
                        </a:lnTo>
                        <a:lnTo>
                          <a:pt x="285" y="31"/>
                        </a:lnTo>
                        <a:lnTo>
                          <a:pt x="292" y="31"/>
                        </a:lnTo>
                        <a:lnTo>
                          <a:pt x="296" y="28"/>
                        </a:lnTo>
                        <a:lnTo>
                          <a:pt x="303" y="28"/>
                        </a:lnTo>
                        <a:lnTo>
                          <a:pt x="310" y="28"/>
                        </a:lnTo>
                        <a:lnTo>
                          <a:pt x="314" y="28"/>
                        </a:lnTo>
                        <a:lnTo>
                          <a:pt x="318" y="28"/>
                        </a:lnTo>
                        <a:lnTo>
                          <a:pt x="325" y="28"/>
                        </a:lnTo>
                        <a:lnTo>
                          <a:pt x="332" y="28"/>
                        </a:lnTo>
                        <a:lnTo>
                          <a:pt x="338" y="28"/>
                        </a:lnTo>
                        <a:lnTo>
                          <a:pt x="343" y="28"/>
                        </a:lnTo>
                        <a:lnTo>
                          <a:pt x="349" y="28"/>
                        </a:lnTo>
                        <a:lnTo>
                          <a:pt x="354" y="28"/>
                        </a:lnTo>
                        <a:lnTo>
                          <a:pt x="360" y="28"/>
                        </a:lnTo>
                        <a:lnTo>
                          <a:pt x="365" y="28"/>
                        </a:lnTo>
                        <a:lnTo>
                          <a:pt x="371" y="28"/>
                        </a:lnTo>
                        <a:lnTo>
                          <a:pt x="376" y="28"/>
                        </a:lnTo>
                        <a:lnTo>
                          <a:pt x="382" y="28"/>
                        </a:lnTo>
                        <a:lnTo>
                          <a:pt x="387" y="26"/>
                        </a:lnTo>
                        <a:lnTo>
                          <a:pt x="391" y="26"/>
                        </a:lnTo>
                        <a:lnTo>
                          <a:pt x="395" y="26"/>
                        </a:lnTo>
                        <a:lnTo>
                          <a:pt x="400" y="26"/>
                        </a:lnTo>
                        <a:lnTo>
                          <a:pt x="409" y="26"/>
                        </a:lnTo>
                        <a:lnTo>
                          <a:pt x="417" y="26"/>
                        </a:lnTo>
                        <a:lnTo>
                          <a:pt x="424" y="26"/>
                        </a:lnTo>
                        <a:lnTo>
                          <a:pt x="430" y="26"/>
                        </a:lnTo>
                        <a:lnTo>
                          <a:pt x="435" y="26"/>
                        </a:lnTo>
                        <a:lnTo>
                          <a:pt x="441" y="26"/>
                        </a:lnTo>
                        <a:lnTo>
                          <a:pt x="444" y="26"/>
                        </a:lnTo>
                        <a:lnTo>
                          <a:pt x="448" y="26"/>
                        </a:lnTo>
                        <a:lnTo>
                          <a:pt x="455" y="26"/>
                        </a:lnTo>
                        <a:lnTo>
                          <a:pt x="461" y="26"/>
                        </a:lnTo>
                        <a:lnTo>
                          <a:pt x="466" y="26"/>
                        </a:lnTo>
                        <a:lnTo>
                          <a:pt x="472" y="26"/>
                        </a:lnTo>
                        <a:lnTo>
                          <a:pt x="481" y="26"/>
                        </a:lnTo>
                        <a:lnTo>
                          <a:pt x="488" y="26"/>
                        </a:lnTo>
                        <a:lnTo>
                          <a:pt x="496" y="26"/>
                        </a:lnTo>
                        <a:lnTo>
                          <a:pt x="505" y="26"/>
                        </a:lnTo>
                        <a:lnTo>
                          <a:pt x="512" y="28"/>
                        </a:lnTo>
                        <a:lnTo>
                          <a:pt x="523" y="28"/>
                        </a:lnTo>
                        <a:lnTo>
                          <a:pt x="525" y="28"/>
                        </a:lnTo>
                        <a:lnTo>
                          <a:pt x="532" y="28"/>
                        </a:lnTo>
                        <a:lnTo>
                          <a:pt x="536" y="28"/>
                        </a:lnTo>
                        <a:lnTo>
                          <a:pt x="540" y="31"/>
                        </a:lnTo>
                        <a:lnTo>
                          <a:pt x="545" y="31"/>
                        </a:lnTo>
                        <a:lnTo>
                          <a:pt x="549" y="31"/>
                        </a:lnTo>
                        <a:lnTo>
                          <a:pt x="554" y="31"/>
                        </a:lnTo>
                        <a:lnTo>
                          <a:pt x="560" y="33"/>
                        </a:lnTo>
                        <a:lnTo>
                          <a:pt x="569" y="33"/>
                        </a:lnTo>
                        <a:lnTo>
                          <a:pt x="578" y="33"/>
                        </a:lnTo>
                        <a:lnTo>
                          <a:pt x="582" y="33"/>
                        </a:lnTo>
                        <a:lnTo>
                          <a:pt x="586" y="33"/>
                        </a:lnTo>
                        <a:lnTo>
                          <a:pt x="591" y="33"/>
                        </a:lnTo>
                        <a:lnTo>
                          <a:pt x="595" y="35"/>
                        </a:lnTo>
                        <a:lnTo>
                          <a:pt x="604" y="35"/>
                        </a:lnTo>
                        <a:lnTo>
                          <a:pt x="613" y="37"/>
                        </a:lnTo>
                        <a:lnTo>
                          <a:pt x="617" y="37"/>
                        </a:lnTo>
                        <a:lnTo>
                          <a:pt x="622" y="37"/>
                        </a:lnTo>
                        <a:lnTo>
                          <a:pt x="626" y="39"/>
                        </a:lnTo>
                        <a:lnTo>
                          <a:pt x="630" y="39"/>
                        </a:lnTo>
                        <a:lnTo>
                          <a:pt x="639" y="39"/>
                        </a:lnTo>
                        <a:lnTo>
                          <a:pt x="648" y="42"/>
                        </a:lnTo>
                        <a:lnTo>
                          <a:pt x="655" y="44"/>
                        </a:lnTo>
                        <a:lnTo>
                          <a:pt x="663" y="44"/>
                        </a:lnTo>
                        <a:lnTo>
                          <a:pt x="670" y="46"/>
                        </a:lnTo>
                        <a:lnTo>
                          <a:pt x="677" y="48"/>
                        </a:lnTo>
                        <a:lnTo>
                          <a:pt x="681" y="50"/>
                        </a:lnTo>
                        <a:lnTo>
                          <a:pt x="688" y="53"/>
                        </a:lnTo>
                        <a:lnTo>
                          <a:pt x="692" y="53"/>
                        </a:lnTo>
                        <a:lnTo>
                          <a:pt x="699" y="55"/>
                        </a:lnTo>
                        <a:lnTo>
                          <a:pt x="703" y="57"/>
                        </a:lnTo>
                        <a:lnTo>
                          <a:pt x="707" y="59"/>
                        </a:lnTo>
                        <a:lnTo>
                          <a:pt x="714" y="61"/>
                        </a:lnTo>
                        <a:lnTo>
                          <a:pt x="718" y="64"/>
                        </a:lnTo>
                        <a:lnTo>
                          <a:pt x="725" y="68"/>
                        </a:lnTo>
                        <a:lnTo>
                          <a:pt x="731" y="70"/>
                        </a:lnTo>
                        <a:lnTo>
                          <a:pt x="736" y="72"/>
                        </a:lnTo>
                        <a:lnTo>
                          <a:pt x="742" y="75"/>
                        </a:lnTo>
                        <a:lnTo>
                          <a:pt x="747" y="79"/>
                        </a:lnTo>
                        <a:lnTo>
                          <a:pt x="753" y="81"/>
                        </a:lnTo>
                        <a:lnTo>
                          <a:pt x="758" y="83"/>
                        </a:lnTo>
                        <a:lnTo>
                          <a:pt x="764" y="88"/>
                        </a:lnTo>
                        <a:lnTo>
                          <a:pt x="769" y="90"/>
                        </a:lnTo>
                        <a:lnTo>
                          <a:pt x="775" y="92"/>
                        </a:lnTo>
                        <a:lnTo>
                          <a:pt x="780" y="97"/>
                        </a:lnTo>
                        <a:lnTo>
                          <a:pt x="784" y="99"/>
                        </a:lnTo>
                        <a:lnTo>
                          <a:pt x="789" y="101"/>
                        </a:lnTo>
                        <a:lnTo>
                          <a:pt x="793" y="103"/>
                        </a:lnTo>
                        <a:lnTo>
                          <a:pt x="802" y="108"/>
                        </a:lnTo>
                        <a:lnTo>
                          <a:pt x="808" y="112"/>
                        </a:lnTo>
                        <a:lnTo>
                          <a:pt x="813" y="114"/>
                        </a:lnTo>
                        <a:lnTo>
                          <a:pt x="819" y="118"/>
                        </a:lnTo>
                        <a:lnTo>
                          <a:pt x="822" y="121"/>
                        </a:lnTo>
                        <a:lnTo>
                          <a:pt x="824" y="121"/>
                        </a:lnTo>
                        <a:lnTo>
                          <a:pt x="989" y="44"/>
                        </a:lnTo>
                        <a:lnTo>
                          <a:pt x="971" y="17"/>
                        </a:lnTo>
                        <a:lnTo>
                          <a:pt x="97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725"/>
                  <p:cNvSpPr/>
                  <p:nvPr/>
                </p:nvSpPr>
                <p:spPr>
                  <a:xfrm>
                    <a:off x="1678680" y="4889160"/>
                    <a:ext cx="504360" cy="511920"/>
                  </a:xfrm>
                  <a:custGeom>
                    <a:avLst/>
                    <a:gdLst>
                      <a:gd name="textAreaLeft" fmla="*/ 0 w 504360"/>
                      <a:gd name="textAreaRight" fmla="*/ 504720 w 504360"/>
                      <a:gd name="textAreaTop" fmla="*/ 0 h 511920"/>
                      <a:gd name="textAreaBottom" fmla="*/ 512280 h 511920"/>
                    </a:gdLst>
                    <a:ahLst/>
                    <a:rect l="textAreaLeft" t="textAreaTop" r="textAreaRight" b="textAreaBottom"/>
                    <a:pathLst>
                      <a:path w="709" h="701">
                        <a:moveTo>
                          <a:pt x="709" y="33"/>
                        </a:moveTo>
                        <a:lnTo>
                          <a:pt x="705" y="33"/>
                        </a:lnTo>
                        <a:lnTo>
                          <a:pt x="700" y="33"/>
                        </a:lnTo>
                        <a:lnTo>
                          <a:pt x="692" y="35"/>
                        </a:lnTo>
                        <a:lnTo>
                          <a:pt x="685" y="40"/>
                        </a:lnTo>
                        <a:lnTo>
                          <a:pt x="678" y="40"/>
                        </a:lnTo>
                        <a:lnTo>
                          <a:pt x="674" y="42"/>
                        </a:lnTo>
                        <a:lnTo>
                          <a:pt x="667" y="42"/>
                        </a:lnTo>
                        <a:lnTo>
                          <a:pt x="663" y="44"/>
                        </a:lnTo>
                        <a:lnTo>
                          <a:pt x="659" y="46"/>
                        </a:lnTo>
                        <a:lnTo>
                          <a:pt x="652" y="49"/>
                        </a:lnTo>
                        <a:lnTo>
                          <a:pt x="648" y="51"/>
                        </a:lnTo>
                        <a:lnTo>
                          <a:pt x="641" y="53"/>
                        </a:lnTo>
                        <a:lnTo>
                          <a:pt x="637" y="53"/>
                        </a:lnTo>
                        <a:lnTo>
                          <a:pt x="630" y="55"/>
                        </a:lnTo>
                        <a:lnTo>
                          <a:pt x="626" y="57"/>
                        </a:lnTo>
                        <a:lnTo>
                          <a:pt x="619" y="57"/>
                        </a:lnTo>
                        <a:lnTo>
                          <a:pt x="615" y="60"/>
                        </a:lnTo>
                        <a:lnTo>
                          <a:pt x="610" y="62"/>
                        </a:lnTo>
                        <a:lnTo>
                          <a:pt x="606" y="64"/>
                        </a:lnTo>
                        <a:lnTo>
                          <a:pt x="602" y="66"/>
                        </a:lnTo>
                        <a:lnTo>
                          <a:pt x="595" y="66"/>
                        </a:lnTo>
                        <a:lnTo>
                          <a:pt x="588" y="68"/>
                        </a:lnTo>
                        <a:lnTo>
                          <a:pt x="586" y="71"/>
                        </a:lnTo>
                        <a:lnTo>
                          <a:pt x="584" y="71"/>
                        </a:lnTo>
                        <a:lnTo>
                          <a:pt x="584" y="71"/>
                        </a:lnTo>
                        <a:lnTo>
                          <a:pt x="584" y="73"/>
                        </a:lnTo>
                        <a:lnTo>
                          <a:pt x="582" y="77"/>
                        </a:lnTo>
                        <a:lnTo>
                          <a:pt x="582" y="84"/>
                        </a:lnTo>
                        <a:lnTo>
                          <a:pt x="580" y="90"/>
                        </a:lnTo>
                        <a:lnTo>
                          <a:pt x="577" y="99"/>
                        </a:lnTo>
                        <a:lnTo>
                          <a:pt x="575" y="104"/>
                        </a:lnTo>
                        <a:lnTo>
                          <a:pt x="575" y="108"/>
                        </a:lnTo>
                        <a:lnTo>
                          <a:pt x="573" y="112"/>
                        </a:lnTo>
                        <a:lnTo>
                          <a:pt x="573" y="119"/>
                        </a:lnTo>
                        <a:lnTo>
                          <a:pt x="571" y="123"/>
                        </a:lnTo>
                        <a:lnTo>
                          <a:pt x="566" y="128"/>
                        </a:lnTo>
                        <a:lnTo>
                          <a:pt x="564" y="134"/>
                        </a:lnTo>
                        <a:lnTo>
                          <a:pt x="562" y="141"/>
                        </a:lnTo>
                        <a:lnTo>
                          <a:pt x="560" y="147"/>
                        </a:lnTo>
                        <a:lnTo>
                          <a:pt x="558" y="154"/>
                        </a:lnTo>
                        <a:lnTo>
                          <a:pt x="555" y="161"/>
                        </a:lnTo>
                        <a:lnTo>
                          <a:pt x="553" y="167"/>
                        </a:lnTo>
                        <a:lnTo>
                          <a:pt x="549" y="174"/>
                        </a:lnTo>
                        <a:lnTo>
                          <a:pt x="544" y="180"/>
                        </a:lnTo>
                        <a:lnTo>
                          <a:pt x="542" y="187"/>
                        </a:lnTo>
                        <a:lnTo>
                          <a:pt x="538" y="194"/>
                        </a:lnTo>
                        <a:lnTo>
                          <a:pt x="533" y="200"/>
                        </a:lnTo>
                        <a:lnTo>
                          <a:pt x="529" y="207"/>
                        </a:lnTo>
                        <a:lnTo>
                          <a:pt x="525" y="213"/>
                        </a:lnTo>
                        <a:lnTo>
                          <a:pt x="520" y="222"/>
                        </a:lnTo>
                        <a:lnTo>
                          <a:pt x="514" y="226"/>
                        </a:lnTo>
                        <a:lnTo>
                          <a:pt x="509" y="233"/>
                        </a:lnTo>
                        <a:lnTo>
                          <a:pt x="503" y="242"/>
                        </a:lnTo>
                        <a:lnTo>
                          <a:pt x="498" y="248"/>
                        </a:lnTo>
                        <a:lnTo>
                          <a:pt x="494" y="255"/>
                        </a:lnTo>
                        <a:lnTo>
                          <a:pt x="487" y="262"/>
                        </a:lnTo>
                        <a:lnTo>
                          <a:pt x="483" y="268"/>
                        </a:lnTo>
                        <a:lnTo>
                          <a:pt x="476" y="277"/>
                        </a:lnTo>
                        <a:lnTo>
                          <a:pt x="472" y="281"/>
                        </a:lnTo>
                        <a:lnTo>
                          <a:pt x="465" y="288"/>
                        </a:lnTo>
                        <a:lnTo>
                          <a:pt x="459" y="295"/>
                        </a:lnTo>
                        <a:lnTo>
                          <a:pt x="454" y="301"/>
                        </a:lnTo>
                        <a:lnTo>
                          <a:pt x="450" y="308"/>
                        </a:lnTo>
                        <a:lnTo>
                          <a:pt x="443" y="314"/>
                        </a:lnTo>
                        <a:lnTo>
                          <a:pt x="439" y="323"/>
                        </a:lnTo>
                        <a:lnTo>
                          <a:pt x="435" y="330"/>
                        </a:lnTo>
                        <a:lnTo>
                          <a:pt x="428" y="334"/>
                        </a:lnTo>
                        <a:lnTo>
                          <a:pt x="424" y="341"/>
                        </a:lnTo>
                        <a:lnTo>
                          <a:pt x="419" y="347"/>
                        </a:lnTo>
                        <a:lnTo>
                          <a:pt x="415" y="352"/>
                        </a:lnTo>
                        <a:lnTo>
                          <a:pt x="408" y="356"/>
                        </a:lnTo>
                        <a:lnTo>
                          <a:pt x="406" y="363"/>
                        </a:lnTo>
                        <a:lnTo>
                          <a:pt x="402" y="367"/>
                        </a:lnTo>
                        <a:lnTo>
                          <a:pt x="399" y="374"/>
                        </a:lnTo>
                        <a:lnTo>
                          <a:pt x="395" y="378"/>
                        </a:lnTo>
                        <a:lnTo>
                          <a:pt x="391" y="382"/>
                        </a:lnTo>
                        <a:lnTo>
                          <a:pt x="388" y="389"/>
                        </a:lnTo>
                        <a:lnTo>
                          <a:pt x="386" y="393"/>
                        </a:lnTo>
                        <a:lnTo>
                          <a:pt x="380" y="400"/>
                        </a:lnTo>
                        <a:lnTo>
                          <a:pt x="377" y="409"/>
                        </a:lnTo>
                        <a:lnTo>
                          <a:pt x="375" y="413"/>
                        </a:lnTo>
                        <a:lnTo>
                          <a:pt x="373" y="418"/>
                        </a:lnTo>
                        <a:lnTo>
                          <a:pt x="371" y="424"/>
                        </a:lnTo>
                        <a:lnTo>
                          <a:pt x="366" y="431"/>
                        </a:lnTo>
                        <a:lnTo>
                          <a:pt x="364" y="435"/>
                        </a:lnTo>
                        <a:lnTo>
                          <a:pt x="362" y="437"/>
                        </a:lnTo>
                        <a:lnTo>
                          <a:pt x="360" y="444"/>
                        </a:lnTo>
                        <a:lnTo>
                          <a:pt x="358" y="448"/>
                        </a:lnTo>
                        <a:lnTo>
                          <a:pt x="355" y="453"/>
                        </a:lnTo>
                        <a:lnTo>
                          <a:pt x="353" y="457"/>
                        </a:lnTo>
                        <a:lnTo>
                          <a:pt x="351" y="464"/>
                        </a:lnTo>
                        <a:lnTo>
                          <a:pt x="349" y="470"/>
                        </a:lnTo>
                        <a:lnTo>
                          <a:pt x="345" y="475"/>
                        </a:lnTo>
                        <a:lnTo>
                          <a:pt x="342" y="479"/>
                        </a:lnTo>
                        <a:lnTo>
                          <a:pt x="338" y="486"/>
                        </a:lnTo>
                        <a:lnTo>
                          <a:pt x="336" y="492"/>
                        </a:lnTo>
                        <a:lnTo>
                          <a:pt x="331" y="497"/>
                        </a:lnTo>
                        <a:lnTo>
                          <a:pt x="329" y="503"/>
                        </a:lnTo>
                        <a:lnTo>
                          <a:pt x="327" y="510"/>
                        </a:lnTo>
                        <a:lnTo>
                          <a:pt x="325" y="516"/>
                        </a:lnTo>
                        <a:lnTo>
                          <a:pt x="320" y="523"/>
                        </a:lnTo>
                        <a:lnTo>
                          <a:pt x="318" y="530"/>
                        </a:lnTo>
                        <a:lnTo>
                          <a:pt x="314" y="534"/>
                        </a:lnTo>
                        <a:lnTo>
                          <a:pt x="312" y="541"/>
                        </a:lnTo>
                        <a:lnTo>
                          <a:pt x="307" y="547"/>
                        </a:lnTo>
                        <a:lnTo>
                          <a:pt x="303" y="554"/>
                        </a:lnTo>
                        <a:lnTo>
                          <a:pt x="301" y="560"/>
                        </a:lnTo>
                        <a:lnTo>
                          <a:pt x="298" y="569"/>
                        </a:lnTo>
                        <a:lnTo>
                          <a:pt x="294" y="573"/>
                        </a:lnTo>
                        <a:lnTo>
                          <a:pt x="290" y="580"/>
                        </a:lnTo>
                        <a:lnTo>
                          <a:pt x="287" y="587"/>
                        </a:lnTo>
                        <a:lnTo>
                          <a:pt x="283" y="593"/>
                        </a:lnTo>
                        <a:lnTo>
                          <a:pt x="281" y="598"/>
                        </a:lnTo>
                        <a:lnTo>
                          <a:pt x="276" y="604"/>
                        </a:lnTo>
                        <a:lnTo>
                          <a:pt x="274" y="611"/>
                        </a:lnTo>
                        <a:lnTo>
                          <a:pt x="272" y="617"/>
                        </a:lnTo>
                        <a:lnTo>
                          <a:pt x="268" y="622"/>
                        </a:lnTo>
                        <a:lnTo>
                          <a:pt x="265" y="628"/>
                        </a:lnTo>
                        <a:lnTo>
                          <a:pt x="261" y="633"/>
                        </a:lnTo>
                        <a:lnTo>
                          <a:pt x="259" y="639"/>
                        </a:lnTo>
                        <a:lnTo>
                          <a:pt x="257" y="644"/>
                        </a:lnTo>
                        <a:lnTo>
                          <a:pt x="254" y="648"/>
                        </a:lnTo>
                        <a:lnTo>
                          <a:pt x="250" y="655"/>
                        </a:lnTo>
                        <a:lnTo>
                          <a:pt x="250" y="659"/>
                        </a:lnTo>
                        <a:lnTo>
                          <a:pt x="246" y="668"/>
                        </a:lnTo>
                        <a:lnTo>
                          <a:pt x="241" y="677"/>
                        </a:lnTo>
                        <a:lnTo>
                          <a:pt x="237" y="683"/>
                        </a:lnTo>
                        <a:lnTo>
                          <a:pt x="235" y="690"/>
                        </a:lnTo>
                        <a:lnTo>
                          <a:pt x="230" y="694"/>
                        </a:lnTo>
                        <a:lnTo>
                          <a:pt x="230" y="699"/>
                        </a:lnTo>
                        <a:lnTo>
                          <a:pt x="228" y="699"/>
                        </a:lnTo>
                        <a:lnTo>
                          <a:pt x="228" y="701"/>
                        </a:lnTo>
                        <a:lnTo>
                          <a:pt x="226" y="701"/>
                        </a:lnTo>
                        <a:lnTo>
                          <a:pt x="224" y="699"/>
                        </a:lnTo>
                        <a:lnTo>
                          <a:pt x="219" y="699"/>
                        </a:lnTo>
                        <a:lnTo>
                          <a:pt x="213" y="699"/>
                        </a:lnTo>
                        <a:lnTo>
                          <a:pt x="208" y="696"/>
                        </a:lnTo>
                        <a:lnTo>
                          <a:pt x="204" y="696"/>
                        </a:lnTo>
                        <a:lnTo>
                          <a:pt x="199" y="694"/>
                        </a:lnTo>
                        <a:lnTo>
                          <a:pt x="195" y="694"/>
                        </a:lnTo>
                        <a:lnTo>
                          <a:pt x="189" y="692"/>
                        </a:lnTo>
                        <a:lnTo>
                          <a:pt x="184" y="692"/>
                        </a:lnTo>
                        <a:lnTo>
                          <a:pt x="180" y="692"/>
                        </a:lnTo>
                        <a:lnTo>
                          <a:pt x="175" y="690"/>
                        </a:lnTo>
                        <a:lnTo>
                          <a:pt x="171" y="688"/>
                        </a:lnTo>
                        <a:lnTo>
                          <a:pt x="167" y="688"/>
                        </a:lnTo>
                        <a:lnTo>
                          <a:pt x="162" y="685"/>
                        </a:lnTo>
                        <a:lnTo>
                          <a:pt x="158" y="683"/>
                        </a:lnTo>
                        <a:lnTo>
                          <a:pt x="149" y="681"/>
                        </a:lnTo>
                        <a:lnTo>
                          <a:pt x="142" y="677"/>
                        </a:lnTo>
                        <a:lnTo>
                          <a:pt x="136" y="672"/>
                        </a:lnTo>
                        <a:lnTo>
                          <a:pt x="131" y="670"/>
                        </a:lnTo>
                        <a:lnTo>
                          <a:pt x="131" y="666"/>
                        </a:lnTo>
                        <a:lnTo>
                          <a:pt x="131" y="661"/>
                        </a:lnTo>
                        <a:lnTo>
                          <a:pt x="131" y="659"/>
                        </a:lnTo>
                        <a:lnTo>
                          <a:pt x="134" y="655"/>
                        </a:lnTo>
                        <a:lnTo>
                          <a:pt x="136" y="648"/>
                        </a:lnTo>
                        <a:lnTo>
                          <a:pt x="138" y="644"/>
                        </a:lnTo>
                        <a:lnTo>
                          <a:pt x="140" y="637"/>
                        </a:lnTo>
                        <a:lnTo>
                          <a:pt x="142" y="631"/>
                        </a:lnTo>
                        <a:lnTo>
                          <a:pt x="147" y="622"/>
                        </a:lnTo>
                        <a:lnTo>
                          <a:pt x="151" y="615"/>
                        </a:lnTo>
                        <a:lnTo>
                          <a:pt x="153" y="611"/>
                        </a:lnTo>
                        <a:lnTo>
                          <a:pt x="153" y="604"/>
                        </a:lnTo>
                        <a:lnTo>
                          <a:pt x="156" y="600"/>
                        </a:lnTo>
                        <a:lnTo>
                          <a:pt x="158" y="595"/>
                        </a:lnTo>
                        <a:lnTo>
                          <a:pt x="160" y="591"/>
                        </a:lnTo>
                        <a:lnTo>
                          <a:pt x="162" y="587"/>
                        </a:lnTo>
                        <a:lnTo>
                          <a:pt x="164" y="580"/>
                        </a:lnTo>
                        <a:lnTo>
                          <a:pt x="167" y="576"/>
                        </a:lnTo>
                        <a:lnTo>
                          <a:pt x="169" y="569"/>
                        </a:lnTo>
                        <a:lnTo>
                          <a:pt x="171" y="565"/>
                        </a:lnTo>
                        <a:lnTo>
                          <a:pt x="173" y="558"/>
                        </a:lnTo>
                        <a:lnTo>
                          <a:pt x="175" y="554"/>
                        </a:lnTo>
                        <a:lnTo>
                          <a:pt x="178" y="547"/>
                        </a:lnTo>
                        <a:lnTo>
                          <a:pt x="182" y="543"/>
                        </a:lnTo>
                        <a:lnTo>
                          <a:pt x="184" y="536"/>
                        </a:lnTo>
                        <a:lnTo>
                          <a:pt x="186" y="532"/>
                        </a:lnTo>
                        <a:lnTo>
                          <a:pt x="189" y="525"/>
                        </a:lnTo>
                        <a:lnTo>
                          <a:pt x="191" y="521"/>
                        </a:lnTo>
                        <a:lnTo>
                          <a:pt x="193" y="514"/>
                        </a:lnTo>
                        <a:lnTo>
                          <a:pt x="195" y="510"/>
                        </a:lnTo>
                        <a:lnTo>
                          <a:pt x="197" y="503"/>
                        </a:lnTo>
                        <a:lnTo>
                          <a:pt x="199" y="499"/>
                        </a:lnTo>
                        <a:lnTo>
                          <a:pt x="202" y="492"/>
                        </a:lnTo>
                        <a:lnTo>
                          <a:pt x="204" y="488"/>
                        </a:lnTo>
                        <a:lnTo>
                          <a:pt x="206" y="481"/>
                        </a:lnTo>
                        <a:lnTo>
                          <a:pt x="208" y="477"/>
                        </a:lnTo>
                        <a:lnTo>
                          <a:pt x="210" y="470"/>
                        </a:lnTo>
                        <a:lnTo>
                          <a:pt x="213" y="466"/>
                        </a:lnTo>
                        <a:lnTo>
                          <a:pt x="215" y="461"/>
                        </a:lnTo>
                        <a:lnTo>
                          <a:pt x="217" y="455"/>
                        </a:lnTo>
                        <a:lnTo>
                          <a:pt x="219" y="453"/>
                        </a:lnTo>
                        <a:lnTo>
                          <a:pt x="221" y="448"/>
                        </a:lnTo>
                        <a:lnTo>
                          <a:pt x="221" y="442"/>
                        </a:lnTo>
                        <a:lnTo>
                          <a:pt x="224" y="437"/>
                        </a:lnTo>
                        <a:lnTo>
                          <a:pt x="226" y="433"/>
                        </a:lnTo>
                        <a:lnTo>
                          <a:pt x="228" y="431"/>
                        </a:lnTo>
                        <a:lnTo>
                          <a:pt x="230" y="422"/>
                        </a:lnTo>
                        <a:lnTo>
                          <a:pt x="235" y="415"/>
                        </a:lnTo>
                        <a:lnTo>
                          <a:pt x="235" y="409"/>
                        </a:lnTo>
                        <a:lnTo>
                          <a:pt x="237" y="404"/>
                        </a:lnTo>
                        <a:lnTo>
                          <a:pt x="239" y="400"/>
                        </a:lnTo>
                        <a:lnTo>
                          <a:pt x="241" y="398"/>
                        </a:lnTo>
                        <a:lnTo>
                          <a:pt x="241" y="393"/>
                        </a:lnTo>
                        <a:lnTo>
                          <a:pt x="243" y="389"/>
                        </a:lnTo>
                        <a:lnTo>
                          <a:pt x="246" y="382"/>
                        </a:lnTo>
                        <a:lnTo>
                          <a:pt x="246" y="378"/>
                        </a:lnTo>
                        <a:lnTo>
                          <a:pt x="248" y="371"/>
                        </a:lnTo>
                        <a:lnTo>
                          <a:pt x="248" y="365"/>
                        </a:lnTo>
                        <a:lnTo>
                          <a:pt x="248" y="358"/>
                        </a:lnTo>
                        <a:lnTo>
                          <a:pt x="243" y="354"/>
                        </a:lnTo>
                        <a:lnTo>
                          <a:pt x="239" y="354"/>
                        </a:lnTo>
                        <a:lnTo>
                          <a:pt x="232" y="356"/>
                        </a:lnTo>
                        <a:lnTo>
                          <a:pt x="228" y="356"/>
                        </a:lnTo>
                        <a:lnTo>
                          <a:pt x="224" y="358"/>
                        </a:lnTo>
                        <a:lnTo>
                          <a:pt x="219" y="360"/>
                        </a:lnTo>
                        <a:lnTo>
                          <a:pt x="215" y="365"/>
                        </a:lnTo>
                        <a:lnTo>
                          <a:pt x="208" y="367"/>
                        </a:lnTo>
                        <a:lnTo>
                          <a:pt x="202" y="371"/>
                        </a:lnTo>
                        <a:lnTo>
                          <a:pt x="195" y="378"/>
                        </a:lnTo>
                        <a:lnTo>
                          <a:pt x="186" y="385"/>
                        </a:lnTo>
                        <a:lnTo>
                          <a:pt x="178" y="389"/>
                        </a:lnTo>
                        <a:lnTo>
                          <a:pt x="169" y="396"/>
                        </a:lnTo>
                        <a:lnTo>
                          <a:pt x="164" y="400"/>
                        </a:lnTo>
                        <a:lnTo>
                          <a:pt x="160" y="402"/>
                        </a:lnTo>
                        <a:lnTo>
                          <a:pt x="156" y="407"/>
                        </a:lnTo>
                        <a:lnTo>
                          <a:pt x="151" y="411"/>
                        </a:lnTo>
                        <a:lnTo>
                          <a:pt x="147" y="413"/>
                        </a:lnTo>
                        <a:lnTo>
                          <a:pt x="140" y="418"/>
                        </a:lnTo>
                        <a:lnTo>
                          <a:pt x="136" y="422"/>
                        </a:lnTo>
                        <a:lnTo>
                          <a:pt x="131" y="424"/>
                        </a:lnTo>
                        <a:lnTo>
                          <a:pt x="127" y="429"/>
                        </a:lnTo>
                        <a:lnTo>
                          <a:pt x="120" y="433"/>
                        </a:lnTo>
                        <a:lnTo>
                          <a:pt x="116" y="435"/>
                        </a:lnTo>
                        <a:lnTo>
                          <a:pt x="112" y="442"/>
                        </a:lnTo>
                        <a:lnTo>
                          <a:pt x="107" y="444"/>
                        </a:lnTo>
                        <a:lnTo>
                          <a:pt x="103" y="448"/>
                        </a:lnTo>
                        <a:lnTo>
                          <a:pt x="96" y="450"/>
                        </a:lnTo>
                        <a:lnTo>
                          <a:pt x="92" y="455"/>
                        </a:lnTo>
                        <a:lnTo>
                          <a:pt x="83" y="464"/>
                        </a:lnTo>
                        <a:lnTo>
                          <a:pt x="74" y="470"/>
                        </a:lnTo>
                        <a:lnTo>
                          <a:pt x="65" y="477"/>
                        </a:lnTo>
                        <a:lnTo>
                          <a:pt x="57" y="483"/>
                        </a:lnTo>
                        <a:lnTo>
                          <a:pt x="50" y="490"/>
                        </a:lnTo>
                        <a:lnTo>
                          <a:pt x="43" y="497"/>
                        </a:lnTo>
                        <a:lnTo>
                          <a:pt x="35" y="501"/>
                        </a:lnTo>
                        <a:lnTo>
                          <a:pt x="30" y="505"/>
                        </a:lnTo>
                        <a:lnTo>
                          <a:pt x="24" y="510"/>
                        </a:lnTo>
                        <a:lnTo>
                          <a:pt x="19" y="514"/>
                        </a:lnTo>
                        <a:lnTo>
                          <a:pt x="15" y="519"/>
                        </a:lnTo>
                        <a:lnTo>
                          <a:pt x="13" y="521"/>
                        </a:lnTo>
                        <a:lnTo>
                          <a:pt x="0" y="505"/>
                        </a:lnTo>
                        <a:lnTo>
                          <a:pt x="2" y="501"/>
                        </a:lnTo>
                        <a:lnTo>
                          <a:pt x="8" y="497"/>
                        </a:lnTo>
                        <a:lnTo>
                          <a:pt x="13" y="492"/>
                        </a:lnTo>
                        <a:lnTo>
                          <a:pt x="17" y="488"/>
                        </a:lnTo>
                        <a:lnTo>
                          <a:pt x="24" y="483"/>
                        </a:lnTo>
                        <a:lnTo>
                          <a:pt x="30" y="479"/>
                        </a:lnTo>
                        <a:lnTo>
                          <a:pt x="39" y="472"/>
                        </a:lnTo>
                        <a:lnTo>
                          <a:pt x="46" y="466"/>
                        </a:lnTo>
                        <a:lnTo>
                          <a:pt x="54" y="459"/>
                        </a:lnTo>
                        <a:lnTo>
                          <a:pt x="63" y="453"/>
                        </a:lnTo>
                        <a:lnTo>
                          <a:pt x="68" y="448"/>
                        </a:lnTo>
                        <a:lnTo>
                          <a:pt x="72" y="446"/>
                        </a:lnTo>
                        <a:lnTo>
                          <a:pt x="76" y="442"/>
                        </a:lnTo>
                        <a:lnTo>
                          <a:pt x="83" y="437"/>
                        </a:lnTo>
                        <a:lnTo>
                          <a:pt x="87" y="433"/>
                        </a:lnTo>
                        <a:lnTo>
                          <a:pt x="92" y="431"/>
                        </a:lnTo>
                        <a:lnTo>
                          <a:pt x="96" y="426"/>
                        </a:lnTo>
                        <a:lnTo>
                          <a:pt x="103" y="424"/>
                        </a:lnTo>
                        <a:lnTo>
                          <a:pt x="107" y="418"/>
                        </a:lnTo>
                        <a:lnTo>
                          <a:pt x="112" y="415"/>
                        </a:lnTo>
                        <a:lnTo>
                          <a:pt x="116" y="411"/>
                        </a:lnTo>
                        <a:lnTo>
                          <a:pt x="120" y="407"/>
                        </a:lnTo>
                        <a:lnTo>
                          <a:pt x="125" y="402"/>
                        </a:lnTo>
                        <a:lnTo>
                          <a:pt x="131" y="400"/>
                        </a:lnTo>
                        <a:lnTo>
                          <a:pt x="136" y="396"/>
                        </a:lnTo>
                        <a:lnTo>
                          <a:pt x="140" y="393"/>
                        </a:lnTo>
                        <a:lnTo>
                          <a:pt x="149" y="385"/>
                        </a:lnTo>
                        <a:lnTo>
                          <a:pt x="158" y="378"/>
                        </a:lnTo>
                        <a:lnTo>
                          <a:pt x="167" y="371"/>
                        </a:lnTo>
                        <a:lnTo>
                          <a:pt x="175" y="365"/>
                        </a:lnTo>
                        <a:lnTo>
                          <a:pt x="182" y="358"/>
                        </a:lnTo>
                        <a:lnTo>
                          <a:pt x="191" y="354"/>
                        </a:lnTo>
                        <a:lnTo>
                          <a:pt x="195" y="349"/>
                        </a:lnTo>
                        <a:lnTo>
                          <a:pt x="202" y="345"/>
                        </a:lnTo>
                        <a:lnTo>
                          <a:pt x="206" y="341"/>
                        </a:lnTo>
                        <a:lnTo>
                          <a:pt x="210" y="341"/>
                        </a:lnTo>
                        <a:lnTo>
                          <a:pt x="213" y="336"/>
                        </a:lnTo>
                        <a:lnTo>
                          <a:pt x="217" y="336"/>
                        </a:lnTo>
                        <a:lnTo>
                          <a:pt x="221" y="332"/>
                        </a:lnTo>
                        <a:lnTo>
                          <a:pt x="230" y="330"/>
                        </a:lnTo>
                        <a:lnTo>
                          <a:pt x="235" y="330"/>
                        </a:lnTo>
                        <a:lnTo>
                          <a:pt x="241" y="330"/>
                        </a:lnTo>
                        <a:lnTo>
                          <a:pt x="246" y="330"/>
                        </a:lnTo>
                        <a:lnTo>
                          <a:pt x="250" y="332"/>
                        </a:lnTo>
                        <a:lnTo>
                          <a:pt x="254" y="332"/>
                        </a:lnTo>
                        <a:lnTo>
                          <a:pt x="261" y="336"/>
                        </a:lnTo>
                        <a:lnTo>
                          <a:pt x="263" y="338"/>
                        </a:lnTo>
                        <a:lnTo>
                          <a:pt x="268" y="343"/>
                        </a:lnTo>
                        <a:lnTo>
                          <a:pt x="270" y="349"/>
                        </a:lnTo>
                        <a:lnTo>
                          <a:pt x="272" y="356"/>
                        </a:lnTo>
                        <a:lnTo>
                          <a:pt x="272" y="358"/>
                        </a:lnTo>
                        <a:lnTo>
                          <a:pt x="272" y="363"/>
                        </a:lnTo>
                        <a:lnTo>
                          <a:pt x="272" y="367"/>
                        </a:lnTo>
                        <a:lnTo>
                          <a:pt x="272" y="374"/>
                        </a:lnTo>
                        <a:lnTo>
                          <a:pt x="270" y="378"/>
                        </a:lnTo>
                        <a:lnTo>
                          <a:pt x="270" y="385"/>
                        </a:lnTo>
                        <a:lnTo>
                          <a:pt x="265" y="391"/>
                        </a:lnTo>
                        <a:lnTo>
                          <a:pt x="263" y="400"/>
                        </a:lnTo>
                        <a:lnTo>
                          <a:pt x="261" y="402"/>
                        </a:lnTo>
                        <a:lnTo>
                          <a:pt x="261" y="407"/>
                        </a:lnTo>
                        <a:lnTo>
                          <a:pt x="259" y="411"/>
                        </a:lnTo>
                        <a:lnTo>
                          <a:pt x="257" y="418"/>
                        </a:lnTo>
                        <a:lnTo>
                          <a:pt x="254" y="422"/>
                        </a:lnTo>
                        <a:lnTo>
                          <a:pt x="254" y="426"/>
                        </a:lnTo>
                        <a:lnTo>
                          <a:pt x="252" y="431"/>
                        </a:lnTo>
                        <a:lnTo>
                          <a:pt x="250" y="437"/>
                        </a:lnTo>
                        <a:lnTo>
                          <a:pt x="248" y="442"/>
                        </a:lnTo>
                        <a:lnTo>
                          <a:pt x="246" y="448"/>
                        </a:lnTo>
                        <a:lnTo>
                          <a:pt x="243" y="453"/>
                        </a:lnTo>
                        <a:lnTo>
                          <a:pt x="241" y="459"/>
                        </a:lnTo>
                        <a:lnTo>
                          <a:pt x="239" y="464"/>
                        </a:lnTo>
                        <a:lnTo>
                          <a:pt x="237" y="470"/>
                        </a:lnTo>
                        <a:lnTo>
                          <a:pt x="235" y="477"/>
                        </a:lnTo>
                        <a:lnTo>
                          <a:pt x="232" y="483"/>
                        </a:lnTo>
                        <a:lnTo>
                          <a:pt x="230" y="488"/>
                        </a:lnTo>
                        <a:lnTo>
                          <a:pt x="226" y="494"/>
                        </a:lnTo>
                        <a:lnTo>
                          <a:pt x="224" y="499"/>
                        </a:lnTo>
                        <a:lnTo>
                          <a:pt x="221" y="505"/>
                        </a:lnTo>
                        <a:lnTo>
                          <a:pt x="219" y="512"/>
                        </a:lnTo>
                        <a:lnTo>
                          <a:pt x="217" y="519"/>
                        </a:lnTo>
                        <a:lnTo>
                          <a:pt x="215" y="523"/>
                        </a:lnTo>
                        <a:lnTo>
                          <a:pt x="213" y="530"/>
                        </a:lnTo>
                        <a:lnTo>
                          <a:pt x="208" y="536"/>
                        </a:lnTo>
                        <a:lnTo>
                          <a:pt x="206" y="541"/>
                        </a:lnTo>
                        <a:lnTo>
                          <a:pt x="204" y="547"/>
                        </a:lnTo>
                        <a:lnTo>
                          <a:pt x="202" y="554"/>
                        </a:lnTo>
                        <a:lnTo>
                          <a:pt x="199" y="558"/>
                        </a:lnTo>
                        <a:lnTo>
                          <a:pt x="195" y="565"/>
                        </a:lnTo>
                        <a:lnTo>
                          <a:pt x="193" y="569"/>
                        </a:lnTo>
                        <a:lnTo>
                          <a:pt x="191" y="576"/>
                        </a:lnTo>
                        <a:lnTo>
                          <a:pt x="189" y="580"/>
                        </a:lnTo>
                        <a:lnTo>
                          <a:pt x="186" y="587"/>
                        </a:lnTo>
                        <a:lnTo>
                          <a:pt x="184" y="591"/>
                        </a:lnTo>
                        <a:lnTo>
                          <a:pt x="182" y="595"/>
                        </a:lnTo>
                        <a:lnTo>
                          <a:pt x="180" y="600"/>
                        </a:lnTo>
                        <a:lnTo>
                          <a:pt x="178" y="606"/>
                        </a:lnTo>
                        <a:lnTo>
                          <a:pt x="175" y="611"/>
                        </a:lnTo>
                        <a:lnTo>
                          <a:pt x="173" y="615"/>
                        </a:lnTo>
                        <a:lnTo>
                          <a:pt x="171" y="624"/>
                        </a:lnTo>
                        <a:lnTo>
                          <a:pt x="167" y="631"/>
                        </a:lnTo>
                        <a:lnTo>
                          <a:pt x="164" y="637"/>
                        </a:lnTo>
                        <a:lnTo>
                          <a:pt x="164" y="644"/>
                        </a:lnTo>
                        <a:lnTo>
                          <a:pt x="160" y="648"/>
                        </a:lnTo>
                        <a:lnTo>
                          <a:pt x="160" y="653"/>
                        </a:lnTo>
                        <a:lnTo>
                          <a:pt x="160" y="653"/>
                        </a:lnTo>
                        <a:lnTo>
                          <a:pt x="160" y="657"/>
                        </a:lnTo>
                        <a:lnTo>
                          <a:pt x="219" y="668"/>
                        </a:lnTo>
                        <a:lnTo>
                          <a:pt x="219" y="666"/>
                        </a:lnTo>
                        <a:lnTo>
                          <a:pt x="221" y="661"/>
                        </a:lnTo>
                        <a:lnTo>
                          <a:pt x="224" y="657"/>
                        </a:lnTo>
                        <a:lnTo>
                          <a:pt x="228" y="650"/>
                        </a:lnTo>
                        <a:lnTo>
                          <a:pt x="230" y="644"/>
                        </a:lnTo>
                        <a:lnTo>
                          <a:pt x="235" y="635"/>
                        </a:lnTo>
                        <a:lnTo>
                          <a:pt x="239" y="628"/>
                        </a:lnTo>
                        <a:lnTo>
                          <a:pt x="243" y="620"/>
                        </a:lnTo>
                        <a:lnTo>
                          <a:pt x="246" y="613"/>
                        </a:lnTo>
                        <a:lnTo>
                          <a:pt x="248" y="609"/>
                        </a:lnTo>
                        <a:lnTo>
                          <a:pt x="250" y="604"/>
                        </a:lnTo>
                        <a:lnTo>
                          <a:pt x="252" y="598"/>
                        </a:lnTo>
                        <a:lnTo>
                          <a:pt x="254" y="593"/>
                        </a:lnTo>
                        <a:lnTo>
                          <a:pt x="259" y="587"/>
                        </a:lnTo>
                        <a:lnTo>
                          <a:pt x="261" y="580"/>
                        </a:lnTo>
                        <a:lnTo>
                          <a:pt x="265" y="576"/>
                        </a:lnTo>
                        <a:lnTo>
                          <a:pt x="268" y="569"/>
                        </a:lnTo>
                        <a:lnTo>
                          <a:pt x="270" y="562"/>
                        </a:lnTo>
                        <a:lnTo>
                          <a:pt x="272" y="558"/>
                        </a:lnTo>
                        <a:lnTo>
                          <a:pt x="276" y="551"/>
                        </a:lnTo>
                        <a:lnTo>
                          <a:pt x="279" y="545"/>
                        </a:lnTo>
                        <a:lnTo>
                          <a:pt x="283" y="538"/>
                        </a:lnTo>
                        <a:lnTo>
                          <a:pt x="285" y="534"/>
                        </a:lnTo>
                        <a:lnTo>
                          <a:pt x="290" y="527"/>
                        </a:lnTo>
                        <a:lnTo>
                          <a:pt x="292" y="521"/>
                        </a:lnTo>
                        <a:lnTo>
                          <a:pt x="294" y="514"/>
                        </a:lnTo>
                        <a:lnTo>
                          <a:pt x="296" y="508"/>
                        </a:lnTo>
                        <a:lnTo>
                          <a:pt x="301" y="501"/>
                        </a:lnTo>
                        <a:lnTo>
                          <a:pt x="303" y="494"/>
                        </a:lnTo>
                        <a:lnTo>
                          <a:pt x="305" y="488"/>
                        </a:lnTo>
                        <a:lnTo>
                          <a:pt x="309" y="481"/>
                        </a:lnTo>
                        <a:lnTo>
                          <a:pt x="312" y="477"/>
                        </a:lnTo>
                        <a:lnTo>
                          <a:pt x="314" y="470"/>
                        </a:lnTo>
                        <a:lnTo>
                          <a:pt x="318" y="464"/>
                        </a:lnTo>
                        <a:lnTo>
                          <a:pt x="320" y="457"/>
                        </a:lnTo>
                        <a:lnTo>
                          <a:pt x="325" y="453"/>
                        </a:lnTo>
                        <a:lnTo>
                          <a:pt x="327" y="446"/>
                        </a:lnTo>
                        <a:lnTo>
                          <a:pt x="329" y="439"/>
                        </a:lnTo>
                        <a:lnTo>
                          <a:pt x="334" y="435"/>
                        </a:lnTo>
                        <a:lnTo>
                          <a:pt x="336" y="431"/>
                        </a:lnTo>
                        <a:lnTo>
                          <a:pt x="338" y="424"/>
                        </a:lnTo>
                        <a:lnTo>
                          <a:pt x="340" y="420"/>
                        </a:lnTo>
                        <a:lnTo>
                          <a:pt x="342" y="413"/>
                        </a:lnTo>
                        <a:lnTo>
                          <a:pt x="347" y="409"/>
                        </a:lnTo>
                        <a:lnTo>
                          <a:pt x="349" y="404"/>
                        </a:lnTo>
                        <a:lnTo>
                          <a:pt x="351" y="400"/>
                        </a:lnTo>
                        <a:lnTo>
                          <a:pt x="353" y="396"/>
                        </a:lnTo>
                        <a:lnTo>
                          <a:pt x="355" y="391"/>
                        </a:lnTo>
                        <a:lnTo>
                          <a:pt x="360" y="385"/>
                        </a:lnTo>
                        <a:lnTo>
                          <a:pt x="364" y="378"/>
                        </a:lnTo>
                        <a:lnTo>
                          <a:pt x="366" y="371"/>
                        </a:lnTo>
                        <a:lnTo>
                          <a:pt x="371" y="367"/>
                        </a:lnTo>
                        <a:lnTo>
                          <a:pt x="373" y="363"/>
                        </a:lnTo>
                        <a:lnTo>
                          <a:pt x="375" y="358"/>
                        </a:lnTo>
                        <a:lnTo>
                          <a:pt x="380" y="354"/>
                        </a:lnTo>
                        <a:lnTo>
                          <a:pt x="382" y="349"/>
                        </a:lnTo>
                        <a:lnTo>
                          <a:pt x="386" y="343"/>
                        </a:lnTo>
                        <a:lnTo>
                          <a:pt x="391" y="338"/>
                        </a:lnTo>
                        <a:lnTo>
                          <a:pt x="393" y="334"/>
                        </a:lnTo>
                        <a:lnTo>
                          <a:pt x="397" y="330"/>
                        </a:lnTo>
                        <a:lnTo>
                          <a:pt x="402" y="323"/>
                        </a:lnTo>
                        <a:lnTo>
                          <a:pt x="406" y="319"/>
                        </a:lnTo>
                        <a:lnTo>
                          <a:pt x="408" y="312"/>
                        </a:lnTo>
                        <a:lnTo>
                          <a:pt x="415" y="308"/>
                        </a:lnTo>
                        <a:lnTo>
                          <a:pt x="419" y="301"/>
                        </a:lnTo>
                        <a:lnTo>
                          <a:pt x="424" y="297"/>
                        </a:lnTo>
                        <a:lnTo>
                          <a:pt x="426" y="290"/>
                        </a:lnTo>
                        <a:lnTo>
                          <a:pt x="432" y="286"/>
                        </a:lnTo>
                        <a:lnTo>
                          <a:pt x="437" y="279"/>
                        </a:lnTo>
                        <a:lnTo>
                          <a:pt x="441" y="275"/>
                        </a:lnTo>
                        <a:lnTo>
                          <a:pt x="443" y="270"/>
                        </a:lnTo>
                        <a:lnTo>
                          <a:pt x="448" y="264"/>
                        </a:lnTo>
                        <a:lnTo>
                          <a:pt x="452" y="259"/>
                        </a:lnTo>
                        <a:lnTo>
                          <a:pt x="457" y="255"/>
                        </a:lnTo>
                        <a:lnTo>
                          <a:pt x="461" y="248"/>
                        </a:lnTo>
                        <a:lnTo>
                          <a:pt x="465" y="244"/>
                        </a:lnTo>
                        <a:lnTo>
                          <a:pt x="468" y="240"/>
                        </a:lnTo>
                        <a:lnTo>
                          <a:pt x="472" y="235"/>
                        </a:lnTo>
                        <a:lnTo>
                          <a:pt x="476" y="231"/>
                        </a:lnTo>
                        <a:lnTo>
                          <a:pt x="479" y="226"/>
                        </a:lnTo>
                        <a:lnTo>
                          <a:pt x="485" y="220"/>
                        </a:lnTo>
                        <a:lnTo>
                          <a:pt x="492" y="213"/>
                        </a:lnTo>
                        <a:lnTo>
                          <a:pt x="496" y="205"/>
                        </a:lnTo>
                        <a:lnTo>
                          <a:pt x="501" y="198"/>
                        </a:lnTo>
                        <a:lnTo>
                          <a:pt x="503" y="191"/>
                        </a:lnTo>
                        <a:lnTo>
                          <a:pt x="509" y="183"/>
                        </a:lnTo>
                        <a:lnTo>
                          <a:pt x="514" y="174"/>
                        </a:lnTo>
                        <a:lnTo>
                          <a:pt x="518" y="167"/>
                        </a:lnTo>
                        <a:lnTo>
                          <a:pt x="522" y="158"/>
                        </a:lnTo>
                        <a:lnTo>
                          <a:pt x="527" y="152"/>
                        </a:lnTo>
                        <a:lnTo>
                          <a:pt x="531" y="143"/>
                        </a:lnTo>
                        <a:lnTo>
                          <a:pt x="533" y="134"/>
                        </a:lnTo>
                        <a:lnTo>
                          <a:pt x="538" y="128"/>
                        </a:lnTo>
                        <a:lnTo>
                          <a:pt x="542" y="121"/>
                        </a:lnTo>
                        <a:lnTo>
                          <a:pt x="542" y="112"/>
                        </a:lnTo>
                        <a:lnTo>
                          <a:pt x="547" y="108"/>
                        </a:lnTo>
                        <a:lnTo>
                          <a:pt x="547" y="101"/>
                        </a:lnTo>
                        <a:lnTo>
                          <a:pt x="549" y="97"/>
                        </a:lnTo>
                        <a:lnTo>
                          <a:pt x="549" y="90"/>
                        </a:lnTo>
                        <a:lnTo>
                          <a:pt x="549" y="82"/>
                        </a:lnTo>
                        <a:lnTo>
                          <a:pt x="549" y="75"/>
                        </a:lnTo>
                        <a:lnTo>
                          <a:pt x="549" y="68"/>
                        </a:lnTo>
                        <a:lnTo>
                          <a:pt x="549" y="62"/>
                        </a:lnTo>
                        <a:lnTo>
                          <a:pt x="551" y="57"/>
                        </a:lnTo>
                        <a:lnTo>
                          <a:pt x="553" y="51"/>
                        </a:lnTo>
                        <a:lnTo>
                          <a:pt x="558" y="49"/>
                        </a:lnTo>
                        <a:lnTo>
                          <a:pt x="560" y="44"/>
                        </a:lnTo>
                        <a:lnTo>
                          <a:pt x="566" y="42"/>
                        </a:lnTo>
                        <a:lnTo>
                          <a:pt x="571" y="40"/>
                        </a:lnTo>
                        <a:lnTo>
                          <a:pt x="573" y="38"/>
                        </a:lnTo>
                        <a:lnTo>
                          <a:pt x="580" y="35"/>
                        </a:lnTo>
                        <a:lnTo>
                          <a:pt x="584" y="35"/>
                        </a:lnTo>
                        <a:lnTo>
                          <a:pt x="588" y="33"/>
                        </a:lnTo>
                        <a:lnTo>
                          <a:pt x="593" y="31"/>
                        </a:lnTo>
                        <a:lnTo>
                          <a:pt x="599" y="29"/>
                        </a:lnTo>
                        <a:lnTo>
                          <a:pt x="606" y="27"/>
                        </a:lnTo>
                        <a:lnTo>
                          <a:pt x="610" y="24"/>
                        </a:lnTo>
                        <a:lnTo>
                          <a:pt x="617" y="22"/>
                        </a:lnTo>
                        <a:lnTo>
                          <a:pt x="624" y="22"/>
                        </a:lnTo>
                        <a:lnTo>
                          <a:pt x="630" y="20"/>
                        </a:lnTo>
                        <a:lnTo>
                          <a:pt x="635" y="18"/>
                        </a:lnTo>
                        <a:lnTo>
                          <a:pt x="641" y="16"/>
                        </a:lnTo>
                        <a:lnTo>
                          <a:pt x="648" y="13"/>
                        </a:lnTo>
                        <a:lnTo>
                          <a:pt x="652" y="11"/>
                        </a:lnTo>
                        <a:lnTo>
                          <a:pt x="659" y="9"/>
                        </a:lnTo>
                        <a:lnTo>
                          <a:pt x="663" y="9"/>
                        </a:lnTo>
                        <a:lnTo>
                          <a:pt x="667" y="7"/>
                        </a:lnTo>
                        <a:lnTo>
                          <a:pt x="672" y="5"/>
                        </a:lnTo>
                        <a:lnTo>
                          <a:pt x="681" y="2"/>
                        </a:lnTo>
                        <a:lnTo>
                          <a:pt x="687" y="2"/>
                        </a:lnTo>
                        <a:lnTo>
                          <a:pt x="692" y="0"/>
                        </a:lnTo>
                        <a:lnTo>
                          <a:pt x="692" y="0"/>
                        </a:lnTo>
                        <a:lnTo>
                          <a:pt x="709" y="33"/>
                        </a:lnTo>
                        <a:lnTo>
                          <a:pt x="70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726"/>
                  <p:cNvSpPr/>
                  <p:nvPr/>
                </p:nvSpPr>
                <p:spPr>
                  <a:xfrm>
                    <a:off x="1540440" y="5238720"/>
                    <a:ext cx="110880" cy="116640"/>
                  </a:xfrm>
                  <a:custGeom>
                    <a:avLst/>
                    <a:gdLst>
                      <a:gd name="textAreaLeft" fmla="*/ 0 w 110880"/>
                      <a:gd name="textAreaRight" fmla="*/ 111240 w 110880"/>
                      <a:gd name="textAreaTop" fmla="*/ 0 h 116640"/>
                      <a:gd name="textAreaBottom" fmla="*/ 117000 h 116640"/>
                    </a:gdLst>
                    <a:ahLst/>
                    <a:rect l="textAreaLeft" t="textAreaTop" r="textAreaRight" b="textAreaBottom"/>
                    <a:pathLst>
                      <a:path w="156" h="160">
                        <a:moveTo>
                          <a:pt x="103" y="0"/>
                        </a:moveTo>
                        <a:lnTo>
                          <a:pt x="101" y="2"/>
                        </a:lnTo>
                        <a:lnTo>
                          <a:pt x="97" y="4"/>
                        </a:lnTo>
                        <a:lnTo>
                          <a:pt x="90" y="9"/>
                        </a:lnTo>
                        <a:lnTo>
                          <a:pt x="84" y="15"/>
                        </a:lnTo>
                        <a:lnTo>
                          <a:pt x="79" y="18"/>
                        </a:lnTo>
                        <a:lnTo>
                          <a:pt x="75" y="20"/>
                        </a:lnTo>
                        <a:lnTo>
                          <a:pt x="70" y="24"/>
                        </a:lnTo>
                        <a:lnTo>
                          <a:pt x="66" y="29"/>
                        </a:lnTo>
                        <a:lnTo>
                          <a:pt x="62" y="31"/>
                        </a:lnTo>
                        <a:lnTo>
                          <a:pt x="57" y="35"/>
                        </a:lnTo>
                        <a:lnTo>
                          <a:pt x="53" y="40"/>
                        </a:lnTo>
                        <a:lnTo>
                          <a:pt x="49" y="44"/>
                        </a:lnTo>
                        <a:lnTo>
                          <a:pt x="42" y="46"/>
                        </a:lnTo>
                        <a:lnTo>
                          <a:pt x="38" y="51"/>
                        </a:lnTo>
                        <a:lnTo>
                          <a:pt x="33" y="55"/>
                        </a:lnTo>
                        <a:lnTo>
                          <a:pt x="29" y="59"/>
                        </a:lnTo>
                        <a:lnTo>
                          <a:pt x="20" y="66"/>
                        </a:lnTo>
                        <a:lnTo>
                          <a:pt x="13" y="75"/>
                        </a:lnTo>
                        <a:lnTo>
                          <a:pt x="7" y="79"/>
                        </a:lnTo>
                        <a:lnTo>
                          <a:pt x="2" y="86"/>
                        </a:lnTo>
                        <a:lnTo>
                          <a:pt x="0" y="90"/>
                        </a:lnTo>
                        <a:lnTo>
                          <a:pt x="0" y="94"/>
                        </a:lnTo>
                        <a:lnTo>
                          <a:pt x="0" y="97"/>
                        </a:lnTo>
                        <a:lnTo>
                          <a:pt x="2" y="99"/>
                        </a:lnTo>
                        <a:lnTo>
                          <a:pt x="5" y="103"/>
                        </a:lnTo>
                        <a:lnTo>
                          <a:pt x="9" y="110"/>
                        </a:lnTo>
                        <a:lnTo>
                          <a:pt x="13" y="114"/>
                        </a:lnTo>
                        <a:lnTo>
                          <a:pt x="18" y="121"/>
                        </a:lnTo>
                        <a:lnTo>
                          <a:pt x="24" y="125"/>
                        </a:lnTo>
                        <a:lnTo>
                          <a:pt x="31" y="132"/>
                        </a:lnTo>
                        <a:lnTo>
                          <a:pt x="38" y="136"/>
                        </a:lnTo>
                        <a:lnTo>
                          <a:pt x="42" y="143"/>
                        </a:lnTo>
                        <a:lnTo>
                          <a:pt x="49" y="147"/>
                        </a:lnTo>
                        <a:lnTo>
                          <a:pt x="55" y="152"/>
                        </a:lnTo>
                        <a:lnTo>
                          <a:pt x="60" y="154"/>
                        </a:lnTo>
                        <a:lnTo>
                          <a:pt x="64" y="158"/>
                        </a:lnTo>
                        <a:lnTo>
                          <a:pt x="66" y="158"/>
                        </a:lnTo>
                        <a:lnTo>
                          <a:pt x="68" y="160"/>
                        </a:lnTo>
                        <a:lnTo>
                          <a:pt x="70" y="156"/>
                        </a:lnTo>
                        <a:lnTo>
                          <a:pt x="73" y="154"/>
                        </a:lnTo>
                        <a:lnTo>
                          <a:pt x="77" y="149"/>
                        </a:lnTo>
                        <a:lnTo>
                          <a:pt x="84" y="145"/>
                        </a:lnTo>
                        <a:lnTo>
                          <a:pt x="90" y="138"/>
                        </a:lnTo>
                        <a:lnTo>
                          <a:pt x="99" y="132"/>
                        </a:lnTo>
                        <a:lnTo>
                          <a:pt x="106" y="125"/>
                        </a:lnTo>
                        <a:lnTo>
                          <a:pt x="114" y="119"/>
                        </a:lnTo>
                        <a:lnTo>
                          <a:pt x="123" y="110"/>
                        </a:lnTo>
                        <a:lnTo>
                          <a:pt x="130" y="105"/>
                        </a:lnTo>
                        <a:lnTo>
                          <a:pt x="136" y="99"/>
                        </a:lnTo>
                        <a:lnTo>
                          <a:pt x="143" y="94"/>
                        </a:lnTo>
                        <a:lnTo>
                          <a:pt x="147" y="90"/>
                        </a:lnTo>
                        <a:lnTo>
                          <a:pt x="152" y="86"/>
                        </a:lnTo>
                        <a:lnTo>
                          <a:pt x="154" y="83"/>
                        </a:lnTo>
                        <a:lnTo>
                          <a:pt x="156" y="83"/>
                        </a:lnTo>
                        <a:lnTo>
                          <a:pt x="156" y="79"/>
                        </a:lnTo>
                        <a:lnTo>
                          <a:pt x="156" y="75"/>
                        </a:lnTo>
                        <a:lnTo>
                          <a:pt x="154" y="68"/>
                        </a:lnTo>
                        <a:lnTo>
                          <a:pt x="152" y="66"/>
                        </a:lnTo>
                        <a:lnTo>
                          <a:pt x="150" y="66"/>
                        </a:lnTo>
                        <a:lnTo>
                          <a:pt x="147" y="68"/>
                        </a:lnTo>
                        <a:lnTo>
                          <a:pt x="143" y="70"/>
                        </a:lnTo>
                        <a:lnTo>
                          <a:pt x="136" y="77"/>
                        </a:lnTo>
                        <a:lnTo>
                          <a:pt x="130" y="81"/>
                        </a:lnTo>
                        <a:lnTo>
                          <a:pt x="123" y="88"/>
                        </a:lnTo>
                        <a:lnTo>
                          <a:pt x="117" y="92"/>
                        </a:lnTo>
                        <a:lnTo>
                          <a:pt x="108" y="101"/>
                        </a:lnTo>
                        <a:lnTo>
                          <a:pt x="101" y="108"/>
                        </a:lnTo>
                        <a:lnTo>
                          <a:pt x="92" y="114"/>
                        </a:lnTo>
                        <a:lnTo>
                          <a:pt x="86" y="119"/>
                        </a:lnTo>
                        <a:lnTo>
                          <a:pt x="81" y="125"/>
                        </a:lnTo>
                        <a:lnTo>
                          <a:pt x="75" y="127"/>
                        </a:lnTo>
                        <a:lnTo>
                          <a:pt x="70" y="132"/>
                        </a:lnTo>
                        <a:lnTo>
                          <a:pt x="68" y="134"/>
                        </a:lnTo>
                        <a:lnTo>
                          <a:pt x="68" y="136"/>
                        </a:lnTo>
                        <a:lnTo>
                          <a:pt x="66" y="134"/>
                        </a:lnTo>
                        <a:lnTo>
                          <a:pt x="60" y="130"/>
                        </a:lnTo>
                        <a:lnTo>
                          <a:pt x="55" y="125"/>
                        </a:lnTo>
                        <a:lnTo>
                          <a:pt x="51" y="121"/>
                        </a:lnTo>
                        <a:lnTo>
                          <a:pt x="46" y="119"/>
                        </a:lnTo>
                        <a:lnTo>
                          <a:pt x="42" y="114"/>
                        </a:lnTo>
                        <a:lnTo>
                          <a:pt x="38" y="110"/>
                        </a:lnTo>
                        <a:lnTo>
                          <a:pt x="31" y="105"/>
                        </a:lnTo>
                        <a:lnTo>
                          <a:pt x="29" y="101"/>
                        </a:lnTo>
                        <a:lnTo>
                          <a:pt x="24" y="99"/>
                        </a:lnTo>
                        <a:lnTo>
                          <a:pt x="20" y="92"/>
                        </a:lnTo>
                        <a:lnTo>
                          <a:pt x="22" y="90"/>
                        </a:lnTo>
                        <a:lnTo>
                          <a:pt x="22" y="86"/>
                        </a:lnTo>
                        <a:lnTo>
                          <a:pt x="27" y="83"/>
                        </a:lnTo>
                        <a:lnTo>
                          <a:pt x="31" y="79"/>
                        </a:lnTo>
                        <a:lnTo>
                          <a:pt x="40" y="75"/>
                        </a:lnTo>
                        <a:lnTo>
                          <a:pt x="46" y="68"/>
                        </a:lnTo>
                        <a:lnTo>
                          <a:pt x="55" y="62"/>
                        </a:lnTo>
                        <a:lnTo>
                          <a:pt x="60" y="57"/>
                        </a:lnTo>
                        <a:lnTo>
                          <a:pt x="64" y="55"/>
                        </a:lnTo>
                        <a:lnTo>
                          <a:pt x="68" y="51"/>
                        </a:lnTo>
                        <a:lnTo>
                          <a:pt x="73" y="48"/>
                        </a:lnTo>
                        <a:lnTo>
                          <a:pt x="81" y="42"/>
                        </a:lnTo>
                        <a:lnTo>
                          <a:pt x="90" y="35"/>
                        </a:lnTo>
                        <a:lnTo>
                          <a:pt x="97" y="29"/>
                        </a:lnTo>
                        <a:lnTo>
                          <a:pt x="103" y="24"/>
                        </a:lnTo>
                        <a:lnTo>
                          <a:pt x="108" y="18"/>
                        </a:lnTo>
                        <a:lnTo>
                          <a:pt x="114" y="15"/>
                        </a:lnTo>
                        <a:lnTo>
                          <a:pt x="117" y="13"/>
                        </a:lnTo>
                        <a:lnTo>
                          <a:pt x="119" y="11"/>
                        </a:lnTo>
                        <a:lnTo>
                          <a:pt x="114" y="9"/>
                        </a:lnTo>
                        <a:lnTo>
                          <a:pt x="110" y="4"/>
                        </a:lnTo>
                        <a:lnTo>
                          <a:pt x="106" y="2"/>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727"/>
                  <p:cNvSpPr/>
                  <p:nvPr/>
                </p:nvSpPr>
                <p:spPr>
                  <a:xfrm>
                    <a:off x="1442160" y="4995000"/>
                    <a:ext cx="290160" cy="142920"/>
                  </a:xfrm>
                  <a:custGeom>
                    <a:avLst/>
                    <a:gdLst>
                      <a:gd name="textAreaLeft" fmla="*/ 0 w 290160"/>
                      <a:gd name="textAreaRight" fmla="*/ 290520 w 290160"/>
                      <a:gd name="textAreaTop" fmla="*/ 0 h 142920"/>
                      <a:gd name="textAreaBottom" fmla="*/ 143280 h 142920"/>
                    </a:gdLst>
                    <a:ahLst/>
                    <a:rect l="textAreaLeft" t="textAreaTop" r="textAreaRight" b="textAreaBottom"/>
                    <a:pathLst>
                      <a:path w="408" h="196">
                        <a:moveTo>
                          <a:pt x="0" y="174"/>
                        </a:moveTo>
                        <a:lnTo>
                          <a:pt x="0" y="174"/>
                        </a:lnTo>
                        <a:lnTo>
                          <a:pt x="4" y="172"/>
                        </a:lnTo>
                        <a:lnTo>
                          <a:pt x="9" y="167"/>
                        </a:lnTo>
                        <a:lnTo>
                          <a:pt x="17" y="165"/>
                        </a:lnTo>
                        <a:lnTo>
                          <a:pt x="22" y="163"/>
                        </a:lnTo>
                        <a:lnTo>
                          <a:pt x="26" y="158"/>
                        </a:lnTo>
                        <a:lnTo>
                          <a:pt x="33" y="156"/>
                        </a:lnTo>
                        <a:lnTo>
                          <a:pt x="37" y="156"/>
                        </a:lnTo>
                        <a:lnTo>
                          <a:pt x="44" y="152"/>
                        </a:lnTo>
                        <a:lnTo>
                          <a:pt x="50" y="150"/>
                        </a:lnTo>
                        <a:lnTo>
                          <a:pt x="57" y="147"/>
                        </a:lnTo>
                        <a:lnTo>
                          <a:pt x="66" y="145"/>
                        </a:lnTo>
                        <a:lnTo>
                          <a:pt x="72" y="141"/>
                        </a:lnTo>
                        <a:lnTo>
                          <a:pt x="79" y="139"/>
                        </a:lnTo>
                        <a:lnTo>
                          <a:pt x="85" y="134"/>
                        </a:lnTo>
                        <a:lnTo>
                          <a:pt x="94" y="132"/>
                        </a:lnTo>
                        <a:lnTo>
                          <a:pt x="101" y="128"/>
                        </a:lnTo>
                        <a:lnTo>
                          <a:pt x="110" y="123"/>
                        </a:lnTo>
                        <a:lnTo>
                          <a:pt x="118" y="121"/>
                        </a:lnTo>
                        <a:lnTo>
                          <a:pt x="127" y="117"/>
                        </a:lnTo>
                        <a:lnTo>
                          <a:pt x="136" y="112"/>
                        </a:lnTo>
                        <a:lnTo>
                          <a:pt x="145" y="108"/>
                        </a:lnTo>
                        <a:lnTo>
                          <a:pt x="154" y="103"/>
                        </a:lnTo>
                        <a:lnTo>
                          <a:pt x="165" y="101"/>
                        </a:lnTo>
                        <a:lnTo>
                          <a:pt x="173" y="97"/>
                        </a:lnTo>
                        <a:lnTo>
                          <a:pt x="182" y="92"/>
                        </a:lnTo>
                        <a:lnTo>
                          <a:pt x="191" y="88"/>
                        </a:lnTo>
                        <a:lnTo>
                          <a:pt x="202" y="86"/>
                        </a:lnTo>
                        <a:lnTo>
                          <a:pt x="211" y="79"/>
                        </a:lnTo>
                        <a:lnTo>
                          <a:pt x="219" y="77"/>
                        </a:lnTo>
                        <a:lnTo>
                          <a:pt x="228" y="70"/>
                        </a:lnTo>
                        <a:lnTo>
                          <a:pt x="237" y="68"/>
                        </a:lnTo>
                        <a:lnTo>
                          <a:pt x="246" y="64"/>
                        </a:lnTo>
                        <a:lnTo>
                          <a:pt x="255" y="60"/>
                        </a:lnTo>
                        <a:lnTo>
                          <a:pt x="266" y="57"/>
                        </a:lnTo>
                        <a:lnTo>
                          <a:pt x="274" y="53"/>
                        </a:lnTo>
                        <a:lnTo>
                          <a:pt x="281" y="49"/>
                        </a:lnTo>
                        <a:lnTo>
                          <a:pt x="290" y="46"/>
                        </a:lnTo>
                        <a:lnTo>
                          <a:pt x="299" y="42"/>
                        </a:lnTo>
                        <a:lnTo>
                          <a:pt x="307" y="38"/>
                        </a:lnTo>
                        <a:lnTo>
                          <a:pt x="314" y="35"/>
                        </a:lnTo>
                        <a:lnTo>
                          <a:pt x="321" y="31"/>
                        </a:lnTo>
                        <a:lnTo>
                          <a:pt x="329" y="29"/>
                        </a:lnTo>
                        <a:lnTo>
                          <a:pt x="336" y="27"/>
                        </a:lnTo>
                        <a:lnTo>
                          <a:pt x="343" y="22"/>
                        </a:lnTo>
                        <a:lnTo>
                          <a:pt x="349" y="18"/>
                        </a:lnTo>
                        <a:lnTo>
                          <a:pt x="356" y="16"/>
                        </a:lnTo>
                        <a:lnTo>
                          <a:pt x="360" y="13"/>
                        </a:lnTo>
                        <a:lnTo>
                          <a:pt x="367" y="11"/>
                        </a:lnTo>
                        <a:lnTo>
                          <a:pt x="371" y="9"/>
                        </a:lnTo>
                        <a:lnTo>
                          <a:pt x="375" y="7"/>
                        </a:lnTo>
                        <a:lnTo>
                          <a:pt x="380" y="7"/>
                        </a:lnTo>
                        <a:lnTo>
                          <a:pt x="386" y="2"/>
                        </a:lnTo>
                        <a:lnTo>
                          <a:pt x="393" y="2"/>
                        </a:lnTo>
                        <a:lnTo>
                          <a:pt x="397" y="0"/>
                        </a:lnTo>
                        <a:lnTo>
                          <a:pt x="397" y="0"/>
                        </a:lnTo>
                        <a:lnTo>
                          <a:pt x="402" y="2"/>
                        </a:lnTo>
                        <a:lnTo>
                          <a:pt x="406" y="11"/>
                        </a:lnTo>
                        <a:lnTo>
                          <a:pt x="408" y="16"/>
                        </a:lnTo>
                        <a:lnTo>
                          <a:pt x="408" y="20"/>
                        </a:lnTo>
                        <a:lnTo>
                          <a:pt x="404" y="24"/>
                        </a:lnTo>
                        <a:lnTo>
                          <a:pt x="402" y="27"/>
                        </a:lnTo>
                        <a:lnTo>
                          <a:pt x="397" y="27"/>
                        </a:lnTo>
                        <a:lnTo>
                          <a:pt x="393" y="29"/>
                        </a:lnTo>
                        <a:lnTo>
                          <a:pt x="384" y="31"/>
                        </a:lnTo>
                        <a:lnTo>
                          <a:pt x="378" y="33"/>
                        </a:lnTo>
                        <a:lnTo>
                          <a:pt x="371" y="35"/>
                        </a:lnTo>
                        <a:lnTo>
                          <a:pt x="367" y="38"/>
                        </a:lnTo>
                        <a:lnTo>
                          <a:pt x="360" y="40"/>
                        </a:lnTo>
                        <a:lnTo>
                          <a:pt x="356" y="42"/>
                        </a:lnTo>
                        <a:lnTo>
                          <a:pt x="349" y="44"/>
                        </a:lnTo>
                        <a:lnTo>
                          <a:pt x="343" y="46"/>
                        </a:lnTo>
                        <a:lnTo>
                          <a:pt x="336" y="51"/>
                        </a:lnTo>
                        <a:lnTo>
                          <a:pt x="329" y="55"/>
                        </a:lnTo>
                        <a:lnTo>
                          <a:pt x="321" y="57"/>
                        </a:lnTo>
                        <a:lnTo>
                          <a:pt x="314" y="60"/>
                        </a:lnTo>
                        <a:lnTo>
                          <a:pt x="307" y="62"/>
                        </a:lnTo>
                        <a:lnTo>
                          <a:pt x="299" y="66"/>
                        </a:lnTo>
                        <a:lnTo>
                          <a:pt x="290" y="68"/>
                        </a:lnTo>
                        <a:lnTo>
                          <a:pt x="281" y="73"/>
                        </a:lnTo>
                        <a:lnTo>
                          <a:pt x="272" y="77"/>
                        </a:lnTo>
                        <a:lnTo>
                          <a:pt x="266" y="81"/>
                        </a:lnTo>
                        <a:lnTo>
                          <a:pt x="257" y="84"/>
                        </a:lnTo>
                        <a:lnTo>
                          <a:pt x="246" y="88"/>
                        </a:lnTo>
                        <a:lnTo>
                          <a:pt x="237" y="92"/>
                        </a:lnTo>
                        <a:lnTo>
                          <a:pt x="228" y="97"/>
                        </a:lnTo>
                        <a:lnTo>
                          <a:pt x="219" y="99"/>
                        </a:lnTo>
                        <a:lnTo>
                          <a:pt x="211" y="103"/>
                        </a:lnTo>
                        <a:lnTo>
                          <a:pt x="202" y="108"/>
                        </a:lnTo>
                        <a:lnTo>
                          <a:pt x="193" y="112"/>
                        </a:lnTo>
                        <a:lnTo>
                          <a:pt x="184" y="117"/>
                        </a:lnTo>
                        <a:lnTo>
                          <a:pt x="173" y="121"/>
                        </a:lnTo>
                        <a:lnTo>
                          <a:pt x="165" y="123"/>
                        </a:lnTo>
                        <a:lnTo>
                          <a:pt x="156" y="128"/>
                        </a:lnTo>
                        <a:lnTo>
                          <a:pt x="147" y="132"/>
                        </a:lnTo>
                        <a:lnTo>
                          <a:pt x="138" y="134"/>
                        </a:lnTo>
                        <a:lnTo>
                          <a:pt x="129" y="139"/>
                        </a:lnTo>
                        <a:lnTo>
                          <a:pt x="121" y="143"/>
                        </a:lnTo>
                        <a:lnTo>
                          <a:pt x="112" y="145"/>
                        </a:lnTo>
                        <a:lnTo>
                          <a:pt x="103" y="150"/>
                        </a:lnTo>
                        <a:lnTo>
                          <a:pt x="96" y="152"/>
                        </a:lnTo>
                        <a:lnTo>
                          <a:pt x="90" y="156"/>
                        </a:lnTo>
                        <a:lnTo>
                          <a:pt x="81" y="158"/>
                        </a:lnTo>
                        <a:lnTo>
                          <a:pt x="74" y="163"/>
                        </a:lnTo>
                        <a:lnTo>
                          <a:pt x="66" y="167"/>
                        </a:lnTo>
                        <a:lnTo>
                          <a:pt x="61" y="169"/>
                        </a:lnTo>
                        <a:lnTo>
                          <a:pt x="52" y="172"/>
                        </a:lnTo>
                        <a:lnTo>
                          <a:pt x="48" y="174"/>
                        </a:lnTo>
                        <a:lnTo>
                          <a:pt x="39" y="178"/>
                        </a:lnTo>
                        <a:lnTo>
                          <a:pt x="35" y="180"/>
                        </a:lnTo>
                        <a:lnTo>
                          <a:pt x="31" y="180"/>
                        </a:lnTo>
                        <a:lnTo>
                          <a:pt x="24" y="185"/>
                        </a:lnTo>
                        <a:lnTo>
                          <a:pt x="20" y="187"/>
                        </a:lnTo>
                        <a:lnTo>
                          <a:pt x="17" y="189"/>
                        </a:lnTo>
                        <a:lnTo>
                          <a:pt x="9" y="191"/>
                        </a:lnTo>
                        <a:lnTo>
                          <a:pt x="6" y="193"/>
                        </a:lnTo>
                        <a:lnTo>
                          <a:pt x="2" y="196"/>
                        </a:lnTo>
                        <a:lnTo>
                          <a:pt x="2" y="196"/>
                        </a:lnTo>
                        <a:lnTo>
                          <a:pt x="0" y="174"/>
                        </a:lnTo>
                        <a:lnTo>
                          <a:pt x="0"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728"/>
                  <p:cNvSpPr/>
                  <p:nvPr/>
                </p:nvSpPr>
                <p:spPr>
                  <a:xfrm>
                    <a:off x="2303640" y="4504320"/>
                    <a:ext cx="152280" cy="524160"/>
                  </a:xfrm>
                  <a:custGeom>
                    <a:avLst/>
                    <a:gdLst>
                      <a:gd name="textAreaLeft" fmla="*/ 0 w 152280"/>
                      <a:gd name="textAreaRight" fmla="*/ 152640 w 152280"/>
                      <a:gd name="textAreaTop" fmla="*/ 0 h 524160"/>
                      <a:gd name="textAreaBottom" fmla="*/ 524520 h 524160"/>
                    </a:gdLst>
                    <a:ahLst/>
                    <a:rect l="textAreaLeft" t="textAreaTop" r="textAreaRight" b="textAreaBottom"/>
                    <a:pathLst>
                      <a:path w="214" h="718">
                        <a:moveTo>
                          <a:pt x="33" y="0"/>
                        </a:moveTo>
                        <a:lnTo>
                          <a:pt x="33" y="0"/>
                        </a:lnTo>
                        <a:lnTo>
                          <a:pt x="33" y="5"/>
                        </a:lnTo>
                        <a:lnTo>
                          <a:pt x="33" y="7"/>
                        </a:lnTo>
                        <a:lnTo>
                          <a:pt x="36" y="11"/>
                        </a:lnTo>
                        <a:lnTo>
                          <a:pt x="36" y="16"/>
                        </a:lnTo>
                        <a:lnTo>
                          <a:pt x="38" y="20"/>
                        </a:lnTo>
                        <a:lnTo>
                          <a:pt x="38" y="24"/>
                        </a:lnTo>
                        <a:lnTo>
                          <a:pt x="40" y="29"/>
                        </a:lnTo>
                        <a:lnTo>
                          <a:pt x="42" y="35"/>
                        </a:lnTo>
                        <a:lnTo>
                          <a:pt x="42" y="42"/>
                        </a:lnTo>
                        <a:lnTo>
                          <a:pt x="44" y="46"/>
                        </a:lnTo>
                        <a:lnTo>
                          <a:pt x="47" y="53"/>
                        </a:lnTo>
                        <a:lnTo>
                          <a:pt x="49" y="62"/>
                        </a:lnTo>
                        <a:lnTo>
                          <a:pt x="51" y="71"/>
                        </a:lnTo>
                        <a:lnTo>
                          <a:pt x="53" y="77"/>
                        </a:lnTo>
                        <a:lnTo>
                          <a:pt x="53" y="86"/>
                        </a:lnTo>
                        <a:lnTo>
                          <a:pt x="55" y="92"/>
                        </a:lnTo>
                        <a:lnTo>
                          <a:pt x="58" y="103"/>
                        </a:lnTo>
                        <a:lnTo>
                          <a:pt x="60" y="110"/>
                        </a:lnTo>
                        <a:lnTo>
                          <a:pt x="62" y="121"/>
                        </a:lnTo>
                        <a:lnTo>
                          <a:pt x="64" y="130"/>
                        </a:lnTo>
                        <a:lnTo>
                          <a:pt x="66" y="141"/>
                        </a:lnTo>
                        <a:lnTo>
                          <a:pt x="71" y="150"/>
                        </a:lnTo>
                        <a:lnTo>
                          <a:pt x="73" y="158"/>
                        </a:lnTo>
                        <a:lnTo>
                          <a:pt x="75" y="169"/>
                        </a:lnTo>
                        <a:lnTo>
                          <a:pt x="77" y="180"/>
                        </a:lnTo>
                        <a:lnTo>
                          <a:pt x="80" y="189"/>
                        </a:lnTo>
                        <a:lnTo>
                          <a:pt x="82" y="200"/>
                        </a:lnTo>
                        <a:lnTo>
                          <a:pt x="84" y="211"/>
                        </a:lnTo>
                        <a:lnTo>
                          <a:pt x="88" y="222"/>
                        </a:lnTo>
                        <a:lnTo>
                          <a:pt x="91" y="231"/>
                        </a:lnTo>
                        <a:lnTo>
                          <a:pt x="93" y="242"/>
                        </a:lnTo>
                        <a:lnTo>
                          <a:pt x="95" y="251"/>
                        </a:lnTo>
                        <a:lnTo>
                          <a:pt x="97" y="262"/>
                        </a:lnTo>
                        <a:lnTo>
                          <a:pt x="101" y="273"/>
                        </a:lnTo>
                        <a:lnTo>
                          <a:pt x="104" y="284"/>
                        </a:lnTo>
                        <a:lnTo>
                          <a:pt x="106" y="292"/>
                        </a:lnTo>
                        <a:lnTo>
                          <a:pt x="108" y="303"/>
                        </a:lnTo>
                        <a:lnTo>
                          <a:pt x="110" y="312"/>
                        </a:lnTo>
                        <a:lnTo>
                          <a:pt x="112" y="323"/>
                        </a:lnTo>
                        <a:lnTo>
                          <a:pt x="115" y="332"/>
                        </a:lnTo>
                        <a:lnTo>
                          <a:pt x="117" y="343"/>
                        </a:lnTo>
                        <a:lnTo>
                          <a:pt x="119" y="349"/>
                        </a:lnTo>
                        <a:lnTo>
                          <a:pt x="121" y="360"/>
                        </a:lnTo>
                        <a:lnTo>
                          <a:pt x="123" y="369"/>
                        </a:lnTo>
                        <a:lnTo>
                          <a:pt x="126" y="378"/>
                        </a:lnTo>
                        <a:lnTo>
                          <a:pt x="128" y="385"/>
                        </a:lnTo>
                        <a:lnTo>
                          <a:pt x="130" y="393"/>
                        </a:lnTo>
                        <a:lnTo>
                          <a:pt x="132" y="402"/>
                        </a:lnTo>
                        <a:lnTo>
                          <a:pt x="134" y="409"/>
                        </a:lnTo>
                        <a:lnTo>
                          <a:pt x="137" y="415"/>
                        </a:lnTo>
                        <a:lnTo>
                          <a:pt x="137" y="422"/>
                        </a:lnTo>
                        <a:lnTo>
                          <a:pt x="139" y="428"/>
                        </a:lnTo>
                        <a:lnTo>
                          <a:pt x="141" y="435"/>
                        </a:lnTo>
                        <a:lnTo>
                          <a:pt x="141" y="442"/>
                        </a:lnTo>
                        <a:lnTo>
                          <a:pt x="143" y="446"/>
                        </a:lnTo>
                        <a:lnTo>
                          <a:pt x="143" y="450"/>
                        </a:lnTo>
                        <a:lnTo>
                          <a:pt x="145" y="455"/>
                        </a:lnTo>
                        <a:lnTo>
                          <a:pt x="148" y="461"/>
                        </a:lnTo>
                        <a:lnTo>
                          <a:pt x="150" y="468"/>
                        </a:lnTo>
                        <a:lnTo>
                          <a:pt x="150" y="472"/>
                        </a:lnTo>
                        <a:lnTo>
                          <a:pt x="152" y="477"/>
                        </a:lnTo>
                        <a:lnTo>
                          <a:pt x="154" y="483"/>
                        </a:lnTo>
                        <a:lnTo>
                          <a:pt x="156" y="490"/>
                        </a:lnTo>
                        <a:lnTo>
                          <a:pt x="159" y="497"/>
                        </a:lnTo>
                        <a:lnTo>
                          <a:pt x="159" y="505"/>
                        </a:lnTo>
                        <a:lnTo>
                          <a:pt x="161" y="510"/>
                        </a:lnTo>
                        <a:lnTo>
                          <a:pt x="161" y="514"/>
                        </a:lnTo>
                        <a:lnTo>
                          <a:pt x="163" y="519"/>
                        </a:lnTo>
                        <a:lnTo>
                          <a:pt x="165" y="523"/>
                        </a:lnTo>
                        <a:lnTo>
                          <a:pt x="165" y="527"/>
                        </a:lnTo>
                        <a:lnTo>
                          <a:pt x="167" y="532"/>
                        </a:lnTo>
                        <a:lnTo>
                          <a:pt x="167" y="536"/>
                        </a:lnTo>
                        <a:lnTo>
                          <a:pt x="170" y="543"/>
                        </a:lnTo>
                        <a:lnTo>
                          <a:pt x="170" y="547"/>
                        </a:lnTo>
                        <a:lnTo>
                          <a:pt x="172" y="551"/>
                        </a:lnTo>
                        <a:lnTo>
                          <a:pt x="172" y="556"/>
                        </a:lnTo>
                        <a:lnTo>
                          <a:pt x="176" y="562"/>
                        </a:lnTo>
                        <a:lnTo>
                          <a:pt x="176" y="567"/>
                        </a:lnTo>
                        <a:lnTo>
                          <a:pt x="178" y="571"/>
                        </a:lnTo>
                        <a:lnTo>
                          <a:pt x="178" y="578"/>
                        </a:lnTo>
                        <a:lnTo>
                          <a:pt x="181" y="582"/>
                        </a:lnTo>
                        <a:lnTo>
                          <a:pt x="181" y="587"/>
                        </a:lnTo>
                        <a:lnTo>
                          <a:pt x="183" y="593"/>
                        </a:lnTo>
                        <a:lnTo>
                          <a:pt x="185" y="598"/>
                        </a:lnTo>
                        <a:lnTo>
                          <a:pt x="187" y="604"/>
                        </a:lnTo>
                        <a:lnTo>
                          <a:pt x="187" y="609"/>
                        </a:lnTo>
                        <a:lnTo>
                          <a:pt x="189" y="613"/>
                        </a:lnTo>
                        <a:lnTo>
                          <a:pt x="189" y="617"/>
                        </a:lnTo>
                        <a:lnTo>
                          <a:pt x="192" y="624"/>
                        </a:lnTo>
                        <a:lnTo>
                          <a:pt x="192" y="628"/>
                        </a:lnTo>
                        <a:lnTo>
                          <a:pt x="194" y="633"/>
                        </a:lnTo>
                        <a:lnTo>
                          <a:pt x="194" y="637"/>
                        </a:lnTo>
                        <a:lnTo>
                          <a:pt x="196" y="641"/>
                        </a:lnTo>
                        <a:lnTo>
                          <a:pt x="198" y="650"/>
                        </a:lnTo>
                        <a:lnTo>
                          <a:pt x="200" y="659"/>
                        </a:lnTo>
                        <a:lnTo>
                          <a:pt x="203" y="668"/>
                        </a:lnTo>
                        <a:lnTo>
                          <a:pt x="205" y="677"/>
                        </a:lnTo>
                        <a:lnTo>
                          <a:pt x="207" y="681"/>
                        </a:lnTo>
                        <a:lnTo>
                          <a:pt x="209" y="688"/>
                        </a:lnTo>
                        <a:lnTo>
                          <a:pt x="211" y="694"/>
                        </a:lnTo>
                        <a:lnTo>
                          <a:pt x="211" y="699"/>
                        </a:lnTo>
                        <a:lnTo>
                          <a:pt x="214" y="705"/>
                        </a:lnTo>
                        <a:lnTo>
                          <a:pt x="214" y="707"/>
                        </a:lnTo>
                        <a:lnTo>
                          <a:pt x="214" y="707"/>
                        </a:lnTo>
                        <a:lnTo>
                          <a:pt x="211" y="710"/>
                        </a:lnTo>
                        <a:lnTo>
                          <a:pt x="205" y="712"/>
                        </a:lnTo>
                        <a:lnTo>
                          <a:pt x="200" y="716"/>
                        </a:lnTo>
                        <a:lnTo>
                          <a:pt x="196" y="718"/>
                        </a:lnTo>
                        <a:lnTo>
                          <a:pt x="192" y="718"/>
                        </a:lnTo>
                        <a:lnTo>
                          <a:pt x="187" y="718"/>
                        </a:lnTo>
                        <a:lnTo>
                          <a:pt x="185" y="716"/>
                        </a:lnTo>
                        <a:lnTo>
                          <a:pt x="183" y="714"/>
                        </a:lnTo>
                        <a:lnTo>
                          <a:pt x="183" y="712"/>
                        </a:lnTo>
                        <a:lnTo>
                          <a:pt x="178" y="705"/>
                        </a:lnTo>
                        <a:lnTo>
                          <a:pt x="178" y="701"/>
                        </a:lnTo>
                        <a:lnTo>
                          <a:pt x="176" y="696"/>
                        </a:lnTo>
                        <a:lnTo>
                          <a:pt x="176" y="692"/>
                        </a:lnTo>
                        <a:lnTo>
                          <a:pt x="174" y="688"/>
                        </a:lnTo>
                        <a:lnTo>
                          <a:pt x="172" y="683"/>
                        </a:lnTo>
                        <a:lnTo>
                          <a:pt x="172" y="679"/>
                        </a:lnTo>
                        <a:lnTo>
                          <a:pt x="170" y="674"/>
                        </a:lnTo>
                        <a:lnTo>
                          <a:pt x="167" y="668"/>
                        </a:lnTo>
                        <a:lnTo>
                          <a:pt x="167" y="663"/>
                        </a:lnTo>
                        <a:lnTo>
                          <a:pt x="165" y="657"/>
                        </a:lnTo>
                        <a:lnTo>
                          <a:pt x="163" y="650"/>
                        </a:lnTo>
                        <a:lnTo>
                          <a:pt x="161" y="646"/>
                        </a:lnTo>
                        <a:lnTo>
                          <a:pt x="159" y="639"/>
                        </a:lnTo>
                        <a:lnTo>
                          <a:pt x="156" y="631"/>
                        </a:lnTo>
                        <a:lnTo>
                          <a:pt x="154" y="626"/>
                        </a:lnTo>
                        <a:lnTo>
                          <a:pt x="152" y="617"/>
                        </a:lnTo>
                        <a:lnTo>
                          <a:pt x="150" y="613"/>
                        </a:lnTo>
                        <a:lnTo>
                          <a:pt x="148" y="604"/>
                        </a:lnTo>
                        <a:lnTo>
                          <a:pt x="148" y="598"/>
                        </a:lnTo>
                        <a:lnTo>
                          <a:pt x="143" y="589"/>
                        </a:lnTo>
                        <a:lnTo>
                          <a:pt x="143" y="582"/>
                        </a:lnTo>
                        <a:lnTo>
                          <a:pt x="141" y="576"/>
                        </a:lnTo>
                        <a:lnTo>
                          <a:pt x="139" y="567"/>
                        </a:lnTo>
                        <a:lnTo>
                          <a:pt x="137" y="560"/>
                        </a:lnTo>
                        <a:lnTo>
                          <a:pt x="134" y="554"/>
                        </a:lnTo>
                        <a:lnTo>
                          <a:pt x="132" y="545"/>
                        </a:lnTo>
                        <a:lnTo>
                          <a:pt x="130" y="536"/>
                        </a:lnTo>
                        <a:lnTo>
                          <a:pt x="126" y="529"/>
                        </a:lnTo>
                        <a:lnTo>
                          <a:pt x="126" y="521"/>
                        </a:lnTo>
                        <a:lnTo>
                          <a:pt x="123" y="514"/>
                        </a:lnTo>
                        <a:lnTo>
                          <a:pt x="119" y="505"/>
                        </a:lnTo>
                        <a:lnTo>
                          <a:pt x="117" y="499"/>
                        </a:lnTo>
                        <a:lnTo>
                          <a:pt x="117" y="490"/>
                        </a:lnTo>
                        <a:lnTo>
                          <a:pt x="112" y="483"/>
                        </a:lnTo>
                        <a:lnTo>
                          <a:pt x="110" y="477"/>
                        </a:lnTo>
                        <a:lnTo>
                          <a:pt x="108" y="468"/>
                        </a:lnTo>
                        <a:lnTo>
                          <a:pt x="108" y="461"/>
                        </a:lnTo>
                        <a:lnTo>
                          <a:pt x="106" y="453"/>
                        </a:lnTo>
                        <a:lnTo>
                          <a:pt x="104" y="446"/>
                        </a:lnTo>
                        <a:lnTo>
                          <a:pt x="101" y="439"/>
                        </a:lnTo>
                        <a:lnTo>
                          <a:pt x="99" y="433"/>
                        </a:lnTo>
                        <a:lnTo>
                          <a:pt x="97" y="426"/>
                        </a:lnTo>
                        <a:lnTo>
                          <a:pt x="95" y="420"/>
                        </a:lnTo>
                        <a:lnTo>
                          <a:pt x="95" y="413"/>
                        </a:lnTo>
                        <a:lnTo>
                          <a:pt x="93" y="407"/>
                        </a:lnTo>
                        <a:lnTo>
                          <a:pt x="91" y="400"/>
                        </a:lnTo>
                        <a:lnTo>
                          <a:pt x="88" y="396"/>
                        </a:lnTo>
                        <a:lnTo>
                          <a:pt x="88" y="389"/>
                        </a:lnTo>
                        <a:lnTo>
                          <a:pt x="86" y="385"/>
                        </a:lnTo>
                        <a:lnTo>
                          <a:pt x="84" y="380"/>
                        </a:lnTo>
                        <a:lnTo>
                          <a:pt x="84" y="374"/>
                        </a:lnTo>
                        <a:lnTo>
                          <a:pt x="82" y="371"/>
                        </a:lnTo>
                        <a:lnTo>
                          <a:pt x="82" y="367"/>
                        </a:lnTo>
                        <a:lnTo>
                          <a:pt x="80" y="360"/>
                        </a:lnTo>
                        <a:lnTo>
                          <a:pt x="80" y="354"/>
                        </a:lnTo>
                        <a:lnTo>
                          <a:pt x="77" y="347"/>
                        </a:lnTo>
                        <a:lnTo>
                          <a:pt x="77" y="341"/>
                        </a:lnTo>
                        <a:lnTo>
                          <a:pt x="75" y="336"/>
                        </a:lnTo>
                        <a:lnTo>
                          <a:pt x="73" y="332"/>
                        </a:lnTo>
                        <a:lnTo>
                          <a:pt x="73" y="327"/>
                        </a:lnTo>
                        <a:lnTo>
                          <a:pt x="73" y="323"/>
                        </a:lnTo>
                        <a:lnTo>
                          <a:pt x="71" y="316"/>
                        </a:lnTo>
                        <a:lnTo>
                          <a:pt x="71" y="312"/>
                        </a:lnTo>
                        <a:lnTo>
                          <a:pt x="69" y="308"/>
                        </a:lnTo>
                        <a:lnTo>
                          <a:pt x="66" y="301"/>
                        </a:lnTo>
                        <a:lnTo>
                          <a:pt x="66" y="297"/>
                        </a:lnTo>
                        <a:lnTo>
                          <a:pt x="64" y="290"/>
                        </a:lnTo>
                        <a:lnTo>
                          <a:pt x="64" y="284"/>
                        </a:lnTo>
                        <a:lnTo>
                          <a:pt x="62" y="279"/>
                        </a:lnTo>
                        <a:lnTo>
                          <a:pt x="60" y="273"/>
                        </a:lnTo>
                        <a:lnTo>
                          <a:pt x="58" y="266"/>
                        </a:lnTo>
                        <a:lnTo>
                          <a:pt x="58" y="259"/>
                        </a:lnTo>
                        <a:lnTo>
                          <a:pt x="55" y="253"/>
                        </a:lnTo>
                        <a:lnTo>
                          <a:pt x="53" y="246"/>
                        </a:lnTo>
                        <a:lnTo>
                          <a:pt x="51" y="240"/>
                        </a:lnTo>
                        <a:lnTo>
                          <a:pt x="49" y="233"/>
                        </a:lnTo>
                        <a:lnTo>
                          <a:pt x="49" y="226"/>
                        </a:lnTo>
                        <a:lnTo>
                          <a:pt x="47" y="218"/>
                        </a:lnTo>
                        <a:lnTo>
                          <a:pt x="44" y="211"/>
                        </a:lnTo>
                        <a:lnTo>
                          <a:pt x="42" y="204"/>
                        </a:lnTo>
                        <a:lnTo>
                          <a:pt x="42" y="198"/>
                        </a:lnTo>
                        <a:lnTo>
                          <a:pt x="38" y="189"/>
                        </a:lnTo>
                        <a:lnTo>
                          <a:pt x="38" y="183"/>
                        </a:lnTo>
                        <a:lnTo>
                          <a:pt x="36" y="176"/>
                        </a:lnTo>
                        <a:lnTo>
                          <a:pt x="36" y="169"/>
                        </a:lnTo>
                        <a:lnTo>
                          <a:pt x="31" y="163"/>
                        </a:lnTo>
                        <a:lnTo>
                          <a:pt x="31" y="154"/>
                        </a:lnTo>
                        <a:lnTo>
                          <a:pt x="29" y="147"/>
                        </a:lnTo>
                        <a:lnTo>
                          <a:pt x="27" y="141"/>
                        </a:lnTo>
                        <a:lnTo>
                          <a:pt x="25" y="134"/>
                        </a:lnTo>
                        <a:lnTo>
                          <a:pt x="25" y="128"/>
                        </a:lnTo>
                        <a:lnTo>
                          <a:pt x="20" y="121"/>
                        </a:lnTo>
                        <a:lnTo>
                          <a:pt x="20" y="114"/>
                        </a:lnTo>
                        <a:lnTo>
                          <a:pt x="18" y="108"/>
                        </a:lnTo>
                        <a:lnTo>
                          <a:pt x="18" y="101"/>
                        </a:lnTo>
                        <a:lnTo>
                          <a:pt x="16" y="95"/>
                        </a:lnTo>
                        <a:lnTo>
                          <a:pt x="14" y="88"/>
                        </a:lnTo>
                        <a:lnTo>
                          <a:pt x="14" y="81"/>
                        </a:lnTo>
                        <a:lnTo>
                          <a:pt x="11" y="77"/>
                        </a:lnTo>
                        <a:lnTo>
                          <a:pt x="11" y="73"/>
                        </a:lnTo>
                        <a:lnTo>
                          <a:pt x="9" y="68"/>
                        </a:lnTo>
                        <a:lnTo>
                          <a:pt x="7" y="62"/>
                        </a:lnTo>
                        <a:lnTo>
                          <a:pt x="7" y="57"/>
                        </a:lnTo>
                        <a:lnTo>
                          <a:pt x="5" y="51"/>
                        </a:lnTo>
                        <a:lnTo>
                          <a:pt x="5" y="46"/>
                        </a:lnTo>
                        <a:lnTo>
                          <a:pt x="3" y="40"/>
                        </a:lnTo>
                        <a:lnTo>
                          <a:pt x="3" y="33"/>
                        </a:lnTo>
                        <a:lnTo>
                          <a:pt x="0" y="27"/>
                        </a:lnTo>
                        <a:lnTo>
                          <a:pt x="0" y="22"/>
                        </a:lnTo>
                        <a:lnTo>
                          <a:pt x="0" y="20"/>
                        </a:lnTo>
                        <a:lnTo>
                          <a:pt x="0" y="18"/>
                        </a:lnTo>
                        <a:lnTo>
                          <a:pt x="0" y="13"/>
                        </a:lnTo>
                        <a:lnTo>
                          <a:pt x="5" y="9"/>
                        </a:lnTo>
                        <a:lnTo>
                          <a:pt x="11" y="7"/>
                        </a:lnTo>
                        <a:lnTo>
                          <a:pt x="18" y="5"/>
                        </a:lnTo>
                        <a:lnTo>
                          <a:pt x="22" y="0"/>
                        </a:lnTo>
                        <a:lnTo>
                          <a:pt x="27" y="0"/>
                        </a:lnTo>
                        <a:lnTo>
                          <a:pt x="31" y="0"/>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729"/>
                  <p:cNvSpPr/>
                  <p:nvPr/>
                </p:nvSpPr>
                <p:spPr>
                  <a:xfrm>
                    <a:off x="875520" y="5155560"/>
                    <a:ext cx="78120" cy="76680"/>
                  </a:xfrm>
                  <a:custGeom>
                    <a:avLst/>
                    <a:gdLst>
                      <a:gd name="textAreaLeft" fmla="*/ 0 w 78120"/>
                      <a:gd name="textAreaRight" fmla="*/ 78480 w 78120"/>
                      <a:gd name="textAreaTop" fmla="*/ 0 h 76680"/>
                      <a:gd name="textAreaBottom" fmla="*/ 77040 h 76680"/>
                    </a:gdLst>
                    <a:ahLst/>
                    <a:rect l="textAreaLeft" t="textAreaTop" r="textAreaRight" b="textAreaBottom"/>
                    <a:pathLst>
                      <a:path w="110" h="105">
                        <a:moveTo>
                          <a:pt x="62" y="0"/>
                        </a:moveTo>
                        <a:lnTo>
                          <a:pt x="55" y="0"/>
                        </a:lnTo>
                        <a:lnTo>
                          <a:pt x="47" y="2"/>
                        </a:lnTo>
                        <a:lnTo>
                          <a:pt x="38" y="4"/>
                        </a:lnTo>
                        <a:lnTo>
                          <a:pt x="31" y="9"/>
                        </a:lnTo>
                        <a:lnTo>
                          <a:pt x="25" y="11"/>
                        </a:lnTo>
                        <a:lnTo>
                          <a:pt x="18" y="17"/>
                        </a:lnTo>
                        <a:lnTo>
                          <a:pt x="14" y="22"/>
                        </a:lnTo>
                        <a:lnTo>
                          <a:pt x="9" y="28"/>
                        </a:lnTo>
                        <a:lnTo>
                          <a:pt x="5" y="35"/>
                        </a:lnTo>
                        <a:lnTo>
                          <a:pt x="3" y="42"/>
                        </a:lnTo>
                        <a:lnTo>
                          <a:pt x="0" y="48"/>
                        </a:lnTo>
                        <a:lnTo>
                          <a:pt x="0" y="57"/>
                        </a:lnTo>
                        <a:lnTo>
                          <a:pt x="3" y="64"/>
                        </a:lnTo>
                        <a:lnTo>
                          <a:pt x="5" y="72"/>
                        </a:lnTo>
                        <a:lnTo>
                          <a:pt x="9" y="81"/>
                        </a:lnTo>
                        <a:lnTo>
                          <a:pt x="16" y="90"/>
                        </a:lnTo>
                        <a:lnTo>
                          <a:pt x="22" y="96"/>
                        </a:lnTo>
                        <a:lnTo>
                          <a:pt x="31" y="101"/>
                        </a:lnTo>
                        <a:lnTo>
                          <a:pt x="38" y="103"/>
                        </a:lnTo>
                        <a:lnTo>
                          <a:pt x="49" y="105"/>
                        </a:lnTo>
                        <a:lnTo>
                          <a:pt x="55" y="105"/>
                        </a:lnTo>
                        <a:lnTo>
                          <a:pt x="64" y="103"/>
                        </a:lnTo>
                        <a:lnTo>
                          <a:pt x="73" y="101"/>
                        </a:lnTo>
                        <a:lnTo>
                          <a:pt x="82" y="96"/>
                        </a:lnTo>
                        <a:lnTo>
                          <a:pt x="88" y="90"/>
                        </a:lnTo>
                        <a:lnTo>
                          <a:pt x="95" y="85"/>
                        </a:lnTo>
                        <a:lnTo>
                          <a:pt x="99" y="79"/>
                        </a:lnTo>
                        <a:lnTo>
                          <a:pt x="104" y="72"/>
                        </a:lnTo>
                        <a:lnTo>
                          <a:pt x="108" y="66"/>
                        </a:lnTo>
                        <a:lnTo>
                          <a:pt x="110" y="57"/>
                        </a:lnTo>
                        <a:lnTo>
                          <a:pt x="110" y="50"/>
                        </a:lnTo>
                        <a:lnTo>
                          <a:pt x="110" y="42"/>
                        </a:lnTo>
                        <a:lnTo>
                          <a:pt x="106" y="35"/>
                        </a:lnTo>
                        <a:lnTo>
                          <a:pt x="104" y="28"/>
                        </a:lnTo>
                        <a:lnTo>
                          <a:pt x="101" y="22"/>
                        </a:lnTo>
                        <a:lnTo>
                          <a:pt x="97" y="17"/>
                        </a:lnTo>
                        <a:lnTo>
                          <a:pt x="90" y="11"/>
                        </a:lnTo>
                        <a:lnTo>
                          <a:pt x="82" y="6"/>
                        </a:lnTo>
                        <a:lnTo>
                          <a:pt x="73" y="2"/>
                        </a:lnTo>
                        <a:lnTo>
                          <a:pt x="68" y="0"/>
                        </a:lnTo>
                        <a:lnTo>
                          <a:pt x="64" y="0"/>
                        </a:lnTo>
                        <a:lnTo>
                          <a:pt x="62" y="0"/>
                        </a:lnTo>
                        <a:lnTo>
                          <a:pt x="62"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69" name="Freeform 730"/>
                  <p:cNvSpPr/>
                  <p:nvPr/>
                </p:nvSpPr>
                <p:spPr>
                  <a:xfrm>
                    <a:off x="1002240" y="5194440"/>
                    <a:ext cx="76680" cy="73800"/>
                  </a:xfrm>
                  <a:custGeom>
                    <a:avLst/>
                    <a:gdLst>
                      <a:gd name="textAreaLeft" fmla="*/ 0 w 76680"/>
                      <a:gd name="textAreaRight" fmla="*/ 77040 w 76680"/>
                      <a:gd name="textAreaTop" fmla="*/ 0 h 73800"/>
                      <a:gd name="textAreaBottom" fmla="*/ 74160 h 73800"/>
                    </a:gdLst>
                    <a:ahLst/>
                    <a:rect l="textAreaLeft" t="textAreaTop" r="textAreaRight" b="textAreaBottom"/>
                    <a:pathLst>
                      <a:path w="108" h="101">
                        <a:moveTo>
                          <a:pt x="97" y="17"/>
                        </a:moveTo>
                        <a:lnTo>
                          <a:pt x="88" y="11"/>
                        </a:lnTo>
                        <a:lnTo>
                          <a:pt x="79" y="6"/>
                        </a:lnTo>
                        <a:lnTo>
                          <a:pt x="71" y="2"/>
                        </a:lnTo>
                        <a:lnTo>
                          <a:pt x="62" y="0"/>
                        </a:lnTo>
                        <a:lnTo>
                          <a:pt x="53" y="0"/>
                        </a:lnTo>
                        <a:lnTo>
                          <a:pt x="44" y="0"/>
                        </a:lnTo>
                        <a:lnTo>
                          <a:pt x="36" y="0"/>
                        </a:lnTo>
                        <a:lnTo>
                          <a:pt x="29" y="4"/>
                        </a:lnTo>
                        <a:lnTo>
                          <a:pt x="22" y="4"/>
                        </a:lnTo>
                        <a:lnTo>
                          <a:pt x="16" y="8"/>
                        </a:lnTo>
                        <a:lnTo>
                          <a:pt x="11" y="13"/>
                        </a:lnTo>
                        <a:lnTo>
                          <a:pt x="7" y="19"/>
                        </a:lnTo>
                        <a:lnTo>
                          <a:pt x="3" y="24"/>
                        </a:lnTo>
                        <a:lnTo>
                          <a:pt x="0" y="32"/>
                        </a:lnTo>
                        <a:lnTo>
                          <a:pt x="0" y="39"/>
                        </a:lnTo>
                        <a:lnTo>
                          <a:pt x="0" y="48"/>
                        </a:lnTo>
                        <a:lnTo>
                          <a:pt x="3" y="57"/>
                        </a:lnTo>
                        <a:lnTo>
                          <a:pt x="5" y="65"/>
                        </a:lnTo>
                        <a:lnTo>
                          <a:pt x="9" y="72"/>
                        </a:lnTo>
                        <a:lnTo>
                          <a:pt x="14" y="79"/>
                        </a:lnTo>
                        <a:lnTo>
                          <a:pt x="18" y="83"/>
                        </a:lnTo>
                        <a:lnTo>
                          <a:pt x="25" y="90"/>
                        </a:lnTo>
                        <a:lnTo>
                          <a:pt x="31" y="94"/>
                        </a:lnTo>
                        <a:lnTo>
                          <a:pt x="38" y="98"/>
                        </a:lnTo>
                        <a:lnTo>
                          <a:pt x="44" y="98"/>
                        </a:lnTo>
                        <a:lnTo>
                          <a:pt x="53" y="101"/>
                        </a:lnTo>
                        <a:lnTo>
                          <a:pt x="60" y="101"/>
                        </a:lnTo>
                        <a:lnTo>
                          <a:pt x="68" y="101"/>
                        </a:lnTo>
                        <a:lnTo>
                          <a:pt x="75" y="98"/>
                        </a:lnTo>
                        <a:lnTo>
                          <a:pt x="82" y="94"/>
                        </a:lnTo>
                        <a:lnTo>
                          <a:pt x="88" y="90"/>
                        </a:lnTo>
                        <a:lnTo>
                          <a:pt x="95" y="85"/>
                        </a:lnTo>
                        <a:lnTo>
                          <a:pt x="99" y="76"/>
                        </a:lnTo>
                        <a:lnTo>
                          <a:pt x="101" y="72"/>
                        </a:lnTo>
                        <a:lnTo>
                          <a:pt x="106" y="65"/>
                        </a:lnTo>
                        <a:lnTo>
                          <a:pt x="106" y="59"/>
                        </a:lnTo>
                        <a:lnTo>
                          <a:pt x="106" y="52"/>
                        </a:lnTo>
                        <a:lnTo>
                          <a:pt x="108" y="48"/>
                        </a:lnTo>
                        <a:lnTo>
                          <a:pt x="106" y="41"/>
                        </a:lnTo>
                        <a:lnTo>
                          <a:pt x="106" y="37"/>
                        </a:lnTo>
                        <a:lnTo>
                          <a:pt x="106" y="32"/>
                        </a:lnTo>
                        <a:lnTo>
                          <a:pt x="104" y="28"/>
                        </a:lnTo>
                        <a:lnTo>
                          <a:pt x="101" y="24"/>
                        </a:lnTo>
                        <a:lnTo>
                          <a:pt x="101" y="21"/>
                        </a:lnTo>
                        <a:lnTo>
                          <a:pt x="97" y="17"/>
                        </a:lnTo>
                        <a:lnTo>
                          <a:pt x="97" y="17"/>
                        </a:lnTo>
                        <a:lnTo>
                          <a:pt x="97" y="1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0" name="Freeform 731"/>
                  <p:cNvSpPr/>
                  <p:nvPr/>
                </p:nvSpPr>
                <p:spPr>
                  <a:xfrm>
                    <a:off x="2044440" y="4569840"/>
                    <a:ext cx="226080" cy="478080"/>
                  </a:xfrm>
                  <a:custGeom>
                    <a:avLst/>
                    <a:gdLst>
                      <a:gd name="textAreaLeft" fmla="*/ 0 w 226080"/>
                      <a:gd name="textAreaRight" fmla="*/ 226440 w 226080"/>
                      <a:gd name="textAreaTop" fmla="*/ 0 h 478080"/>
                      <a:gd name="textAreaBottom" fmla="*/ 478440 h 478080"/>
                    </a:gdLst>
                    <a:ahLst/>
                    <a:rect l="textAreaLeft" t="textAreaTop" r="textAreaRight" b="textAreaBottom"/>
                    <a:pathLst>
                      <a:path w="318" h="655">
                        <a:moveTo>
                          <a:pt x="0" y="0"/>
                        </a:moveTo>
                        <a:lnTo>
                          <a:pt x="2" y="0"/>
                        </a:lnTo>
                        <a:lnTo>
                          <a:pt x="6" y="0"/>
                        </a:lnTo>
                        <a:lnTo>
                          <a:pt x="8" y="0"/>
                        </a:lnTo>
                        <a:lnTo>
                          <a:pt x="15" y="0"/>
                        </a:lnTo>
                        <a:lnTo>
                          <a:pt x="17" y="2"/>
                        </a:lnTo>
                        <a:lnTo>
                          <a:pt x="24" y="2"/>
                        </a:lnTo>
                        <a:lnTo>
                          <a:pt x="28" y="2"/>
                        </a:lnTo>
                        <a:lnTo>
                          <a:pt x="35" y="5"/>
                        </a:lnTo>
                        <a:lnTo>
                          <a:pt x="39" y="5"/>
                        </a:lnTo>
                        <a:lnTo>
                          <a:pt x="46" y="7"/>
                        </a:lnTo>
                        <a:lnTo>
                          <a:pt x="52" y="7"/>
                        </a:lnTo>
                        <a:lnTo>
                          <a:pt x="59" y="9"/>
                        </a:lnTo>
                        <a:lnTo>
                          <a:pt x="66" y="11"/>
                        </a:lnTo>
                        <a:lnTo>
                          <a:pt x="72" y="13"/>
                        </a:lnTo>
                        <a:lnTo>
                          <a:pt x="79" y="16"/>
                        </a:lnTo>
                        <a:lnTo>
                          <a:pt x="83" y="18"/>
                        </a:lnTo>
                        <a:lnTo>
                          <a:pt x="90" y="20"/>
                        </a:lnTo>
                        <a:lnTo>
                          <a:pt x="96" y="22"/>
                        </a:lnTo>
                        <a:lnTo>
                          <a:pt x="101" y="27"/>
                        </a:lnTo>
                        <a:lnTo>
                          <a:pt x="107" y="29"/>
                        </a:lnTo>
                        <a:lnTo>
                          <a:pt x="112" y="31"/>
                        </a:lnTo>
                        <a:lnTo>
                          <a:pt x="116" y="35"/>
                        </a:lnTo>
                        <a:lnTo>
                          <a:pt x="125" y="42"/>
                        </a:lnTo>
                        <a:lnTo>
                          <a:pt x="129" y="51"/>
                        </a:lnTo>
                        <a:lnTo>
                          <a:pt x="132" y="55"/>
                        </a:lnTo>
                        <a:lnTo>
                          <a:pt x="134" y="60"/>
                        </a:lnTo>
                        <a:lnTo>
                          <a:pt x="134" y="64"/>
                        </a:lnTo>
                        <a:lnTo>
                          <a:pt x="134" y="71"/>
                        </a:lnTo>
                        <a:lnTo>
                          <a:pt x="134" y="75"/>
                        </a:lnTo>
                        <a:lnTo>
                          <a:pt x="132" y="79"/>
                        </a:lnTo>
                        <a:lnTo>
                          <a:pt x="129" y="84"/>
                        </a:lnTo>
                        <a:lnTo>
                          <a:pt x="129" y="90"/>
                        </a:lnTo>
                        <a:lnTo>
                          <a:pt x="125" y="97"/>
                        </a:lnTo>
                        <a:lnTo>
                          <a:pt x="121" y="108"/>
                        </a:lnTo>
                        <a:lnTo>
                          <a:pt x="116" y="114"/>
                        </a:lnTo>
                        <a:lnTo>
                          <a:pt x="112" y="121"/>
                        </a:lnTo>
                        <a:lnTo>
                          <a:pt x="107" y="130"/>
                        </a:lnTo>
                        <a:lnTo>
                          <a:pt x="103" y="136"/>
                        </a:lnTo>
                        <a:lnTo>
                          <a:pt x="99" y="143"/>
                        </a:lnTo>
                        <a:lnTo>
                          <a:pt x="94" y="150"/>
                        </a:lnTo>
                        <a:lnTo>
                          <a:pt x="92" y="154"/>
                        </a:lnTo>
                        <a:lnTo>
                          <a:pt x="88" y="161"/>
                        </a:lnTo>
                        <a:lnTo>
                          <a:pt x="85" y="165"/>
                        </a:lnTo>
                        <a:lnTo>
                          <a:pt x="85" y="172"/>
                        </a:lnTo>
                        <a:lnTo>
                          <a:pt x="85" y="176"/>
                        </a:lnTo>
                        <a:lnTo>
                          <a:pt x="88" y="183"/>
                        </a:lnTo>
                        <a:lnTo>
                          <a:pt x="90" y="185"/>
                        </a:lnTo>
                        <a:lnTo>
                          <a:pt x="94" y="189"/>
                        </a:lnTo>
                        <a:lnTo>
                          <a:pt x="99" y="194"/>
                        </a:lnTo>
                        <a:lnTo>
                          <a:pt x="105" y="198"/>
                        </a:lnTo>
                        <a:lnTo>
                          <a:pt x="110" y="200"/>
                        </a:lnTo>
                        <a:lnTo>
                          <a:pt x="114" y="202"/>
                        </a:lnTo>
                        <a:lnTo>
                          <a:pt x="118" y="205"/>
                        </a:lnTo>
                        <a:lnTo>
                          <a:pt x="123" y="207"/>
                        </a:lnTo>
                        <a:lnTo>
                          <a:pt x="127" y="209"/>
                        </a:lnTo>
                        <a:lnTo>
                          <a:pt x="132" y="211"/>
                        </a:lnTo>
                        <a:lnTo>
                          <a:pt x="136" y="213"/>
                        </a:lnTo>
                        <a:lnTo>
                          <a:pt x="143" y="218"/>
                        </a:lnTo>
                        <a:lnTo>
                          <a:pt x="147" y="220"/>
                        </a:lnTo>
                        <a:lnTo>
                          <a:pt x="151" y="222"/>
                        </a:lnTo>
                        <a:lnTo>
                          <a:pt x="156" y="224"/>
                        </a:lnTo>
                        <a:lnTo>
                          <a:pt x="160" y="226"/>
                        </a:lnTo>
                        <a:lnTo>
                          <a:pt x="164" y="229"/>
                        </a:lnTo>
                        <a:lnTo>
                          <a:pt x="169" y="231"/>
                        </a:lnTo>
                        <a:lnTo>
                          <a:pt x="175" y="235"/>
                        </a:lnTo>
                        <a:lnTo>
                          <a:pt x="180" y="240"/>
                        </a:lnTo>
                        <a:lnTo>
                          <a:pt x="186" y="246"/>
                        </a:lnTo>
                        <a:lnTo>
                          <a:pt x="195" y="253"/>
                        </a:lnTo>
                        <a:lnTo>
                          <a:pt x="197" y="257"/>
                        </a:lnTo>
                        <a:lnTo>
                          <a:pt x="200" y="262"/>
                        </a:lnTo>
                        <a:lnTo>
                          <a:pt x="202" y="266"/>
                        </a:lnTo>
                        <a:lnTo>
                          <a:pt x="206" y="273"/>
                        </a:lnTo>
                        <a:lnTo>
                          <a:pt x="206" y="277"/>
                        </a:lnTo>
                        <a:lnTo>
                          <a:pt x="208" y="281"/>
                        </a:lnTo>
                        <a:lnTo>
                          <a:pt x="211" y="286"/>
                        </a:lnTo>
                        <a:lnTo>
                          <a:pt x="211" y="290"/>
                        </a:lnTo>
                        <a:lnTo>
                          <a:pt x="211" y="297"/>
                        </a:lnTo>
                        <a:lnTo>
                          <a:pt x="211" y="301"/>
                        </a:lnTo>
                        <a:lnTo>
                          <a:pt x="211" y="308"/>
                        </a:lnTo>
                        <a:lnTo>
                          <a:pt x="211" y="314"/>
                        </a:lnTo>
                        <a:lnTo>
                          <a:pt x="211" y="319"/>
                        </a:lnTo>
                        <a:lnTo>
                          <a:pt x="211" y="325"/>
                        </a:lnTo>
                        <a:lnTo>
                          <a:pt x="208" y="330"/>
                        </a:lnTo>
                        <a:lnTo>
                          <a:pt x="208" y="336"/>
                        </a:lnTo>
                        <a:lnTo>
                          <a:pt x="206" y="343"/>
                        </a:lnTo>
                        <a:lnTo>
                          <a:pt x="206" y="347"/>
                        </a:lnTo>
                        <a:lnTo>
                          <a:pt x="204" y="354"/>
                        </a:lnTo>
                        <a:lnTo>
                          <a:pt x="204" y="360"/>
                        </a:lnTo>
                        <a:lnTo>
                          <a:pt x="202" y="365"/>
                        </a:lnTo>
                        <a:lnTo>
                          <a:pt x="200" y="371"/>
                        </a:lnTo>
                        <a:lnTo>
                          <a:pt x="197" y="376"/>
                        </a:lnTo>
                        <a:lnTo>
                          <a:pt x="197" y="382"/>
                        </a:lnTo>
                        <a:lnTo>
                          <a:pt x="195" y="387"/>
                        </a:lnTo>
                        <a:lnTo>
                          <a:pt x="195" y="393"/>
                        </a:lnTo>
                        <a:lnTo>
                          <a:pt x="193" y="398"/>
                        </a:lnTo>
                        <a:lnTo>
                          <a:pt x="193" y="402"/>
                        </a:lnTo>
                        <a:lnTo>
                          <a:pt x="191" y="411"/>
                        </a:lnTo>
                        <a:lnTo>
                          <a:pt x="189" y="418"/>
                        </a:lnTo>
                        <a:lnTo>
                          <a:pt x="189" y="424"/>
                        </a:lnTo>
                        <a:lnTo>
                          <a:pt x="191" y="431"/>
                        </a:lnTo>
                        <a:lnTo>
                          <a:pt x="193" y="437"/>
                        </a:lnTo>
                        <a:lnTo>
                          <a:pt x="200" y="446"/>
                        </a:lnTo>
                        <a:lnTo>
                          <a:pt x="206" y="453"/>
                        </a:lnTo>
                        <a:lnTo>
                          <a:pt x="215" y="459"/>
                        </a:lnTo>
                        <a:lnTo>
                          <a:pt x="219" y="464"/>
                        </a:lnTo>
                        <a:lnTo>
                          <a:pt x="224" y="466"/>
                        </a:lnTo>
                        <a:lnTo>
                          <a:pt x="228" y="468"/>
                        </a:lnTo>
                        <a:lnTo>
                          <a:pt x="235" y="470"/>
                        </a:lnTo>
                        <a:lnTo>
                          <a:pt x="239" y="475"/>
                        </a:lnTo>
                        <a:lnTo>
                          <a:pt x="246" y="477"/>
                        </a:lnTo>
                        <a:lnTo>
                          <a:pt x="252" y="477"/>
                        </a:lnTo>
                        <a:lnTo>
                          <a:pt x="259" y="481"/>
                        </a:lnTo>
                        <a:lnTo>
                          <a:pt x="263" y="481"/>
                        </a:lnTo>
                        <a:lnTo>
                          <a:pt x="270" y="486"/>
                        </a:lnTo>
                        <a:lnTo>
                          <a:pt x="274" y="488"/>
                        </a:lnTo>
                        <a:lnTo>
                          <a:pt x="281" y="492"/>
                        </a:lnTo>
                        <a:lnTo>
                          <a:pt x="288" y="494"/>
                        </a:lnTo>
                        <a:lnTo>
                          <a:pt x="292" y="499"/>
                        </a:lnTo>
                        <a:lnTo>
                          <a:pt x="299" y="503"/>
                        </a:lnTo>
                        <a:lnTo>
                          <a:pt x="303" y="510"/>
                        </a:lnTo>
                        <a:lnTo>
                          <a:pt x="305" y="512"/>
                        </a:lnTo>
                        <a:lnTo>
                          <a:pt x="309" y="519"/>
                        </a:lnTo>
                        <a:lnTo>
                          <a:pt x="312" y="523"/>
                        </a:lnTo>
                        <a:lnTo>
                          <a:pt x="316" y="530"/>
                        </a:lnTo>
                        <a:lnTo>
                          <a:pt x="318" y="534"/>
                        </a:lnTo>
                        <a:lnTo>
                          <a:pt x="318" y="538"/>
                        </a:lnTo>
                        <a:lnTo>
                          <a:pt x="318" y="545"/>
                        </a:lnTo>
                        <a:lnTo>
                          <a:pt x="318" y="549"/>
                        </a:lnTo>
                        <a:lnTo>
                          <a:pt x="316" y="554"/>
                        </a:lnTo>
                        <a:lnTo>
                          <a:pt x="314" y="560"/>
                        </a:lnTo>
                        <a:lnTo>
                          <a:pt x="309" y="567"/>
                        </a:lnTo>
                        <a:lnTo>
                          <a:pt x="307" y="576"/>
                        </a:lnTo>
                        <a:lnTo>
                          <a:pt x="301" y="582"/>
                        </a:lnTo>
                        <a:lnTo>
                          <a:pt x="296" y="591"/>
                        </a:lnTo>
                        <a:lnTo>
                          <a:pt x="292" y="595"/>
                        </a:lnTo>
                        <a:lnTo>
                          <a:pt x="290" y="600"/>
                        </a:lnTo>
                        <a:lnTo>
                          <a:pt x="288" y="606"/>
                        </a:lnTo>
                        <a:lnTo>
                          <a:pt x="285" y="611"/>
                        </a:lnTo>
                        <a:lnTo>
                          <a:pt x="279" y="620"/>
                        </a:lnTo>
                        <a:lnTo>
                          <a:pt x="272" y="628"/>
                        </a:lnTo>
                        <a:lnTo>
                          <a:pt x="268" y="635"/>
                        </a:lnTo>
                        <a:lnTo>
                          <a:pt x="263" y="642"/>
                        </a:lnTo>
                        <a:lnTo>
                          <a:pt x="259" y="646"/>
                        </a:lnTo>
                        <a:lnTo>
                          <a:pt x="257" y="650"/>
                        </a:lnTo>
                        <a:lnTo>
                          <a:pt x="255" y="652"/>
                        </a:lnTo>
                        <a:lnTo>
                          <a:pt x="255" y="655"/>
                        </a:lnTo>
                        <a:lnTo>
                          <a:pt x="255" y="652"/>
                        </a:lnTo>
                        <a:lnTo>
                          <a:pt x="252" y="648"/>
                        </a:lnTo>
                        <a:lnTo>
                          <a:pt x="250" y="644"/>
                        </a:lnTo>
                        <a:lnTo>
                          <a:pt x="248" y="642"/>
                        </a:lnTo>
                        <a:lnTo>
                          <a:pt x="248" y="637"/>
                        </a:lnTo>
                        <a:lnTo>
                          <a:pt x="246" y="633"/>
                        </a:lnTo>
                        <a:lnTo>
                          <a:pt x="244" y="626"/>
                        </a:lnTo>
                        <a:lnTo>
                          <a:pt x="241" y="620"/>
                        </a:lnTo>
                        <a:lnTo>
                          <a:pt x="239" y="611"/>
                        </a:lnTo>
                        <a:lnTo>
                          <a:pt x="235" y="604"/>
                        </a:lnTo>
                        <a:lnTo>
                          <a:pt x="233" y="598"/>
                        </a:lnTo>
                        <a:lnTo>
                          <a:pt x="228" y="589"/>
                        </a:lnTo>
                        <a:lnTo>
                          <a:pt x="226" y="580"/>
                        </a:lnTo>
                        <a:lnTo>
                          <a:pt x="224" y="571"/>
                        </a:lnTo>
                        <a:lnTo>
                          <a:pt x="219" y="560"/>
                        </a:lnTo>
                        <a:lnTo>
                          <a:pt x="215" y="549"/>
                        </a:lnTo>
                        <a:lnTo>
                          <a:pt x="211" y="538"/>
                        </a:lnTo>
                        <a:lnTo>
                          <a:pt x="206" y="530"/>
                        </a:lnTo>
                        <a:lnTo>
                          <a:pt x="202" y="516"/>
                        </a:lnTo>
                        <a:lnTo>
                          <a:pt x="200" y="505"/>
                        </a:lnTo>
                        <a:lnTo>
                          <a:pt x="193" y="494"/>
                        </a:lnTo>
                        <a:lnTo>
                          <a:pt x="191" y="483"/>
                        </a:lnTo>
                        <a:lnTo>
                          <a:pt x="186" y="470"/>
                        </a:lnTo>
                        <a:lnTo>
                          <a:pt x="182" y="459"/>
                        </a:lnTo>
                        <a:lnTo>
                          <a:pt x="175" y="446"/>
                        </a:lnTo>
                        <a:lnTo>
                          <a:pt x="171" y="435"/>
                        </a:lnTo>
                        <a:lnTo>
                          <a:pt x="167" y="422"/>
                        </a:lnTo>
                        <a:lnTo>
                          <a:pt x="162" y="409"/>
                        </a:lnTo>
                        <a:lnTo>
                          <a:pt x="158" y="396"/>
                        </a:lnTo>
                        <a:lnTo>
                          <a:pt x="153" y="385"/>
                        </a:lnTo>
                        <a:lnTo>
                          <a:pt x="149" y="371"/>
                        </a:lnTo>
                        <a:lnTo>
                          <a:pt x="145" y="358"/>
                        </a:lnTo>
                        <a:lnTo>
                          <a:pt x="138" y="345"/>
                        </a:lnTo>
                        <a:lnTo>
                          <a:pt x="134" y="334"/>
                        </a:lnTo>
                        <a:lnTo>
                          <a:pt x="129" y="321"/>
                        </a:lnTo>
                        <a:lnTo>
                          <a:pt x="125" y="308"/>
                        </a:lnTo>
                        <a:lnTo>
                          <a:pt x="121" y="295"/>
                        </a:lnTo>
                        <a:lnTo>
                          <a:pt x="116" y="284"/>
                        </a:lnTo>
                        <a:lnTo>
                          <a:pt x="112" y="270"/>
                        </a:lnTo>
                        <a:lnTo>
                          <a:pt x="105" y="259"/>
                        </a:lnTo>
                        <a:lnTo>
                          <a:pt x="101" y="246"/>
                        </a:lnTo>
                        <a:lnTo>
                          <a:pt x="99" y="237"/>
                        </a:lnTo>
                        <a:lnTo>
                          <a:pt x="94" y="224"/>
                        </a:lnTo>
                        <a:lnTo>
                          <a:pt x="90" y="213"/>
                        </a:lnTo>
                        <a:lnTo>
                          <a:pt x="85" y="205"/>
                        </a:lnTo>
                        <a:lnTo>
                          <a:pt x="83" y="196"/>
                        </a:lnTo>
                        <a:lnTo>
                          <a:pt x="79" y="185"/>
                        </a:lnTo>
                        <a:lnTo>
                          <a:pt x="77" y="174"/>
                        </a:lnTo>
                        <a:lnTo>
                          <a:pt x="72" y="165"/>
                        </a:lnTo>
                        <a:lnTo>
                          <a:pt x="70" y="158"/>
                        </a:lnTo>
                        <a:lnTo>
                          <a:pt x="66" y="150"/>
                        </a:lnTo>
                        <a:lnTo>
                          <a:pt x="63" y="143"/>
                        </a:lnTo>
                        <a:lnTo>
                          <a:pt x="61" y="136"/>
                        </a:lnTo>
                        <a:lnTo>
                          <a:pt x="59" y="130"/>
                        </a:lnTo>
                        <a:lnTo>
                          <a:pt x="57" y="123"/>
                        </a:lnTo>
                        <a:lnTo>
                          <a:pt x="57" y="119"/>
                        </a:lnTo>
                        <a:lnTo>
                          <a:pt x="55" y="112"/>
                        </a:lnTo>
                        <a:lnTo>
                          <a:pt x="52" y="110"/>
                        </a:lnTo>
                        <a:lnTo>
                          <a:pt x="52" y="103"/>
                        </a:lnTo>
                        <a:lnTo>
                          <a:pt x="52" y="101"/>
                        </a:lnTo>
                        <a:lnTo>
                          <a:pt x="48" y="97"/>
                        </a:lnTo>
                        <a:lnTo>
                          <a:pt x="48" y="93"/>
                        </a:lnTo>
                        <a:lnTo>
                          <a:pt x="44" y="86"/>
                        </a:lnTo>
                        <a:lnTo>
                          <a:pt x="41" y="79"/>
                        </a:lnTo>
                        <a:lnTo>
                          <a:pt x="35" y="71"/>
                        </a:lnTo>
                        <a:lnTo>
                          <a:pt x="33" y="62"/>
                        </a:lnTo>
                        <a:lnTo>
                          <a:pt x="28" y="53"/>
                        </a:lnTo>
                        <a:lnTo>
                          <a:pt x="24" y="44"/>
                        </a:lnTo>
                        <a:lnTo>
                          <a:pt x="17" y="35"/>
                        </a:lnTo>
                        <a:lnTo>
                          <a:pt x="13" y="27"/>
                        </a:lnTo>
                        <a:lnTo>
                          <a:pt x="8" y="20"/>
                        </a:lnTo>
                        <a:lnTo>
                          <a:pt x="6" y="13"/>
                        </a:lnTo>
                        <a:lnTo>
                          <a:pt x="2" y="7"/>
                        </a:lnTo>
                        <a:lnTo>
                          <a:pt x="0" y="2"/>
                        </a:lnTo>
                        <a:lnTo>
                          <a:pt x="0" y="0"/>
                        </a:lnTo>
                        <a:lnTo>
                          <a:pt x="0" y="0"/>
                        </a:lnTo>
                        <a:close/>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732"/>
                  <p:cNvSpPr/>
                  <p:nvPr/>
                </p:nvSpPr>
                <p:spPr>
                  <a:xfrm>
                    <a:off x="2059920" y="4565520"/>
                    <a:ext cx="226080" cy="485280"/>
                  </a:xfrm>
                  <a:custGeom>
                    <a:avLst/>
                    <a:gdLst>
                      <a:gd name="textAreaLeft" fmla="*/ 0 w 226080"/>
                      <a:gd name="textAreaRight" fmla="*/ 226440 w 226080"/>
                      <a:gd name="textAreaTop" fmla="*/ 0 h 485280"/>
                      <a:gd name="textAreaBottom" fmla="*/ 485640 h 485280"/>
                    </a:gdLst>
                    <a:ahLst/>
                    <a:rect l="textAreaLeft" t="textAreaTop" r="textAreaRight" b="textAreaBottom"/>
                    <a:pathLst>
                      <a:path w="318" h="665">
                        <a:moveTo>
                          <a:pt x="30" y="0"/>
                        </a:moveTo>
                        <a:lnTo>
                          <a:pt x="37" y="0"/>
                        </a:lnTo>
                        <a:lnTo>
                          <a:pt x="46" y="2"/>
                        </a:lnTo>
                        <a:lnTo>
                          <a:pt x="50" y="2"/>
                        </a:lnTo>
                        <a:lnTo>
                          <a:pt x="55" y="2"/>
                        </a:lnTo>
                        <a:lnTo>
                          <a:pt x="59" y="4"/>
                        </a:lnTo>
                        <a:lnTo>
                          <a:pt x="66" y="6"/>
                        </a:lnTo>
                        <a:lnTo>
                          <a:pt x="70" y="8"/>
                        </a:lnTo>
                        <a:lnTo>
                          <a:pt x="77" y="8"/>
                        </a:lnTo>
                        <a:lnTo>
                          <a:pt x="81" y="13"/>
                        </a:lnTo>
                        <a:lnTo>
                          <a:pt x="88" y="15"/>
                        </a:lnTo>
                        <a:lnTo>
                          <a:pt x="92" y="15"/>
                        </a:lnTo>
                        <a:lnTo>
                          <a:pt x="99" y="19"/>
                        </a:lnTo>
                        <a:lnTo>
                          <a:pt x="103" y="22"/>
                        </a:lnTo>
                        <a:lnTo>
                          <a:pt x="110" y="26"/>
                        </a:lnTo>
                        <a:lnTo>
                          <a:pt x="118" y="30"/>
                        </a:lnTo>
                        <a:lnTo>
                          <a:pt x="125" y="37"/>
                        </a:lnTo>
                        <a:lnTo>
                          <a:pt x="131" y="44"/>
                        </a:lnTo>
                        <a:lnTo>
                          <a:pt x="140" y="52"/>
                        </a:lnTo>
                        <a:lnTo>
                          <a:pt x="142" y="61"/>
                        </a:lnTo>
                        <a:lnTo>
                          <a:pt x="142" y="70"/>
                        </a:lnTo>
                        <a:lnTo>
                          <a:pt x="142" y="74"/>
                        </a:lnTo>
                        <a:lnTo>
                          <a:pt x="142" y="79"/>
                        </a:lnTo>
                        <a:lnTo>
                          <a:pt x="140" y="83"/>
                        </a:lnTo>
                        <a:lnTo>
                          <a:pt x="140" y="90"/>
                        </a:lnTo>
                        <a:lnTo>
                          <a:pt x="134" y="96"/>
                        </a:lnTo>
                        <a:lnTo>
                          <a:pt x="129" y="105"/>
                        </a:lnTo>
                        <a:lnTo>
                          <a:pt x="123" y="114"/>
                        </a:lnTo>
                        <a:lnTo>
                          <a:pt x="118" y="120"/>
                        </a:lnTo>
                        <a:lnTo>
                          <a:pt x="112" y="127"/>
                        </a:lnTo>
                        <a:lnTo>
                          <a:pt x="107" y="134"/>
                        </a:lnTo>
                        <a:lnTo>
                          <a:pt x="103" y="140"/>
                        </a:lnTo>
                        <a:lnTo>
                          <a:pt x="99" y="147"/>
                        </a:lnTo>
                        <a:lnTo>
                          <a:pt x="94" y="153"/>
                        </a:lnTo>
                        <a:lnTo>
                          <a:pt x="92" y="158"/>
                        </a:lnTo>
                        <a:lnTo>
                          <a:pt x="90" y="164"/>
                        </a:lnTo>
                        <a:lnTo>
                          <a:pt x="90" y="171"/>
                        </a:lnTo>
                        <a:lnTo>
                          <a:pt x="90" y="175"/>
                        </a:lnTo>
                        <a:lnTo>
                          <a:pt x="90" y="180"/>
                        </a:lnTo>
                        <a:lnTo>
                          <a:pt x="94" y="186"/>
                        </a:lnTo>
                        <a:lnTo>
                          <a:pt x="96" y="193"/>
                        </a:lnTo>
                        <a:lnTo>
                          <a:pt x="101" y="197"/>
                        </a:lnTo>
                        <a:lnTo>
                          <a:pt x="107" y="202"/>
                        </a:lnTo>
                        <a:lnTo>
                          <a:pt x="114" y="206"/>
                        </a:lnTo>
                        <a:lnTo>
                          <a:pt x="125" y="211"/>
                        </a:lnTo>
                        <a:lnTo>
                          <a:pt x="129" y="211"/>
                        </a:lnTo>
                        <a:lnTo>
                          <a:pt x="131" y="213"/>
                        </a:lnTo>
                        <a:lnTo>
                          <a:pt x="138" y="215"/>
                        </a:lnTo>
                        <a:lnTo>
                          <a:pt x="142" y="217"/>
                        </a:lnTo>
                        <a:lnTo>
                          <a:pt x="147" y="219"/>
                        </a:lnTo>
                        <a:lnTo>
                          <a:pt x="153" y="219"/>
                        </a:lnTo>
                        <a:lnTo>
                          <a:pt x="158" y="224"/>
                        </a:lnTo>
                        <a:lnTo>
                          <a:pt x="164" y="226"/>
                        </a:lnTo>
                        <a:lnTo>
                          <a:pt x="167" y="226"/>
                        </a:lnTo>
                        <a:lnTo>
                          <a:pt x="173" y="228"/>
                        </a:lnTo>
                        <a:lnTo>
                          <a:pt x="178" y="230"/>
                        </a:lnTo>
                        <a:lnTo>
                          <a:pt x="182" y="232"/>
                        </a:lnTo>
                        <a:lnTo>
                          <a:pt x="191" y="239"/>
                        </a:lnTo>
                        <a:lnTo>
                          <a:pt x="200" y="248"/>
                        </a:lnTo>
                        <a:lnTo>
                          <a:pt x="202" y="250"/>
                        </a:lnTo>
                        <a:lnTo>
                          <a:pt x="206" y="254"/>
                        </a:lnTo>
                        <a:lnTo>
                          <a:pt x="208" y="259"/>
                        </a:lnTo>
                        <a:lnTo>
                          <a:pt x="213" y="265"/>
                        </a:lnTo>
                        <a:lnTo>
                          <a:pt x="213" y="270"/>
                        </a:lnTo>
                        <a:lnTo>
                          <a:pt x="217" y="276"/>
                        </a:lnTo>
                        <a:lnTo>
                          <a:pt x="217" y="281"/>
                        </a:lnTo>
                        <a:lnTo>
                          <a:pt x="219" y="290"/>
                        </a:lnTo>
                        <a:lnTo>
                          <a:pt x="217" y="294"/>
                        </a:lnTo>
                        <a:lnTo>
                          <a:pt x="217" y="301"/>
                        </a:lnTo>
                        <a:lnTo>
                          <a:pt x="217" y="307"/>
                        </a:lnTo>
                        <a:lnTo>
                          <a:pt x="217" y="314"/>
                        </a:lnTo>
                        <a:lnTo>
                          <a:pt x="217" y="318"/>
                        </a:lnTo>
                        <a:lnTo>
                          <a:pt x="217" y="325"/>
                        </a:lnTo>
                        <a:lnTo>
                          <a:pt x="215" y="329"/>
                        </a:lnTo>
                        <a:lnTo>
                          <a:pt x="215" y="336"/>
                        </a:lnTo>
                        <a:lnTo>
                          <a:pt x="213" y="340"/>
                        </a:lnTo>
                        <a:lnTo>
                          <a:pt x="211" y="344"/>
                        </a:lnTo>
                        <a:lnTo>
                          <a:pt x="208" y="349"/>
                        </a:lnTo>
                        <a:lnTo>
                          <a:pt x="208" y="355"/>
                        </a:lnTo>
                        <a:lnTo>
                          <a:pt x="206" y="360"/>
                        </a:lnTo>
                        <a:lnTo>
                          <a:pt x="206" y="364"/>
                        </a:lnTo>
                        <a:lnTo>
                          <a:pt x="204" y="369"/>
                        </a:lnTo>
                        <a:lnTo>
                          <a:pt x="202" y="373"/>
                        </a:lnTo>
                        <a:lnTo>
                          <a:pt x="200" y="382"/>
                        </a:lnTo>
                        <a:lnTo>
                          <a:pt x="195" y="388"/>
                        </a:lnTo>
                        <a:lnTo>
                          <a:pt x="193" y="395"/>
                        </a:lnTo>
                        <a:lnTo>
                          <a:pt x="191" y="404"/>
                        </a:lnTo>
                        <a:lnTo>
                          <a:pt x="189" y="410"/>
                        </a:lnTo>
                        <a:lnTo>
                          <a:pt x="189" y="417"/>
                        </a:lnTo>
                        <a:lnTo>
                          <a:pt x="191" y="426"/>
                        </a:lnTo>
                        <a:lnTo>
                          <a:pt x="193" y="432"/>
                        </a:lnTo>
                        <a:lnTo>
                          <a:pt x="195" y="439"/>
                        </a:lnTo>
                        <a:lnTo>
                          <a:pt x="197" y="443"/>
                        </a:lnTo>
                        <a:lnTo>
                          <a:pt x="202" y="448"/>
                        </a:lnTo>
                        <a:lnTo>
                          <a:pt x="206" y="450"/>
                        </a:lnTo>
                        <a:lnTo>
                          <a:pt x="211" y="452"/>
                        </a:lnTo>
                        <a:lnTo>
                          <a:pt x="215" y="454"/>
                        </a:lnTo>
                        <a:lnTo>
                          <a:pt x="219" y="456"/>
                        </a:lnTo>
                        <a:lnTo>
                          <a:pt x="226" y="459"/>
                        </a:lnTo>
                        <a:lnTo>
                          <a:pt x="233" y="459"/>
                        </a:lnTo>
                        <a:lnTo>
                          <a:pt x="239" y="459"/>
                        </a:lnTo>
                        <a:lnTo>
                          <a:pt x="246" y="461"/>
                        </a:lnTo>
                        <a:lnTo>
                          <a:pt x="255" y="463"/>
                        </a:lnTo>
                        <a:lnTo>
                          <a:pt x="261" y="465"/>
                        </a:lnTo>
                        <a:lnTo>
                          <a:pt x="268" y="470"/>
                        </a:lnTo>
                        <a:lnTo>
                          <a:pt x="277" y="474"/>
                        </a:lnTo>
                        <a:lnTo>
                          <a:pt x="285" y="481"/>
                        </a:lnTo>
                        <a:lnTo>
                          <a:pt x="292" y="487"/>
                        </a:lnTo>
                        <a:lnTo>
                          <a:pt x="298" y="494"/>
                        </a:lnTo>
                        <a:lnTo>
                          <a:pt x="303" y="498"/>
                        </a:lnTo>
                        <a:lnTo>
                          <a:pt x="309" y="505"/>
                        </a:lnTo>
                        <a:lnTo>
                          <a:pt x="312" y="511"/>
                        </a:lnTo>
                        <a:lnTo>
                          <a:pt x="314" y="516"/>
                        </a:lnTo>
                        <a:lnTo>
                          <a:pt x="316" y="522"/>
                        </a:lnTo>
                        <a:lnTo>
                          <a:pt x="318" y="529"/>
                        </a:lnTo>
                        <a:lnTo>
                          <a:pt x="318" y="533"/>
                        </a:lnTo>
                        <a:lnTo>
                          <a:pt x="318" y="540"/>
                        </a:lnTo>
                        <a:lnTo>
                          <a:pt x="318" y="547"/>
                        </a:lnTo>
                        <a:lnTo>
                          <a:pt x="316" y="553"/>
                        </a:lnTo>
                        <a:lnTo>
                          <a:pt x="314" y="557"/>
                        </a:lnTo>
                        <a:lnTo>
                          <a:pt x="314" y="564"/>
                        </a:lnTo>
                        <a:lnTo>
                          <a:pt x="312" y="573"/>
                        </a:lnTo>
                        <a:lnTo>
                          <a:pt x="309" y="579"/>
                        </a:lnTo>
                        <a:lnTo>
                          <a:pt x="305" y="586"/>
                        </a:lnTo>
                        <a:lnTo>
                          <a:pt x="303" y="595"/>
                        </a:lnTo>
                        <a:lnTo>
                          <a:pt x="296" y="601"/>
                        </a:lnTo>
                        <a:lnTo>
                          <a:pt x="292" y="610"/>
                        </a:lnTo>
                        <a:lnTo>
                          <a:pt x="285" y="617"/>
                        </a:lnTo>
                        <a:lnTo>
                          <a:pt x="281" y="623"/>
                        </a:lnTo>
                        <a:lnTo>
                          <a:pt x="277" y="630"/>
                        </a:lnTo>
                        <a:lnTo>
                          <a:pt x="270" y="637"/>
                        </a:lnTo>
                        <a:lnTo>
                          <a:pt x="266" y="643"/>
                        </a:lnTo>
                        <a:lnTo>
                          <a:pt x="259" y="648"/>
                        </a:lnTo>
                        <a:lnTo>
                          <a:pt x="255" y="652"/>
                        </a:lnTo>
                        <a:lnTo>
                          <a:pt x="250" y="656"/>
                        </a:lnTo>
                        <a:lnTo>
                          <a:pt x="244" y="663"/>
                        </a:lnTo>
                        <a:lnTo>
                          <a:pt x="241" y="665"/>
                        </a:lnTo>
                        <a:lnTo>
                          <a:pt x="226" y="650"/>
                        </a:lnTo>
                        <a:lnTo>
                          <a:pt x="228" y="648"/>
                        </a:lnTo>
                        <a:lnTo>
                          <a:pt x="235" y="641"/>
                        </a:lnTo>
                        <a:lnTo>
                          <a:pt x="237" y="634"/>
                        </a:lnTo>
                        <a:lnTo>
                          <a:pt x="244" y="628"/>
                        </a:lnTo>
                        <a:lnTo>
                          <a:pt x="248" y="621"/>
                        </a:lnTo>
                        <a:lnTo>
                          <a:pt x="255" y="617"/>
                        </a:lnTo>
                        <a:lnTo>
                          <a:pt x="259" y="608"/>
                        </a:lnTo>
                        <a:lnTo>
                          <a:pt x="263" y="601"/>
                        </a:lnTo>
                        <a:lnTo>
                          <a:pt x="268" y="593"/>
                        </a:lnTo>
                        <a:lnTo>
                          <a:pt x="272" y="586"/>
                        </a:lnTo>
                        <a:lnTo>
                          <a:pt x="277" y="577"/>
                        </a:lnTo>
                        <a:lnTo>
                          <a:pt x="279" y="571"/>
                        </a:lnTo>
                        <a:lnTo>
                          <a:pt x="283" y="564"/>
                        </a:lnTo>
                        <a:lnTo>
                          <a:pt x="285" y="557"/>
                        </a:lnTo>
                        <a:lnTo>
                          <a:pt x="285" y="553"/>
                        </a:lnTo>
                        <a:lnTo>
                          <a:pt x="285" y="547"/>
                        </a:lnTo>
                        <a:lnTo>
                          <a:pt x="283" y="540"/>
                        </a:lnTo>
                        <a:lnTo>
                          <a:pt x="283" y="536"/>
                        </a:lnTo>
                        <a:lnTo>
                          <a:pt x="281" y="531"/>
                        </a:lnTo>
                        <a:lnTo>
                          <a:pt x="279" y="525"/>
                        </a:lnTo>
                        <a:lnTo>
                          <a:pt x="277" y="520"/>
                        </a:lnTo>
                        <a:lnTo>
                          <a:pt x="272" y="516"/>
                        </a:lnTo>
                        <a:lnTo>
                          <a:pt x="268" y="511"/>
                        </a:lnTo>
                        <a:lnTo>
                          <a:pt x="263" y="507"/>
                        </a:lnTo>
                        <a:lnTo>
                          <a:pt x="259" y="503"/>
                        </a:lnTo>
                        <a:lnTo>
                          <a:pt x="252" y="500"/>
                        </a:lnTo>
                        <a:lnTo>
                          <a:pt x="246" y="498"/>
                        </a:lnTo>
                        <a:lnTo>
                          <a:pt x="241" y="494"/>
                        </a:lnTo>
                        <a:lnTo>
                          <a:pt x="233" y="492"/>
                        </a:lnTo>
                        <a:lnTo>
                          <a:pt x="226" y="492"/>
                        </a:lnTo>
                        <a:lnTo>
                          <a:pt x="217" y="487"/>
                        </a:lnTo>
                        <a:lnTo>
                          <a:pt x="208" y="485"/>
                        </a:lnTo>
                        <a:lnTo>
                          <a:pt x="202" y="483"/>
                        </a:lnTo>
                        <a:lnTo>
                          <a:pt x="197" y="481"/>
                        </a:lnTo>
                        <a:lnTo>
                          <a:pt x="191" y="478"/>
                        </a:lnTo>
                        <a:lnTo>
                          <a:pt x="184" y="476"/>
                        </a:lnTo>
                        <a:lnTo>
                          <a:pt x="180" y="472"/>
                        </a:lnTo>
                        <a:lnTo>
                          <a:pt x="175" y="470"/>
                        </a:lnTo>
                        <a:lnTo>
                          <a:pt x="167" y="461"/>
                        </a:lnTo>
                        <a:lnTo>
                          <a:pt x="162" y="454"/>
                        </a:lnTo>
                        <a:lnTo>
                          <a:pt x="160" y="450"/>
                        </a:lnTo>
                        <a:lnTo>
                          <a:pt x="156" y="445"/>
                        </a:lnTo>
                        <a:lnTo>
                          <a:pt x="156" y="441"/>
                        </a:lnTo>
                        <a:lnTo>
                          <a:pt x="156" y="437"/>
                        </a:lnTo>
                        <a:lnTo>
                          <a:pt x="153" y="430"/>
                        </a:lnTo>
                        <a:lnTo>
                          <a:pt x="153" y="424"/>
                        </a:lnTo>
                        <a:lnTo>
                          <a:pt x="156" y="417"/>
                        </a:lnTo>
                        <a:lnTo>
                          <a:pt x="158" y="408"/>
                        </a:lnTo>
                        <a:lnTo>
                          <a:pt x="158" y="404"/>
                        </a:lnTo>
                        <a:lnTo>
                          <a:pt x="160" y="399"/>
                        </a:lnTo>
                        <a:lnTo>
                          <a:pt x="160" y="395"/>
                        </a:lnTo>
                        <a:lnTo>
                          <a:pt x="162" y="391"/>
                        </a:lnTo>
                        <a:lnTo>
                          <a:pt x="162" y="384"/>
                        </a:lnTo>
                        <a:lnTo>
                          <a:pt x="164" y="380"/>
                        </a:lnTo>
                        <a:lnTo>
                          <a:pt x="167" y="375"/>
                        </a:lnTo>
                        <a:lnTo>
                          <a:pt x="169" y="371"/>
                        </a:lnTo>
                        <a:lnTo>
                          <a:pt x="169" y="366"/>
                        </a:lnTo>
                        <a:lnTo>
                          <a:pt x="171" y="360"/>
                        </a:lnTo>
                        <a:lnTo>
                          <a:pt x="171" y="355"/>
                        </a:lnTo>
                        <a:lnTo>
                          <a:pt x="173" y="351"/>
                        </a:lnTo>
                        <a:lnTo>
                          <a:pt x="173" y="347"/>
                        </a:lnTo>
                        <a:lnTo>
                          <a:pt x="175" y="340"/>
                        </a:lnTo>
                        <a:lnTo>
                          <a:pt x="178" y="336"/>
                        </a:lnTo>
                        <a:lnTo>
                          <a:pt x="180" y="331"/>
                        </a:lnTo>
                        <a:lnTo>
                          <a:pt x="180" y="323"/>
                        </a:lnTo>
                        <a:lnTo>
                          <a:pt x="182" y="316"/>
                        </a:lnTo>
                        <a:lnTo>
                          <a:pt x="184" y="307"/>
                        </a:lnTo>
                        <a:lnTo>
                          <a:pt x="184" y="301"/>
                        </a:lnTo>
                        <a:lnTo>
                          <a:pt x="182" y="294"/>
                        </a:lnTo>
                        <a:lnTo>
                          <a:pt x="182" y="290"/>
                        </a:lnTo>
                        <a:lnTo>
                          <a:pt x="180" y="283"/>
                        </a:lnTo>
                        <a:lnTo>
                          <a:pt x="178" y="279"/>
                        </a:lnTo>
                        <a:lnTo>
                          <a:pt x="173" y="270"/>
                        </a:lnTo>
                        <a:lnTo>
                          <a:pt x="167" y="265"/>
                        </a:lnTo>
                        <a:lnTo>
                          <a:pt x="162" y="261"/>
                        </a:lnTo>
                        <a:lnTo>
                          <a:pt x="158" y="259"/>
                        </a:lnTo>
                        <a:lnTo>
                          <a:pt x="153" y="254"/>
                        </a:lnTo>
                        <a:lnTo>
                          <a:pt x="149" y="252"/>
                        </a:lnTo>
                        <a:lnTo>
                          <a:pt x="142" y="250"/>
                        </a:lnTo>
                        <a:lnTo>
                          <a:pt x="138" y="248"/>
                        </a:lnTo>
                        <a:lnTo>
                          <a:pt x="131" y="246"/>
                        </a:lnTo>
                        <a:lnTo>
                          <a:pt x="127" y="243"/>
                        </a:lnTo>
                        <a:lnTo>
                          <a:pt x="121" y="241"/>
                        </a:lnTo>
                        <a:lnTo>
                          <a:pt x="114" y="237"/>
                        </a:lnTo>
                        <a:lnTo>
                          <a:pt x="107" y="232"/>
                        </a:lnTo>
                        <a:lnTo>
                          <a:pt x="101" y="230"/>
                        </a:lnTo>
                        <a:lnTo>
                          <a:pt x="94" y="226"/>
                        </a:lnTo>
                        <a:lnTo>
                          <a:pt x="88" y="224"/>
                        </a:lnTo>
                        <a:lnTo>
                          <a:pt x="81" y="219"/>
                        </a:lnTo>
                        <a:lnTo>
                          <a:pt x="77" y="217"/>
                        </a:lnTo>
                        <a:lnTo>
                          <a:pt x="70" y="213"/>
                        </a:lnTo>
                        <a:lnTo>
                          <a:pt x="66" y="208"/>
                        </a:lnTo>
                        <a:lnTo>
                          <a:pt x="59" y="204"/>
                        </a:lnTo>
                        <a:lnTo>
                          <a:pt x="57" y="200"/>
                        </a:lnTo>
                        <a:lnTo>
                          <a:pt x="55" y="195"/>
                        </a:lnTo>
                        <a:lnTo>
                          <a:pt x="52" y="189"/>
                        </a:lnTo>
                        <a:lnTo>
                          <a:pt x="52" y="184"/>
                        </a:lnTo>
                        <a:lnTo>
                          <a:pt x="52" y="178"/>
                        </a:lnTo>
                        <a:lnTo>
                          <a:pt x="52" y="171"/>
                        </a:lnTo>
                        <a:lnTo>
                          <a:pt x="55" y="164"/>
                        </a:lnTo>
                        <a:lnTo>
                          <a:pt x="57" y="158"/>
                        </a:lnTo>
                        <a:lnTo>
                          <a:pt x="61" y="153"/>
                        </a:lnTo>
                        <a:lnTo>
                          <a:pt x="63" y="147"/>
                        </a:lnTo>
                        <a:lnTo>
                          <a:pt x="68" y="140"/>
                        </a:lnTo>
                        <a:lnTo>
                          <a:pt x="72" y="136"/>
                        </a:lnTo>
                        <a:lnTo>
                          <a:pt x="77" y="129"/>
                        </a:lnTo>
                        <a:lnTo>
                          <a:pt x="79" y="125"/>
                        </a:lnTo>
                        <a:lnTo>
                          <a:pt x="83" y="118"/>
                        </a:lnTo>
                        <a:lnTo>
                          <a:pt x="88" y="114"/>
                        </a:lnTo>
                        <a:lnTo>
                          <a:pt x="92" y="107"/>
                        </a:lnTo>
                        <a:lnTo>
                          <a:pt x="94" y="103"/>
                        </a:lnTo>
                        <a:lnTo>
                          <a:pt x="99" y="96"/>
                        </a:lnTo>
                        <a:lnTo>
                          <a:pt x="101" y="92"/>
                        </a:lnTo>
                        <a:lnTo>
                          <a:pt x="103" y="88"/>
                        </a:lnTo>
                        <a:lnTo>
                          <a:pt x="103" y="81"/>
                        </a:lnTo>
                        <a:lnTo>
                          <a:pt x="103" y="77"/>
                        </a:lnTo>
                        <a:lnTo>
                          <a:pt x="103" y="72"/>
                        </a:lnTo>
                        <a:lnTo>
                          <a:pt x="105" y="68"/>
                        </a:lnTo>
                        <a:lnTo>
                          <a:pt x="103" y="61"/>
                        </a:lnTo>
                        <a:lnTo>
                          <a:pt x="101" y="57"/>
                        </a:lnTo>
                        <a:lnTo>
                          <a:pt x="99" y="50"/>
                        </a:lnTo>
                        <a:lnTo>
                          <a:pt x="94" y="48"/>
                        </a:lnTo>
                        <a:lnTo>
                          <a:pt x="88" y="41"/>
                        </a:lnTo>
                        <a:lnTo>
                          <a:pt x="79" y="37"/>
                        </a:lnTo>
                        <a:lnTo>
                          <a:pt x="74" y="35"/>
                        </a:lnTo>
                        <a:lnTo>
                          <a:pt x="70" y="33"/>
                        </a:lnTo>
                        <a:lnTo>
                          <a:pt x="63" y="30"/>
                        </a:lnTo>
                        <a:lnTo>
                          <a:pt x="59" y="28"/>
                        </a:lnTo>
                        <a:lnTo>
                          <a:pt x="50" y="26"/>
                        </a:lnTo>
                        <a:lnTo>
                          <a:pt x="44" y="24"/>
                        </a:lnTo>
                        <a:lnTo>
                          <a:pt x="37" y="22"/>
                        </a:lnTo>
                        <a:lnTo>
                          <a:pt x="30" y="19"/>
                        </a:lnTo>
                        <a:lnTo>
                          <a:pt x="24" y="17"/>
                        </a:lnTo>
                        <a:lnTo>
                          <a:pt x="19" y="15"/>
                        </a:lnTo>
                        <a:lnTo>
                          <a:pt x="13" y="15"/>
                        </a:lnTo>
                        <a:lnTo>
                          <a:pt x="11" y="13"/>
                        </a:lnTo>
                        <a:lnTo>
                          <a:pt x="2" y="11"/>
                        </a:lnTo>
                        <a:lnTo>
                          <a:pt x="0" y="11"/>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733"/>
                  <p:cNvSpPr/>
                  <p:nvPr/>
                </p:nvSpPr>
                <p:spPr>
                  <a:xfrm>
                    <a:off x="2030040" y="4507920"/>
                    <a:ext cx="423360" cy="570240"/>
                  </a:xfrm>
                  <a:custGeom>
                    <a:avLst/>
                    <a:gdLst>
                      <a:gd name="textAreaLeft" fmla="*/ 0 w 423360"/>
                      <a:gd name="textAreaRight" fmla="*/ 423720 w 423360"/>
                      <a:gd name="textAreaTop" fmla="*/ 0 h 570240"/>
                      <a:gd name="textAreaBottom" fmla="*/ 570600 h 570240"/>
                    </a:gdLst>
                    <a:ahLst/>
                    <a:rect l="textAreaLeft" t="textAreaTop" r="textAreaRight" b="textAreaBottom"/>
                    <a:pathLst>
                      <a:path w="595" h="781">
                        <a:moveTo>
                          <a:pt x="409" y="0"/>
                        </a:moveTo>
                        <a:lnTo>
                          <a:pt x="0" y="79"/>
                        </a:lnTo>
                        <a:lnTo>
                          <a:pt x="0" y="81"/>
                        </a:lnTo>
                        <a:lnTo>
                          <a:pt x="2" y="85"/>
                        </a:lnTo>
                        <a:lnTo>
                          <a:pt x="4" y="90"/>
                        </a:lnTo>
                        <a:lnTo>
                          <a:pt x="7" y="96"/>
                        </a:lnTo>
                        <a:lnTo>
                          <a:pt x="9" y="103"/>
                        </a:lnTo>
                        <a:lnTo>
                          <a:pt x="13" y="109"/>
                        </a:lnTo>
                        <a:lnTo>
                          <a:pt x="15" y="112"/>
                        </a:lnTo>
                        <a:lnTo>
                          <a:pt x="15" y="116"/>
                        </a:lnTo>
                        <a:lnTo>
                          <a:pt x="17" y="123"/>
                        </a:lnTo>
                        <a:lnTo>
                          <a:pt x="20" y="127"/>
                        </a:lnTo>
                        <a:lnTo>
                          <a:pt x="22" y="131"/>
                        </a:lnTo>
                        <a:lnTo>
                          <a:pt x="24" y="136"/>
                        </a:lnTo>
                        <a:lnTo>
                          <a:pt x="24" y="140"/>
                        </a:lnTo>
                        <a:lnTo>
                          <a:pt x="26" y="147"/>
                        </a:lnTo>
                        <a:lnTo>
                          <a:pt x="28" y="151"/>
                        </a:lnTo>
                        <a:lnTo>
                          <a:pt x="31" y="156"/>
                        </a:lnTo>
                        <a:lnTo>
                          <a:pt x="35" y="162"/>
                        </a:lnTo>
                        <a:lnTo>
                          <a:pt x="37" y="169"/>
                        </a:lnTo>
                        <a:lnTo>
                          <a:pt x="37" y="173"/>
                        </a:lnTo>
                        <a:lnTo>
                          <a:pt x="42" y="180"/>
                        </a:lnTo>
                        <a:lnTo>
                          <a:pt x="42" y="184"/>
                        </a:lnTo>
                        <a:lnTo>
                          <a:pt x="44" y="191"/>
                        </a:lnTo>
                        <a:lnTo>
                          <a:pt x="48" y="197"/>
                        </a:lnTo>
                        <a:lnTo>
                          <a:pt x="50" y="204"/>
                        </a:lnTo>
                        <a:lnTo>
                          <a:pt x="53" y="208"/>
                        </a:lnTo>
                        <a:lnTo>
                          <a:pt x="55" y="215"/>
                        </a:lnTo>
                        <a:lnTo>
                          <a:pt x="57" y="221"/>
                        </a:lnTo>
                        <a:lnTo>
                          <a:pt x="59" y="228"/>
                        </a:lnTo>
                        <a:lnTo>
                          <a:pt x="61" y="232"/>
                        </a:lnTo>
                        <a:lnTo>
                          <a:pt x="64" y="239"/>
                        </a:lnTo>
                        <a:lnTo>
                          <a:pt x="66" y="246"/>
                        </a:lnTo>
                        <a:lnTo>
                          <a:pt x="68" y="252"/>
                        </a:lnTo>
                        <a:lnTo>
                          <a:pt x="70" y="257"/>
                        </a:lnTo>
                        <a:lnTo>
                          <a:pt x="72" y="263"/>
                        </a:lnTo>
                        <a:lnTo>
                          <a:pt x="75" y="270"/>
                        </a:lnTo>
                        <a:lnTo>
                          <a:pt x="77" y="276"/>
                        </a:lnTo>
                        <a:lnTo>
                          <a:pt x="79" y="281"/>
                        </a:lnTo>
                        <a:lnTo>
                          <a:pt x="83" y="287"/>
                        </a:lnTo>
                        <a:lnTo>
                          <a:pt x="86" y="294"/>
                        </a:lnTo>
                        <a:lnTo>
                          <a:pt x="88" y="298"/>
                        </a:lnTo>
                        <a:lnTo>
                          <a:pt x="90" y="305"/>
                        </a:lnTo>
                        <a:lnTo>
                          <a:pt x="92" y="311"/>
                        </a:lnTo>
                        <a:lnTo>
                          <a:pt x="94" y="316"/>
                        </a:lnTo>
                        <a:lnTo>
                          <a:pt x="97" y="322"/>
                        </a:lnTo>
                        <a:lnTo>
                          <a:pt x="99" y="327"/>
                        </a:lnTo>
                        <a:lnTo>
                          <a:pt x="101" y="333"/>
                        </a:lnTo>
                        <a:lnTo>
                          <a:pt x="103" y="338"/>
                        </a:lnTo>
                        <a:lnTo>
                          <a:pt x="105" y="344"/>
                        </a:lnTo>
                        <a:lnTo>
                          <a:pt x="108" y="349"/>
                        </a:lnTo>
                        <a:lnTo>
                          <a:pt x="110" y="353"/>
                        </a:lnTo>
                        <a:lnTo>
                          <a:pt x="114" y="362"/>
                        </a:lnTo>
                        <a:lnTo>
                          <a:pt x="119" y="371"/>
                        </a:lnTo>
                        <a:lnTo>
                          <a:pt x="121" y="380"/>
                        </a:lnTo>
                        <a:lnTo>
                          <a:pt x="125" y="386"/>
                        </a:lnTo>
                        <a:lnTo>
                          <a:pt x="127" y="393"/>
                        </a:lnTo>
                        <a:lnTo>
                          <a:pt x="132" y="402"/>
                        </a:lnTo>
                        <a:lnTo>
                          <a:pt x="134" y="408"/>
                        </a:lnTo>
                        <a:lnTo>
                          <a:pt x="138" y="417"/>
                        </a:lnTo>
                        <a:lnTo>
                          <a:pt x="141" y="426"/>
                        </a:lnTo>
                        <a:lnTo>
                          <a:pt x="145" y="434"/>
                        </a:lnTo>
                        <a:lnTo>
                          <a:pt x="145" y="439"/>
                        </a:lnTo>
                        <a:lnTo>
                          <a:pt x="147" y="443"/>
                        </a:lnTo>
                        <a:lnTo>
                          <a:pt x="149" y="450"/>
                        </a:lnTo>
                        <a:lnTo>
                          <a:pt x="152" y="454"/>
                        </a:lnTo>
                        <a:lnTo>
                          <a:pt x="154" y="459"/>
                        </a:lnTo>
                        <a:lnTo>
                          <a:pt x="154" y="463"/>
                        </a:lnTo>
                        <a:lnTo>
                          <a:pt x="156" y="467"/>
                        </a:lnTo>
                        <a:lnTo>
                          <a:pt x="158" y="474"/>
                        </a:lnTo>
                        <a:lnTo>
                          <a:pt x="160" y="478"/>
                        </a:lnTo>
                        <a:lnTo>
                          <a:pt x="160" y="483"/>
                        </a:lnTo>
                        <a:lnTo>
                          <a:pt x="163" y="489"/>
                        </a:lnTo>
                        <a:lnTo>
                          <a:pt x="165" y="494"/>
                        </a:lnTo>
                        <a:lnTo>
                          <a:pt x="167" y="498"/>
                        </a:lnTo>
                        <a:lnTo>
                          <a:pt x="167" y="503"/>
                        </a:lnTo>
                        <a:lnTo>
                          <a:pt x="169" y="509"/>
                        </a:lnTo>
                        <a:lnTo>
                          <a:pt x="171" y="514"/>
                        </a:lnTo>
                        <a:lnTo>
                          <a:pt x="173" y="518"/>
                        </a:lnTo>
                        <a:lnTo>
                          <a:pt x="173" y="524"/>
                        </a:lnTo>
                        <a:lnTo>
                          <a:pt x="176" y="529"/>
                        </a:lnTo>
                        <a:lnTo>
                          <a:pt x="178" y="533"/>
                        </a:lnTo>
                        <a:lnTo>
                          <a:pt x="180" y="538"/>
                        </a:lnTo>
                        <a:lnTo>
                          <a:pt x="182" y="544"/>
                        </a:lnTo>
                        <a:lnTo>
                          <a:pt x="182" y="549"/>
                        </a:lnTo>
                        <a:lnTo>
                          <a:pt x="184" y="553"/>
                        </a:lnTo>
                        <a:lnTo>
                          <a:pt x="184" y="557"/>
                        </a:lnTo>
                        <a:lnTo>
                          <a:pt x="187" y="562"/>
                        </a:lnTo>
                        <a:lnTo>
                          <a:pt x="189" y="566"/>
                        </a:lnTo>
                        <a:lnTo>
                          <a:pt x="191" y="573"/>
                        </a:lnTo>
                        <a:lnTo>
                          <a:pt x="193" y="579"/>
                        </a:lnTo>
                        <a:lnTo>
                          <a:pt x="195" y="590"/>
                        </a:lnTo>
                        <a:lnTo>
                          <a:pt x="198" y="597"/>
                        </a:lnTo>
                        <a:lnTo>
                          <a:pt x="200" y="606"/>
                        </a:lnTo>
                        <a:lnTo>
                          <a:pt x="202" y="612"/>
                        </a:lnTo>
                        <a:lnTo>
                          <a:pt x="204" y="619"/>
                        </a:lnTo>
                        <a:lnTo>
                          <a:pt x="206" y="626"/>
                        </a:lnTo>
                        <a:lnTo>
                          <a:pt x="209" y="630"/>
                        </a:lnTo>
                        <a:lnTo>
                          <a:pt x="211" y="634"/>
                        </a:lnTo>
                        <a:lnTo>
                          <a:pt x="213" y="641"/>
                        </a:lnTo>
                        <a:lnTo>
                          <a:pt x="213" y="643"/>
                        </a:lnTo>
                        <a:lnTo>
                          <a:pt x="215" y="647"/>
                        </a:lnTo>
                        <a:lnTo>
                          <a:pt x="215" y="650"/>
                        </a:lnTo>
                        <a:lnTo>
                          <a:pt x="220" y="658"/>
                        </a:lnTo>
                        <a:lnTo>
                          <a:pt x="220" y="661"/>
                        </a:lnTo>
                        <a:lnTo>
                          <a:pt x="222" y="667"/>
                        </a:lnTo>
                        <a:lnTo>
                          <a:pt x="222" y="672"/>
                        </a:lnTo>
                        <a:lnTo>
                          <a:pt x="224" y="676"/>
                        </a:lnTo>
                        <a:lnTo>
                          <a:pt x="226" y="683"/>
                        </a:lnTo>
                        <a:lnTo>
                          <a:pt x="226" y="687"/>
                        </a:lnTo>
                        <a:lnTo>
                          <a:pt x="228" y="694"/>
                        </a:lnTo>
                        <a:lnTo>
                          <a:pt x="231" y="698"/>
                        </a:lnTo>
                        <a:lnTo>
                          <a:pt x="233" y="702"/>
                        </a:lnTo>
                        <a:lnTo>
                          <a:pt x="235" y="711"/>
                        </a:lnTo>
                        <a:lnTo>
                          <a:pt x="237" y="716"/>
                        </a:lnTo>
                        <a:lnTo>
                          <a:pt x="239" y="722"/>
                        </a:lnTo>
                        <a:lnTo>
                          <a:pt x="239" y="727"/>
                        </a:lnTo>
                        <a:lnTo>
                          <a:pt x="242" y="733"/>
                        </a:lnTo>
                        <a:lnTo>
                          <a:pt x="244" y="737"/>
                        </a:lnTo>
                        <a:lnTo>
                          <a:pt x="244" y="744"/>
                        </a:lnTo>
                        <a:lnTo>
                          <a:pt x="246" y="748"/>
                        </a:lnTo>
                        <a:lnTo>
                          <a:pt x="248" y="753"/>
                        </a:lnTo>
                        <a:lnTo>
                          <a:pt x="248" y="757"/>
                        </a:lnTo>
                        <a:lnTo>
                          <a:pt x="250" y="762"/>
                        </a:lnTo>
                        <a:lnTo>
                          <a:pt x="253" y="768"/>
                        </a:lnTo>
                        <a:lnTo>
                          <a:pt x="255" y="775"/>
                        </a:lnTo>
                        <a:lnTo>
                          <a:pt x="255" y="779"/>
                        </a:lnTo>
                        <a:lnTo>
                          <a:pt x="257" y="781"/>
                        </a:lnTo>
                        <a:lnTo>
                          <a:pt x="257" y="779"/>
                        </a:lnTo>
                        <a:lnTo>
                          <a:pt x="259" y="779"/>
                        </a:lnTo>
                        <a:lnTo>
                          <a:pt x="264" y="777"/>
                        </a:lnTo>
                        <a:lnTo>
                          <a:pt x="270" y="777"/>
                        </a:lnTo>
                        <a:lnTo>
                          <a:pt x="272" y="775"/>
                        </a:lnTo>
                        <a:lnTo>
                          <a:pt x="277" y="775"/>
                        </a:lnTo>
                        <a:lnTo>
                          <a:pt x="283" y="773"/>
                        </a:lnTo>
                        <a:lnTo>
                          <a:pt x="288" y="773"/>
                        </a:lnTo>
                        <a:lnTo>
                          <a:pt x="292" y="773"/>
                        </a:lnTo>
                        <a:lnTo>
                          <a:pt x="297" y="773"/>
                        </a:lnTo>
                        <a:lnTo>
                          <a:pt x="303" y="770"/>
                        </a:lnTo>
                        <a:lnTo>
                          <a:pt x="310" y="770"/>
                        </a:lnTo>
                        <a:lnTo>
                          <a:pt x="314" y="768"/>
                        </a:lnTo>
                        <a:lnTo>
                          <a:pt x="321" y="768"/>
                        </a:lnTo>
                        <a:lnTo>
                          <a:pt x="327" y="766"/>
                        </a:lnTo>
                        <a:lnTo>
                          <a:pt x="334" y="766"/>
                        </a:lnTo>
                        <a:lnTo>
                          <a:pt x="340" y="764"/>
                        </a:lnTo>
                        <a:lnTo>
                          <a:pt x="347" y="764"/>
                        </a:lnTo>
                        <a:lnTo>
                          <a:pt x="356" y="762"/>
                        </a:lnTo>
                        <a:lnTo>
                          <a:pt x="362" y="759"/>
                        </a:lnTo>
                        <a:lnTo>
                          <a:pt x="371" y="757"/>
                        </a:lnTo>
                        <a:lnTo>
                          <a:pt x="378" y="757"/>
                        </a:lnTo>
                        <a:lnTo>
                          <a:pt x="384" y="755"/>
                        </a:lnTo>
                        <a:lnTo>
                          <a:pt x="393" y="755"/>
                        </a:lnTo>
                        <a:lnTo>
                          <a:pt x="400" y="753"/>
                        </a:lnTo>
                        <a:lnTo>
                          <a:pt x="409" y="751"/>
                        </a:lnTo>
                        <a:lnTo>
                          <a:pt x="417" y="748"/>
                        </a:lnTo>
                        <a:lnTo>
                          <a:pt x="426" y="748"/>
                        </a:lnTo>
                        <a:lnTo>
                          <a:pt x="433" y="746"/>
                        </a:lnTo>
                        <a:lnTo>
                          <a:pt x="442" y="744"/>
                        </a:lnTo>
                        <a:lnTo>
                          <a:pt x="448" y="742"/>
                        </a:lnTo>
                        <a:lnTo>
                          <a:pt x="457" y="742"/>
                        </a:lnTo>
                        <a:lnTo>
                          <a:pt x="464" y="740"/>
                        </a:lnTo>
                        <a:lnTo>
                          <a:pt x="472" y="737"/>
                        </a:lnTo>
                        <a:lnTo>
                          <a:pt x="479" y="735"/>
                        </a:lnTo>
                        <a:lnTo>
                          <a:pt x="488" y="735"/>
                        </a:lnTo>
                        <a:lnTo>
                          <a:pt x="494" y="733"/>
                        </a:lnTo>
                        <a:lnTo>
                          <a:pt x="501" y="731"/>
                        </a:lnTo>
                        <a:lnTo>
                          <a:pt x="507" y="729"/>
                        </a:lnTo>
                        <a:lnTo>
                          <a:pt x="516" y="729"/>
                        </a:lnTo>
                        <a:lnTo>
                          <a:pt x="521" y="727"/>
                        </a:lnTo>
                        <a:lnTo>
                          <a:pt x="527" y="724"/>
                        </a:lnTo>
                        <a:lnTo>
                          <a:pt x="534" y="724"/>
                        </a:lnTo>
                        <a:lnTo>
                          <a:pt x="543" y="722"/>
                        </a:lnTo>
                        <a:lnTo>
                          <a:pt x="547" y="720"/>
                        </a:lnTo>
                        <a:lnTo>
                          <a:pt x="551" y="720"/>
                        </a:lnTo>
                        <a:lnTo>
                          <a:pt x="558" y="718"/>
                        </a:lnTo>
                        <a:lnTo>
                          <a:pt x="562" y="716"/>
                        </a:lnTo>
                        <a:lnTo>
                          <a:pt x="571" y="713"/>
                        </a:lnTo>
                        <a:lnTo>
                          <a:pt x="580" y="711"/>
                        </a:lnTo>
                        <a:lnTo>
                          <a:pt x="587" y="709"/>
                        </a:lnTo>
                        <a:lnTo>
                          <a:pt x="591" y="707"/>
                        </a:lnTo>
                        <a:lnTo>
                          <a:pt x="593" y="705"/>
                        </a:lnTo>
                        <a:lnTo>
                          <a:pt x="595" y="702"/>
                        </a:lnTo>
                        <a:lnTo>
                          <a:pt x="595" y="694"/>
                        </a:lnTo>
                        <a:lnTo>
                          <a:pt x="595" y="687"/>
                        </a:lnTo>
                        <a:lnTo>
                          <a:pt x="595" y="680"/>
                        </a:lnTo>
                        <a:lnTo>
                          <a:pt x="595" y="676"/>
                        </a:lnTo>
                        <a:lnTo>
                          <a:pt x="593" y="672"/>
                        </a:lnTo>
                        <a:lnTo>
                          <a:pt x="591" y="672"/>
                        </a:lnTo>
                        <a:lnTo>
                          <a:pt x="589" y="669"/>
                        </a:lnTo>
                        <a:lnTo>
                          <a:pt x="584" y="672"/>
                        </a:lnTo>
                        <a:lnTo>
                          <a:pt x="580" y="672"/>
                        </a:lnTo>
                        <a:lnTo>
                          <a:pt x="578" y="672"/>
                        </a:lnTo>
                        <a:lnTo>
                          <a:pt x="571" y="674"/>
                        </a:lnTo>
                        <a:lnTo>
                          <a:pt x="565" y="676"/>
                        </a:lnTo>
                        <a:lnTo>
                          <a:pt x="560" y="676"/>
                        </a:lnTo>
                        <a:lnTo>
                          <a:pt x="556" y="676"/>
                        </a:lnTo>
                        <a:lnTo>
                          <a:pt x="551" y="678"/>
                        </a:lnTo>
                        <a:lnTo>
                          <a:pt x="549" y="678"/>
                        </a:lnTo>
                        <a:lnTo>
                          <a:pt x="543" y="680"/>
                        </a:lnTo>
                        <a:lnTo>
                          <a:pt x="538" y="683"/>
                        </a:lnTo>
                        <a:lnTo>
                          <a:pt x="534" y="683"/>
                        </a:lnTo>
                        <a:lnTo>
                          <a:pt x="529" y="685"/>
                        </a:lnTo>
                        <a:lnTo>
                          <a:pt x="523" y="685"/>
                        </a:lnTo>
                        <a:lnTo>
                          <a:pt x="516" y="685"/>
                        </a:lnTo>
                        <a:lnTo>
                          <a:pt x="510" y="687"/>
                        </a:lnTo>
                        <a:lnTo>
                          <a:pt x="505" y="689"/>
                        </a:lnTo>
                        <a:lnTo>
                          <a:pt x="499" y="689"/>
                        </a:lnTo>
                        <a:lnTo>
                          <a:pt x="492" y="691"/>
                        </a:lnTo>
                        <a:lnTo>
                          <a:pt x="485" y="691"/>
                        </a:lnTo>
                        <a:lnTo>
                          <a:pt x="479" y="694"/>
                        </a:lnTo>
                        <a:lnTo>
                          <a:pt x="472" y="696"/>
                        </a:lnTo>
                        <a:lnTo>
                          <a:pt x="466" y="696"/>
                        </a:lnTo>
                        <a:lnTo>
                          <a:pt x="459" y="698"/>
                        </a:lnTo>
                        <a:lnTo>
                          <a:pt x="453" y="700"/>
                        </a:lnTo>
                        <a:lnTo>
                          <a:pt x="446" y="700"/>
                        </a:lnTo>
                        <a:lnTo>
                          <a:pt x="439" y="702"/>
                        </a:lnTo>
                        <a:lnTo>
                          <a:pt x="433" y="702"/>
                        </a:lnTo>
                        <a:lnTo>
                          <a:pt x="426" y="707"/>
                        </a:lnTo>
                        <a:lnTo>
                          <a:pt x="420" y="707"/>
                        </a:lnTo>
                        <a:lnTo>
                          <a:pt x="413" y="709"/>
                        </a:lnTo>
                        <a:lnTo>
                          <a:pt x="404" y="709"/>
                        </a:lnTo>
                        <a:lnTo>
                          <a:pt x="398" y="711"/>
                        </a:lnTo>
                        <a:lnTo>
                          <a:pt x="391" y="711"/>
                        </a:lnTo>
                        <a:lnTo>
                          <a:pt x="384" y="713"/>
                        </a:lnTo>
                        <a:lnTo>
                          <a:pt x="378" y="713"/>
                        </a:lnTo>
                        <a:lnTo>
                          <a:pt x="371" y="716"/>
                        </a:lnTo>
                        <a:lnTo>
                          <a:pt x="365" y="718"/>
                        </a:lnTo>
                        <a:lnTo>
                          <a:pt x="360" y="718"/>
                        </a:lnTo>
                        <a:lnTo>
                          <a:pt x="351" y="720"/>
                        </a:lnTo>
                        <a:lnTo>
                          <a:pt x="347" y="722"/>
                        </a:lnTo>
                        <a:lnTo>
                          <a:pt x="340" y="722"/>
                        </a:lnTo>
                        <a:lnTo>
                          <a:pt x="336" y="724"/>
                        </a:lnTo>
                        <a:lnTo>
                          <a:pt x="332" y="724"/>
                        </a:lnTo>
                        <a:lnTo>
                          <a:pt x="325" y="727"/>
                        </a:lnTo>
                        <a:lnTo>
                          <a:pt x="321" y="727"/>
                        </a:lnTo>
                        <a:lnTo>
                          <a:pt x="316" y="727"/>
                        </a:lnTo>
                        <a:lnTo>
                          <a:pt x="312" y="727"/>
                        </a:lnTo>
                        <a:lnTo>
                          <a:pt x="308" y="729"/>
                        </a:lnTo>
                        <a:lnTo>
                          <a:pt x="299" y="731"/>
                        </a:lnTo>
                        <a:lnTo>
                          <a:pt x="294" y="731"/>
                        </a:lnTo>
                        <a:lnTo>
                          <a:pt x="288" y="733"/>
                        </a:lnTo>
                        <a:lnTo>
                          <a:pt x="283" y="733"/>
                        </a:lnTo>
                        <a:lnTo>
                          <a:pt x="281" y="735"/>
                        </a:lnTo>
                        <a:lnTo>
                          <a:pt x="281" y="735"/>
                        </a:lnTo>
                        <a:lnTo>
                          <a:pt x="281" y="733"/>
                        </a:lnTo>
                        <a:lnTo>
                          <a:pt x="279" y="727"/>
                        </a:lnTo>
                        <a:lnTo>
                          <a:pt x="277" y="724"/>
                        </a:lnTo>
                        <a:lnTo>
                          <a:pt x="275" y="720"/>
                        </a:lnTo>
                        <a:lnTo>
                          <a:pt x="275" y="713"/>
                        </a:lnTo>
                        <a:lnTo>
                          <a:pt x="272" y="709"/>
                        </a:lnTo>
                        <a:lnTo>
                          <a:pt x="270" y="702"/>
                        </a:lnTo>
                        <a:lnTo>
                          <a:pt x="268" y="696"/>
                        </a:lnTo>
                        <a:lnTo>
                          <a:pt x="266" y="689"/>
                        </a:lnTo>
                        <a:lnTo>
                          <a:pt x="264" y="680"/>
                        </a:lnTo>
                        <a:lnTo>
                          <a:pt x="261" y="672"/>
                        </a:lnTo>
                        <a:lnTo>
                          <a:pt x="259" y="663"/>
                        </a:lnTo>
                        <a:lnTo>
                          <a:pt x="257" y="654"/>
                        </a:lnTo>
                        <a:lnTo>
                          <a:pt x="255" y="647"/>
                        </a:lnTo>
                        <a:lnTo>
                          <a:pt x="250" y="641"/>
                        </a:lnTo>
                        <a:lnTo>
                          <a:pt x="250" y="636"/>
                        </a:lnTo>
                        <a:lnTo>
                          <a:pt x="248" y="632"/>
                        </a:lnTo>
                        <a:lnTo>
                          <a:pt x="248" y="626"/>
                        </a:lnTo>
                        <a:lnTo>
                          <a:pt x="244" y="621"/>
                        </a:lnTo>
                        <a:lnTo>
                          <a:pt x="244" y="617"/>
                        </a:lnTo>
                        <a:lnTo>
                          <a:pt x="242" y="612"/>
                        </a:lnTo>
                        <a:lnTo>
                          <a:pt x="242" y="608"/>
                        </a:lnTo>
                        <a:lnTo>
                          <a:pt x="237" y="601"/>
                        </a:lnTo>
                        <a:lnTo>
                          <a:pt x="237" y="597"/>
                        </a:lnTo>
                        <a:lnTo>
                          <a:pt x="235" y="593"/>
                        </a:lnTo>
                        <a:lnTo>
                          <a:pt x="233" y="588"/>
                        </a:lnTo>
                        <a:lnTo>
                          <a:pt x="233" y="582"/>
                        </a:lnTo>
                        <a:lnTo>
                          <a:pt x="231" y="577"/>
                        </a:lnTo>
                        <a:lnTo>
                          <a:pt x="228" y="573"/>
                        </a:lnTo>
                        <a:lnTo>
                          <a:pt x="228" y="568"/>
                        </a:lnTo>
                        <a:lnTo>
                          <a:pt x="226" y="562"/>
                        </a:lnTo>
                        <a:lnTo>
                          <a:pt x="224" y="557"/>
                        </a:lnTo>
                        <a:lnTo>
                          <a:pt x="222" y="553"/>
                        </a:lnTo>
                        <a:lnTo>
                          <a:pt x="222" y="549"/>
                        </a:lnTo>
                        <a:lnTo>
                          <a:pt x="220" y="542"/>
                        </a:lnTo>
                        <a:lnTo>
                          <a:pt x="217" y="538"/>
                        </a:lnTo>
                        <a:lnTo>
                          <a:pt x="215" y="533"/>
                        </a:lnTo>
                        <a:lnTo>
                          <a:pt x="215" y="529"/>
                        </a:lnTo>
                        <a:lnTo>
                          <a:pt x="213" y="524"/>
                        </a:lnTo>
                        <a:lnTo>
                          <a:pt x="211" y="520"/>
                        </a:lnTo>
                        <a:lnTo>
                          <a:pt x="209" y="516"/>
                        </a:lnTo>
                        <a:lnTo>
                          <a:pt x="209" y="511"/>
                        </a:lnTo>
                        <a:lnTo>
                          <a:pt x="206" y="503"/>
                        </a:lnTo>
                        <a:lnTo>
                          <a:pt x="202" y="496"/>
                        </a:lnTo>
                        <a:lnTo>
                          <a:pt x="198" y="487"/>
                        </a:lnTo>
                        <a:lnTo>
                          <a:pt x="195" y="478"/>
                        </a:lnTo>
                        <a:lnTo>
                          <a:pt x="191" y="470"/>
                        </a:lnTo>
                        <a:lnTo>
                          <a:pt x="189" y="461"/>
                        </a:lnTo>
                        <a:lnTo>
                          <a:pt x="184" y="452"/>
                        </a:lnTo>
                        <a:lnTo>
                          <a:pt x="182" y="445"/>
                        </a:lnTo>
                        <a:lnTo>
                          <a:pt x="178" y="437"/>
                        </a:lnTo>
                        <a:lnTo>
                          <a:pt x="176" y="428"/>
                        </a:lnTo>
                        <a:lnTo>
                          <a:pt x="171" y="419"/>
                        </a:lnTo>
                        <a:lnTo>
                          <a:pt x="167" y="410"/>
                        </a:lnTo>
                        <a:lnTo>
                          <a:pt x="165" y="402"/>
                        </a:lnTo>
                        <a:lnTo>
                          <a:pt x="160" y="393"/>
                        </a:lnTo>
                        <a:lnTo>
                          <a:pt x="158" y="384"/>
                        </a:lnTo>
                        <a:lnTo>
                          <a:pt x="154" y="375"/>
                        </a:lnTo>
                        <a:lnTo>
                          <a:pt x="152" y="369"/>
                        </a:lnTo>
                        <a:lnTo>
                          <a:pt x="149" y="360"/>
                        </a:lnTo>
                        <a:lnTo>
                          <a:pt x="145" y="351"/>
                        </a:lnTo>
                        <a:lnTo>
                          <a:pt x="141" y="344"/>
                        </a:lnTo>
                        <a:lnTo>
                          <a:pt x="138" y="336"/>
                        </a:lnTo>
                        <a:lnTo>
                          <a:pt x="136" y="329"/>
                        </a:lnTo>
                        <a:lnTo>
                          <a:pt x="132" y="320"/>
                        </a:lnTo>
                        <a:lnTo>
                          <a:pt x="130" y="314"/>
                        </a:lnTo>
                        <a:lnTo>
                          <a:pt x="127" y="307"/>
                        </a:lnTo>
                        <a:lnTo>
                          <a:pt x="125" y="300"/>
                        </a:lnTo>
                        <a:lnTo>
                          <a:pt x="121" y="294"/>
                        </a:lnTo>
                        <a:lnTo>
                          <a:pt x="119" y="287"/>
                        </a:lnTo>
                        <a:lnTo>
                          <a:pt x="116" y="283"/>
                        </a:lnTo>
                        <a:lnTo>
                          <a:pt x="114" y="279"/>
                        </a:lnTo>
                        <a:lnTo>
                          <a:pt x="112" y="272"/>
                        </a:lnTo>
                        <a:lnTo>
                          <a:pt x="110" y="268"/>
                        </a:lnTo>
                        <a:lnTo>
                          <a:pt x="108" y="263"/>
                        </a:lnTo>
                        <a:lnTo>
                          <a:pt x="108" y="261"/>
                        </a:lnTo>
                        <a:lnTo>
                          <a:pt x="105" y="257"/>
                        </a:lnTo>
                        <a:lnTo>
                          <a:pt x="103" y="252"/>
                        </a:lnTo>
                        <a:lnTo>
                          <a:pt x="101" y="248"/>
                        </a:lnTo>
                        <a:lnTo>
                          <a:pt x="99" y="243"/>
                        </a:lnTo>
                        <a:lnTo>
                          <a:pt x="97" y="237"/>
                        </a:lnTo>
                        <a:lnTo>
                          <a:pt x="92" y="232"/>
                        </a:lnTo>
                        <a:lnTo>
                          <a:pt x="90" y="226"/>
                        </a:lnTo>
                        <a:lnTo>
                          <a:pt x="90" y="221"/>
                        </a:lnTo>
                        <a:lnTo>
                          <a:pt x="86" y="215"/>
                        </a:lnTo>
                        <a:lnTo>
                          <a:pt x="83" y="206"/>
                        </a:lnTo>
                        <a:lnTo>
                          <a:pt x="79" y="199"/>
                        </a:lnTo>
                        <a:lnTo>
                          <a:pt x="77" y="193"/>
                        </a:lnTo>
                        <a:lnTo>
                          <a:pt x="75" y="186"/>
                        </a:lnTo>
                        <a:lnTo>
                          <a:pt x="72" y="180"/>
                        </a:lnTo>
                        <a:lnTo>
                          <a:pt x="68" y="173"/>
                        </a:lnTo>
                        <a:lnTo>
                          <a:pt x="66" y="167"/>
                        </a:lnTo>
                        <a:lnTo>
                          <a:pt x="64" y="160"/>
                        </a:lnTo>
                        <a:lnTo>
                          <a:pt x="61" y="153"/>
                        </a:lnTo>
                        <a:lnTo>
                          <a:pt x="59" y="147"/>
                        </a:lnTo>
                        <a:lnTo>
                          <a:pt x="55" y="140"/>
                        </a:lnTo>
                        <a:lnTo>
                          <a:pt x="53" y="136"/>
                        </a:lnTo>
                        <a:lnTo>
                          <a:pt x="50" y="129"/>
                        </a:lnTo>
                        <a:lnTo>
                          <a:pt x="48" y="125"/>
                        </a:lnTo>
                        <a:lnTo>
                          <a:pt x="48" y="120"/>
                        </a:lnTo>
                        <a:lnTo>
                          <a:pt x="44" y="112"/>
                        </a:lnTo>
                        <a:lnTo>
                          <a:pt x="42" y="105"/>
                        </a:lnTo>
                        <a:lnTo>
                          <a:pt x="42" y="103"/>
                        </a:lnTo>
                        <a:lnTo>
                          <a:pt x="42" y="101"/>
                        </a:lnTo>
                        <a:lnTo>
                          <a:pt x="42" y="101"/>
                        </a:lnTo>
                        <a:lnTo>
                          <a:pt x="46" y="98"/>
                        </a:lnTo>
                        <a:lnTo>
                          <a:pt x="48" y="98"/>
                        </a:lnTo>
                        <a:lnTo>
                          <a:pt x="53" y="98"/>
                        </a:lnTo>
                        <a:lnTo>
                          <a:pt x="57" y="96"/>
                        </a:lnTo>
                        <a:lnTo>
                          <a:pt x="61" y="96"/>
                        </a:lnTo>
                        <a:lnTo>
                          <a:pt x="68" y="94"/>
                        </a:lnTo>
                        <a:lnTo>
                          <a:pt x="72" y="94"/>
                        </a:lnTo>
                        <a:lnTo>
                          <a:pt x="79" y="92"/>
                        </a:lnTo>
                        <a:lnTo>
                          <a:pt x="86" y="92"/>
                        </a:lnTo>
                        <a:lnTo>
                          <a:pt x="92" y="90"/>
                        </a:lnTo>
                        <a:lnTo>
                          <a:pt x="101" y="87"/>
                        </a:lnTo>
                        <a:lnTo>
                          <a:pt x="108" y="87"/>
                        </a:lnTo>
                        <a:lnTo>
                          <a:pt x="114" y="87"/>
                        </a:lnTo>
                        <a:lnTo>
                          <a:pt x="121" y="83"/>
                        </a:lnTo>
                        <a:lnTo>
                          <a:pt x="130" y="83"/>
                        </a:lnTo>
                        <a:lnTo>
                          <a:pt x="136" y="81"/>
                        </a:lnTo>
                        <a:lnTo>
                          <a:pt x="145" y="81"/>
                        </a:lnTo>
                        <a:lnTo>
                          <a:pt x="152" y="79"/>
                        </a:lnTo>
                        <a:lnTo>
                          <a:pt x="158" y="76"/>
                        </a:lnTo>
                        <a:lnTo>
                          <a:pt x="167" y="74"/>
                        </a:lnTo>
                        <a:lnTo>
                          <a:pt x="173" y="74"/>
                        </a:lnTo>
                        <a:lnTo>
                          <a:pt x="180" y="72"/>
                        </a:lnTo>
                        <a:lnTo>
                          <a:pt x="187" y="72"/>
                        </a:lnTo>
                        <a:lnTo>
                          <a:pt x="191" y="70"/>
                        </a:lnTo>
                        <a:lnTo>
                          <a:pt x="198" y="70"/>
                        </a:lnTo>
                        <a:lnTo>
                          <a:pt x="204" y="68"/>
                        </a:lnTo>
                        <a:lnTo>
                          <a:pt x="209" y="66"/>
                        </a:lnTo>
                        <a:lnTo>
                          <a:pt x="213" y="66"/>
                        </a:lnTo>
                        <a:lnTo>
                          <a:pt x="217" y="66"/>
                        </a:lnTo>
                        <a:lnTo>
                          <a:pt x="415" y="26"/>
                        </a:lnTo>
                        <a:lnTo>
                          <a:pt x="409" y="0"/>
                        </a:lnTo>
                        <a:lnTo>
                          <a:pt x="4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Freeform 734"/>
                  <p:cNvSpPr/>
                  <p:nvPr/>
                </p:nvSpPr>
                <p:spPr>
                  <a:xfrm>
                    <a:off x="780120" y="5612760"/>
                    <a:ext cx="305280" cy="150120"/>
                  </a:xfrm>
                  <a:custGeom>
                    <a:avLst/>
                    <a:gdLst>
                      <a:gd name="textAreaLeft" fmla="*/ 0 w 305280"/>
                      <a:gd name="textAreaRight" fmla="*/ 305640 w 305280"/>
                      <a:gd name="textAreaTop" fmla="*/ 0 h 150120"/>
                      <a:gd name="textAreaBottom" fmla="*/ 150480 h 150120"/>
                    </a:gdLst>
                    <a:ahLst/>
                    <a:rect l="textAreaLeft" t="textAreaTop" r="textAreaRight" b="textAreaBottom"/>
                    <a:pathLst>
                      <a:path w="429" h="206">
                        <a:moveTo>
                          <a:pt x="9" y="46"/>
                        </a:moveTo>
                        <a:lnTo>
                          <a:pt x="79" y="169"/>
                        </a:lnTo>
                        <a:lnTo>
                          <a:pt x="165" y="15"/>
                        </a:lnTo>
                        <a:lnTo>
                          <a:pt x="266" y="138"/>
                        </a:lnTo>
                        <a:lnTo>
                          <a:pt x="337" y="0"/>
                        </a:lnTo>
                        <a:lnTo>
                          <a:pt x="337" y="2"/>
                        </a:lnTo>
                        <a:lnTo>
                          <a:pt x="341" y="6"/>
                        </a:lnTo>
                        <a:lnTo>
                          <a:pt x="343" y="8"/>
                        </a:lnTo>
                        <a:lnTo>
                          <a:pt x="345" y="11"/>
                        </a:lnTo>
                        <a:lnTo>
                          <a:pt x="348" y="15"/>
                        </a:lnTo>
                        <a:lnTo>
                          <a:pt x="352" y="22"/>
                        </a:lnTo>
                        <a:lnTo>
                          <a:pt x="354" y="24"/>
                        </a:lnTo>
                        <a:lnTo>
                          <a:pt x="358" y="30"/>
                        </a:lnTo>
                        <a:lnTo>
                          <a:pt x="363" y="35"/>
                        </a:lnTo>
                        <a:lnTo>
                          <a:pt x="367" y="41"/>
                        </a:lnTo>
                        <a:lnTo>
                          <a:pt x="372" y="48"/>
                        </a:lnTo>
                        <a:lnTo>
                          <a:pt x="378" y="55"/>
                        </a:lnTo>
                        <a:lnTo>
                          <a:pt x="383" y="59"/>
                        </a:lnTo>
                        <a:lnTo>
                          <a:pt x="387" y="68"/>
                        </a:lnTo>
                        <a:lnTo>
                          <a:pt x="391" y="72"/>
                        </a:lnTo>
                        <a:lnTo>
                          <a:pt x="396" y="79"/>
                        </a:lnTo>
                        <a:lnTo>
                          <a:pt x="400" y="83"/>
                        </a:lnTo>
                        <a:lnTo>
                          <a:pt x="405" y="92"/>
                        </a:lnTo>
                        <a:lnTo>
                          <a:pt x="409" y="96"/>
                        </a:lnTo>
                        <a:lnTo>
                          <a:pt x="411" y="101"/>
                        </a:lnTo>
                        <a:lnTo>
                          <a:pt x="416" y="107"/>
                        </a:lnTo>
                        <a:lnTo>
                          <a:pt x="420" y="112"/>
                        </a:lnTo>
                        <a:lnTo>
                          <a:pt x="422" y="116"/>
                        </a:lnTo>
                        <a:lnTo>
                          <a:pt x="424" y="120"/>
                        </a:lnTo>
                        <a:lnTo>
                          <a:pt x="427" y="125"/>
                        </a:lnTo>
                        <a:lnTo>
                          <a:pt x="427" y="129"/>
                        </a:lnTo>
                        <a:lnTo>
                          <a:pt x="429" y="134"/>
                        </a:lnTo>
                        <a:lnTo>
                          <a:pt x="429" y="136"/>
                        </a:lnTo>
                        <a:lnTo>
                          <a:pt x="424" y="136"/>
                        </a:lnTo>
                        <a:lnTo>
                          <a:pt x="420" y="138"/>
                        </a:lnTo>
                        <a:lnTo>
                          <a:pt x="413" y="138"/>
                        </a:lnTo>
                        <a:lnTo>
                          <a:pt x="405" y="140"/>
                        </a:lnTo>
                        <a:lnTo>
                          <a:pt x="400" y="140"/>
                        </a:lnTo>
                        <a:lnTo>
                          <a:pt x="394" y="142"/>
                        </a:lnTo>
                        <a:lnTo>
                          <a:pt x="389" y="145"/>
                        </a:lnTo>
                        <a:lnTo>
                          <a:pt x="383" y="145"/>
                        </a:lnTo>
                        <a:lnTo>
                          <a:pt x="376" y="147"/>
                        </a:lnTo>
                        <a:lnTo>
                          <a:pt x="369" y="147"/>
                        </a:lnTo>
                        <a:lnTo>
                          <a:pt x="361" y="149"/>
                        </a:lnTo>
                        <a:lnTo>
                          <a:pt x="354" y="151"/>
                        </a:lnTo>
                        <a:lnTo>
                          <a:pt x="348" y="151"/>
                        </a:lnTo>
                        <a:lnTo>
                          <a:pt x="339" y="153"/>
                        </a:lnTo>
                        <a:lnTo>
                          <a:pt x="330" y="156"/>
                        </a:lnTo>
                        <a:lnTo>
                          <a:pt x="321" y="158"/>
                        </a:lnTo>
                        <a:lnTo>
                          <a:pt x="312" y="158"/>
                        </a:lnTo>
                        <a:lnTo>
                          <a:pt x="304" y="160"/>
                        </a:lnTo>
                        <a:lnTo>
                          <a:pt x="295" y="162"/>
                        </a:lnTo>
                        <a:lnTo>
                          <a:pt x="286" y="164"/>
                        </a:lnTo>
                        <a:lnTo>
                          <a:pt x="275" y="164"/>
                        </a:lnTo>
                        <a:lnTo>
                          <a:pt x="266" y="167"/>
                        </a:lnTo>
                        <a:lnTo>
                          <a:pt x="255" y="169"/>
                        </a:lnTo>
                        <a:lnTo>
                          <a:pt x="246" y="171"/>
                        </a:lnTo>
                        <a:lnTo>
                          <a:pt x="235" y="173"/>
                        </a:lnTo>
                        <a:lnTo>
                          <a:pt x="227" y="175"/>
                        </a:lnTo>
                        <a:lnTo>
                          <a:pt x="218" y="175"/>
                        </a:lnTo>
                        <a:lnTo>
                          <a:pt x="207" y="180"/>
                        </a:lnTo>
                        <a:lnTo>
                          <a:pt x="198" y="180"/>
                        </a:lnTo>
                        <a:lnTo>
                          <a:pt x="187" y="182"/>
                        </a:lnTo>
                        <a:lnTo>
                          <a:pt x="178" y="182"/>
                        </a:lnTo>
                        <a:lnTo>
                          <a:pt x="167" y="184"/>
                        </a:lnTo>
                        <a:lnTo>
                          <a:pt x="159" y="186"/>
                        </a:lnTo>
                        <a:lnTo>
                          <a:pt x="148" y="189"/>
                        </a:lnTo>
                        <a:lnTo>
                          <a:pt x="139" y="189"/>
                        </a:lnTo>
                        <a:lnTo>
                          <a:pt x="130" y="191"/>
                        </a:lnTo>
                        <a:lnTo>
                          <a:pt x="119" y="193"/>
                        </a:lnTo>
                        <a:lnTo>
                          <a:pt x="112" y="193"/>
                        </a:lnTo>
                        <a:lnTo>
                          <a:pt x="101" y="195"/>
                        </a:lnTo>
                        <a:lnTo>
                          <a:pt x="95" y="197"/>
                        </a:lnTo>
                        <a:lnTo>
                          <a:pt x="86" y="197"/>
                        </a:lnTo>
                        <a:lnTo>
                          <a:pt x="77" y="200"/>
                        </a:lnTo>
                        <a:lnTo>
                          <a:pt x="71" y="200"/>
                        </a:lnTo>
                        <a:lnTo>
                          <a:pt x="64" y="202"/>
                        </a:lnTo>
                        <a:lnTo>
                          <a:pt x="55" y="202"/>
                        </a:lnTo>
                        <a:lnTo>
                          <a:pt x="49" y="202"/>
                        </a:lnTo>
                        <a:lnTo>
                          <a:pt x="42" y="204"/>
                        </a:lnTo>
                        <a:lnTo>
                          <a:pt x="38" y="204"/>
                        </a:lnTo>
                        <a:lnTo>
                          <a:pt x="31" y="204"/>
                        </a:lnTo>
                        <a:lnTo>
                          <a:pt x="25" y="204"/>
                        </a:lnTo>
                        <a:lnTo>
                          <a:pt x="20" y="206"/>
                        </a:lnTo>
                        <a:lnTo>
                          <a:pt x="18" y="206"/>
                        </a:lnTo>
                        <a:lnTo>
                          <a:pt x="9" y="206"/>
                        </a:lnTo>
                        <a:lnTo>
                          <a:pt x="3" y="206"/>
                        </a:lnTo>
                        <a:lnTo>
                          <a:pt x="0" y="206"/>
                        </a:lnTo>
                        <a:lnTo>
                          <a:pt x="0" y="200"/>
                        </a:lnTo>
                        <a:lnTo>
                          <a:pt x="0" y="193"/>
                        </a:lnTo>
                        <a:lnTo>
                          <a:pt x="0" y="189"/>
                        </a:lnTo>
                        <a:lnTo>
                          <a:pt x="0" y="184"/>
                        </a:lnTo>
                        <a:lnTo>
                          <a:pt x="0" y="180"/>
                        </a:lnTo>
                        <a:lnTo>
                          <a:pt x="3" y="173"/>
                        </a:lnTo>
                        <a:lnTo>
                          <a:pt x="3" y="167"/>
                        </a:lnTo>
                        <a:lnTo>
                          <a:pt x="3" y="160"/>
                        </a:lnTo>
                        <a:lnTo>
                          <a:pt x="3" y="153"/>
                        </a:lnTo>
                        <a:lnTo>
                          <a:pt x="3" y="147"/>
                        </a:lnTo>
                        <a:lnTo>
                          <a:pt x="3" y="140"/>
                        </a:lnTo>
                        <a:lnTo>
                          <a:pt x="3" y="134"/>
                        </a:lnTo>
                        <a:lnTo>
                          <a:pt x="5" y="127"/>
                        </a:lnTo>
                        <a:lnTo>
                          <a:pt x="5" y="120"/>
                        </a:lnTo>
                        <a:lnTo>
                          <a:pt x="5" y="112"/>
                        </a:lnTo>
                        <a:lnTo>
                          <a:pt x="5" y="105"/>
                        </a:lnTo>
                        <a:lnTo>
                          <a:pt x="5" y="99"/>
                        </a:lnTo>
                        <a:lnTo>
                          <a:pt x="7" y="92"/>
                        </a:lnTo>
                        <a:lnTo>
                          <a:pt x="7" y="83"/>
                        </a:lnTo>
                        <a:lnTo>
                          <a:pt x="7" y="77"/>
                        </a:lnTo>
                        <a:lnTo>
                          <a:pt x="7" y="72"/>
                        </a:lnTo>
                        <a:lnTo>
                          <a:pt x="7" y="68"/>
                        </a:lnTo>
                        <a:lnTo>
                          <a:pt x="7" y="61"/>
                        </a:lnTo>
                        <a:lnTo>
                          <a:pt x="7" y="57"/>
                        </a:lnTo>
                        <a:lnTo>
                          <a:pt x="7" y="52"/>
                        </a:lnTo>
                        <a:lnTo>
                          <a:pt x="9" y="50"/>
                        </a:lnTo>
                        <a:lnTo>
                          <a:pt x="9" y="46"/>
                        </a:lnTo>
                        <a:lnTo>
                          <a:pt x="9" y="46"/>
                        </a:lnTo>
                        <a:lnTo>
                          <a:pt x="9" y="4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735"/>
                  <p:cNvSpPr/>
                  <p:nvPr/>
                </p:nvSpPr>
                <p:spPr>
                  <a:xfrm>
                    <a:off x="756720" y="5070240"/>
                    <a:ext cx="125280" cy="708840"/>
                  </a:xfrm>
                  <a:custGeom>
                    <a:avLst/>
                    <a:gdLst>
                      <a:gd name="textAreaLeft" fmla="*/ 0 w 125280"/>
                      <a:gd name="textAreaRight" fmla="*/ 125640 w 125280"/>
                      <a:gd name="textAreaTop" fmla="*/ 0 h 708840"/>
                      <a:gd name="textAreaBottom" fmla="*/ 709200 h 708840"/>
                    </a:gdLst>
                    <a:ahLst/>
                    <a:rect l="textAreaLeft" t="textAreaTop" r="textAreaRight" b="textAreaBottom"/>
                    <a:pathLst>
                      <a:path w="176" h="971">
                        <a:moveTo>
                          <a:pt x="176" y="7"/>
                        </a:moveTo>
                        <a:lnTo>
                          <a:pt x="174" y="9"/>
                        </a:lnTo>
                        <a:lnTo>
                          <a:pt x="174" y="14"/>
                        </a:lnTo>
                        <a:lnTo>
                          <a:pt x="170" y="20"/>
                        </a:lnTo>
                        <a:lnTo>
                          <a:pt x="167" y="27"/>
                        </a:lnTo>
                        <a:lnTo>
                          <a:pt x="165" y="31"/>
                        </a:lnTo>
                        <a:lnTo>
                          <a:pt x="165" y="36"/>
                        </a:lnTo>
                        <a:lnTo>
                          <a:pt x="163" y="40"/>
                        </a:lnTo>
                        <a:lnTo>
                          <a:pt x="161" y="44"/>
                        </a:lnTo>
                        <a:lnTo>
                          <a:pt x="159" y="49"/>
                        </a:lnTo>
                        <a:lnTo>
                          <a:pt x="159" y="55"/>
                        </a:lnTo>
                        <a:lnTo>
                          <a:pt x="156" y="60"/>
                        </a:lnTo>
                        <a:lnTo>
                          <a:pt x="154" y="66"/>
                        </a:lnTo>
                        <a:lnTo>
                          <a:pt x="152" y="73"/>
                        </a:lnTo>
                        <a:lnTo>
                          <a:pt x="150" y="79"/>
                        </a:lnTo>
                        <a:lnTo>
                          <a:pt x="148" y="86"/>
                        </a:lnTo>
                        <a:lnTo>
                          <a:pt x="145" y="95"/>
                        </a:lnTo>
                        <a:lnTo>
                          <a:pt x="143" y="101"/>
                        </a:lnTo>
                        <a:lnTo>
                          <a:pt x="141" y="108"/>
                        </a:lnTo>
                        <a:lnTo>
                          <a:pt x="139" y="117"/>
                        </a:lnTo>
                        <a:lnTo>
                          <a:pt x="137" y="123"/>
                        </a:lnTo>
                        <a:lnTo>
                          <a:pt x="134" y="132"/>
                        </a:lnTo>
                        <a:lnTo>
                          <a:pt x="130" y="139"/>
                        </a:lnTo>
                        <a:lnTo>
                          <a:pt x="128" y="148"/>
                        </a:lnTo>
                        <a:lnTo>
                          <a:pt x="126" y="156"/>
                        </a:lnTo>
                        <a:lnTo>
                          <a:pt x="123" y="165"/>
                        </a:lnTo>
                        <a:lnTo>
                          <a:pt x="121" y="174"/>
                        </a:lnTo>
                        <a:lnTo>
                          <a:pt x="119" y="183"/>
                        </a:lnTo>
                        <a:lnTo>
                          <a:pt x="117" y="194"/>
                        </a:lnTo>
                        <a:lnTo>
                          <a:pt x="112" y="200"/>
                        </a:lnTo>
                        <a:lnTo>
                          <a:pt x="110" y="211"/>
                        </a:lnTo>
                        <a:lnTo>
                          <a:pt x="108" y="218"/>
                        </a:lnTo>
                        <a:lnTo>
                          <a:pt x="106" y="229"/>
                        </a:lnTo>
                        <a:lnTo>
                          <a:pt x="104" y="238"/>
                        </a:lnTo>
                        <a:lnTo>
                          <a:pt x="99" y="246"/>
                        </a:lnTo>
                        <a:lnTo>
                          <a:pt x="97" y="257"/>
                        </a:lnTo>
                        <a:lnTo>
                          <a:pt x="95" y="268"/>
                        </a:lnTo>
                        <a:lnTo>
                          <a:pt x="93" y="277"/>
                        </a:lnTo>
                        <a:lnTo>
                          <a:pt x="90" y="286"/>
                        </a:lnTo>
                        <a:lnTo>
                          <a:pt x="88" y="295"/>
                        </a:lnTo>
                        <a:lnTo>
                          <a:pt x="86" y="306"/>
                        </a:lnTo>
                        <a:lnTo>
                          <a:pt x="82" y="314"/>
                        </a:lnTo>
                        <a:lnTo>
                          <a:pt x="82" y="323"/>
                        </a:lnTo>
                        <a:lnTo>
                          <a:pt x="77" y="334"/>
                        </a:lnTo>
                        <a:lnTo>
                          <a:pt x="77" y="345"/>
                        </a:lnTo>
                        <a:lnTo>
                          <a:pt x="75" y="352"/>
                        </a:lnTo>
                        <a:lnTo>
                          <a:pt x="73" y="363"/>
                        </a:lnTo>
                        <a:lnTo>
                          <a:pt x="69" y="372"/>
                        </a:lnTo>
                        <a:lnTo>
                          <a:pt x="69" y="380"/>
                        </a:lnTo>
                        <a:lnTo>
                          <a:pt x="64" y="389"/>
                        </a:lnTo>
                        <a:lnTo>
                          <a:pt x="64" y="400"/>
                        </a:lnTo>
                        <a:lnTo>
                          <a:pt x="62" y="409"/>
                        </a:lnTo>
                        <a:lnTo>
                          <a:pt x="62" y="418"/>
                        </a:lnTo>
                        <a:lnTo>
                          <a:pt x="58" y="426"/>
                        </a:lnTo>
                        <a:lnTo>
                          <a:pt x="58" y="435"/>
                        </a:lnTo>
                        <a:lnTo>
                          <a:pt x="55" y="444"/>
                        </a:lnTo>
                        <a:lnTo>
                          <a:pt x="55" y="453"/>
                        </a:lnTo>
                        <a:lnTo>
                          <a:pt x="53" y="459"/>
                        </a:lnTo>
                        <a:lnTo>
                          <a:pt x="53" y="468"/>
                        </a:lnTo>
                        <a:lnTo>
                          <a:pt x="51" y="475"/>
                        </a:lnTo>
                        <a:lnTo>
                          <a:pt x="51" y="484"/>
                        </a:lnTo>
                        <a:lnTo>
                          <a:pt x="51" y="490"/>
                        </a:lnTo>
                        <a:lnTo>
                          <a:pt x="49" y="499"/>
                        </a:lnTo>
                        <a:lnTo>
                          <a:pt x="47" y="508"/>
                        </a:lnTo>
                        <a:lnTo>
                          <a:pt x="47" y="514"/>
                        </a:lnTo>
                        <a:lnTo>
                          <a:pt x="47" y="523"/>
                        </a:lnTo>
                        <a:lnTo>
                          <a:pt x="47" y="532"/>
                        </a:lnTo>
                        <a:lnTo>
                          <a:pt x="44" y="541"/>
                        </a:lnTo>
                        <a:lnTo>
                          <a:pt x="44" y="549"/>
                        </a:lnTo>
                        <a:lnTo>
                          <a:pt x="44" y="558"/>
                        </a:lnTo>
                        <a:lnTo>
                          <a:pt x="44" y="567"/>
                        </a:lnTo>
                        <a:lnTo>
                          <a:pt x="44" y="576"/>
                        </a:lnTo>
                        <a:lnTo>
                          <a:pt x="44" y="587"/>
                        </a:lnTo>
                        <a:lnTo>
                          <a:pt x="44" y="596"/>
                        </a:lnTo>
                        <a:lnTo>
                          <a:pt x="44" y="604"/>
                        </a:lnTo>
                        <a:lnTo>
                          <a:pt x="44" y="615"/>
                        </a:lnTo>
                        <a:lnTo>
                          <a:pt x="44" y="626"/>
                        </a:lnTo>
                        <a:lnTo>
                          <a:pt x="44" y="635"/>
                        </a:lnTo>
                        <a:lnTo>
                          <a:pt x="44" y="644"/>
                        </a:lnTo>
                        <a:lnTo>
                          <a:pt x="44" y="655"/>
                        </a:lnTo>
                        <a:lnTo>
                          <a:pt x="44" y="666"/>
                        </a:lnTo>
                        <a:lnTo>
                          <a:pt x="44" y="675"/>
                        </a:lnTo>
                        <a:lnTo>
                          <a:pt x="44" y="686"/>
                        </a:lnTo>
                        <a:lnTo>
                          <a:pt x="44" y="694"/>
                        </a:lnTo>
                        <a:lnTo>
                          <a:pt x="44" y="705"/>
                        </a:lnTo>
                        <a:lnTo>
                          <a:pt x="44" y="714"/>
                        </a:lnTo>
                        <a:lnTo>
                          <a:pt x="44" y="725"/>
                        </a:lnTo>
                        <a:lnTo>
                          <a:pt x="44" y="734"/>
                        </a:lnTo>
                        <a:lnTo>
                          <a:pt x="47" y="743"/>
                        </a:lnTo>
                        <a:lnTo>
                          <a:pt x="47" y="754"/>
                        </a:lnTo>
                        <a:lnTo>
                          <a:pt x="47" y="762"/>
                        </a:lnTo>
                        <a:lnTo>
                          <a:pt x="47" y="773"/>
                        </a:lnTo>
                        <a:lnTo>
                          <a:pt x="49" y="782"/>
                        </a:lnTo>
                        <a:lnTo>
                          <a:pt x="49" y="791"/>
                        </a:lnTo>
                        <a:lnTo>
                          <a:pt x="49" y="800"/>
                        </a:lnTo>
                        <a:lnTo>
                          <a:pt x="49" y="809"/>
                        </a:lnTo>
                        <a:lnTo>
                          <a:pt x="51" y="817"/>
                        </a:lnTo>
                        <a:lnTo>
                          <a:pt x="51" y="826"/>
                        </a:lnTo>
                        <a:lnTo>
                          <a:pt x="51" y="835"/>
                        </a:lnTo>
                        <a:lnTo>
                          <a:pt x="51" y="844"/>
                        </a:lnTo>
                        <a:lnTo>
                          <a:pt x="53" y="852"/>
                        </a:lnTo>
                        <a:lnTo>
                          <a:pt x="53" y="859"/>
                        </a:lnTo>
                        <a:lnTo>
                          <a:pt x="53" y="868"/>
                        </a:lnTo>
                        <a:lnTo>
                          <a:pt x="53" y="874"/>
                        </a:lnTo>
                        <a:lnTo>
                          <a:pt x="53" y="883"/>
                        </a:lnTo>
                        <a:lnTo>
                          <a:pt x="53" y="890"/>
                        </a:lnTo>
                        <a:lnTo>
                          <a:pt x="55" y="896"/>
                        </a:lnTo>
                        <a:lnTo>
                          <a:pt x="55" y="903"/>
                        </a:lnTo>
                        <a:lnTo>
                          <a:pt x="58" y="910"/>
                        </a:lnTo>
                        <a:lnTo>
                          <a:pt x="58" y="916"/>
                        </a:lnTo>
                        <a:lnTo>
                          <a:pt x="58" y="921"/>
                        </a:lnTo>
                        <a:lnTo>
                          <a:pt x="58" y="925"/>
                        </a:lnTo>
                        <a:lnTo>
                          <a:pt x="58" y="932"/>
                        </a:lnTo>
                        <a:lnTo>
                          <a:pt x="58" y="940"/>
                        </a:lnTo>
                        <a:lnTo>
                          <a:pt x="60" y="949"/>
                        </a:lnTo>
                        <a:lnTo>
                          <a:pt x="60" y="954"/>
                        </a:lnTo>
                        <a:lnTo>
                          <a:pt x="62" y="958"/>
                        </a:lnTo>
                        <a:lnTo>
                          <a:pt x="62" y="960"/>
                        </a:lnTo>
                        <a:lnTo>
                          <a:pt x="62" y="962"/>
                        </a:lnTo>
                        <a:lnTo>
                          <a:pt x="29" y="971"/>
                        </a:lnTo>
                        <a:lnTo>
                          <a:pt x="29" y="967"/>
                        </a:lnTo>
                        <a:lnTo>
                          <a:pt x="29" y="962"/>
                        </a:lnTo>
                        <a:lnTo>
                          <a:pt x="27" y="958"/>
                        </a:lnTo>
                        <a:lnTo>
                          <a:pt x="27" y="951"/>
                        </a:lnTo>
                        <a:lnTo>
                          <a:pt x="25" y="947"/>
                        </a:lnTo>
                        <a:lnTo>
                          <a:pt x="25" y="940"/>
                        </a:lnTo>
                        <a:lnTo>
                          <a:pt x="22" y="932"/>
                        </a:lnTo>
                        <a:lnTo>
                          <a:pt x="20" y="925"/>
                        </a:lnTo>
                        <a:lnTo>
                          <a:pt x="20" y="918"/>
                        </a:lnTo>
                        <a:lnTo>
                          <a:pt x="20" y="916"/>
                        </a:lnTo>
                        <a:lnTo>
                          <a:pt x="18" y="910"/>
                        </a:lnTo>
                        <a:lnTo>
                          <a:pt x="18" y="905"/>
                        </a:lnTo>
                        <a:lnTo>
                          <a:pt x="18" y="901"/>
                        </a:lnTo>
                        <a:lnTo>
                          <a:pt x="16" y="894"/>
                        </a:lnTo>
                        <a:lnTo>
                          <a:pt x="16" y="890"/>
                        </a:lnTo>
                        <a:lnTo>
                          <a:pt x="16" y="883"/>
                        </a:lnTo>
                        <a:lnTo>
                          <a:pt x="16" y="879"/>
                        </a:lnTo>
                        <a:lnTo>
                          <a:pt x="14" y="872"/>
                        </a:lnTo>
                        <a:lnTo>
                          <a:pt x="14" y="866"/>
                        </a:lnTo>
                        <a:lnTo>
                          <a:pt x="14" y="861"/>
                        </a:lnTo>
                        <a:lnTo>
                          <a:pt x="11" y="852"/>
                        </a:lnTo>
                        <a:lnTo>
                          <a:pt x="11" y="846"/>
                        </a:lnTo>
                        <a:lnTo>
                          <a:pt x="9" y="839"/>
                        </a:lnTo>
                        <a:lnTo>
                          <a:pt x="9" y="833"/>
                        </a:lnTo>
                        <a:lnTo>
                          <a:pt x="9" y="826"/>
                        </a:lnTo>
                        <a:lnTo>
                          <a:pt x="9" y="820"/>
                        </a:lnTo>
                        <a:lnTo>
                          <a:pt x="7" y="811"/>
                        </a:lnTo>
                        <a:lnTo>
                          <a:pt x="7" y="804"/>
                        </a:lnTo>
                        <a:lnTo>
                          <a:pt x="7" y="795"/>
                        </a:lnTo>
                        <a:lnTo>
                          <a:pt x="5" y="789"/>
                        </a:lnTo>
                        <a:lnTo>
                          <a:pt x="5" y="782"/>
                        </a:lnTo>
                        <a:lnTo>
                          <a:pt x="5" y="773"/>
                        </a:lnTo>
                        <a:lnTo>
                          <a:pt x="5" y="765"/>
                        </a:lnTo>
                        <a:lnTo>
                          <a:pt x="3" y="758"/>
                        </a:lnTo>
                        <a:lnTo>
                          <a:pt x="3" y="749"/>
                        </a:lnTo>
                        <a:lnTo>
                          <a:pt x="3" y="743"/>
                        </a:lnTo>
                        <a:lnTo>
                          <a:pt x="3" y="732"/>
                        </a:lnTo>
                        <a:lnTo>
                          <a:pt x="3" y="725"/>
                        </a:lnTo>
                        <a:lnTo>
                          <a:pt x="0" y="714"/>
                        </a:lnTo>
                        <a:lnTo>
                          <a:pt x="0" y="708"/>
                        </a:lnTo>
                        <a:lnTo>
                          <a:pt x="0" y="697"/>
                        </a:lnTo>
                        <a:lnTo>
                          <a:pt x="0" y="690"/>
                        </a:lnTo>
                        <a:lnTo>
                          <a:pt x="0" y="679"/>
                        </a:lnTo>
                        <a:lnTo>
                          <a:pt x="0" y="672"/>
                        </a:lnTo>
                        <a:lnTo>
                          <a:pt x="0" y="661"/>
                        </a:lnTo>
                        <a:lnTo>
                          <a:pt x="0" y="653"/>
                        </a:lnTo>
                        <a:lnTo>
                          <a:pt x="0" y="644"/>
                        </a:lnTo>
                        <a:lnTo>
                          <a:pt x="0" y="633"/>
                        </a:lnTo>
                        <a:lnTo>
                          <a:pt x="0" y="624"/>
                        </a:lnTo>
                        <a:lnTo>
                          <a:pt x="0" y="615"/>
                        </a:lnTo>
                        <a:lnTo>
                          <a:pt x="0" y="607"/>
                        </a:lnTo>
                        <a:lnTo>
                          <a:pt x="3" y="598"/>
                        </a:lnTo>
                        <a:lnTo>
                          <a:pt x="3" y="587"/>
                        </a:lnTo>
                        <a:lnTo>
                          <a:pt x="3" y="578"/>
                        </a:lnTo>
                        <a:lnTo>
                          <a:pt x="3" y="567"/>
                        </a:lnTo>
                        <a:lnTo>
                          <a:pt x="5" y="556"/>
                        </a:lnTo>
                        <a:lnTo>
                          <a:pt x="5" y="545"/>
                        </a:lnTo>
                        <a:lnTo>
                          <a:pt x="5" y="536"/>
                        </a:lnTo>
                        <a:lnTo>
                          <a:pt x="5" y="525"/>
                        </a:lnTo>
                        <a:lnTo>
                          <a:pt x="7" y="517"/>
                        </a:lnTo>
                        <a:lnTo>
                          <a:pt x="9" y="506"/>
                        </a:lnTo>
                        <a:lnTo>
                          <a:pt x="9" y="495"/>
                        </a:lnTo>
                        <a:lnTo>
                          <a:pt x="11" y="484"/>
                        </a:lnTo>
                        <a:lnTo>
                          <a:pt x="11" y="475"/>
                        </a:lnTo>
                        <a:lnTo>
                          <a:pt x="14" y="464"/>
                        </a:lnTo>
                        <a:lnTo>
                          <a:pt x="16" y="453"/>
                        </a:lnTo>
                        <a:lnTo>
                          <a:pt x="16" y="444"/>
                        </a:lnTo>
                        <a:lnTo>
                          <a:pt x="20" y="433"/>
                        </a:lnTo>
                        <a:lnTo>
                          <a:pt x="20" y="422"/>
                        </a:lnTo>
                        <a:lnTo>
                          <a:pt x="22" y="411"/>
                        </a:lnTo>
                        <a:lnTo>
                          <a:pt x="22" y="400"/>
                        </a:lnTo>
                        <a:lnTo>
                          <a:pt x="27" y="391"/>
                        </a:lnTo>
                        <a:lnTo>
                          <a:pt x="27" y="380"/>
                        </a:lnTo>
                        <a:lnTo>
                          <a:pt x="29" y="369"/>
                        </a:lnTo>
                        <a:lnTo>
                          <a:pt x="31" y="358"/>
                        </a:lnTo>
                        <a:lnTo>
                          <a:pt x="33" y="350"/>
                        </a:lnTo>
                        <a:lnTo>
                          <a:pt x="36" y="339"/>
                        </a:lnTo>
                        <a:lnTo>
                          <a:pt x="38" y="330"/>
                        </a:lnTo>
                        <a:lnTo>
                          <a:pt x="40" y="319"/>
                        </a:lnTo>
                        <a:lnTo>
                          <a:pt x="42" y="310"/>
                        </a:lnTo>
                        <a:lnTo>
                          <a:pt x="44" y="299"/>
                        </a:lnTo>
                        <a:lnTo>
                          <a:pt x="47" y="290"/>
                        </a:lnTo>
                        <a:lnTo>
                          <a:pt x="49" y="282"/>
                        </a:lnTo>
                        <a:lnTo>
                          <a:pt x="51" y="271"/>
                        </a:lnTo>
                        <a:lnTo>
                          <a:pt x="53" y="262"/>
                        </a:lnTo>
                        <a:lnTo>
                          <a:pt x="55" y="251"/>
                        </a:lnTo>
                        <a:lnTo>
                          <a:pt x="58" y="242"/>
                        </a:lnTo>
                        <a:lnTo>
                          <a:pt x="60" y="233"/>
                        </a:lnTo>
                        <a:lnTo>
                          <a:pt x="62" y="224"/>
                        </a:lnTo>
                        <a:lnTo>
                          <a:pt x="64" y="216"/>
                        </a:lnTo>
                        <a:lnTo>
                          <a:pt x="66" y="207"/>
                        </a:lnTo>
                        <a:lnTo>
                          <a:pt x="69" y="200"/>
                        </a:lnTo>
                        <a:lnTo>
                          <a:pt x="71" y="191"/>
                        </a:lnTo>
                        <a:lnTo>
                          <a:pt x="73" y="183"/>
                        </a:lnTo>
                        <a:lnTo>
                          <a:pt x="73" y="176"/>
                        </a:lnTo>
                        <a:lnTo>
                          <a:pt x="75" y="167"/>
                        </a:lnTo>
                        <a:lnTo>
                          <a:pt x="77" y="161"/>
                        </a:lnTo>
                        <a:lnTo>
                          <a:pt x="79" y="154"/>
                        </a:lnTo>
                        <a:lnTo>
                          <a:pt x="82" y="148"/>
                        </a:lnTo>
                        <a:lnTo>
                          <a:pt x="84" y="141"/>
                        </a:lnTo>
                        <a:lnTo>
                          <a:pt x="86" y="134"/>
                        </a:lnTo>
                        <a:lnTo>
                          <a:pt x="88" y="128"/>
                        </a:lnTo>
                        <a:lnTo>
                          <a:pt x="88" y="123"/>
                        </a:lnTo>
                        <a:lnTo>
                          <a:pt x="90" y="117"/>
                        </a:lnTo>
                        <a:lnTo>
                          <a:pt x="93" y="112"/>
                        </a:lnTo>
                        <a:lnTo>
                          <a:pt x="93" y="106"/>
                        </a:lnTo>
                        <a:lnTo>
                          <a:pt x="95" y="101"/>
                        </a:lnTo>
                        <a:lnTo>
                          <a:pt x="97" y="99"/>
                        </a:lnTo>
                        <a:lnTo>
                          <a:pt x="99" y="90"/>
                        </a:lnTo>
                        <a:lnTo>
                          <a:pt x="101" y="84"/>
                        </a:lnTo>
                        <a:lnTo>
                          <a:pt x="104" y="79"/>
                        </a:lnTo>
                        <a:lnTo>
                          <a:pt x="106" y="77"/>
                        </a:lnTo>
                        <a:lnTo>
                          <a:pt x="106" y="71"/>
                        </a:lnTo>
                        <a:lnTo>
                          <a:pt x="110" y="64"/>
                        </a:lnTo>
                        <a:lnTo>
                          <a:pt x="112" y="58"/>
                        </a:lnTo>
                        <a:lnTo>
                          <a:pt x="115" y="51"/>
                        </a:lnTo>
                        <a:lnTo>
                          <a:pt x="117" y="44"/>
                        </a:lnTo>
                        <a:lnTo>
                          <a:pt x="119" y="38"/>
                        </a:lnTo>
                        <a:lnTo>
                          <a:pt x="121" y="31"/>
                        </a:lnTo>
                        <a:lnTo>
                          <a:pt x="123" y="27"/>
                        </a:lnTo>
                        <a:lnTo>
                          <a:pt x="123" y="22"/>
                        </a:lnTo>
                        <a:lnTo>
                          <a:pt x="126" y="16"/>
                        </a:lnTo>
                        <a:lnTo>
                          <a:pt x="128" y="11"/>
                        </a:lnTo>
                        <a:lnTo>
                          <a:pt x="130" y="7"/>
                        </a:lnTo>
                        <a:lnTo>
                          <a:pt x="130" y="3"/>
                        </a:lnTo>
                        <a:lnTo>
                          <a:pt x="132" y="0"/>
                        </a:lnTo>
                        <a:lnTo>
                          <a:pt x="176" y="7"/>
                        </a:lnTo>
                        <a:lnTo>
                          <a:pt x="17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736"/>
                  <p:cNvSpPr/>
                  <p:nvPr/>
                </p:nvSpPr>
                <p:spPr>
                  <a:xfrm>
                    <a:off x="783720" y="5577120"/>
                    <a:ext cx="308160" cy="181800"/>
                  </a:xfrm>
                  <a:custGeom>
                    <a:avLst/>
                    <a:gdLst>
                      <a:gd name="textAreaLeft" fmla="*/ 0 w 308160"/>
                      <a:gd name="textAreaRight" fmla="*/ 308520 w 308160"/>
                      <a:gd name="textAreaTop" fmla="*/ 0 h 181800"/>
                      <a:gd name="textAreaBottom" fmla="*/ 182160 h 181800"/>
                    </a:gdLst>
                    <a:ahLst/>
                    <a:rect l="textAreaLeft" t="textAreaTop" r="textAreaRight" b="textAreaBottom"/>
                    <a:pathLst>
                      <a:path w="433" h="249">
                        <a:moveTo>
                          <a:pt x="0" y="66"/>
                        </a:moveTo>
                        <a:lnTo>
                          <a:pt x="85" y="191"/>
                        </a:lnTo>
                        <a:lnTo>
                          <a:pt x="85" y="187"/>
                        </a:lnTo>
                        <a:lnTo>
                          <a:pt x="90" y="178"/>
                        </a:lnTo>
                        <a:lnTo>
                          <a:pt x="90" y="174"/>
                        </a:lnTo>
                        <a:lnTo>
                          <a:pt x="92" y="169"/>
                        </a:lnTo>
                        <a:lnTo>
                          <a:pt x="94" y="163"/>
                        </a:lnTo>
                        <a:lnTo>
                          <a:pt x="96" y="158"/>
                        </a:lnTo>
                        <a:lnTo>
                          <a:pt x="99" y="152"/>
                        </a:lnTo>
                        <a:lnTo>
                          <a:pt x="101" y="145"/>
                        </a:lnTo>
                        <a:lnTo>
                          <a:pt x="103" y="139"/>
                        </a:lnTo>
                        <a:lnTo>
                          <a:pt x="107" y="132"/>
                        </a:lnTo>
                        <a:lnTo>
                          <a:pt x="110" y="123"/>
                        </a:lnTo>
                        <a:lnTo>
                          <a:pt x="114" y="117"/>
                        </a:lnTo>
                        <a:lnTo>
                          <a:pt x="116" y="110"/>
                        </a:lnTo>
                        <a:lnTo>
                          <a:pt x="121" y="104"/>
                        </a:lnTo>
                        <a:lnTo>
                          <a:pt x="123" y="97"/>
                        </a:lnTo>
                        <a:lnTo>
                          <a:pt x="127" y="88"/>
                        </a:lnTo>
                        <a:lnTo>
                          <a:pt x="129" y="82"/>
                        </a:lnTo>
                        <a:lnTo>
                          <a:pt x="134" y="77"/>
                        </a:lnTo>
                        <a:lnTo>
                          <a:pt x="136" y="71"/>
                        </a:lnTo>
                        <a:lnTo>
                          <a:pt x="138" y="64"/>
                        </a:lnTo>
                        <a:lnTo>
                          <a:pt x="143" y="60"/>
                        </a:lnTo>
                        <a:lnTo>
                          <a:pt x="145" y="55"/>
                        </a:lnTo>
                        <a:lnTo>
                          <a:pt x="147" y="49"/>
                        </a:lnTo>
                        <a:lnTo>
                          <a:pt x="149" y="46"/>
                        </a:lnTo>
                        <a:lnTo>
                          <a:pt x="154" y="42"/>
                        </a:lnTo>
                        <a:lnTo>
                          <a:pt x="156" y="40"/>
                        </a:lnTo>
                        <a:lnTo>
                          <a:pt x="160" y="38"/>
                        </a:lnTo>
                        <a:lnTo>
                          <a:pt x="162" y="38"/>
                        </a:lnTo>
                        <a:lnTo>
                          <a:pt x="165" y="42"/>
                        </a:lnTo>
                        <a:lnTo>
                          <a:pt x="169" y="46"/>
                        </a:lnTo>
                        <a:lnTo>
                          <a:pt x="173" y="53"/>
                        </a:lnTo>
                        <a:lnTo>
                          <a:pt x="182" y="62"/>
                        </a:lnTo>
                        <a:lnTo>
                          <a:pt x="184" y="66"/>
                        </a:lnTo>
                        <a:lnTo>
                          <a:pt x="189" y="73"/>
                        </a:lnTo>
                        <a:lnTo>
                          <a:pt x="193" y="77"/>
                        </a:lnTo>
                        <a:lnTo>
                          <a:pt x="197" y="84"/>
                        </a:lnTo>
                        <a:lnTo>
                          <a:pt x="202" y="88"/>
                        </a:lnTo>
                        <a:lnTo>
                          <a:pt x="206" y="93"/>
                        </a:lnTo>
                        <a:lnTo>
                          <a:pt x="211" y="99"/>
                        </a:lnTo>
                        <a:lnTo>
                          <a:pt x="215" y="104"/>
                        </a:lnTo>
                        <a:lnTo>
                          <a:pt x="219" y="110"/>
                        </a:lnTo>
                        <a:lnTo>
                          <a:pt x="224" y="115"/>
                        </a:lnTo>
                        <a:lnTo>
                          <a:pt x="228" y="119"/>
                        </a:lnTo>
                        <a:lnTo>
                          <a:pt x="233" y="126"/>
                        </a:lnTo>
                        <a:lnTo>
                          <a:pt x="237" y="130"/>
                        </a:lnTo>
                        <a:lnTo>
                          <a:pt x="241" y="134"/>
                        </a:lnTo>
                        <a:lnTo>
                          <a:pt x="244" y="139"/>
                        </a:lnTo>
                        <a:lnTo>
                          <a:pt x="248" y="143"/>
                        </a:lnTo>
                        <a:lnTo>
                          <a:pt x="252" y="150"/>
                        </a:lnTo>
                        <a:lnTo>
                          <a:pt x="257" y="156"/>
                        </a:lnTo>
                        <a:lnTo>
                          <a:pt x="261" y="158"/>
                        </a:lnTo>
                        <a:lnTo>
                          <a:pt x="261" y="161"/>
                        </a:lnTo>
                        <a:lnTo>
                          <a:pt x="325" y="0"/>
                        </a:lnTo>
                        <a:lnTo>
                          <a:pt x="433" y="158"/>
                        </a:lnTo>
                        <a:lnTo>
                          <a:pt x="413" y="185"/>
                        </a:lnTo>
                        <a:lnTo>
                          <a:pt x="327" y="77"/>
                        </a:lnTo>
                        <a:lnTo>
                          <a:pt x="327" y="77"/>
                        </a:lnTo>
                        <a:lnTo>
                          <a:pt x="325" y="82"/>
                        </a:lnTo>
                        <a:lnTo>
                          <a:pt x="325" y="84"/>
                        </a:lnTo>
                        <a:lnTo>
                          <a:pt x="323" y="88"/>
                        </a:lnTo>
                        <a:lnTo>
                          <a:pt x="321" y="93"/>
                        </a:lnTo>
                        <a:lnTo>
                          <a:pt x="318" y="97"/>
                        </a:lnTo>
                        <a:lnTo>
                          <a:pt x="316" y="104"/>
                        </a:lnTo>
                        <a:lnTo>
                          <a:pt x="314" y="108"/>
                        </a:lnTo>
                        <a:lnTo>
                          <a:pt x="312" y="115"/>
                        </a:lnTo>
                        <a:lnTo>
                          <a:pt x="310" y="121"/>
                        </a:lnTo>
                        <a:lnTo>
                          <a:pt x="307" y="126"/>
                        </a:lnTo>
                        <a:lnTo>
                          <a:pt x="305" y="132"/>
                        </a:lnTo>
                        <a:lnTo>
                          <a:pt x="303" y="141"/>
                        </a:lnTo>
                        <a:lnTo>
                          <a:pt x="299" y="148"/>
                        </a:lnTo>
                        <a:lnTo>
                          <a:pt x="296" y="154"/>
                        </a:lnTo>
                        <a:lnTo>
                          <a:pt x="294" y="161"/>
                        </a:lnTo>
                        <a:lnTo>
                          <a:pt x="290" y="165"/>
                        </a:lnTo>
                        <a:lnTo>
                          <a:pt x="288" y="172"/>
                        </a:lnTo>
                        <a:lnTo>
                          <a:pt x="285" y="178"/>
                        </a:lnTo>
                        <a:lnTo>
                          <a:pt x="283" y="183"/>
                        </a:lnTo>
                        <a:lnTo>
                          <a:pt x="281" y="189"/>
                        </a:lnTo>
                        <a:lnTo>
                          <a:pt x="279" y="194"/>
                        </a:lnTo>
                        <a:lnTo>
                          <a:pt x="272" y="202"/>
                        </a:lnTo>
                        <a:lnTo>
                          <a:pt x="268" y="207"/>
                        </a:lnTo>
                        <a:lnTo>
                          <a:pt x="266" y="211"/>
                        </a:lnTo>
                        <a:lnTo>
                          <a:pt x="261" y="211"/>
                        </a:lnTo>
                        <a:lnTo>
                          <a:pt x="257" y="207"/>
                        </a:lnTo>
                        <a:lnTo>
                          <a:pt x="255" y="200"/>
                        </a:lnTo>
                        <a:lnTo>
                          <a:pt x="250" y="196"/>
                        </a:lnTo>
                        <a:lnTo>
                          <a:pt x="246" y="194"/>
                        </a:lnTo>
                        <a:lnTo>
                          <a:pt x="244" y="187"/>
                        </a:lnTo>
                        <a:lnTo>
                          <a:pt x="241" y="183"/>
                        </a:lnTo>
                        <a:lnTo>
                          <a:pt x="235" y="178"/>
                        </a:lnTo>
                        <a:lnTo>
                          <a:pt x="230" y="172"/>
                        </a:lnTo>
                        <a:lnTo>
                          <a:pt x="226" y="165"/>
                        </a:lnTo>
                        <a:lnTo>
                          <a:pt x="222" y="161"/>
                        </a:lnTo>
                        <a:lnTo>
                          <a:pt x="219" y="154"/>
                        </a:lnTo>
                        <a:lnTo>
                          <a:pt x="215" y="148"/>
                        </a:lnTo>
                        <a:lnTo>
                          <a:pt x="211" y="141"/>
                        </a:lnTo>
                        <a:lnTo>
                          <a:pt x="206" y="137"/>
                        </a:lnTo>
                        <a:lnTo>
                          <a:pt x="202" y="128"/>
                        </a:lnTo>
                        <a:lnTo>
                          <a:pt x="197" y="123"/>
                        </a:lnTo>
                        <a:lnTo>
                          <a:pt x="193" y="117"/>
                        </a:lnTo>
                        <a:lnTo>
                          <a:pt x="189" y="110"/>
                        </a:lnTo>
                        <a:lnTo>
                          <a:pt x="184" y="104"/>
                        </a:lnTo>
                        <a:lnTo>
                          <a:pt x="180" y="97"/>
                        </a:lnTo>
                        <a:lnTo>
                          <a:pt x="178" y="93"/>
                        </a:lnTo>
                        <a:lnTo>
                          <a:pt x="173" y="88"/>
                        </a:lnTo>
                        <a:lnTo>
                          <a:pt x="171" y="84"/>
                        </a:lnTo>
                        <a:lnTo>
                          <a:pt x="169" y="79"/>
                        </a:lnTo>
                        <a:lnTo>
                          <a:pt x="167" y="77"/>
                        </a:lnTo>
                        <a:lnTo>
                          <a:pt x="165" y="73"/>
                        </a:lnTo>
                        <a:lnTo>
                          <a:pt x="160" y="71"/>
                        </a:lnTo>
                        <a:lnTo>
                          <a:pt x="160" y="68"/>
                        </a:lnTo>
                        <a:lnTo>
                          <a:pt x="83" y="249"/>
                        </a:lnTo>
                        <a:lnTo>
                          <a:pt x="2" y="104"/>
                        </a:lnTo>
                        <a:lnTo>
                          <a:pt x="0" y="66"/>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737"/>
                  <p:cNvSpPr/>
                  <p:nvPr/>
                </p:nvSpPr>
                <p:spPr>
                  <a:xfrm>
                    <a:off x="772200" y="5073840"/>
                    <a:ext cx="378720" cy="705240"/>
                  </a:xfrm>
                  <a:custGeom>
                    <a:avLst/>
                    <a:gdLst>
                      <a:gd name="textAreaLeft" fmla="*/ 0 w 378720"/>
                      <a:gd name="textAreaRight" fmla="*/ 379080 w 378720"/>
                      <a:gd name="textAreaTop" fmla="*/ 0 h 705240"/>
                      <a:gd name="textAreaBottom" fmla="*/ 705600 h 705240"/>
                    </a:gdLst>
                    <a:ahLst/>
                    <a:rect l="textAreaLeft" t="textAreaTop" r="textAreaRight" b="textAreaBottom"/>
                    <a:pathLst>
                      <a:path w="532" h="966">
                        <a:moveTo>
                          <a:pt x="141" y="0"/>
                        </a:moveTo>
                        <a:lnTo>
                          <a:pt x="143" y="0"/>
                        </a:lnTo>
                        <a:lnTo>
                          <a:pt x="150" y="2"/>
                        </a:lnTo>
                        <a:lnTo>
                          <a:pt x="152" y="2"/>
                        </a:lnTo>
                        <a:lnTo>
                          <a:pt x="156" y="2"/>
                        </a:lnTo>
                        <a:lnTo>
                          <a:pt x="161" y="4"/>
                        </a:lnTo>
                        <a:lnTo>
                          <a:pt x="165" y="6"/>
                        </a:lnTo>
                        <a:lnTo>
                          <a:pt x="170" y="6"/>
                        </a:lnTo>
                        <a:lnTo>
                          <a:pt x="174" y="9"/>
                        </a:lnTo>
                        <a:lnTo>
                          <a:pt x="181" y="9"/>
                        </a:lnTo>
                        <a:lnTo>
                          <a:pt x="185" y="11"/>
                        </a:lnTo>
                        <a:lnTo>
                          <a:pt x="192" y="13"/>
                        </a:lnTo>
                        <a:lnTo>
                          <a:pt x="198" y="13"/>
                        </a:lnTo>
                        <a:lnTo>
                          <a:pt x="205" y="17"/>
                        </a:lnTo>
                        <a:lnTo>
                          <a:pt x="213" y="20"/>
                        </a:lnTo>
                        <a:lnTo>
                          <a:pt x="220" y="20"/>
                        </a:lnTo>
                        <a:lnTo>
                          <a:pt x="227" y="22"/>
                        </a:lnTo>
                        <a:lnTo>
                          <a:pt x="235" y="24"/>
                        </a:lnTo>
                        <a:lnTo>
                          <a:pt x="242" y="26"/>
                        </a:lnTo>
                        <a:lnTo>
                          <a:pt x="249" y="28"/>
                        </a:lnTo>
                        <a:lnTo>
                          <a:pt x="257" y="31"/>
                        </a:lnTo>
                        <a:lnTo>
                          <a:pt x="266" y="33"/>
                        </a:lnTo>
                        <a:lnTo>
                          <a:pt x="275" y="37"/>
                        </a:lnTo>
                        <a:lnTo>
                          <a:pt x="284" y="39"/>
                        </a:lnTo>
                        <a:lnTo>
                          <a:pt x="293" y="42"/>
                        </a:lnTo>
                        <a:lnTo>
                          <a:pt x="301" y="44"/>
                        </a:lnTo>
                        <a:lnTo>
                          <a:pt x="310" y="46"/>
                        </a:lnTo>
                        <a:lnTo>
                          <a:pt x="319" y="48"/>
                        </a:lnTo>
                        <a:lnTo>
                          <a:pt x="328" y="53"/>
                        </a:lnTo>
                        <a:lnTo>
                          <a:pt x="337" y="55"/>
                        </a:lnTo>
                        <a:lnTo>
                          <a:pt x="345" y="59"/>
                        </a:lnTo>
                        <a:lnTo>
                          <a:pt x="354" y="61"/>
                        </a:lnTo>
                        <a:lnTo>
                          <a:pt x="363" y="64"/>
                        </a:lnTo>
                        <a:lnTo>
                          <a:pt x="372" y="66"/>
                        </a:lnTo>
                        <a:lnTo>
                          <a:pt x="380" y="68"/>
                        </a:lnTo>
                        <a:lnTo>
                          <a:pt x="387" y="70"/>
                        </a:lnTo>
                        <a:lnTo>
                          <a:pt x="396" y="72"/>
                        </a:lnTo>
                        <a:lnTo>
                          <a:pt x="405" y="77"/>
                        </a:lnTo>
                        <a:lnTo>
                          <a:pt x="413" y="79"/>
                        </a:lnTo>
                        <a:lnTo>
                          <a:pt x="420" y="81"/>
                        </a:lnTo>
                        <a:lnTo>
                          <a:pt x="429" y="83"/>
                        </a:lnTo>
                        <a:lnTo>
                          <a:pt x="435" y="88"/>
                        </a:lnTo>
                        <a:lnTo>
                          <a:pt x="444" y="90"/>
                        </a:lnTo>
                        <a:lnTo>
                          <a:pt x="451" y="92"/>
                        </a:lnTo>
                        <a:lnTo>
                          <a:pt x="460" y="94"/>
                        </a:lnTo>
                        <a:lnTo>
                          <a:pt x="466" y="96"/>
                        </a:lnTo>
                        <a:lnTo>
                          <a:pt x="473" y="99"/>
                        </a:lnTo>
                        <a:lnTo>
                          <a:pt x="479" y="101"/>
                        </a:lnTo>
                        <a:lnTo>
                          <a:pt x="484" y="103"/>
                        </a:lnTo>
                        <a:lnTo>
                          <a:pt x="490" y="105"/>
                        </a:lnTo>
                        <a:lnTo>
                          <a:pt x="497" y="107"/>
                        </a:lnTo>
                        <a:lnTo>
                          <a:pt x="501" y="110"/>
                        </a:lnTo>
                        <a:lnTo>
                          <a:pt x="506" y="112"/>
                        </a:lnTo>
                        <a:lnTo>
                          <a:pt x="510" y="114"/>
                        </a:lnTo>
                        <a:lnTo>
                          <a:pt x="515" y="116"/>
                        </a:lnTo>
                        <a:lnTo>
                          <a:pt x="521" y="118"/>
                        </a:lnTo>
                        <a:lnTo>
                          <a:pt x="528" y="123"/>
                        </a:lnTo>
                        <a:lnTo>
                          <a:pt x="530" y="125"/>
                        </a:lnTo>
                        <a:lnTo>
                          <a:pt x="532" y="127"/>
                        </a:lnTo>
                        <a:lnTo>
                          <a:pt x="532" y="129"/>
                        </a:lnTo>
                        <a:lnTo>
                          <a:pt x="532" y="134"/>
                        </a:lnTo>
                        <a:lnTo>
                          <a:pt x="532" y="140"/>
                        </a:lnTo>
                        <a:lnTo>
                          <a:pt x="532" y="147"/>
                        </a:lnTo>
                        <a:lnTo>
                          <a:pt x="530" y="154"/>
                        </a:lnTo>
                        <a:lnTo>
                          <a:pt x="528" y="165"/>
                        </a:lnTo>
                        <a:lnTo>
                          <a:pt x="528" y="169"/>
                        </a:lnTo>
                        <a:lnTo>
                          <a:pt x="525" y="173"/>
                        </a:lnTo>
                        <a:lnTo>
                          <a:pt x="525" y="180"/>
                        </a:lnTo>
                        <a:lnTo>
                          <a:pt x="525" y="186"/>
                        </a:lnTo>
                        <a:lnTo>
                          <a:pt x="523" y="191"/>
                        </a:lnTo>
                        <a:lnTo>
                          <a:pt x="523" y="197"/>
                        </a:lnTo>
                        <a:lnTo>
                          <a:pt x="521" y="204"/>
                        </a:lnTo>
                        <a:lnTo>
                          <a:pt x="521" y="211"/>
                        </a:lnTo>
                        <a:lnTo>
                          <a:pt x="519" y="217"/>
                        </a:lnTo>
                        <a:lnTo>
                          <a:pt x="519" y="226"/>
                        </a:lnTo>
                        <a:lnTo>
                          <a:pt x="517" y="233"/>
                        </a:lnTo>
                        <a:lnTo>
                          <a:pt x="515" y="241"/>
                        </a:lnTo>
                        <a:lnTo>
                          <a:pt x="512" y="248"/>
                        </a:lnTo>
                        <a:lnTo>
                          <a:pt x="512" y="255"/>
                        </a:lnTo>
                        <a:lnTo>
                          <a:pt x="510" y="263"/>
                        </a:lnTo>
                        <a:lnTo>
                          <a:pt x="510" y="272"/>
                        </a:lnTo>
                        <a:lnTo>
                          <a:pt x="508" y="281"/>
                        </a:lnTo>
                        <a:lnTo>
                          <a:pt x="506" y="290"/>
                        </a:lnTo>
                        <a:lnTo>
                          <a:pt x="506" y="296"/>
                        </a:lnTo>
                        <a:lnTo>
                          <a:pt x="504" y="307"/>
                        </a:lnTo>
                        <a:lnTo>
                          <a:pt x="501" y="314"/>
                        </a:lnTo>
                        <a:lnTo>
                          <a:pt x="499" y="323"/>
                        </a:lnTo>
                        <a:lnTo>
                          <a:pt x="497" y="331"/>
                        </a:lnTo>
                        <a:lnTo>
                          <a:pt x="497" y="340"/>
                        </a:lnTo>
                        <a:lnTo>
                          <a:pt x="495" y="349"/>
                        </a:lnTo>
                        <a:lnTo>
                          <a:pt x="493" y="358"/>
                        </a:lnTo>
                        <a:lnTo>
                          <a:pt x="490" y="369"/>
                        </a:lnTo>
                        <a:lnTo>
                          <a:pt x="490" y="378"/>
                        </a:lnTo>
                        <a:lnTo>
                          <a:pt x="488" y="386"/>
                        </a:lnTo>
                        <a:lnTo>
                          <a:pt x="486" y="395"/>
                        </a:lnTo>
                        <a:lnTo>
                          <a:pt x="484" y="404"/>
                        </a:lnTo>
                        <a:lnTo>
                          <a:pt x="484" y="413"/>
                        </a:lnTo>
                        <a:lnTo>
                          <a:pt x="482" y="421"/>
                        </a:lnTo>
                        <a:lnTo>
                          <a:pt x="479" y="432"/>
                        </a:lnTo>
                        <a:lnTo>
                          <a:pt x="477" y="439"/>
                        </a:lnTo>
                        <a:lnTo>
                          <a:pt x="477" y="450"/>
                        </a:lnTo>
                        <a:lnTo>
                          <a:pt x="475" y="459"/>
                        </a:lnTo>
                        <a:lnTo>
                          <a:pt x="473" y="468"/>
                        </a:lnTo>
                        <a:lnTo>
                          <a:pt x="473" y="476"/>
                        </a:lnTo>
                        <a:lnTo>
                          <a:pt x="471" y="485"/>
                        </a:lnTo>
                        <a:lnTo>
                          <a:pt x="471" y="494"/>
                        </a:lnTo>
                        <a:lnTo>
                          <a:pt x="468" y="503"/>
                        </a:lnTo>
                        <a:lnTo>
                          <a:pt x="466" y="509"/>
                        </a:lnTo>
                        <a:lnTo>
                          <a:pt x="466" y="518"/>
                        </a:lnTo>
                        <a:lnTo>
                          <a:pt x="464" y="527"/>
                        </a:lnTo>
                        <a:lnTo>
                          <a:pt x="464" y="536"/>
                        </a:lnTo>
                        <a:lnTo>
                          <a:pt x="464" y="542"/>
                        </a:lnTo>
                        <a:lnTo>
                          <a:pt x="462" y="551"/>
                        </a:lnTo>
                        <a:lnTo>
                          <a:pt x="462" y="558"/>
                        </a:lnTo>
                        <a:lnTo>
                          <a:pt x="460" y="566"/>
                        </a:lnTo>
                        <a:lnTo>
                          <a:pt x="460" y="573"/>
                        </a:lnTo>
                        <a:lnTo>
                          <a:pt x="460" y="582"/>
                        </a:lnTo>
                        <a:lnTo>
                          <a:pt x="460" y="588"/>
                        </a:lnTo>
                        <a:lnTo>
                          <a:pt x="457" y="595"/>
                        </a:lnTo>
                        <a:lnTo>
                          <a:pt x="457" y="602"/>
                        </a:lnTo>
                        <a:lnTo>
                          <a:pt x="457" y="608"/>
                        </a:lnTo>
                        <a:lnTo>
                          <a:pt x="455" y="615"/>
                        </a:lnTo>
                        <a:lnTo>
                          <a:pt x="455" y="621"/>
                        </a:lnTo>
                        <a:lnTo>
                          <a:pt x="455" y="628"/>
                        </a:lnTo>
                        <a:lnTo>
                          <a:pt x="455" y="637"/>
                        </a:lnTo>
                        <a:lnTo>
                          <a:pt x="455" y="641"/>
                        </a:lnTo>
                        <a:lnTo>
                          <a:pt x="455" y="650"/>
                        </a:lnTo>
                        <a:lnTo>
                          <a:pt x="455" y="654"/>
                        </a:lnTo>
                        <a:lnTo>
                          <a:pt x="455" y="663"/>
                        </a:lnTo>
                        <a:lnTo>
                          <a:pt x="455" y="667"/>
                        </a:lnTo>
                        <a:lnTo>
                          <a:pt x="455" y="674"/>
                        </a:lnTo>
                        <a:lnTo>
                          <a:pt x="455" y="681"/>
                        </a:lnTo>
                        <a:lnTo>
                          <a:pt x="455" y="689"/>
                        </a:lnTo>
                        <a:lnTo>
                          <a:pt x="455" y="694"/>
                        </a:lnTo>
                        <a:lnTo>
                          <a:pt x="455" y="700"/>
                        </a:lnTo>
                        <a:lnTo>
                          <a:pt x="455" y="707"/>
                        </a:lnTo>
                        <a:lnTo>
                          <a:pt x="455" y="714"/>
                        </a:lnTo>
                        <a:lnTo>
                          <a:pt x="455" y="718"/>
                        </a:lnTo>
                        <a:lnTo>
                          <a:pt x="455" y="725"/>
                        </a:lnTo>
                        <a:lnTo>
                          <a:pt x="455" y="729"/>
                        </a:lnTo>
                        <a:lnTo>
                          <a:pt x="455" y="735"/>
                        </a:lnTo>
                        <a:lnTo>
                          <a:pt x="455" y="740"/>
                        </a:lnTo>
                        <a:lnTo>
                          <a:pt x="455" y="746"/>
                        </a:lnTo>
                        <a:lnTo>
                          <a:pt x="455" y="751"/>
                        </a:lnTo>
                        <a:lnTo>
                          <a:pt x="455" y="757"/>
                        </a:lnTo>
                        <a:lnTo>
                          <a:pt x="455" y="762"/>
                        </a:lnTo>
                        <a:lnTo>
                          <a:pt x="457" y="768"/>
                        </a:lnTo>
                        <a:lnTo>
                          <a:pt x="457" y="773"/>
                        </a:lnTo>
                        <a:lnTo>
                          <a:pt x="457" y="779"/>
                        </a:lnTo>
                        <a:lnTo>
                          <a:pt x="457" y="784"/>
                        </a:lnTo>
                        <a:lnTo>
                          <a:pt x="457" y="788"/>
                        </a:lnTo>
                        <a:lnTo>
                          <a:pt x="457" y="793"/>
                        </a:lnTo>
                        <a:lnTo>
                          <a:pt x="457" y="797"/>
                        </a:lnTo>
                        <a:lnTo>
                          <a:pt x="457" y="801"/>
                        </a:lnTo>
                        <a:lnTo>
                          <a:pt x="457" y="808"/>
                        </a:lnTo>
                        <a:lnTo>
                          <a:pt x="457" y="812"/>
                        </a:lnTo>
                        <a:lnTo>
                          <a:pt x="460" y="817"/>
                        </a:lnTo>
                        <a:lnTo>
                          <a:pt x="460" y="823"/>
                        </a:lnTo>
                        <a:lnTo>
                          <a:pt x="460" y="832"/>
                        </a:lnTo>
                        <a:lnTo>
                          <a:pt x="460" y="839"/>
                        </a:lnTo>
                        <a:lnTo>
                          <a:pt x="460" y="847"/>
                        </a:lnTo>
                        <a:lnTo>
                          <a:pt x="460" y="852"/>
                        </a:lnTo>
                        <a:lnTo>
                          <a:pt x="460" y="858"/>
                        </a:lnTo>
                        <a:lnTo>
                          <a:pt x="460" y="863"/>
                        </a:lnTo>
                        <a:lnTo>
                          <a:pt x="460" y="867"/>
                        </a:lnTo>
                        <a:lnTo>
                          <a:pt x="460" y="872"/>
                        </a:lnTo>
                        <a:lnTo>
                          <a:pt x="457" y="876"/>
                        </a:lnTo>
                        <a:lnTo>
                          <a:pt x="457" y="878"/>
                        </a:lnTo>
                        <a:lnTo>
                          <a:pt x="455" y="883"/>
                        </a:lnTo>
                        <a:lnTo>
                          <a:pt x="453" y="885"/>
                        </a:lnTo>
                        <a:lnTo>
                          <a:pt x="449" y="887"/>
                        </a:lnTo>
                        <a:lnTo>
                          <a:pt x="444" y="887"/>
                        </a:lnTo>
                        <a:lnTo>
                          <a:pt x="442" y="889"/>
                        </a:lnTo>
                        <a:lnTo>
                          <a:pt x="438" y="889"/>
                        </a:lnTo>
                        <a:lnTo>
                          <a:pt x="433" y="891"/>
                        </a:lnTo>
                        <a:lnTo>
                          <a:pt x="427" y="894"/>
                        </a:lnTo>
                        <a:lnTo>
                          <a:pt x="420" y="896"/>
                        </a:lnTo>
                        <a:lnTo>
                          <a:pt x="416" y="896"/>
                        </a:lnTo>
                        <a:lnTo>
                          <a:pt x="409" y="898"/>
                        </a:lnTo>
                        <a:lnTo>
                          <a:pt x="402" y="900"/>
                        </a:lnTo>
                        <a:lnTo>
                          <a:pt x="396" y="902"/>
                        </a:lnTo>
                        <a:lnTo>
                          <a:pt x="387" y="902"/>
                        </a:lnTo>
                        <a:lnTo>
                          <a:pt x="380" y="905"/>
                        </a:lnTo>
                        <a:lnTo>
                          <a:pt x="372" y="907"/>
                        </a:lnTo>
                        <a:lnTo>
                          <a:pt x="363" y="907"/>
                        </a:lnTo>
                        <a:lnTo>
                          <a:pt x="354" y="909"/>
                        </a:lnTo>
                        <a:lnTo>
                          <a:pt x="345" y="911"/>
                        </a:lnTo>
                        <a:lnTo>
                          <a:pt x="337" y="913"/>
                        </a:lnTo>
                        <a:lnTo>
                          <a:pt x="328" y="913"/>
                        </a:lnTo>
                        <a:lnTo>
                          <a:pt x="319" y="916"/>
                        </a:lnTo>
                        <a:lnTo>
                          <a:pt x="308" y="918"/>
                        </a:lnTo>
                        <a:lnTo>
                          <a:pt x="299" y="920"/>
                        </a:lnTo>
                        <a:lnTo>
                          <a:pt x="288" y="922"/>
                        </a:lnTo>
                        <a:lnTo>
                          <a:pt x="279" y="922"/>
                        </a:lnTo>
                        <a:lnTo>
                          <a:pt x="268" y="924"/>
                        </a:lnTo>
                        <a:lnTo>
                          <a:pt x="260" y="927"/>
                        </a:lnTo>
                        <a:lnTo>
                          <a:pt x="249" y="929"/>
                        </a:lnTo>
                        <a:lnTo>
                          <a:pt x="238" y="931"/>
                        </a:lnTo>
                        <a:lnTo>
                          <a:pt x="229" y="933"/>
                        </a:lnTo>
                        <a:lnTo>
                          <a:pt x="218" y="933"/>
                        </a:lnTo>
                        <a:lnTo>
                          <a:pt x="207" y="935"/>
                        </a:lnTo>
                        <a:lnTo>
                          <a:pt x="196" y="938"/>
                        </a:lnTo>
                        <a:lnTo>
                          <a:pt x="187" y="938"/>
                        </a:lnTo>
                        <a:lnTo>
                          <a:pt x="176" y="940"/>
                        </a:lnTo>
                        <a:lnTo>
                          <a:pt x="167" y="942"/>
                        </a:lnTo>
                        <a:lnTo>
                          <a:pt x="156" y="942"/>
                        </a:lnTo>
                        <a:lnTo>
                          <a:pt x="148" y="944"/>
                        </a:lnTo>
                        <a:lnTo>
                          <a:pt x="137" y="944"/>
                        </a:lnTo>
                        <a:lnTo>
                          <a:pt x="128" y="946"/>
                        </a:lnTo>
                        <a:lnTo>
                          <a:pt x="119" y="949"/>
                        </a:lnTo>
                        <a:lnTo>
                          <a:pt x="110" y="949"/>
                        </a:lnTo>
                        <a:lnTo>
                          <a:pt x="101" y="951"/>
                        </a:lnTo>
                        <a:lnTo>
                          <a:pt x="93" y="953"/>
                        </a:lnTo>
                        <a:lnTo>
                          <a:pt x="86" y="953"/>
                        </a:lnTo>
                        <a:lnTo>
                          <a:pt x="77" y="955"/>
                        </a:lnTo>
                        <a:lnTo>
                          <a:pt x="71" y="955"/>
                        </a:lnTo>
                        <a:lnTo>
                          <a:pt x="64" y="957"/>
                        </a:lnTo>
                        <a:lnTo>
                          <a:pt x="55" y="957"/>
                        </a:lnTo>
                        <a:lnTo>
                          <a:pt x="51" y="959"/>
                        </a:lnTo>
                        <a:lnTo>
                          <a:pt x="44" y="959"/>
                        </a:lnTo>
                        <a:lnTo>
                          <a:pt x="40" y="959"/>
                        </a:lnTo>
                        <a:lnTo>
                          <a:pt x="33" y="959"/>
                        </a:lnTo>
                        <a:lnTo>
                          <a:pt x="29" y="962"/>
                        </a:lnTo>
                        <a:lnTo>
                          <a:pt x="22" y="962"/>
                        </a:lnTo>
                        <a:lnTo>
                          <a:pt x="16" y="964"/>
                        </a:lnTo>
                        <a:lnTo>
                          <a:pt x="11" y="964"/>
                        </a:lnTo>
                        <a:lnTo>
                          <a:pt x="11" y="966"/>
                        </a:lnTo>
                        <a:lnTo>
                          <a:pt x="9" y="962"/>
                        </a:lnTo>
                        <a:lnTo>
                          <a:pt x="7" y="959"/>
                        </a:lnTo>
                        <a:lnTo>
                          <a:pt x="5" y="951"/>
                        </a:lnTo>
                        <a:lnTo>
                          <a:pt x="3" y="944"/>
                        </a:lnTo>
                        <a:lnTo>
                          <a:pt x="0" y="938"/>
                        </a:lnTo>
                        <a:lnTo>
                          <a:pt x="0" y="931"/>
                        </a:lnTo>
                        <a:lnTo>
                          <a:pt x="3" y="927"/>
                        </a:lnTo>
                        <a:lnTo>
                          <a:pt x="7" y="929"/>
                        </a:lnTo>
                        <a:lnTo>
                          <a:pt x="11" y="927"/>
                        </a:lnTo>
                        <a:lnTo>
                          <a:pt x="16" y="927"/>
                        </a:lnTo>
                        <a:lnTo>
                          <a:pt x="18" y="927"/>
                        </a:lnTo>
                        <a:lnTo>
                          <a:pt x="22" y="927"/>
                        </a:lnTo>
                        <a:lnTo>
                          <a:pt x="27" y="927"/>
                        </a:lnTo>
                        <a:lnTo>
                          <a:pt x="31" y="927"/>
                        </a:lnTo>
                        <a:lnTo>
                          <a:pt x="36" y="924"/>
                        </a:lnTo>
                        <a:lnTo>
                          <a:pt x="42" y="924"/>
                        </a:lnTo>
                        <a:lnTo>
                          <a:pt x="47" y="922"/>
                        </a:lnTo>
                        <a:lnTo>
                          <a:pt x="53" y="922"/>
                        </a:lnTo>
                        <a:lnTo>
                          <a:pt x="60" y="920"/>
                        </a:lnTo>
                        <a:lnTo>
                          <a:pt x="66" y="920"/>
                        </a:lnTo>
                        <a:lnTo>
                          <a:pt x="75" y="920"/>
                        </a:lnTo>
                        <a:lnTo>
                          <a:pt x="82" y="920"/>
                        </a:lnTo>
                        <a:lnTo>
                          <a:pt x="90" y="918"/>
                        </a:lnTo>
                        <a:lnTo>
                          <a:pt x="97" y="918"/>
                        </a:lnTo>
                        <a:lnTo>
                          <a:pt x="106" y="916"/>
                        </a:lnTo>
                        <a:lnTo>
                          <a:pt x="115" y="913"/>
                        </a:lnTo>
                        <a:lnTo>
                          <a:pt x="121" y="913"/>
                        </a:lnTo>
                        <a:lnTo>
                          <a:pt x="130" y="911"/>
                        </a:lnTo>
                        <a:lnTo>
                          <a:pt x="139" y="911"/>
                        </a:lnTo>
                        <a:lnTo>
                          <a:pt x="150" y="911"/>
                        </a:lnTo>
                        <a:lnTo>
                          <a:pt x="159" y="907"/>
                        </a:lnTo>
                        <a:lnTo>
                          <a:pt x="167" y="907"/>
                        </a:lnTo>
                        <a:lnTo>
                          <a:pt x="176" y="905"/>
                        </a:lnTo>
                        <a:lnTo>
                          <a:pt x="185" y="905"/>
                        </a:lnTo>
                        <a:lnTo>
                          <a:pt x="196" y="902"/>
                        </a:lnTo>
                        <a:lnTo>
                          <a:pt x="205" y="900"/>
                        </a:lnTo>
                        <a:lnTo>
                          <a:pt x="216" y="900"/>
                        </a:lnTo>
                        <a:lnTo>
                          <a:pt x="224" y="898"/>
                        </a:lnTo>
                        <a:lnTo>
                          <a:pt x="235" y="896"/>
                        </a:lnTo>
                        <a:lnTo>
                          <a:pt x="244" y="894"/>
                        </a:lnTo>
                        <a:lnTo>
                          <a:pt x="253" y="891"/>
                        </a:lnTo>
                        <a:lnTo>
                          <a:pt x="262" y="891"/>
                        </a:lnTo>
                        <a:lnTo>
                          <a:pt x="271" y="889"/>
                        </a:lnTo>
                        <a:lnTo>
                          <a:pt x="282" y="887"/>
                        </a:lnTo>
                        <a:lnTo>
                          <a:pt x="290" y="885"/>
                        </a:lnTo>
                        <a:lnTo>
                          <a:pt x="299" y="885"/>
                        </a:lnTo>
                        <a:lnTo>
                          <a:pt x="308" y="883"/>
                        </a:lnTo>
                        <a:lnTo>
                          <a:pt x="317" y="880"/>
                        </a:lnTo>
                        <a:lnTo>
                          <a:pt x="326" y="878"/>
                        </a:lnTo>
                        <a:lnTo>
                          <a:pt x="334" y="878"/>
                        </a:lnTo>
                        <a:lnTo>
                          <a:pt x="341" y="874"/>
                        </a:lnTo>
                        <a:lnTo>
                          <a:pt x="348" y="874"/>
                        </a:lnTo>
                        <a:lnTo>
                          <a:pt x="356" y="872"/>
                        </a:lnTo>
                        <a:lnTo>
                          <a:pt x="365" y="872"/>
                        </a:lnTo>
                        <a:lnTo>
                          <a:pt x="369" y="867"/>
                        </a:lnTo>
                        <a:lnTo>
                          <a:pt x="376" y="867"/>
                        </a:lnTo>
                        <a:lnTo>
                          <a:pt x="383" y="865"/>
                        </a:lnTo>
                        <a:lnTo>
                          <a:pt x="389" y="865"/>
                        </a:lnTo>
                        <a:lnTo>
                          <a:pt x="394" y="863"/>
                        </a:lnTo>
                        <a:lnTo>
                          <a:pt x="398" y="861"/>
                        </a:lnTo>
                        <a:lnTo>
                          <a:pt x="402" y="858"/>
                        </a:lnTo>
                        <a:lnTo>
                          <a:pt x="409" y="858"/>
                        </a:lnTo>
                        <a:lnTo>
                          <a:pt x="416" y="854"/>
                        </a:lnTo>
                        <a:lnTo>
                          <a:pt x="420" y="852"/>
                        </a:lnTo>
                        <a:lnTo>
                          <a:pt x="424" y="850"/>
                        </a:lnTo>
                        <a:lnTo>
                          <a:pt x="424" y="847"/>
                        </a:lnTo>
                        <a:lnTo>
                          <a:pt x="424" y="843"/>
                        </a:lnTo>
                        <a:lnTo>
                          <a:pt x="424" y="837"/>
                        </a:lnTo>
                        <a:lnTo>
                          <a:pt x="422" y="832"/>
                        </a:lnTo>
                        <a:lnTo>
                          <a:pt x="422" y="828"/>
                        </a:lnTo>
                        <a:lnTo>
                          <a:pt x="422" y="821"/>
                        </a:lnTo>
                        <a:lnTo>
                          <a:pt x="422" y="817"/>
                        </a:lnTo>
                        <a:lnTo>
                          <a:pt x="422" y="810"/>
                        </a:lnTo>
                        <a:lnTo>
                          <a:pt x="422" y="806"/>
                        </a:lnTo>
                        <a:lnTo>
                          <a:pt x="422" y="797"/>
                        </a:lnTo>
                        <a:lnTo>
                          <a:pt x="422" y="793"/>
                        </a:lnTo>
                        <a:lnTo>
                          <a:pt x="422" y="784"/>
                        </a:lnTo>
                        <a:lnTo>
                          <a:pt x="422" y="777"/>
                        </a:lnTo>
                        <a:lnTo>
                          <a:pt x="422" y="768"/>
                        </a:lnTo>
                        <a:lnTo>
                          <a:pt x="422" y="762"/>
                        </a:lnTo>
                        <a:lnTo>
                          <a:pt x="422" y="757"/>
                        </a:lnTo>
                        <a:lnTo>
                          <a:pt x="422" y="751"/>
                        </a:lnTo>
                        <a:lnTo>
                          <a:pt x="422" y="746"/>
                        </a:lnTo>
                        <a:lnTo>
                          <a:pt x="422" y="742"/>
                        </a:lnTo>
                        <a:lnTo>
                          <a:pt x="422" y="738"/>
                        </a:lnTo>
                        <a:lnTo>
                          <a:pt x="422" y="733"/>
                        </a:lnTo>
                        <a:lnTo>
                          <a:pt x="422" y="727"/>
                        </a:lnTo>
                        <a:lnTo>
                          <a:pt x="422" y="722"/>
                        </a:lnTo>
                        <a:lnTo>
                          <a:pt x="422" y="718"/>
                        </a:lnTo>
                        <a:lnTo>
                          <a:pt x="422" y="714"/>
                        </a:lnTo>
                        <a:lnTo>
                          <a:pt x="422" y="707"/>
                        </a:lnTo>
                        <a:lnTo>
                          <a:pt x="422" y="703"/>
                        </a:lnTo>
                        <a:lnTo>
                          <a:pt x="422" y="696"/>
                        </a:lnTo>
                        <a:lnTo>
                          <a:pt x="422" y="689"/>
                        </a:lnTo>
                        <a:lnTo>
                          <a:pt x="422" y="685"/>
                        </a:lnTo>
                        <a:lnTo>
                          <a:pt x="424" y="678"/>
                        </a:lnTo>
                        <a:lnTo>
                          <a:pt x="424" y="672"/>
                        </a:lnTo>
                        <a:lnTo>
                          <a:pt x="424" y="667"/>
                        </a:lnTo>
                        <a:lnTo>
                          <a:pt x="424" y="661"/>
                        </a:lnTo>
                        <a:lnTo>
                          <a:pt x="424" y="654"/>
                        </a:lnTo>
                        <a:lnTo>
                          <a:pt x="424" y="645"/>
                        </a:lnTo>
                        <a:lnTo>
                          <a:pt x="424" y="641"/>
                        </a:lnTo>
                        <a:lnTo>
                          <a:pt x="424" y="632"/>
                        </a:lnTo>
                        <a:lnTo>
                          <a:pt x="424" y="628"/>
                        </a:lnTo>
                        <a:lnTo>
                          <a:pt x="424" y="619"/>
                        </a:lnTo>
                        <a:lnTo>
                          <a:pt x="424" y="613"/>
                        </a:lnTo>
                        <a:lnTo>
                          <a:pt x="424" y="606"/>
                        </a:lnTo>
                        <a:lnTo>
                          <a:pt x="427" y="599"/>
                        </a:lnTo>
                        <a:lnTo>
                          <a:pt x="427" y="591"/>
                        </a:lnTo>
                        <a:lnTo>
                          <a:pt x="427" y="584"/>
                        </a:lnTo>
                        <a:lnTo>
                          <a:pt x="429" y="575"/>
                        </a:lnTo>
                        <a:lnTo>
                          <a:pt x="429" y="569"/>
                        </a:lnTo>
                        <a:lnTo>
                          <a:pt x="429" y="560"/>
                        </a:lnTo>
                        <a:lnTo>
                          <a:pt x="429" y="551"/>
                        </a:lnTo>
                        <a:lnTo>
                          <a:pt x="429" y="542"/>
                        </a:lnTo>
                        <a:lnTo>
                          <a:pt x="431" y="536"/>
                        </a:lnTo>
                        <a:lnTo>
                          <a:pt x="431" y="527"/>
                        </a:lnTo>
                        <a:lnTo>
                          <a:pt x="431" y="518"/>
                        </a:lnTo>
                        <a:lnTo>
                          <a:pt x="431" y="509"/>
                        </a:lnTo>
                        <a:lnTo>
                          <a:pt x="433" y="503"/>
                        </a:lnTo>
                        <a:lnTo>
                          <a:pt x="433" y="492"/>
                        </a:lnTo>
                        <a:lnTo>
                          <a:pt x="435" y="485"/>
                        </a:lnTo>
                        <a:lnTo>
                          <a:pt x="435" y="474"/>
                        </a:lnTo>
                        <a:lnTo>
                          <a:pt x="438" y="468"/>
                        </a:lnTo>
                        <a:lnTo>
                          <a:pt x="438" y="457"/>
                        </a:lnTo>
                        <a:lnTo>
                          <a:pt x="440" y="448"/>
                        </a:lnTo>
                        <a:lnTo>
                          <a:pt x="442" y="439"/>
                        </a:lnTo>
                        <a:lnTo>
                          <a:pt x="442" y="432"/>
                        </a:lnTo>
                        <a:lnTo>
                          <a:pt x="444" y="421"/>
                        </a:lnTo>
                        <a:lnTo>
                          <a:pt x="444" y="415"/>
                        </a:lnTo>
                        <a:lnTo>
                          <a:pt x="446" y="404"/>
                        </a:lnTo>
                        <a:lnTo>
                          <a:pt x="449" y="395"/>
                        </a:lnTo>
                        <a:lnTo>
                          <a:pt x="449" y="386"/>
                        </a:lnTo>
                        <a:lnTo>
                          <a:pt x="451" y="378"/>
                        </a:lnTo>
                        <a:lnTo>
                          <a:pt x="451" y="369"/>
                        </a:lnTo>
                        <a:lnTo>
                          <a:pt x="453" y="362"/>
                        </a:lnTo>
                        <a:lnTo>
                          <a:pt x="453" y="351"/>
                        </a:lnTo>
                        <a:lnTo>
                          <a:pt x="455" y="342"/>
                        </a:lnTo>
                        <a:lnTo>
                          <a:pt x="455" y="336"/>
                        </a:lnTo>
                        <a:lnTo>
                          <a:pt x="460" y="327"/>
                        </a:lnTo>
                        <a:lnTo>
                          <a:pt x="460" y="318"/>
                        </a:lnTo>
                        <a:lnTo>
                          <a:pt x="462" y="312"/>
                        </a:lnTo>
                        <a:lnTo>
                          <a:pt x="462" y="303"/>
                        </a:lnTo>
                        <a:lnTo>
                          <a:pt x="464" y="296"/>
                        </a:lnTo>
                        <a:lnTo>
                          <a:pt x="466" y="288"/>
                        </a:lnTo>
                        <a:lnTo>
                          <a:pt x="466" y="281"/>
                        </a:lnTo>
                        <a:lnTo>
                          <a:pt x="468" y="272"/>
                        </a:lnTo>
                        <a:lnTo>
                          <a:pt x="471" y="266"/>
                        </a:lnTo>
                        <a:lnTo>
                          <a:pt x="471" y="257"/>
                        </a:lnTo>
                        <a:lnTo>
                          <a:pt x="473" y="250"/>
                        </a:lnTo>
                        <a:lnTo>
                          <a:pt x="473" y="244"/>
                        </a:lnTo>
                        <a:lnTo>
                          <a:pt x="475" y="237"/>
                        </a:lnTo>
                        <a:lnTo>
                          <a:pt x="475" y="230"/>
                        </a:lnTo>
                        <a:lnTo>
                          <a:pt x="477" y="224"/>
                        </a:lnTo>
                        <a:lnTo>
                          <a:pt x="477" y="217"/>
                        </a:lnTo>
                        <a:lnTo>
                          <a:pt x="479" y="213"/>
                        </a:lnTo>
                        <a:lnTo>
                          <a:pt x="482" y="206"/>
                        </a:lnTo>
                        <a:lnTo>
                          <a:pt x="482" y="202"/>
                        </a:lnTo>
                        <a:lnTo>
                          <a:pt x="484" y="195"/>
                        </a:lnTo>
                        <a:lnTo>
                          <a:pt x="484" y="193"/>
                        </a:lnTo>
                        <a:lnTo>
                          <a:pt x="484" y="186"/>
                        </a:lnTo>
                        <a:lnTo>
                          <a:pt x="486" y="182"/>
                        </a:lnTo>
                        <a:lnTo>
                          <a:pt x="486" y="178"/>
                        </a:lnTo>
                        <a:lnTo>
                          <a:pt x="488" y="173"/>
                        </a:lnTo>
                        <a:lnTo>
                          <a:pt x="488" y="167"/>
                        </a:lnTo>
                        <a:lnTo>
                          <a:pt x="490" y="160"/>
                        </a:lnTo>
                        <a:lnTo>
                          <a:pt x="490" y="156"/>
                        </a:lnTo>
                        <a:lnTo>
                          <a:pt x="493" y="154"/>
                        </a:lnTo>
                        <a:lnTo>
                          <a:pt x="493" y="151"/>
                        </a:lnTo>
                        <a:lnTo>
                          <a:pt x="495" y="151"/>
                        </a:lnTo>
                        <a:lnTo>
                          <a:pt x="126" y="33"/>
                        </a:lnTo>
                        <a:lnTo>
                          <a:pt x="141" y="0"/>
                        </a:lnTo>
                        <a:lnTo>
                          <a:pt x="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738"/>
                  <p:cNvSpPr/>
                  <p:nvPr/>
                </p:nvSpPr>
                <p:spPr>
                  <a:xfrm>
                    <a:off x="1795320" y="4549680"/>
                    <a:ext cx="109440" cy="105480"/>
                  </a:xfrm>
                  <a:custGeom>
                    <a:avLst/>
                    <a:gdLst>
                      <a:gd name="textAreaLeft" fmla="*/ 0 w 109440"/>
                      <a:gd name="textAreaRight" fmla="*/ 109800 w 109440"/>
                      <a:gd name="textAreaTop" fmla="*/ 0 h 105480"/>
                      <a:gd name="textAreaBottom" fmla="*/ 105840 h 105480"/>
                    </a:gdLst>
                    <a:ahLst/>
                    <a:rect l="textAreaLeft" t="textAreaTop" r="textAreaRight" b="textAreaBottom"/>
                    <a:pathLst>
                      <a:path w="154" h="145">
                        <a:moveTo>
                          <a:pt x="104" y="0"/>
                        </a:moveTo>
                        <a:lnTo>
                          <a:pt x="110" y="2"/>
                        </a:lnTo>
                        <a:lnTo>
                          <a:pt x="119" y="9"/>
                        </a:lnTo>
                        <a:lnTo>
                          <a:pt x="128" y="13"/>
                        </a:lnTo>
                        <a:lnTo>
                          <a:pt x="137" y="19"/>
                        </a:lnTo>
                        <a:lnTo>
                          <a:pt x="143" y="26"/>
                        </a:lnTo>
                        <a:lnTo>
                          <a:pt x="150" y="33"/>
                        </a:lnTo>
                        <a:lnTo>
                          <a:pt x="154" y="39"/>
                        </a:lnTo>
                        <a:lnTo>
                          <a:pt x="154" y="48"/>
                        </a:lnTo>
                        <a:lnTo>
                          <a:pt x="150" y="55"/>
                        </a:lnTo>
                        <a:lnTo>
                          <a:pt x="148" y="63"/>
                        </a:lnTo>
                        <a:lnTo>
                          <a:pt x="139" y="72"/>
                        </a:lnTo>
                        <a:lnTo>
                          <a:pt x="132" y="79"/>
                        </a:lnTo>
                        <a:lnTo>
                          <a:pt x="130" y="83"/>
                        </a:lnTo>
                        <a:lnTo>
                          <a:pt x="126" y="88"/>
                        </a:lnTo>
                        <a:lnTo>
                          <a:pt x="119" y="92"/>
                        </a:lnTo>
                        <a:lnTo>
                          <a:pt x="115" y="96"/>
                        </a:lnTo>
                        <a:lnTo>
                          <a:pt x="110" y="99"/>
                        </a:lnTo>
                        <a:lnTo>
                          <a:pt x="106" y="103"/>
                        </a:lnTo>
                        <a:lnTo>
                          <a:pt x="101" y="107"/>
                        </a:lnTo>
                        <a:lnTo>
                          <a:pt x="97" y="112"/>
                        </a:lnTo>
                        <a:lnTo>
                          <a:pt x="90" y="114"/>
                        </a:lnTo>
                        <a:lnTo>
                          <a:pt x="86" y="116"/>
                        </a:lnTo>
                        <a:lnTo>
                          <a:pt x="79" y="118"/>
                        </a:lnTo>
                        <a:lnTo>
                          <a:pt x="75" y="123"/>
                        </a:lnTo>
                        <a:lnTo>
                          <a:pt x="71" y="125"/>
                        </a:lnTo>
                        <a:lnTo>
                          <a:pt x="64" y="127"/>
                        </a:lnTo>
                        <a:lnTo>
                          <a:pt x="60" y="129"/>
                        </a:lnTo>
                        <a:lnTo>
                          <a:pt x="55" y="131"/>
                        </a:lnTo>
                        <a:lnTo>
                          <a:pt x="49" y="134"/>
                        </a:lnTo>
                        <a:lnTo>
                          <a:pt x="44" y="136"/>
                        </a:lnTo>
                        <a:lnTo>
                          <a:pt x="40" y="138"/>
                        </a:lnTo>
                        <a:lnTo>
                          <a:pt x="35" y="140"/>
                        </a:lnTo>
                        <a:lnTo>
                          <a:pt x="29" y="142"/>
                        </a:lnTo>
                        <a:lnTo>
                          <a:pt x="20" y="145"/>
                        </a:lnTo>
                        <a:lnTo>
                          <a:pt x="18" y="140"/>
                        </a:lnTo>
                        <a:lnTo>
                          <a:pt x="14" y="134"/>
                        </a:lnTo>
                        <a:lnTo>
                          <a:pt x="9" y="129"/>
                        </a:lnTo>
                        <a:lnTo>
                          <a:pt x="7" y="125"/>
                        </a:lnTo>
                        <a:lnTo>
                          <a:pt x="0" y="118"/>
                        </a:lnTo>
                        <a:lnTo>
                          <a:pt x="3" y="112"/>
                        </a:lnTo>
                        <a:lnTo>
                          <a:pt x="5" y="105"/>
                        </a:lnTo>
                        <a:lnTo>
                          <a:pt x="9" y="101"/>
                        </a:lnTo>
                        <a:lnTo>
                          <a:pt x="16" y="94"/>
                        </a:lnTo>
                        <a:lnTo>
                          <a:pt x="22" y="88"/>
                        </a:lnTo>
                        <a:lnTo>
                          <a:pt x="29" y="79"/>
                        </a:lnTo>
                        <a:lnTo>
                          <a:pt x="35" y="72"/>
                        </a:lnTo>
                        <a:lnTo>
                          <a:pt x="42" y="63"/>
                        </a:lnTo>
                        <a:lnTo>
                          <a:pt x="49" y="57"/>
                        </a:lnTo>
                        <a:lnTo>
                          <a:pt x="55" y="48"/>
                        </a:lnTo>
                        <a:lnTo>
                          <a:pt x="62" y="41"/>
                        </a:lnTo>
                        <a:lnTo>
                          <a:pt x="71" y="33"/>
                        </a:lnTo>
                        <a:lnTo>
                          <a:pt x="77" y="26"/>
                        </a:lnTo>
                        <a:lnTo>
                          <a:pt x="84" y="17"/>
                        </a:lnTo>
                        <a:lnTo>
                          <a:pt x="90" y="11"/>
                        </a:lnTo>
                        <a:lnTo>
                          <a:pt x="97" y="4"/>
                        </a:lnTo>
                        <a:lnTo>
                          <a:pt x="104" y="0"/>
                        </a:lnTo>
                        <a:lnTo>
                          <a:pt x="1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739"/>
                  <p:cNvSpPr/>
                  <p:nvPr/>
                </p:nvSpPr>
                <p:spPr>
                  <a:xfrm>
                    <a:off x="1351080" y="4634280"/>
                    <a:ext cx="64080" cy="160560"/>
                  </a:xfrm>
                  <a:custGeom>
                    <a:avLst/>
                    <a:gdLst>
                      <a:gd name="textAreaLeft" fmla="*/ 0 w 64080"/>
                      <a:gd name="textAreaRight" fmla="*/ 64440 w 64080"/>
                      <a:gd name="textAreaTop" fmla="*/ 0 h 160560"/>
                      <a:gd name="textAreaBottom" fmla="*/ 160920 h 160560"/>
                    </a:gdLst>
                    <a:ahLst/>
                    <a:rect l="textAreaLeft" t="textAreaTop" r="textAreaRight" b="textAreaBottom"/>
                    <a:pathLst>
                      <a:path w="90" h="220">
                        <a:moveTo>
                          <a:pt x="71" y="20"/>
                        </a:moveTo>
                        <a:lnTo>
                          <a:pt x="79" y="26"/>
                        </a:lnTo>
                        <a:lnTo>
                          <a:pt x="84" y="35"/>
                        </a:lnTo>
                        <a:lnTo>
                          <a:pt x="86" y="37"/>
                        </a:lnTo>
                        <a:lnTo>
                          <a:pt x="88" y="44"/>
                        </a:lnTo>
                        <a:lnTo>
                          <a:pt x="88" y="48"/>
                        </a:lnTo>
                        <a:lnTo>
                          <a:pt x="90" y="53"/>
                        </a:lnTo>
                        <a:lnTo>
                          <a:pt x="90" y="59"/>
                        </a:lnTo>
                        <a:lnTo>
                          <a:pt x="90" y="64"/>
                        </a:lnTo>
                        <a:lnTo>
                          <a:pt x="90" y="68"/>
                        </a:lnTo>
                        <a:lnTo>
                          <a:pt x="90" y="75"/>
                        </a:lnTo>
                        <a:lnTo>
                          <a:pt x="88" y="79"/>
                        </a:lnTo>
                        <a:lnTo>
                          <a:pt x="88" y="86"/>
                        </a:lnTo>
                        <a:lnTo>
                          <a:pt x="88" y="90"/>
                        </a:lnTo>
                        <a:lnTo>
                          <a:pt x="88" y="97"/>
                        </a:lnTo>
                        <a:lnTo>
                          <a:pt x="86" y="103"/>
                        </a:lnTo>
                        <a:lnTo>
                          <a:pt x="84" y="110"/>
                        </a:lnTo>
                        <a:lnTo>
                          <a:pt x="84" y="114"/>
                        </a:lnTo>
                        <a:lnTo>
                          <a:pt x="82" y="123"/>
                        </a:lnTo>
                        <a:lnTo>
                          <a:pt x="82" y="127"/>
                        </a:lnTo>
                        <a:lnTo>
                          <a:pt x="79" y="134"/>
                        </a:lnTo>
                        <a:lnTo>
                          <a:pt x="77" y="141"/>
                        </a:lnTo>
                        <a:lnTo>
                          <a:pt x="77" y="147"/>
                        </a:lnTo>
                        <a:lnTo>
                          <a:pt x="77" y="154"/>
                        </a:lnTo>
                        <a:lnTo>
                          <a:pt x="77" y="160"/>
                        </a:lnTo>
                        <a:lnTo>
                          <a:pt x="77" y="165"/>
                        </a:lnTo>
                        <a:lnTo>
                          <a:pt x="77" y="171"/>
                        </a:lnTo>
                        <a:lnTo>
                          <a:pt x="77" y="178"/>
                        </a:lnTo>
                        <a:lnTo>
                          <a:pt x="77" y="185"/>
                        </a:lnTo>
                        <a:lnTo>
                          <a:pt x="77" y="191"/>
                        </a:lnTo>
                        <a:lnTo>
                          <a:pt x="82" y="198"/>
                        </a:lnTo>
                        <a:lnTo>
                          <a:pt x="79" y="202"/>
                        </a:lnTo>
                        <a:lnTo>
                          <a:pt x="75" y="209"/>
                        </a:lnTo>
                        <a:lnTo>
                          <a:pt x="68" y="213"/>
                        </a:lnTo>
                        <a:lnTo>
                          <a:pt x="62" y="218"/>
                        </a:lnTo>
                        <a:lnTo>
                          <a:pt x="53" y="220"/>
                        </a:lnTo>
                        <a:lnTo>
                          <a:pt x="46" y="220"/>
                        </a:lnTo>
                        <a:lnTo>
                          <a:pt x="38" y="218"/>
                        </a:lnTo>
                        <a:lnTo>
                          <a:pt x="33" y="215"/>
                        </a:lnTo>
                        <a:lnTo>
                          <a:pt x="31" y="209"/>
                        </a:lnTo>
                        <a:lnTo>
                          <a:pt x="29" y="202"/>
                        </a:lnTo>
                        <a:lnTo>
                          <a:pt x="27" y="196"/>
                        </a:lnTo>
                        <a:lnTo>
                          <a:pt x="24" y="189"/>
                        </a:lnTo>
                        <a:lnTo>
                          <a:pt x="20" y="182"/>
                        </a:lnTo>
                        <a:lnTo>
                          <a:pt x="20" y="176"/>
                        </a:lnTo>
                        <a:lnTo>
                          <a:pt x="18" y="169"/>
                        </a:lnTo>
                        <a:lnTo>
                          <a:pt x="16" y="165"/>
                        </a:lnTo>
                        <a:lnTo>
                          <a:pt x="14" y="158"/>
                        </a:lnTo>
                        <a:lnTo>
                          <a:pt x="11" y="152"/>
                        </a:lnTo>
                        <a:lnTo>
                          <a:pt x="11" y="147"/>
                        </a:lnTo>
                        <a:lnTo>
                          <a:pt x="9" y="141"/>
                        </a:lnTo>
                        <a:lnTo>
                          <a:pt x="7" y="136"/>
                        </a:lnTo>
                        <a:lnTo>
                          <a:pt x="7" y="130"/>
                        </a:lnTo>
                        <a:lnTo>
                          <a:pt x="5" y="125"/>
                        </a:lnTo>
                        <a:lnTo>
                          <a:pt x="5" y="119"/>
                        </a:lnTo>
                        <a:lnTo>
                          <a:pt x="3" y="114"/>
                        </a:lnTo>
                        <a:lnTo>
                          <a:pt x="3" y="108"/>
                        </a:lnTo>
                        <a:lnTo>
                          <a:pt x="0" y="101"/>
                        </a:lnTo>
                        <a:lnTo>
                          <a:pt x="0" y="97"/>
                        </a:lnTo>
                        <a:lnTo>
                          <a:pt x="0" y="92"/>
                        </a:lnTo>
                        <a:lnTo>
                          <a:pt x="0" y="86"/>
                        </a:lnTo>
                        <a:lnTo>
                          <a:pt x="0" y="81"/>
                        </a:lnTo>
                        <a:lnTo>
                          <a:pt x="0" y="77"/>
                        </a:lnTo>
                        <a:lnTo>
                          <a:pt x="0" y="70"/>
                        </a:lnTo>
                        <a:lnTo>
                          <a:pt x="0" y="66"/>
                        </a:lnTo>
                        <a:lnTo>
                          <a:pt x="0" y="62"/>
                        </a:lnTo>
                        <a:lnTo>
                          <a:pt x="0" y="55"/>
                        </a:lnTo>
                        <a:lnTo>
                          <a:pt x="0" y="51"/>
                        </a:lnTo>
                        <a:lnTo>
                          <a:pt x="3" y="46"/>
                        </a:lnTo>
                        <a:lnTo>
                          <a:pt x="5" y="42"/>
                        </a:lnTo>
                        <a:lnTo>
                          <a:pt x="7" y="35"/>
                        </a:lnTo>
                        <a:lnTo>
                          <a:pt x="7" y="31"/>
                        </a:lnTo>
                        <a:lnTo>
                          <a:pt x="11" y="26"/>
                        </a:lnTo>
                        <a:lnTo>
                          <a:pt x="14" y="20"/>
                        </a:lnTo>
                        <a:lnTo>
                          <a:pt x="18" y="15"/>
                        </a:lnTo>
                        <a:lnTo>
                          <a:pt x="20" y="11"/>
                        </a:lnTo>
                        <a:lnTo>
                          <a:pt x="27" y="9"/>
                        </a:lnTo>
                        <a:lnTo>
                          <a:pt x="31" y="5"/>
                        </a:lnTo>
                        <a:lnTo>
                          <a:pt x="38" y="2"/>
                        </a:lnTo>
                        <a:lnTo>
                          <a:pt x="42" y="0"/>
                        </a:lnTo>
                        <a:lnTo>
                          <a:pt x="46" y="0"/>
                        </a:lnTo>
                        <a:lnTo>
                          <a:pt x="53" y="0"/>
                        </a:lnTo>
                        <a:lnTo>
                          <a:pt x="57" y="2"/>
                        </a:lnTo>
                        <a:lnTo>
                          <a:pt x="60" y="2"/>
                        </a:lnTo>
                        <a:lnTo>
                          <a:pt x="64" y="7"/>
                        </a:lnTo>
                        <a:lnTo>
                          <a:pt x="68" y="13"/>
                        </a:lnTo>
                        <a:lnTo>
                          <a:pt x="71" y="20"/>
                        </a:lnTo>
                        <a:lnTo>
                          <a:pt x="71"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740"/>
                  <p:cNvSpPr/>
                  <p:nvPr/>
                </p:nvSpPr>
                <p:spPr>
                  <a:xfrm>
                    <a:off x="1149480" y="4884840"/>
                    <a:ext cx="112320" cy="50760"/>
                  </a:xfrm>
                  <a:custGeom>
                    <a:avLst/>
                    <a:gdLst>
                      <a:gd name="textAreaLeft" fmla="*/ 0 w 112320"/>
                      <a:gd name="textAreaRight" fmla="*/ 112680 w 112320"/>
                      <a:gd name="textAreaTop" fmla="*/ 0 h 50760"/>
                      <a:gd name="textAreaBottom" fmla="*/ 51120 h 50760"/>
                    </a:gdLst>
                    <a:ahLst/>
                    <a:rect l="textAreaLeft" t="textAreaTop" r="textAreaRight" b="textAreaBottom"/>
                    <a:pathLst>
                      <a:path w="158" h="70">
                        <a:moveTo>
                          <a:pt x="24" y="2"/>
                        </a:moveTo>
                        <a:lnTo>
                          <a:pt x="28" y="2"/>
                        </a:lnTo>
                        <a:lnTo>
                          <a:pt x="33" y="2"/>
                        </a:lnTo>
                        <a:lnTo>
                          <a:pt x="37" y="2"/>
                        </a:lnTo>
                        <a:lnTo>
                          <a:pt x="42" y="2"/>
                        </a:lnTo>
                        <a:lnTo>
                          <a:pt x="48" y="2"/>
                        </a:lnTo>
                        <a:lnTo>
                          <a:pt x="53" y="2"/>
                        </a:lnTo>
                        <a:lnTo>
                          <a:pt x="57" y="2"/>
                        </a:lnTo>
                        <a:lnTo>
                          <a:pt x="64" y="2"/>
                        </a:lnTo>
                        <a:lnTo>
                          <a:pt x="68" y="0"/>
                        </a:lnTo>
                        <a:lnTo>
                          <a:pt x="72" y="0"/>
                        </a:lnTo>
                        <a:lnTo>
                          <a:pt x="77" y="0"/>
                        </a:lnTo>
                        <a:lnTo>
                          <a:pt x="83" y="0"/>
                        </a:lnTo>
                        <a:lnTo>
                          <a:pt x="88" y="0"/>
                        </a:lnTo>
                        <a:lnTo>
                          <a:pt x="92" y="0"/>
                        </a:lnTo>
                        <a:lnTo>
                          <a:pt x="97" y="0"/>
                        </a:lnTo>
                        <a:lnTo>
                          <a:pt x="103" y="2"/>
                        </a:lnTo>
                        <a:lnTo>
                          <a:pt x="112" y="2"/>
                        </a:lnTo>
                        <a:lnTo>
                          <a:pt x="121" y="2"/>
                        </a:lnTo>
                        <a:lnTo>
                          <a:pt x="130" y="4"/>
                        </a:lnTo>
                        <a:lnTo>
                          <a:pt x="136" y="8"/>
                        </a:lnTo>
                        <a:lnTo>
                          <a:pt x="143" y="13"/>
                        </a:lnTo>
                        <a:lnTo>
                          <a:pt x="149" y="19"/>
                        </a:lnTo>
                        <a:lnTo>
                          <a:pt x="151" y="22"/>
                        </a:lnTo>
                        <a:lnTo>
                          <a:pt x="154" y="26"/>
                        </a:lnTo>
                        <a:lnTo>
                          <a:pt x="156" y="33"/>
                        </a:lnTo>
                        <a:lnTo>
                          <a:pt x="158" y="37"/>
                        </a:lnTo>
                        <a:lnTo>
                          <a:pt x="158" y="41"/>
                        </a:lnTo>
                        <a:lnTo>
                          <a:pt x="156" y="44"/>
                        </a:lnTo>
                        <a:lnTo>
                          <a:pt x="154" y="46"/>
                        </a:lnTo>
                        <a:lnTo>
                          <a:pt x="154" y="48"/>
                        </a:lnTo>
                        <a:lnTo>
                          <a:pt x="154" y="50"/>
                        </a:lnTo>
                        <a:lnTo>
                          <a:pt x="154" y="57"/>
                        </a:lnTo>
                        <a:lnTo>
                          <a:pt x="145" y="57"/>
                        </a:lnTo>
                        <a:lnTo>
                          <a:pt x="138" y="57"/>
                        </a:lnTo>
                        <a:lnTo>
                          <a:pt x="130" y="57"/>
                        </a:lnTo>
                        <a:lnTo>
                          <a:pt x="121" y="55"/>
                        </a:lnTo>
                        <a:lnTo>
                          <a:pt x="112" y="55"/>
                        </a:lnTo>
                        <a:lnTo>
                          <a:pt x="105" y="55"/>
                        </a:lnTo>
                        <a:lnTo>
                          <a:pt x="97" y="52"/>
                        </a:lnTo>
                        <a:lnTo>
                          <a:pt x="88" y="52"/>
                        </a:lnTo>
                        <a:lnTo>
                          <a:pt x="83" y="50"/>
                        </a:lnTo>
                        <a:lnTo>
                          <a:pt x="77" y="50"/>
                        </a:lnTo>
                        <a:lnTo>
                          <a:pt x="72" y="50"/>
                        </a:lnTo>
                        <a:lnTo>
                          <a:pt x="70" y="50"/>
                        </a:lnTo>
                        <a:lnTo>
                          <a:pt x="59" y="50"/>
                        </a:lnTo>
                        <a:lnTo>
                          <a:pt x="53" y="52"/>
                        </a:lnTo>
                        <a:lnTo>
                          <a:pt x="42" y="55"/>
                        </a:lnTo>
                        <a:lnTo>
                          <a:pt x="35" y="59"/>
                        </a:lnTo>
                        <a:lnTo>
                          <a:pt x="26" y="63"/>
                        </a:lnTo>
                        <a:lnTo>
                          <a:pt x="20" y="70"/>
                        </a:lnTo>
                        <a:lnTo>
                          <a:pt x="13" y="70"/>
                        </a:lnTo>
                        <a:lnTo>
                          <a:pt x="9" y="66"/>
                        </a:lnTo>
                        <a:lnTo>
                          <a:pt x="6" y="63"/>
                        </a:lnTo>
                        <a:lnTo>
                          <a:pt x="4" y="59"/>
                        </a:lnTo>
                        <a:lnTo>
                          <a:pt x="2" y="55"/>
                        </a:lnTo>
                        <a:lnTo>
                          <a:pt x="2" y="50"/>
                        </a:lnTo>
                        <a:lnTo>
                          <a:pt x="0" y="44"/>
                        </a:lnTo>
                        <a:lnTo>
                          <a:pt x="0" y="37"/>
                        </a:lnTo>
                        <a:lnTo>
                          <a:pt x="2" y="30"/>
                        </a:lnTo>
                        <a:lnTo>
                          <a:pt x="4" y="26"/>
                        </a:lnTo>
                        <a:lnTo>
                          <a:pt x="6" y="17"/>
                        </a:lnTo>
                        <a:lnTo>
                          <a:pt x="11" y="13"/>
                        </a:lnTo>
                        <a:lnTo>
                          <a:pt x="17" y="6"/>
                        </a:lnTo>
                        <a:lnTo>
                          <a:pt x="24" y="2"/>
                        </a:lnTo>
                        <a:lnTo>
                          <a:pt x="24" y="2"/>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0" name="Freeform 741"/>
                  <p:cNvSpPr/>
                  <p:nvPr/>
                </p:nvSpPr>
                <p:spPr>
                  <a:xfrm>
                    <a:off x="2124000" y="5323680"/>
                    <a:ext cx="155880" cy="78480"/>
                  </a:xfrm>
                  <a:custGeom>
                    <a:avLst/>
                    <a:gdLst>
                      <a:gd name="textAreaLeft" fmla="*/ 0 w 155880"/>
                      <a:gd name="textAreaRight" fmla="*/ 156240 w 155880"/>
                      <a:gd name="textAreaTop" fmla="*/ 0 h 78480"/>
                      <a:gd name="textAreaBottom" fmla="*/ 78840 h 78480"/>
                    </a:gdLst>
                    <a:ahLst/>
                    <a:rect l="textAreaLeft" t="textAreaTop" r="textAreaRight" b="textAreaBottom"/>
                    <a:pathLst>
                      <a:path w="219" h="108">
                        <a:moveTo>
                          <a:pt x="6" y="33"/>
                        </a:moveTo>
                        <a:lnTo>
                          <a:pt x="11" y="33"/>
                        </a:lnTo>
                        <a:lnTo>
                          <a:pt x="17" y="31"/>
                        </a:lnTo>
                        <a:lnTo>
                          <a:pt x="24" y="29"/>
                        </a:lnTo>
                        <a:lnTo>
                          <a:pt x="33" y="27"/>
                        </a:lnTo>
                        <a:lnTo>
                          <a:pt x="39" y="25"/>
                        </a:lnTo>
                        <a:lnTo>
                          <a:pt x="46" y="22"/>
                        </a:lnTo>
                        <a:lnTo>
                          <a:pt x="52" y="20"/>
                        </a:lnTo>
                        <a:lnTo>
                          <a:pt x="61" y="20"/>
                        </a:lnTo>
                        <a:lnTo>
                          <a:pt x="68" y="16"/>
                        </a:lnTo>
                        <a:lnTo>
                          <a:pt x="77" y="14"/>
                        </a:lnTo>
                        <a:lnTo>
                          <a:pt x="83" y="11"/>
                        </a:lnTo>
                        <a:lnTo>
                          <a:pt x="92" y="9"/>
                        </a:lnTo>
                        <a:lnTo>
                          <a:pt x="99" y="7"/>
                        </a:lnTo>
                        <a:lnTo>
                          <a:pt x="107" y="7"/>
                        </a:lnTo>
                        <a:lnTo>
                          <a:pt x="114" y="5"/>
                        </a:lnTo>
                        <a:lnTo>
                          <a:pt x="123" y="5"/>
                        </a:lnTo>
                        <a:lnTo>
                          <a:pt x="129" y="3"/>
                        </a:lnTo>
                        <a:lnTo>
                          <a:pt x="136" y="0"/>
                        </a:lnTo>
                        <a:lnTo>
                          <a:pt x="145" y="0"/>
                        </a:lnTo>
                        <a:lnTo>
                          <a:pt x="151" y="0"/>
                        </a:lnTo>
                        <a:lnTo>
                          <a:pt x="158" y="0"/>
                        </a:lnTo>
                        <a:lnTo>
                          <a:pt x="165" y="3"/>
                        </a:lnTo>
                        <a:lnTo>
                          <a:pt x="171" y="3"/>
                        </a:lnTo>
                        <a:lnTo>
                          <a:pt x="180" y="5"/>
                        </a:lnTo>
                        <a:lnTo>
                          <a:pt x="184" y="7"/>
                        </a:lnTo>
                        <a:lnTo>
                          <a:pt x="191" y="9"/>
                        </a:lnTo>
                        <a:lnTo>
                          <a:pt x="195" y="11"/>
                        </a:lnTo>
                        <a:lnTo>
                          <a:pt x="200" y="18"/>
                        </a:lnTo>
                        <a:lnTo>
                          <a:pt x="204" y="22"/>
                        </a:lnTo>
                        <a:lnTo>
                          <a:pt x="211" y="27"/>
                        </a:lnTo>
                        <a:lnTo>
                          <a:pt x="213" y="33"/>
                        </a:lnTo>
                        <a:lnTo>
                          <a:pt x="217" y="40"/>
                        </a:lnTo>
                        <a:lnTo>
                          <a:pt x="217" y="44"/>
                        </a:lnTo>
                        <a:lnTo>
                          <a:pt x="217" y="49"/>
                        </a:lnTo>
                        <a:lnTo>
                          <a:pt x="217" y="53"/>
                        </a:lnTo>
                        <a:lnTo>
                          <a:pt x="219" y="58"/>
                        </a:lnTo>
                        <a:lnTo>
                          <a:pt x="217" y="64"/>
                        </a:lnTo>
                        <a:lnTo>
                          <a:pt x="217" y="68"/>
                        </a:lnTo>
                        <a:lnTo>
                          <a:pt x="217" y="73"/>
                        </a:lnTo>
                        <a:lnTo>
                          <a:pt x="215" y="79"/>
                        </a:lnTo>
                        <a:lnTo>
                          <a:pt x="213" y="84"/>
                        </a:lnTo>
                        <a:lnTo>
                          <a:pt x="213" y="88"/>
                        </a:lnTo>
                        <a:lnTo>
                          <a:pt x="211" y="93"/>
                        </a:lnTo>
                        <a:lnTo>
                          <a:pt x="208" y="97"/>
                        </a:lnTo>
                        <a:lnTo>
                          <a:pt x="202" y="99"/>
                        </a:lnTo>
                        <a:lnTo>
                          <a:pt x="195" y="104"/>
                        </a:lnTo>
                        <a:lnTo>
                          <a:pt x="189" y="101"/>
                        </a:lnTo>
                        <a:lnTo>
                          <a:pt x="182" y="101"/>
                        </a:lnTo>
                        <a:lnTo>
                          <a:pt x="176" y="101"/>
                        </a:lnTo>
                        <a:lnTo>
                          <a:pt x="169" y="101"/>
                        </a:lnTo>
                        <a:lnTo>
                          <a:pt x="162" y="101"/>
                        </a:lnTo>
                        <a:lnTo>
                          <a:pt x="156" y="104"/>
                        </a:lnTo>
                        <a:lnTo>
                          <a:pt x="147" y="104"/>
                        </a:lnTo>
                        <a:lnTo>
                          <a:pt x="140" y="104"/>
                        </a:lnTo>
                        <a:lnTo>
                          <a:pt x="134" y="104"/>
                        </a:lnTo>
                        <a:lnTo>
                          <a:pt x="127" y="106"/>
                        </a:lnTo>
                        <a:lnTo>
                          <a:pt x="118" y="106"/>
                        </a:lnTo>
                        <a:lnTo>
                          <a:pt x="112" y="106"/>
                        </a:lnTo>
                        <a:lnTo>
                          <a:pt x="105" y="106"/>
                        </a:lnTo>
                        <a:lnTo>
                          <a:pt x="96" y="106"/>
                        </a:lnTo>
                        <a:lnTo>
                          <a:pt x="90" y="108"/>
                        </a:lnTo>
                        <a:lnTo>
                          <a:pt x="83" y="108"/>
                        </a:lnTo>
                        <a:lnTo>
                          <a:pt x="77" y="108"/>
                        </a:lnTo>
                        <a:lnTo>
                          <a:pt x="68" y="108"/>
                        </a:lnTo>
                        <a:lnTo>
                          <a:pt x="61" y="108"/>
                        </a:lnTo>
                        <a:lnTo>
                          <a:pt x="57" y="108"/>
                        </a:lnTo>
                        <a:lnTo>
                          <a:pt x="50" y="106"/>
                        </a:lnTo>
                        <a:lnTo>
                          <a:pt x="44" y="106"/>
                        </a:lnTo>
                        <a:lnTo>
                          <a:pt x="39" y="106"/>
                        </a:lnTo>
                        <a:lnTo>
                          <a:pt x="33" y="106"/>
                        </a:lnTo>
                        <a:lnTo>
                          <a:pt x="28" y="104"/>
                        </a:lnTo>
                        <a:lnTo>
                          <a:pt x="24" y="101"/>
                        </a:lnTo>
                        <a:lnTo>
                          <a:pt x="20" y="99"/>
                        </a:lnTo>
                        <a:lnTo>
                          <a:pt x="15" y="99"/>
                        </a:lnTo>
                        <a:lnTo>
                          <a:pt x="9" y="95"/>
                        </a:lnTo>
                        <a:lnTo>
                          <a:pt x="6" y="90"/>
                        </a:lnTo>
                        <a:lnTo>
                          <a:pt x="4" y="84"/>
                        </a:lnTo>
                        <a:lnTo>
                          <a:pt x="2" y="77"/>
                        </a:lnTo>
                        <a:lnTo>
                          <a:pt x="0" y="71"/>
                        </a:lnTo>
                        <a:lnTo>
                          <a:pt x="0" y="62"/>
                        </a:lnTo>
                        <a:lnTo>
                          <a:pt x="0" y="53"/>
                        </a:lnTo>
                        <a:lnTo>
                          <a:pt x="2" y="47"/>
                        </a:lnTo>
                        <a:lnTo>
                          <a:pt x="4" y="38"/>
                        </a:lnTo>
                        <a:lnTo>
                          <a:pt x="6" y="33"/>
                        </a:lnTo>
                        <a:lnTo>
                          <a:pt x="6" y="3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1" name="Freeform 742"/>
                  <p:cNvSpPr/>
                  <p:nvPr/>
                </p:nvSpPr>
                <p:spPr>
                  <a:xfrm>
                    <a:off x="1928160" y="5625360"/>
                    <a:ext cx="121680" cy="155160"/>
                  </a:xfrm>
                  <a:custGeom>
                    <a:avLst/>
                    <a:gdLst>
                      <a:gd name="textAreaLeft" fmla="*/ 0 w 121680"/>
                      <a:gd name="textAreaRight" fmla="*/ 122040 w 121680"/>
                      <a:gd name="textAreaTop" fmla="*/ 0 h 155160"/>
                      <a:gd name="textAreaBottom" fmla="*/ 155520 h 155160"/>
                    </a:gdLst>
                    <a:ahLst/>
                    <a:rect l="textAreaLeft" t="textAreaTop" r="textAreaRight" b="textAreaBottom"/>
                    <a:pathLst>
                      <a:path w="171" h="213">
                        <a:moveTo>
                          <a:pt x="51" y="2"/>
                        </a:moveTo>
                        <a:lnTo>
                          <a:pt x="55" y="2"/>
                        </a:lnTo>
                        <a:lnTo>
                          <a:pt x="62" y="5"/>
                        </a:lnTo>
                        <a:lnTo>
                          <a:pt x="66" y="7"/>
                        </a:lnTo>
                        <a:lnTo>
                          <a:pt x="73" y="9"/>
                        </a:lnTo>
                        <a:lnTo>
                          <a:pt x="77" y="11"/>
                        </a:lnTo>
                        <a:lnTo>
                          <a:pt x="84" y="13"/>
                        </a:lnTo>
                        <a:lnTo>
                          <a:pt x="90" y="18"/>
                        </a:lnTo>
                        <a:lnTo>
                          <a:pt x="97" y="22"/>
                        </a:lnTo>
                        <a:lnTo>
                          <a:pt x="101" y="27"/>
                        </a:lnTo>
                        <a:lnTo>
                          <a:pt x="106" y="31"/>
                        </a:lnTo>
                        <a:lnTo>
                          <a:pt x="112" y="35"/>
                        </a:lnTo>
                        <a:lnTo>
                          <a:pt x="117" y="42"/>
                        </a:lnTo>
                        <a:lnTo>
                          <a:pt x="123" y="46"/>
                        </a:lnTo>
                        <a:lnTo>
                          <a:pt x="128" y="53"/>
                        </a:lnTo>
                        <a:lnTo>
                          <a:pt x="132" y="57"/>
                        </a:lnTo>
                        <a:lnTo>
                          <a:pt x="139" y="64"/>
                        </a:lnTo>
                        <a:lnTo>
                          <a:pt x="141" y="71"/>
                        </a:lnTo>
                        <a:lnTo>
                          <a:pt x="145" y="77"/>
                        </a:lnTo>
                        <a:lnTo>
                          <a:pt x="150" y="82"/>
                        </a:lnTo>
                        <a:lnTo>
                          <a:pt x="154" y="90"/>
                        </a:lnTo>
                        <a:lnTo>
                          <a:pt x="156" y="97"/>
                        </a:lnTo>
                        <a:lnTo>
                          <a:pt x="158" y="103"/>
                        </a:lnTo>
                        <a:lnTo>
                          <a:pt x="163" y="110"/>
                        </a:lnTo>
                        <a:lnTo>
                          <a:pt x="165" y="119"/>
                        </a:lnTo>
                        <a:lnTo>
                          <a:pt x="167" y="125"/>
                        </a:lnTo>
                        <a:lnTo>
                          <a:pt x="169" y="134"/>
                        </a:lnTo>
                        <a:lnTo>
                          <a:pt x="169" y="141"/>
                        </a:lnTo>
                        <a:lnTo>
                          <a:pt x="171" y="147"/>
                        </a:lnTo>
                        <a:lnTo>
                          <a:pt x="171" y="156"/>
                        </a:lnTo>
                        <a:lnTo>
                          <a:pt x="171" y="163"/>
                        </a:lnTo>
                        <a:lnTo>
                          <a:pt x="171" y="172"/>
                        </a:lnTo>
                        <a:lnTo>
                          <a:pt x="171" y="180"/>
                        </a:lnTo>
                        <a:lnTo>
                          <a:pt x="165" y="180"/>
                        </a:lnTo>
                        <a:lnTo>
                          <a:pt x="156" y="185"/>
                        </a:lnTo>
                        <a:lnTo>
                          <a:pt x="150" y="189"/>
                        </a:lnTo>
                        <a:lnTo>
                          <a:pt x="141" y="196"/>
                        </a:lnTo>
                        <a:lnTo>
                          <a:pt x="132" y="202"/>
                        </a:lnTo>
                        <a:lnTo>
                          <a:pt x="125" y="207"/>
                        </a:lnTo>
                        <a:lnTo>
                          <a:pt x="117" y="211"/>
                        </a:lnTo>
                        <a:lnTo>
                          <a:pt x="114" y="213"/>
                        </a:lnTo>
                        <a:lnTo>
                          <a:pt x="110" y="207"/>
                        </a:lnTo>
                        <a:lnTo>
                          <a:pt x="110" y="202"/>
                        </a:lnTo>
                        <a:lnTo>
                          <a:pt x="106" y="196"/>
                        </a:lnTo>
                        <a:lnTo>
                          <a:pt x="106" y="191"/>
                        </a:lnTo>
                        <a:lnTo>
                          <a:pt x="103" y="185"/>
                        </a:lnTo>
                        <a:lnTo>
                          <a:pt x="101" y="180"/>
                        </a:lnTo>
                        <a:lnTo>
                          <a:pt x="99" y="174"/>
                        </a:lnTo>
                        <a:lnTo>
                          <a:pt x="97" y="169"/>
                        </a:lnTo>
                        <a:lnTo>
                          <a:pt x="95" y="163"/>
                        </a:lnTo>
                        <a:lnTo>
                          <a:pt x="92" y="156"/>
                        </a:lnTo>
                        <a:lnTo>
                          <a:pt x="90" y="152"/>
                        </a:lnTo>
                        <a:lnTo>
                          <a:pt x="88" y="145"/>
                        </a:lnTo>
                        <a:lnTo>
                          <a:pt x="84" y="141"/>
                        </a:lnTo>
                        <a:lnTo>
                          <a:pt x="81" y="134"/>
                        </a:lnTo>
                        <a:lnTo>
                          <a:pt x="79" y="130"/>
                        </a:lnTo>
                        <a:lnTo>
                          <a:pt x="77" y="123"/>
                        </a:lnTo>
                        <a:lnTo>
                          <a:pt x="73" y="119"/>
                        </a:lnTo>
                        <a:lnTo>
                          <a:pt x="68" y="112"/>
                        </a:lnTo>
                        <a:lnTo>
                          <a:pt x="66" y="106"/>
                        </a:lnTo>
                        <a:lnTo>
                          <a:pt x="62" y="101"/>
                        </a:lnTo>
                        <a:lnTo>
                          <a:pt x="57" y="97"/>
                        </a:lnTo>
                        <a:lnTo>
                          <a:pt x="55" y="92"/>
                        </a:lnTo>
                        <a:lnTo>
                          <a:pt x="51" y="86"/>
                        </a:lnTo>
                        <a:lnTo>
                          <a:pt x="48" y="82"/>
                        </a:lnTo>
                        <a:lnTo>
                          <a:pt x="42" y="77"/>
                        </a:lnTo>
                        <a:lnTo>
                          <a:pt x="37" y="71"/>
                        </a:lnTo>
                        <a:lnTo>
                          <a:pt x="33" y="66"/>
                        </a:lnTo>
                        <a:lnTo>
                          <a:pt x="29" y="64"/>
                        </a:lnTo>
                        <a:lnTo>
                          <a:pt x="24" y="60"/>
                        </a:lnTo>
                        <a:lnTo>
                          <a:pt x="20" y="55"/>
                        </a:lnTo>
                        <a:lnTo>
                          <a:pt x="13" y="53"/>
                        </a:lnTo>
                        <a:lnTo>
                          <a:pt x="9" y="51"/>
                        </a:lnTo>
                        <a:lnTo>
                          <a:pt x="4" y="44"/>
                        </a:lnTo>
                        <a:lnTo>
                          <a:pt x="2" y="35"/>
                        </a:lnTo>
                        <a:lnTo>
                          <a:pt x="0" y="27"/>
                        </a:lnTo>
                        <a:lnTo>
                          <a:pt x="2" y="18"/>
                        </a:lnTo>
                        <a:lnTo>
                          <a:pt x="4" y="13"/>
                        </a:lnTo>
                        <a:lnTo>
                          <a:pt x="9" y="11"/>
                        </a:lnTo>
                        <a:lnTo>
                          <a:pt x="11" y="7"/>
                        </a:lnTo>
                        <a:lnTo>
                          <a:pt x="18" y="5"/>
                        </a:lnTo>
                        <a:lnTo>
                          <a:pt x="22" y="2"/>
                        </a:lnTo>
                        <a:lnTo>
                          <a:pt x="31" y="0"/>
                        </a:lnTo>
                        <a:lnTo>
                          <a:pt x="35" y="0"/>
                        </a:lnTo>
                        <a:lnTo>
                          <a:pt x="40" y="0"/>
                        </a:lnTo>
                        <a:lnTo>
                          <a:pt x="44" y="0"/>
                        </a:lnTo>
                        <a:lnTo>
                          <a:pt x="51" y="2"/>
                        </a:lnTo>
                        <a:lnTo>
                          <a:pt x="5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Freeform 743"/>
                <p:cNvSpPr/>
                <p:nvPr/>
              </p:nvSpPr>
              <p:spPr>
                <a:xfrm>
                  <a:off x="1657800" y="5958720"/>
                  <a:ext cx="79560" cy="145800"/>
                </a:xfrm>
                <a:custGeom>
                  <a:avLst/>
                  <a:gdLst>
                    <a:gd name="textAreaLeft" fmla="*/ 0 w 79560"/>
                    <a:gd name="textAreaRight" fmla="*/ 79920 w 79560"/>
                    <a:gd name="textAreaTop" fmla="*/ 0 h 145800"/>
                    <a:gd name="textAreaBottom" fmla="*/ 145800 h 145800"/>
                  </a:gdLst>
                  <a:ahLst/>
                  <a:rect l="textAreaLeft" t="textAreaTop" r="textAreaRight" b="textAreaBottom"/>
                  <a:pathLst>
                    <a:path w="112" h="200">
                      <a:moveTo>
                        <a:pt x="57" y="0"/>
                      </a:moveTo>
                      <a:lnTo>
                        <a:pt x="64" y="0"/>
                      </a:lnTo>
                      <a:lnTo>
                        <a:pt x="70" y="2"/>
                      </a:lnTo>
                      <a:lnTo>
                        <a:pt x="77" y="4"/>
                      </a:lnTo>
                      <a:lnTo>
                        <a:pt x="81" y="9"/>
                      </a:lnTo>
                      <a:lnTo>
                        <a:pt x="86" y="11"/>
                      </a:lnTo>
                      <a:lnTo>
                        <a:pt x="90" y="15"/>
                      </a:lnTo>
                      <a:lnTo>
                        <a:pt x="94" y="20"/>
                      </a:lnTo>
                      <a:lnTo>
                        <a:pt x="99" y="24"/>
                      </a:lnTo>
                      <a:lnTo>
                        <a:pt x="101" y="33"/>
                      </a:lnTo>
                      <a:lnTo>
                        <a:pt x="105" y="42"/>
                      </a:lnTo>
                      <a:lnTo>
                        <a:pt x="105" y="46"/>
                      </a:lnTo>
                      <a:lnTo>
                        <a:pt x="108" y="53"/>
                      </a:lnTo>
                      <a:lnTo>
                        <a:pt x="110" y="57"/>
                      </a:lnTo>
                      <a:lnTo>
                        <a:pt x="112" y="64"/>
                      </a:lnTo>
                      <a:lnTo>
                        <a:pt x="112" y="70"/>
                      </a:lnTo>
                      <a:lnTo>
                        <a:pt x="112" y="75"/>
                      </a:lnTo>
                      <a:lnTo>
                        <a:pt x="112" y="81"/>
                      </a:lnTo>
                      <a:lnTo>
                        <a:pt x="112" y="88"/>
                      </a:lnTo>
                      <a:lnTo>
                        <a:pt x="112" y="94"/>
                      </a:lnTo>
                      <a:lnTo>
                        <a:pt x="112" y="101"/>
                      </a:lnTo>
                      <a:lnTo>
                        <a:pt x="112" y="108"/>
                      </a:lnTo>
                      <a:lnTo>
                        <a:pt x="112" y="114"/>
                      </a:lnTo>
                      <a:lnTo>
                        <a:pt x="110" y="121"/>
                      </a:lnTo>
                      <a:lnTo>
                        <a:pt x="110" y="125"/>
                      </a:lnTo>
                      <a:lnTo>
                        <a:pt x="108" y="132"/>
                      </a:lnTo>
                      <a:lnTo>
                        <a:pt x="108" y="138"/>
                      </a:lnTo>
                      <a:lnTo>
                        <a:pt x="105" y="143"/>
                      </a:lnTo>
                      <a:lnTo>
                        <a:pt x="103" y="149"/>
                      </a:lnTo>
                      <a:lnTo>
                        <a:pt x="101" y="156"/>
                      </a:lnTo>
                      <a:lnTo>
                        <a:pt x="101" y="160"/>
                      </a:lnTo>
                      <a:lnTo>
                        <a:pt x="99" y="165"/>
                      </a:lnTo>
                      <a:lnTo>
                        <a:pt x="94" y="169"/>
                      </a:lnTo>
                      <a:lnTo>
                        <a:pt x="92" y="174"/>
                      </a:lnTo>
                      <a:lnTo>
                        <a:pt x="90" y="180"/>
                      </a:lnTo>
                      <a:lnTo>
                        <a:pt x="83" y="187"/>
                      </a:lnTo>
                      <a:lnTo>
                        <a:pt x="77" y="193"/>
                      </a:lnTo>
                      <a:lnTo>
                        <a:pt x="72" y="193"/>
                      </a:lnTo>
                      <a:lnTo>
                        <a:pt x="68" y="195"/>
                      </a:lnTo>
                      <a:lnTo>
                        <a:pt x="64" y="198"/>
                      </a:lnTo>
                      <a:lnTo>
                        <a:pt x="59" y="200"/>
                      </a:lnTo>
                      <a:lnTo>
                        <a:pt x="53" y="200"/>
                      </a:lnTo>
                      <a:lnTo>
                        <a:pt x="46" y="200"/>
                      </a:lnTo>
                      <a:lnTo>
                        <a:pt x="42" y="198"/>
                      </a:lnTo>
                      <a:lnTo>
                        <a:pt x="37" y="198"/>
                      </a:lnTo>
                      <a:lnTo>
                        <a:pt x="31" y="195"/>
                      </a:lnTo>
                      <a:lnTo>
                        <a:pt x="24" y="193"/>
                      </a:lnTo>
                      <a:lnTo>
                        <a:pt x="20" y="191"/>
                      </a:lnTo>
                      <a:lnTo>
                        <a:pt x="15" y="189"/>
                      </a:lnTo>
                      <a:lnTo>
                        <a:pt x="11" y="184"/>
                      </a:lnTo>
                      <a:lnTo>
                        <a:pt x="7" y="180"/>
                      </a:lnTo>
                      <a:lnTo>
                        <a:pt x="2" y="174"/>
                      </a:lnTo>
                      <a:lnTo>
                        <a:pt x="0" y="169"/>
                      </a:lnTo>
                      <a:lnTo>
                        <a:pt x="7" y="165"/>
                      </a:lnTo>
                      <a:lnTo>
                        <a:pt x="13" y="160"/>
                      </a:lnTo>
                      <a:lnTo>
                        <a:pt x="18" y="156"/>
                      </a:lnTo>
                      <a:lnTo>
                        <a:pt x="22" y="154"/>
                      </a:lnTo>
                      <a:lnTo>
                        <a:pt x="31" y="145"/>
                      </a:lnTo>
                      <a:lnTo>
                        <a:pt x="37" y="136"/>
                      </a:lnTo>
                      <a:lnTo>
                        <a:pt x="40" y="130"/>
                      </a:lnTo>
                      <a:lnTo>
                        <a:pt x="40" y="125"/>
                      </a:lnTo>
                      <a:lnTo>
                        <a:pt x="42" y="119"/>
                      </a:lnTo>
                      <a:lnTo>
                        <a:pt x="44" y="114"/>
                      </a:lnTo>
                      <a:lnTo>
                        <a:pt x="44" y="108"/>
                      </a:lnTo>
                      <a:lnTo>
                        <a:pt x="46" y="103"/>
                      </a:lnTo>
                      <a:lnTo>
                        <a:pt x="46" y="97"/>
                      </a:lnTo>
                      <a:lnTo>
                        <a:pt x="46" y="92"/>
                      </a:lnTo>
                      <a:lnTo>
                        <a:pt x="46" y="86"/>
                      </a:lnTo>
                      <a:lnTo>
                        <a:pt x="46" y="79"/>
                      </a:lnTo>
                      <a:lnTo>
                        <a:pt x="46" y="75"/>
                      </a:lnTo>
                      <a:lnTo>
                        <a:pt x="46" y="68"/>
                      </a:lnTo>
                      <a:lnTo>
                        <a:pt x="46" y="62"/>
                      </a:lnTo>
                      <a:lnTo>
                        <a:pt x="46" y="57"/>
                      </a:lnTo>
                      <a:lnTo>
                        <a:pt x="46" y="51"/>
                      </a:lnTo>
                      <a:lnTo>
                        <a:pt x="48" y="44"/>
                      </a:lnTo>
                      <a:lnTo>
                        <a:pt x="48" y="37"/>
                      </a:lnTo>
                      <a:lnTo>
                        <a:pt x="48" y="33"/>
                      </a:lnTo>
                      <a:lnTo>
                        <a:pt x="48" y="26"/>
                      </a:lnTo>
                      <a:lnTo>
                        <a:pt x="51" y="22"/>
                      </a:lnTo>
                      <a:lnTo>
                        <a:pt x="51" y="15"/>
                      </a:lnTo>
                      <a:lnTo>
                        <a:pt x="53" y="11"/>
                      </a:lnTo>
                      <a:lnTo>
                        <a:pt x="55" y="4"/>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83" name="Group 745"/>
          <p:cNvGrpSpPr/>
          <p:nvPr/>
        </p:nvGrpSpPr>
        <p:grpSpPr>
          <a:xfrm>
            <a:off x="4832280" y="4124160"/>
            <a:ext cx="4083120" cy="2379960"/>
            <a:chOff x="4832280" y="4124160"/>
            <a:chExt cx="4083120" cy="2379960"/>
          </a:xfrm>
        </p:grpSpPr>
        <p:sp>
          <p:nvSpPr>
            <p:cNvPr id="184" name="Freeform 746"/>
            <p:cNvSpPr/>
            <p:nvPr/>
          </p:nvSpPr>
          <p:spPr>
            <a:xfrm>
              <a:off x="5807160" y="4197240"/>
              <a:ext cx="699840" cy="506520"/>
            </a:xfrm>
            <a:custGeom>
              <a:avLst/>
              <a:gdLst>
                <a:gd name="textAreaLeft" fmla="*/ 0 w 699840"/>
                <a:gd name="textAreaRight" fmla="*/ 700200 w 699840"/>
                <a:gd name="textAreaTop" fmla="*/ 0 h 506520"/>
                <a:gd name="textAreaBottom" fmla="*/ 506880 h 506520"/>
              </a:gdLst>
              <a:ahLst/>
              <a:rect l="textAreaLeft" t="textAreaTop" r="textAreaRight" b="textAreaBottom"/>
              <a:pathLst>
                <a:path w="646" h="473">
                  <a:moveTo>
                    <a:pt x="196" y="100"/>
                  </a:moveTo>
                  <a:lnTo>
                    <a:pt x="191" y="102"/>
                  </a:lnTo>
                  <a:lnTo>
                    <a:pt x="176" y="109"/>
                  </a:lnTo>
                  <a:lnTo>
                    <a:pt x="153" y="118"/>
                  </a:lnTo>
                  <a:lnTo>
                    <a:pt x="131" y="129"/>
                  </a:lnTo>
                  <a:lnTo>
                    <a:pt x="104" y="140"/>
                  </a:lnTo>
                  <a:lnTo>
                    <a:pt x="82" y="154"/>
                  </a:lnTo>
                  <a:lnTo>
                    <a:pt x="66" y="163"/>
                  </a:lnTo>
                  <a:lnTo>
                    <a:pt x="58" y="172"/>
                  </a:lnTo>
                  <a:lnTo>
                    <a:pt x="44" y="192"/>
                  </a:lnTo>
                  <a:lnTo>
                    <a:pt x="22" y="225"/>
                  </a:lnTo>
                  <a:lnTo>
                    <a:pt x="4" y="259"/>
                  </a:lnTo>
                  <a:lnTo>
                    <a:pt x="0" y="286"/>
                  </a:lnTo>
                  <a:lnTo>
                    <a:pt x="6" y="308"/>
                  </a:lnTo>
                  <a:lnTo>
                    <a:pt x="11" y="335"/>
                  </a:lnTo>
                  <a:lnTo>
                    <a:pt x="17" y="361"/>
                  </a:lnTo>
                  <a:lnTo>
                    <a:pt x="24" y="384"/>
                  </a:lnTo>
                  <a:lnTo>
                    <a:pt x="35" y="406"/>
                  </a:lnTo>
                  <a:lnTo>
                    <a:pt x="46" y="435"/>
                  </a:lnTo>
                  <a:lnTo>
                    <a:pt x="55" y="457"/>
                  </a:lnTo>
                  <a:lnTo>
                    <a:pt x="66" y="469"/>
                  </a:lnTo>
                  <a:lnTo>
                    <a:pt x="75" y="471"/>
                  </a:lnTo>
                  <a:lnTo>
                    <a:pt x="91" y="471"/>
                  </a:lnTo>
                  <a:lnTo>
                    <a:pt x="111" y="473"/>
                  </a:lnTo>
                  <a:lnTo>
                    <a:pt x="133" y="473"/>
                  </a:lnTo>
                  <a:lnTo>
                    <a:pt x="156" y="473"/>
                  </a:lnTo>
                  <a:lnTo>
                    <a:pt x="176" y="473"/>
                  </a:lnTo>
                  <a:lnTo>
                    <a:pt x="191" y="471"/>
                  </a:lnTo>
                  <a:lnTo>
                    <a:pt x="200" y="469"/>
                  </a:lnTo>
                  <a:lnTo>
                    <a:pt x="214" y="460"/>
                  </a:lnTo>
                  <a:lnTo>
                    <a:pt x="240" y="442"/>
                  </a:lnTo>
                  <a:lnTo>
                    <a:pt x="278" y="419"/>
                  </a:lnTo>
                  <a:lnTo>
                    <a:pt x="321" y="390"/>
                  </a:lnTo>
                  <a:lnTo>
                    <a:pt x="363" y="364"/>
                  </a:lnTo>
                  <a:lnTo>
                    <a:pt x="401" y="341"/>
                  </a:lnTo>
                  <a:lnTo>
                    <a:pt x="430" y="323"/>
                  </a:lnTo>
                  <a:lnTo>
                    <a:pt x="446" y="315"/>
                  </a:lnTo>
                  <a:lnTo>
                    <a:pt x="459" y="308"/>
                  </a:lnTo>
                  <a:lnTo>
                    <a:pt x="484" y="299"/>
                  </a:lnTo>
                  <a:lnTo>
                    <a:pt x="515" y="286"/>
                  </a:lnTo>
                  <a:lnTo>
                    <a:pt x="548" y="272"/>
                  </a:lnTo>
                  <a:lnTo>
                    <a:pt x="579" y="259"/>
                  </a:lnTo>
                  <a:lnTo>
                    <a:pt x="608" y="248"/>
                  </a:lnTo>
                  <a:lnTo>
                    <a:pt x="629" y="239"/>
                  </a:lnTo>
                  <a:lnTo>
                    <a:pt x="635" y="236"/>
                  </a:lnTo>
                  <a:lnTo>
                    <a:pt x="646" y="158"/>
                  </a:lnTo>
                  <a:lnTo>
                    <a:pt x="586" y="60"/>
                  </a:lnTo>
                  <a:lnTo>
                    <a:pt x="584" y="58"/>
                  </a:lnTo>
                  <a:lnTo>
                    <a:pt x="577" y="53"/>
                  </a:lnTo>
                  <a:lnTo>
                    <a:pt x="566" y="47"/>
                  </a:lnTo>
                  <a:lnTo>
                    <a:pt x="553" y="40"/>
                  </a:lnTo>
                  <a:lnTo>
                    <a:pt x="542" y="33"/>
                  </a:lnTo>
                  <a:lnTo>
                    <a:pt x="528" y="27"/>
                  </a:lnTo>
                  <a:lnTo>
                    <a:pt x="519" y="22"/>
                  </a:lnTo>
                  <a:lnTo>
                    <a:pt x="513" y="20"/>
                  </a:lnTo>
                  <a:lnTo>
                    <a:pt x="506" y="20"/>
                  </a:lnTo>
                  <a:lnTo>
                    <a:pt x="492" y="15"/>
                  </a:lnTo>
                  <a:lnTo>
                    <a:pt x="477" y="13"/>
                  </a:lnTo>
                  <a:lnTo>
                    <a:pt x="459" y="9"/>
                  </a:lnTo>
                  <a:lnTo>
                    <a:pt x="443" y="4"/>
                  </a:lnTo>
                  <a:lnTo>
                    <a:pt x="428" y="2"/>
                  </a:lnTo>
                  <a:lnTo>
                    <a:pt x="414" y="0"/>
                  </a:lnTo>
                  <a:lnTo>
                    <a:pt x="405" y="0"/>
                  </a:lnTo>
                  <a:lnTo>
                    <a:pt x="397" y="2"/>
                  </a:lnTo>
                  <a:lnTo>
                    <a:pt x="385" y="4"/>
                  </a:lnTo>
                  <a:lnTo>
                    <a:pt x="372" y="9"/>
                  </a:lnTo>
                  <a:lnTo>
                    <a:pt x="356" y="13"/>
                  </a:lnTo>
                  <a:lnTo>
                    <a:pt x="341" y="18"/>
                  </a:lnTo>
                  <a:lnTo>
                    <a:pt x="330" y="20"/>
                  </a:lnTo>
                  <a:lnTo>
                    <a:pt x="321" y="24"/>
                  </a:lnTo>
                  <a:lnTo>
                    <a:pt x="319" y="24"/>
                  </a:lnTo>
                  <a:lnTo>
                    <a:pt x="249" y="94"/>
                  </a:lnTo>
                  <a:lnTo>
                    <a:pt x="196" y="100"/>
                  </a:lnTo>
                  <a:close/>
                </a:path>
              </a:pathLst>
            </a:custGeom>
            <a:solidFill>
              <a:srgbClr val="fff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747"/>
            <p:cNvSpPr/>
            <p:nvPr/>
          </p:nvSpPr>
          <p:spPr>
            <a:xfrm>
              <a:off x="5514840" y="4917960"/>
              <a:ext cx="1162080" cy="885960"/>
            </a:xfrm>
            <a:custGeom>
              <a:avLst/>
              <a:gdLst>
                <a:gd name="textAreaLeft" fmla="*/ 0 w 1162080"/>
                <a:gd name="textAreaRight" fmla="*/ 1162440 w 1162080"/>
                <a:gd name="textAreaTop" fmla="*/ 0 h 885960"/>
                <a:gd name="textAreaBottom" fmla="*/ 886320 h 885960"/>
              </a:gdLst>
              <a:ahLst/>
              <a:rect l="textAreaLeft" t="textAreaTop" r="textAreaRight" b="textAreaBottom"/>
              <a:pathLst>
                <a:path w="1072" h="828">
                  <a:moveTo>
                    <a:pt x="312" y="98"/>
                  </a:moveTo>
                  <a:lnTo>
                    <a:pt x="122" y="254"/>
                  </a:lnTo>
                  <a:lnTo>
                    <a:pt x="18" y="442"/>
                  </a:lnTo>
                  <a:lnTo>
                    <a:pt x="0" y="627"/>
                  </a:lnTo>
                  <a:lnTo>
                    <a:pt x="11" y="636"/>
                  </a:lnTo>
                  <a:lnTo>
                    <a:pt x="38" y="659"/>
                  </a:lnTo>
                  <a:lnTo>
                    <a:pt x="76" y="690"/>
                  </a:lnTo>
                  <a:lnTo>
                    <a:pt x="120" y="725"/>
                  </a:lnTo>
                  <a:lnTo>
                    <a:pt x="165" y="763"/>
                  </a:lnTo>
                  <a:lnTo>
                    <a:pt x="205" y="795"/>
                  </a:lnTo>
                  <a:lnTo>
                    <a:pt x="236" y="819"/>
                  </a:lnTo>
                  <a:lnTo>
                    <a:pt x="249" y="828"/>
                  </a:lnTo>
                  <a:lnTo>
                    <a:pt x="261" y="826"/>
                  </a:lnTo>
                  <a:lnTo>
                    <a:pt x="285" y="821"/>
                  </a:lnTo>
                  <a:lnTo>
                    <a:pt x="325" y="813"/>
                  </a:lnTo>
                  <a:lnTo>
                    <a:pt x="374" y="799"/>
                  </a:lnTo>
                  <a:lnTo>
                    <a:pt x="432" y="786"/>
                  </a:lnTo>
                  <a:lnTo>
                    <a:pt x="497" y="770"/>
                  </a:lnTo>
                  <a:lnTo>
                    <a:pt x="564" y="755"/>
                  </a:lnTo>
                  <a:lnTo>
                    <a:pt x="635" y="737"/>
                  </a:lnTo>
                  <a:lnTo>
                    <a:pt x="704" y="719"/>
                  </a:lnTo>
                  <a:lnTo>
                    <a:pt x="774" y="703"/>
                  </a:lnTo>
                  <a:lnTo>
                    <a:pt x="836" y="685"/>
                  </a:lnTo>
                  <a:lnTo>
                    <a:pt x="894" y="672"/>
                  </a:lnTo>
                  <a:lnTo>
                    <a:pt x="941" y="661"/>
                  </a:lnTo>
                  <a:lnTo>
                    <a:pt x="979" y="652"/>
                  </a:lnTo>
                  <a:lnTo>
                    <a:pt x="1001" y="645"/>
                  </a:lnTo>
                  <a:lnTo>
                    <a:pt x="1010" y="643"/>
                  </a:lnTo>
                  <a:lnTo>
                    <a:pt x="1072" y="589"/>
                  </a:lnTo>
                  <a:lnTo>
                    <a:pt x="965" y="172"/>
                  </a:lnTo>
                  <a:lnTo>
                    <a:pt x="963" y="165"/>
                  </a:lnTo>
                  <a:lnTo>
                    <a:pt x="957" y="147"/>
                  </a:lnTo>
                  <a:lnTo>
                    <a:pt x="945" y="127"/>
                  </a:lnTo>
                  <a:lnTo>
                    <a:pt x="932" y="112"/>
                  </a:lnTo>
                  <a:lnTo>
                    <a:pt x="923" y="105"/>
                  </a:lnTo>
                  <a:lnTo>
                    <a:pt x="912" y="98"/>
                  </a:lnTo>
                  <a:lnTo>
                    <a:pt x="896" y="89"/>
                  </a:lnTo>
                  <a:lnTo>
                    <a:pt x="881" y="83"/>
                  </a:lnTo>
                  <a:lnTo>
                    <a:pt x="865" y="78"/>
                  </a:lnTo>
                  <a:lnTo>
                    <a:pt x="852" y="74"/>
                  </a:lnTo>
                  <a:lnTo>
                    <a:pt x="843" y="69"/>
                  </a:lnTo>
                  <a:lnTo>
                    <a:pt x="841" y="69"/>
                  </a:lnTo>
                  <a:lnTo>
                    <a:pt x="758" y="65"/>
                  </a:lnTo>
                  <a:lnTo>
                    <a:pt x="470" y="0"/>
                  </a:lnTo>
                  <a:lnTo>
                    <a:pt x="392" y="83"/>
                  </a:lnTo>
                  <a:lnTo>
                    <a:pt x="312" y="98"/>
                  </a:lnTo>
                  <a:close/>
                </a:path>
              </a:pathLst>
            </a:custGeom>
            <a:solidFill>
              <a:srgbClr val="ff7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748"/>
            <p:cNvSpPr/>
            <p:nvPr/>
          </p:nvSpPr>
          <p:spPr>
            <a:xfrm>
              <a:off x="5557680" y="6240600"/>
              <a:ext cx="141480" cy="218880"/>
            </a:xfrm>
            <a:custGeom>
              <a:avLst/>
              <a:gdLst>
                <a:gd name="textAreaLeft" fmla="*/ 0 w 141480"/>
                <a:gd name="textAreaRight" fmla="*/ 141840 w 141480"/>
                <a:gd name="textAreaTop" fmla="*/ 0 h 218880"/>
                <a:gd name="textAreaBottom" fmla="*/ 219240 h 218880"/>
              </a:gdLst>
              <a:ahLst/>
              <a:rect l="textAreaLeft" t="textAreaTop" r="textAreaRight" b="textAreaBottom"/>
              <a:pathLst>
                <a:path w="131" h="205">
                  <a:moveTo>
                    <a:pt x="7" y="0"/>
                  </a:moveTo>
                  <a:lnTo>
                    <a:pt x="4" y="20"/>
                  </a:lnTo>
                  <a:lnTo>
                    <a:pt x="2" y="49"/>
                  </a:lnTo>
                  <a:lnTo>
                    <a:pt x="0" y="85"/>
                  </a:lnTo>
                  <a:lnTo>
                    <a:pt x="2" y="111"/>
                  </a:lnTo>
                  <a:lnTo>
                    <a:pt x="4" y="131"/>
                  </a:lnTo>
                  <a:lnTo>
                    <a:pt x="7" y="147"/>
                  </a:lnTo>
                  <a:lnTo>
                    <a:pt x="11" y="163"/>
                  </a:lnTo>
                  <a:lnTo>
                    <a:pt x="18" y="172"/>
                  </a:lnTo>
                  <a:lnTo>
                    <a:pt x="24" y="176"/>
                  </a:lnTo>
                  <a:lnTo>
                    <a:pt x="36" y="181"/>
                  </a:lnTo>
                  <a:lnTo>
                    <a:pt x="47" y="187"/>
                  </a:lnTo>
                  <a:lnTo>
                    <a:pt x="60" y="192"/>
                  </a:lnTo>
                  <a:lnTo>
                    <a:pt x="73" y="196"/>
                  </a:lnTo>
                  <a:lnTo>
                    <a:pt x="85" y="201"/>
                  </a:lnTo>
                  <a:lnTo>
                    <a:pt x="96" y="205"/>
                  </a:lnTo>
                  <a:lnTo>
                    <a:pt x="105" y="205"/>
                  </a:lnTo>
                  <a:lnTo>
                    <a:pt x="116" y="181"/>
                  </a:lnTo>
                  <a:lnTo>
                    <a:pt x="125" y="127"/>
                  </a:lnTo>
                  <a:lnTo>
                    <a:pt x="129" y="73"/>
                  </a:lnTo>
                  <a:lnTo>
                    <a:pt x="131" y="49"/>
                  </a:lnTo>
                  <a:lnTo>
                    <a:pt x="7" y="0"/>
                  </a:lnTo>
                  <a:close/>
                </a:path>
              </a:pathLst>
            </a:custGeom>
            <a:solidFill>
              <a:srgbClr val="dde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49"/>
            <p:cNvSpPr/>
            <p:nvPr/>
          </p:nvSpPr>
          <p:spPr>
            <a:xfrm>
              <a:off x="5945040" y="6230880"/>
              <a:ext cx="444600" cy="262080"/>
            </a:xfrm>
            <a:custGeom>
              <a:avLst/>
              <a:gdLst>
                <a:gd name="textAreaLeft" fmla="*/ 0 w 444600"/>
                <a:gd name="textAreaRight" fmla="*/ 444960 w 444600"/>
                <a:gd name="textAreaTop" fmla="*/ 0 h 262080"/>
                <a:gd name="textAreaBottom" fmla="*/ 262440 h 262080"/>
              </a:gdLst>
              <a:ahLst/>
              <a:rect l="textAreaLeft" t="textAreaTop" r="textAreaRight" b="textAreaBottom"/>
              <a:pathLst>
                <a:path w="410" h="245">
                  <a:moveTo>
                    <a:pt x="0" y="205"/>
                  </a:moveTo>
                  <a:lnTo>
                    <a:pt x="2" y="207"/>
                  </a:lnTo>
                  <a:lnTo>
                    <a:pt x="6" y="210"/>
                  </a:lnTo>
                  <a:lnTo>
                    <a:pt x="13" y="214"/>
                  </a:lnTo>
                  <a:lnTo>
                    <a:pt x="22" y="221"/>
                  </a:lnTo>
                  <a:lnTo>
                    <a:pt x="33" y="225"/>
                  </a:lnTo>
                  <a:lnTo>
                    <a:pt x="44" y="232"/>
                  </a:lnTo>
                  <a:lnTo>
                    <a:pt x="58" y="236"/>
                  </a:lnTo>
                  <a:lnTo>
                    <a:pt x="69" y="239"/>
                  </a:lnTo>
                  <a:lnTo>
                    <a:pt x="82" y="239"/>
                  </a:lnTo>
                  <a:lnTo>
                    <a:pt x="96" y="241"/>
                  </a:lnTo>
                  <a:lnTo>
                    <a:pt x="109" y="239"/>
                  </a:lnTo>
                  <a:lnTo>
                    <a:pt x="122" y="239"/>
                  </a:lnTo>
                  <a:lnTo>
                    <a:pt x="134" y="236"/>
                  </a:lnTo>
                  <a:lnTo>
                    <a:pt x="142" y="236"/>
                  </a:lnTo>
                  <a:lnTo>
                    <a:pt x="149" y="234"/>
                  </a:lnTo>
                  <a:lnTo>
                    <a:pt x="151" y="234"/>
                  </a:lnTo>
                  <a:lnTo>
                    <a:pt x="229" y="225"/>
                  </a:lnTo>
                  <a:lnTo>
                    <a:pt x="234" y="225"/>
                  </a:lnTo>
                  <a:lnTo>
                    <a:pt x="243" y="230"/>
                  </a:lnTo>
                  <a:lnTo>
                    <a:pt x="256" y="232"/>
                  </a:lnTo>
                  <a:lnTo>
                    <a:pt x="272" y="236"/>
                  </a:lnTo>
                  <a:lnTo>
                    <a:pt x="287" y="241"/>
                  </a:lnTo>
                  <a:lnTo>
                    <a:pt x="303" y="243"/>
                  </a:lnTo>
                  <a:lnTo>
                    <a:pt x="319" y="245"/>
                  </a:lnTo>
                  <a:lnTo>
                    <a:pt x="328" y="245"/>
                  </a:lnTo>
                  <a:lnTo>
                    <a:pt x="345" y="239"/>
                  </a:lnTo>
                  <a:lnTo>
                    <a:pt x="365" y="227"/>
                  </a:lnTo>
                  <a:lnTo>
                    <a:pt x="381" y="214"/>
                  </a:lnTo>
                  <a:lnTo>
                    <a:pt x="388" y="210"/>
                  </a:lnTo>
                  <a:lnTo>
                    <a:pt x="410" y="136"/>
                  </a:lnTo>
                  <a:lnTo>
                    <a:pt x="381" y="87"/>
                  </a:lnTo>
                  <a:lnTo>
                    <a:pt x="332" y="58"/>
                  </a:lnTo>
                  <a:lnTo>
                    <a:pt x="328" y="56"/>
                  </a:lnTo>
                  <a:lnTo>
                    <a:pt x="314" y="51"/>
                  </a:lnTo>
                  <a:lnTo>
                    <a:pt x="294" y="44"/>
                  </a:lnTo>
                  <a:lnTo>
                    <a:pt x="272" y="36"/>
                  </a:lnTo>
                  <a:lnTo>
                    <a:pt x="249" y="29"/>
                  </a:lnTo>
                  <a:lnTo>
                    <a:pt x="229" y="20"/>
                  </a:lnTo>
                  <a:lnTo>
                    <a:pt x="214" y="13"/>
                  </a:lnTo>
                  <a:lnTo>
                    <a:pt x="205" y="9"/>
                  </a:lnTo>
                  <a:lnTo>
                    <a:pt x="194" y="6"/>
                  </a:lnTo>
                  <a:lnTo>
                    <a:pt x="174" y="4"/>
                  </a:lnTo>
                  <a:lnTo>
                    <a:pt x="147" y="2"/>
                  </a:lnTo>
                  <a:lnTo>
                    <a:pt x="118" y="0"/>
                  </a:lnTo>
                  <a:lnTo>
                    <a:pt x="91" y="0"/>
                  </a:lnTo>
                  <a:lnTo>
                    <a:pt x="67" y="0"/>
                  </a:lnTo>
                  <a:lnTo>
                    <a:pt x="49" y="0"/>
                  </a:lnTo>
                  <a:lnTo>
                    <a:pt x="42" y="0"/>
                  </a:lnTo>
                  <a:lnTo>
                    <a:pt x="0" y="205"/>
                  </a:lnTo>
                  <a:close/>
                </a:path>
              </a:pathLst>
            </a:custGeom>
            <a:solidFill>
              <a:srgbClr val="dde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Freeform 750"/>
            <p:cNvSpPr/>
            <p:nvPr/>
          </p:nvSpPr>
          <p:spPr>
            <a:xfrm>
              <a:off x="5645160" y="6281640"/>
              <a:ext cx="237960" cy="179640"/>
            </a:xfrm>
            <a:custGeom>
              <a:avLst/>
              <a:gdLst>
                <a:gd name="textAreaLeft" fmla="*/ 0 w 237960"/>
                <a:gd name="textAreaRight" fmla="*/ 238320 w 237960"/>
                <a:gd name="textAreaTop" fmla="*/ 0 h 179640"/>
                <a:gd name="textAreaBottom" fmla="*/ 180000 h 179640"/>
              </a:gdLst>
              <a:ahLst/>
              <a:rect l="textAreaLeft" t="textAreaTop" r="textAreaRight" b="textAreaBottom"/>
              <a:pathLst>
                <a:path w="221" h="169">
                  <a:moveTo>
                    <a:pt x="7" y="0"/>
                  </a:moveTo>
                  <a:lnTo>
                    <a:pt x="5" y="15"/>
                  </a:lnTo>
                  <a:lnTo>
                    <a:pt x="2" y="51"/>
                  </a:lnTo>
                  <a:lnTo>
                    <a:pt x="0" y="87"/>
                  </a:lnTo>
                  <a:lnTo>
                    <a:pt x="2" y="109"/>
                  </a:lnTo>
                  <a:lnTo>
                    <a:pt x="9" y="120"/>
                  </a:lnTo>
                  <a:lnTo>
                    <a:pt x="18" y="136"/>
                  </a:lnTo>
                  <a:lnTo>
                    <a:pt x="31" y="149"/>
                  </a:lnTo>
                  <a:lnTo>
                    <a:pt x="49" y="158"/>
                  </a:lnTo>
                  <a:lnTo>
                    <a:pt x="60" y="160"/>
                  </a:lnTo>
                  <a:lnTo>
                    <a:pt x="72" y="165"/>
                  </a:lnTo>
                  <a:lnTo>
                    <a:pt x="83" y="167"/>
                  </a:lnTo>
                  <a:lnTo>
                    <a:pt x="96" y="167"/>
                  </a:lnTo>
                  <a:lnTo>
                    <a:pt x="107" y="169"/>
                  </a:lnTo>
                  <a:lnTo>
                    <a:pt x="116" y="169"/>
                  </a:lnTo>
                  <a:lnTo>
                    <a:pt x="125" y="169"/>
                  </a:lnTo>
                  <a:lnTo>
                    <a:pt x="129" y="167"/>
                  </a:lnTo>
                  <a:lnTo>
                    <a:pt x="136" y="165"/>
                  </a:lnTo>
                  <a:lnTo>
                    <a:pt x="150" y="160"/>
                  </a:lnTo>
                  <a:lnTo>
                    <a:pt x="165" y="154"/>
                  </a:lnTo>
                  <a:lnTo>
                    <a:pt x="181" y="149"/>
                  </a:lnTo>
                  <a:lnTo>
                    <a:pt x="196" y="143"/>
                  </a:lnTo>
                  <a:lnTo>
                    <a:pt x="208" y="138"/>
                  </a:lnTo>
                  <a:lnTo>
                    <a:pt x="216" y="136"/>
                  </a:lnTo>
                  <a:lnTo>
                    <a:pt x="221" y="134"/>
                  </a:lnTo>
                  <a:lnTo>
                    <a:pt x="216" y="49"/>
                  </a:lnTo>
                  <a:lnTo>
                    <a:pt x="125" y="2"/>
                  </a:lnTo>
                  <a:lnTo>
                    <a:pt x="7" y="0"/>
                  </a:lnTo>
                  <a:close/>
                </a:path>
              </a:pathLst>
            </a:custGeom>
            <a:solidFill>
              <a:srgbClr val="ff51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751"/>
            <p:cNvSpPr/>
            <p:nvPr/>
          </p:nvSpPr>
          <p:spPr>
            <a:xfrm>
              <a:off x="5411880" y="4987800"/>
              <a:ext cx="1398600" cy="1187640"/>
            </a:xfrm>
            <a:custGeom>
              <a:avLst/>
              <a:gdLst>
                <a:gd name="textAreaLeft" fmla="*/ 0 w 1398600"/>
                <a:gd name="textAreaRight" fmla="*/ 1398960 w 1398600"/>
                <a:gd name="textAreaTop" fmla="*/ 0 h 1187640"/>
                <a:gd name="textAreaBottom" fmla="*/ 1188000 h 1187640"/>
              </a:gdLst>
              <a:ahLst/>
              <a:rect l="textAreaLeft" t="textAreaTop" r="textAreaRight" b="textAreaBottom"/>
              <a:pathLst>
                <a:path w="1289" h="1111">
                  <a:moveTo>
                    <a:pt x="165" y="759"/>
                  </a:moveTo>
                  <a:lnTo>
                    <a:pt x="161" y="761"/>
                  </a:lnTo>
                  <a:lnTo>
                    <a:pt x="152" y="768"/>
                  </a:lnTo>
                  <a:lnTo>
                    <a:pt x="138" y="774"/>
                  </a:lnTo>
                  <a:lnTo>
                    <a:pt x="123" y="786"/>
                  </a:lnTo>
                  <a:lnTo>
                    <a:pt x="105" y="797"/>
                  </a:lnTo>
                  <a:lnTo>
                    <a:pt x="89" y="808"/>
                  </a:lnTo>
                  <a:lnTo>
                    <a:pt x="74" y="817"/>
                  </a:lnTo>
                  <a:lnTo>
                    <a:pt x="62" y="823"/>
                  </a:lnTo>
                  <a:lnTo>
                    <a:pt x="42" y="846"/>
                  </a:lnTo>
                  <a:lnTo>
                    <a:pt x="22" y="884"/>
                  </a:lnTo>
                  <a:lnTo>
                    <a:pt x="7" y="915"/>
                  </a:lnTo>
                  <a:lnTo>
                    <a:pt x="0" y="931"/>
                  </a:lnTo>
                  <a:lnTo>
                    <a:pt x="645" y="1105"/>
                  </a:lnTo>
                  <a:lnTo>
                    <a:pt x="1289" y="1111"/>
                  </a:lnTo>
                  <a:lnTo>
                    <a:pt x="1260" y="955"/>
                  </a:lnTo>
                  <a:lnTo>
                    <a:pt x="1104" y="790"/>
                  </a:lnTo>
                  <a:lnTo>
                    <a:pt x="1026" y="734"/>
                  </a:lnTo>
                  <a:lnTo>
                    <a:pt x="999" y="616"/>
                  </a:lnTo>
                  <a:lnTo>
                    <a:pt x="986" y="341"/>
                  </a:lnTo>
                  <a:lnTo>
                    <a:pt x="957" y="218"/>
                  </a:lnTo>
                  <a:lnTo>
                    <a:pt x="961" y="71"/>
                  </a:lnTo>
                  <a:lnTo>
                    <a:pt x="950" y="18"/>
                  </a:lnTo>
                  <a:lnTo>
                    <a:pt x="879" y="0"/>
                  </a:lnTo>
                  <a:lnTo>
                    <a:pt x="892" y="214"/>
                  </a:lnTo>
                  <a:lnTo>
                    <a:pt x="578" y="230"/>
                  </a:lnTo>
                  <a:lnTo>
                    <a:pt x="480" y="13"/>
                  </a:lnTo>
                  <a:lnTo>
                    <a:pt x="406" y="42"/>
                  </a:lnTo>
                  <a:lnTo>
                    <a:pt x="486" y="254"/>
                  </a:lnTo>
                  <a:lnTo>
                    <a:pt x="451" y="299"/>
                  </a:lnTo>
                  <a:lnTo>
                    <a:pt x="471" y="725"/>
                  </a:lnTo>
                  <a:lnTo>
                    <a:pt x="357" y="741"/>
                  </a:lnTo>
                  <a:lnTo>
                    <a:pt x="165" y="759"/>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752"/>
            <p:cNvSpPr/>
            <p:nvPr/>
          </p:nvSpPr>
          <p:spPr>
            <a:xfrm>
              <a:off x="7407360" y="4135320"/>
              <a:ext cx="774720" cy="533520"/>
            </a:xfrm>
            <a:custGeom>
              <a:avLst/>
              <a:gdLst>
                <a:gd name="textAreaLeft" fmla="*/ 0 w 774720"/>
                <a:gd name="textAreaRight" fmla="*/ 775080 w 774720"/>
                <a:gd name="textAreaTop" fmla="*/ 0 h 533520"/>
                <a:gd name="textAreaBottom" fmla="*/ 533880 h 533520"/>
              </a:gdLst>
              <a:ahLst/>
              <a:rect l="textAreaLeft" t="textAreaTop" r="textAreaRight" b="textAreaBottom"/>
              <a:pathLst>
                <a:path w="714" h="498">
                  <a:moveTo>
                    <a:pt x="272" y="109"/>
                  </a:moveTo>
                  <a:lnTo>
                    <a:pt x="141" y="109"/>
                  </a:lnTo>
                  <a:lnTo>
                    <a:pt x="42" y="138"/>
                  </a:lnTo>
                  <a:lnTo>
                    <a:pt x="4" y="205"/>
                  </a:lnTo>
                  <a:lnTo>
                    <a:pt x="0" y="265"/>
                  </a:lnTo>
                  <a:lnTo>
                    <a:pt x="546" y="498"/>
                  </a:lnTo>
                  <a:lnTo>
                    <a:pt x="591" y="388"/>
                  </a:lnTo>
                  <a:lnTo>
                    <a:pt x="607" y="319"/>
                  </a:lnTo>
                  <a:lnTo>
                    <a:pt x="691" y="314"/>
                  </a:lnTo>
                  <a:lnTo>
                    <a:pt x="709" y="256"/>
                  </a:lnTo>
                  <a:lnTo>
                    <a:pt x="714" y="212"/>
                  </a:lnTo>
                  <a:lnTo>
                    <a:pt x="667" y="216"/>
                  </a:lnTo>
                  <a:lnTo>
                    <a:pt x="587" y="44"/>
                  </a:lnTo>
                  <a:lnTo>
                    <a:pt x="584" y="42"/>
                  </a:lnTo>
                  <a:lnTo>
                    <a:pt x="578" y="40"/>
                  </a:lnTo>
                  <a:lnTo>
                    <a:pt x="571" y="33"/>
                  </a:lnTo>
                  <a:lnTo>
                    <a:pt x="560" y="26"/>
                  </a:lnTo>
                  <a:lnTo>
                    <a:pt x="549" y="22"/>
                  </a:lnTo>
                  <a:lnTo>
                    <a:pt x="538" y="15"/>
                  </a:lnTo>
                  <a:lnTo>
                    <a:pt x="529" y="11"/>
                  </a:lnTo>
                  <a:lnTo>
                    <a:pt x="520" y="9"/>
                  </a:lnTo>
                  <a:lnTo>
                    <a:pt x="511" y="6"/>
                  </a:lnTo>
                  <a:lnTo>
                    <a:pt x="500" y="6"/>
                  </a:lnTo>
                  <a:lnTo>
                    <a:pt x="484" y="4"/>
                  </a:lnTo>
                  <a:lnTo>
                    <a:pt x="468" y="2"/>
                  </a:lnTo>
                  <a:lnTo>
                    <a:pt x="455" y="2"/>
                  </a:lnTo>
                  <a:lnTo>
                    <a:pt x="442" y="0"/>
                  </a:lnTo>
                  <a:lnTo>
                    <a:pt x="433" y="0"/>
                  </a:lnTo>
                  <a:lnTo>
                    <a:pt x="430" y="0"/>
                  </a:lnTo>
                  <a:lnTo>
                    <a:pt x="424" y="4"/>
                  </a:lnTo>
                  <a:lnTo>
                    <a:pt x="413" y="13"/>
                  </a:lnTo>
                  <a:lnTo>
                    <a:pt x="397" y="24"/>
                  </a:lnTo>
                  <a:lnTo>
                    <a:pt x="386" y="35"/>
                  </a:lnTo>
                  <a:lnTo>
                    <a:pt x="377" y="58"/>
                  </a:lnTo>
                  <a:lnTo>
                    <a:pt x="364" y="93"/>
                  </a:lnTo>
                  <a:lnTo>
                    <a:pt x="350" y="125"/>
                  </a:lnTo>
                  <a:lnTo>
                    <a:pt x="346" y="140"/>
                  </a:lnTo>
                  <a:lnTo>
                    <a:pt x="272" y="109"/>
                  </a:lnTo>
                  <a:close/>
                </a:path>
              </a:pathLst>
            </a:custGeom>
            <a:solidFill>
              <a:srgbClr val="dd7a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53"/>
            <p:cNvSpPr/>
            <p:nvPr/>
          </p:nvSpPr>
          <p:spPr>
            <a:xfrm>
              <a:off x="7688160" y="6099120"/>
              <a:ext cx="274680" cy="289080"/>
            </a:xfrm>
            <a:custGeom>
              <a:avLst/>
              <a:gdLst>
                <a:gd name="textAreaLeft" fmla="*/ 0 w 274680"/>
                <a:gd name="textAreaRight" fmla="*/ 275040 w 274680"/>
                <a:gd name="textAreaTop" fmla="*/ 0 h 289080"/>
                <a:gd name="textAreaBottom" fmla="*/ 289440 h 289080"/>
              </a:gdLst>
              <a:ahLst/>
              <a:rect l="textAreaLeft" t="textAreaTop" r="textAreaRight" b="textAreaBottom"/>
              <a:pathLst>
                <a:path w="254" h="270">
                  <a:moveTo>
                    <a:pt x="62" y="0"/>
                  </a:moveTo>
                  <a:lnTo>
                    <a:pt x="64" y="0"/>
                  </a:lnTo>
                  <a:lnTo>
                    <a:pt x="73" y="0"/>
                  </a:lnTo>
                  <a:lnTo>
                    <a:pt x="87" y="0"/>
                  </a:lnTo>
                  <a:lnTo>
                    <a:pt x="100" y="2"/>
                  </a:lnTo>
                  <a:lnTo>
                    <a:pt x="113" y="2"/>
                  </a:lnTo>
                  <a:lnTo>
                    <a:pt x="127" y="7"/>
                  </a:lnTo>
                  <a:lnTo>
                    <a:pt x="138" y="9"/>
                  </a:lnTo>
                  <a:lnTo>
                    <a:pt x="142" y="13"/>
                  </a:lnTo>
                  <a:lnTo>
                    <a:pt x="149" y="18"/>
                  </a:lnTo>
                  <a:lnTo>
                    <a:pt x="158" y="27"/>
                  </a:lnTo>
                  <a:lnTo>
                    <a:pt x="171" y="33"/>
                  </a:lnTo>
                  <a:lnTo>
                    <a:pt x="185" y="42"/>
                  </a:lnTo>
                  <a:lnTo>
                    <a:pt x="198" y="49"/>
                  </a:lnTo>
                  <a:lnTo>
                    <a:pt x="209" y="56"/>
                  </a:lnTo>
                  <a:lnTo>
                    <a:pt x="218" y="60"/>
                  </a:lnTo>
                  <a:lnTo>
                    <a:pt x="221" y="63"/>
                  </a:lnTo>
                  <a:lnTo>
                    <a:pt x="225" y="69"/>
                  </a:lnTo>
                  <a:lnTo>
                    <a:pt x="234" y="83"/>
                  </a:lnTo>
                  <a:lnTo>
                    <a:pt x="245" y="103"/>
                  </a:lnTo>
                  <a:lnTo>
                    <a:pt x="254" y="123"/>
                  </a:lnTo>
                  <a:lnTo>
                    <a:pt x="252" y="143"/>
                  </a:lnTo>
                  <a:lnTo>
                    <a:pt x="245" y="170"/>
                  </a:lnTo>
                  <a:lnTo>
                    <a:pt x="234" y="194"/>
                  </a:lnTo>
                  <a:lnTo>
                    <a:pt x="225" y="210"/>
                  </a:lnTo>
                  <a:lnTo>
                    <a:pt x="218" y="217"/>
                  </a:lnTo>
                  <a:lnTo>
                    <a:pt x="207" y="223"/>
                  </a:lnTo>
                  <a:lnTo>
                    <a:pt x="194" y="234"/>
                  </a:lnTo>
                  <a:lnTo>
                    <a:pt x="178" y="243"/>
                  </a:lnTo>
                  <a:lnTo>
                    <a:pt x="163" y="255"/>
                  </a:lnTo>
                  <a:lnTo>
                    <a:pt x="149" y="261"/>
                  </a:lnTo>
                  <a:lnTo>
                    <a:pt x="140" y="268"/>
                  </a:lnTo>
                  <a:lnTo>
                    <a:pt x="136" y="270"/>
                  </a:lnTo>
                  <a:lnTo>
                    <a:pt x="69" y="243"/>
                  </a:lnTo>
                  <a:lnTo>
                    <a:pt x="0" y="190"/>
                  </a:lnTo>
                  <a:lnTo>
                    <a:pt x="62"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754"/>
            <p:cNvSpPr/>
            <p:nvPr/>
          </p:nvSpPr>
          <p:spPr>
            <a:xfrm>
              <a:off x="6916680" y="6070680"/>
              <a:ext cx="217440" cy="309600"/>
            </a:xfrm>
            <a:custGeom>
              <a:avLst/>
              <a:gdLst>
                <a:gd name="textAreaLeft" fmla="*/ 0 w 217440"/>
                <a:gd name="textAreaRight" fmla="*/ 217800 w 217440"/>
                <a:gd name="textAreaTop" fmla="*/ 0 h 309600"/>
                <a:gd name="textAreaBottom" fmla="*/ 309960 h 309600"/>
              </a:gdLst>
              <a:ahLst/>
              <a:rect l="textAreaLeft" t="textAreaTop" r="textAreaRight" b="textAreaBottom"/>
              <a:pathLst>
                <a:path w="201" h="290">
                  <a:moveTo>
                    <a:pt x="96" y="0"/>
                  </a:moveTo>
                  <a:lnTo>
                    <a:pt x="11" y="85"/>
                  </a:lnTo>
                  <a:lnTo>
                    <a:pt x="0" y="228"/>
                  </a:lnTo>
                  <a:lnTo>
                    <a:pt x="3" y="235"/>
                  </a:lnTo>
                  <a:lnTo>
                    <a:pt x="11" y="248"/>
                  </a:lnTo>
                  <a:lnTo>
                    <a:pt x="23" y="264"/>
                  </a:lnTo>
                  <a:lnTo>
                    <a:pt x="36" y="277"/>
                  </a:lnTo>
                  <a:lnTo>
                    <a:pt x="49" y="284"/>
                  </a:lnTo>
                  <a:lnTo>
                    <a:pt x="63" y="288"/>
                  </a:lnTo>
                  <a:lnTo>
                    <a:pt x="74" y="290"/>
                  </a:lnTo>
                  <a:lnTo>
                    <a:pt x="89" y="290"/>
                  </a:lnTo>
                  <a:lnTo>
                    <a:pt x="98" y="290"/>
                  </a:lnTo>
                  <a:lnTo>
                    <a:pt x="107" y="288"/>
                  </a:lnTo>
                  <a:lnTo>
                    <a:pt x="116" y="284"/>
                  </a:lnTo>
                  <a:lnTo>
                    <a:pt x="125" y="279"/>
                  </a:lnTo>
                  <a:lnTo>
                    <a:pt x="134" y="275"/>
                  </a:lnTo>
                  <a:lnTo>
                    <a:pt x="143" y="270"/>
                  </a:lnTo>
                  <a:lnTo>
                    <a:pt x="152" y="266"/>
                  </a:lnTo>
                  <a:lnTo>
                    <a:pt x="159" y="261"/>
                  </a:lnTo>
                  <a:lnTo>
                    <a:pt x="174" y="250"/>
                  </a:lnTo>
                  <a:lnTo>
                    <a:pt x="188" y="237"/>
                  </a:lnTo>
                  <a:lnTo>
                    <a:pt x="197" y="226"/>
                  </a:lnTo>
                  <a:lnTo>
                    <a:pt x="201" y="221"/>
                  </a:lnTo>
                  <a:lnTo>
                    <a:pt x="152" y="11"/>
                  </a:lnTo>
                  <a:lnTo>
                    <a:pt x="96"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755"/>
            <p:cNvSpPr/>
            <p:nvPr/>
          </p:nvSpPr>
          <p:spPr>
            <a:xfrm>
              <a:off x="6635880" y="4351320"/>
              <a:ext cx="1812960" cy="1979640"/>
            </a:xfrm>
            <a:custGeom>
              <a:avLst/>
              <a:gdLst>
                <a:gd name="textAreaLeft" fmla="*/ 0 w 1812960"/>
                <a:gd name="textAreaRight" fmla="*/ 1813320 w 1812960"/>
                <a:gd name="textAreaTop" fmla="*/ 0 h 1979640"/>
                <a:gd name="textAreaBottom" fmla="*/ 1980000 h 1979640"/>
              </a:gdLst>
              <a:ahLst/>
              <a:rect l="textAreaLeft" t="textAreaTop" r="textAreaRight" b="textAreaBottom"/>
              <a:pathLst>
                <a:path w="1672" h="1853">
                  <a:moveTo>
                    <a:pt x="316" y="1310"/>
                  </a:moveTo>
                  <a:lnTo>
                    <a:pt x="171" y="1306"/>
                  </a:lnTo>
                  <a:lnTo>
                    <a:pt x="167" y="1308"/>
                  </a:lnTo>
                  <a:lnTo>
                    <a:pt x="153" y="1310"/>
                  </a:lnTo>
                  <a:lnTo>
                    <a:pt x="136" y="1315"/>
                  </a:lnTo>
                  <a:lnTo>
                    <a:pt x="116" y="1321"/>
                  </a:lnTo>
                  <a:lnTo>
                    <a:pt x="95" y="1330"/>
                  </a:lnTo>
                  <a:lnTo>
                    <a:pt x="75" y="1337"/>
                  </a:lnTo>
                  <a:lnTo>
                    <a:pt x="60" y="1344"/>
                  </a:lnTo>
                  <a:lnTo>
                    <a:pt x="53" y="1350"/>
                  </a:lnTo>
                  <a:lnTo>
                    <a:pt x="42" y="1366"/>
                  </a:lnTo>
                  <a:lnTo>
                    <a:pt x="24" y="1388"/>
                  </a:lnTo>
                  <a:lnTo>
                    <a:pt x="6" y="1413"/>
                  </a:lnTo>
                  <a:lnTo>
                    <a:pt x="0" y="1435"/>
                  </a:lnTo>
                  <a:lnTo>
                    <a:pt x="2" y="1460"/>
                  </a:lnTo>
                  <a:lnTo>
                    <a:pt x="4" y="1491"/>
                  </a:lnTo>
                  <a:lnTo>
                    <a:pt x="13" y="1520"/>
                  </a:lnTo>
                  <a:lnTo>
                    <a:pt x="33" y="1542"/>
                  </a:lnTo>
                  <a:lnTo>
                    <a:pt x="49" y="1549"/>
                  </a:lnTo>
                  <a:lnTo>
                    <a:pt x="64" y="1556"/>
                  </a:lnTo>
                  <a:lnTo>
                    <a:pt x="80" y="1560"/>
                  </a:lnTo>
                  <a:lnTo>
                    <a:pt x="95" y="1565"/>
                  </a:lnTo>
                  <a:lnTo>
                    <a:pt x="111" y="1569"/>
                  </a:lnTo>
                  <a:lnTo>
                    <a:pt x="122" y="1571"/>
                  </a:lnTo>
                  <a:lnTo>
                    <a:pt x="133" y="1573"/>
                  </a:lnTo>
                  <a:lnTo>
                    <a:pt x="140" y="1576"/>
                  </a:lnTo>
                  <a:lnTo>
                    <a:pt x="149" y="1578"/>
                  </a:lnTo>
                  <a:lnTo>
                    <a:pt x="169" y="1580"/>
                  </a:lnTo>
                  <a:lnTo>
                    <a:pt x="194" y="1582"/>
                  </a:lnTo>
                  <a:lnTo>
                    <a:pt x="223" y="1585"/>
                  </a:lnTo>
                  <a:lnTo>
                    <a:pt x="252" y="1587"/>
                  </a:lnTo>
                  <a:lnTo>
                    <a:pt x="278" y="1589"/>
                  </a:lnTo>
                  <a:lnTo>
                    <a:pt x="298" y="1594"/>
                  </a:lnTo>
                  <a:lnTo>
                    <a:pt x="312" y="1596"/>
                  </a:lnTo>
                  <a:lnTo>
                    <a:pt x="321" y="1600"/>
                  </a:lnTo>
                  <a:lnTo>
                    <a:pt x="334" y="1603"/>
                  </a:lnTo>
                  <a:lnTo>
                    <a:pt x="347" y="1607"/>
                  </a:lnTo>
                  <a:lnTo>
                    <a:pt x="361" y="1609"/>
                  </a:lnTo>
                  <a:lnTo>
                    <a:pt x="374" y="1611"/>
                  </a:lnTo>
                  <a:lnTo>
                    <a:pt x="385" y="1614"/>
                  </a:lnTo>
                  <a:lnTo>
                    <a:pt x="394" y="1616"/>
                  </a:lnTo>
                  <a:lnTo>
                    <a:pt x="397" y="1616"/>
                  </a:lnTo>
                  <a:lnTo>
                    <a:pt x="361" y="1694"/>
                  </a:lnTo>
                  <a:lnTo>
                    <a:pt x="359" y="1707"/>
                  </a:lnTo>
                  <a:lnTo>
                    <a:pt x="356" y="1739"/>
                  </a:lnTo>
                  <a:lnTo>
                    <a:pt x="354" y="1772"/>
                  </a:lnTo>
                  <a:lnTo>
                    <a:pt x="361" y="1797"/>
                  </a:lnTo>
                  <a:lnTo>
                    <a:pt x="370" y="1810"/>
                  </a:lnTo>
                  <a:lnTo>
                    <a:pt x="376" y="1819"/>
                  </a:lnTo>
                  <a:lnTo>
                    <a:pt x="383" y="1826"/>
                  </a:lnTo>
                  <a:lnTo>
                    <a:pt x="392" y="1837"/>
                  </a:lnTo>
                  <a:lnTo>
                    <a:pt x="401" y="1848"/>
                  </a:lnTo>
                  <a:lnTo>
                    <a:pt x="410" y="1853"/>
                  </a:lnTo>
                  <a:lnTo>
                    <a:pt x="419" y="1853"/>
                  </a:lnTo>
                  <a:lnTo>
                    <a:pt x="430" y="1850"/>
                  </a:lnTo>
                  <a:lnTo>
                    <a:pt x="441" y="1846"/>
                  </a:lnTo>
                  <a:lnTo>
                    <a:pt x="461" y="1837"/>
                  </a:lnTo>
                  <a:lnTo>
                    <a:pt x="486" y="1826"/>
                  </a:lnTo>
                  <a:lnTo>
                    <a:pt x="515" y="1812"/>
                  </a:lnTo>
                  <a:lnTo>
                    <a:pt x="542" y="1799"/>
                  </a:lnTo>
                  <a:lnTo>
                    <a:pt x="566" y="1790"/>
                  </a:lnTo>
                  <a:lnTo>
                    <a:pt x="586" y="1783"/>
                  </a:lnTo>
                  <a:lnTo>
                    <a:pt x="597" y="1781"/>
                  </a:lnTo>
                  <a:lnTo>
                    <a:pt x="606" y="1781"/>
                  </a:lnTo>
                  <a:lnTo>
                    <a:pt x="620" y="1777"/>
                  </a:lnTo>
                  <a:lnTo>
                    <a:pt x="637" y="1770"/>
                  </a:lnTo>
                  <a:lnTo>
                    <a:pt x="655" y="1763"/>
                  </a:lnTo>
                  <a:lnTo>
                    <a:pt x="675" y="1757"/>
                  </a:lnTo>
                  <a:lnTo>
                    <a:pt x="695" y="1750"/>
                  </a:lnTo>
                  <a:lnTo>
                    <a:pt x="711" y="1745"/>
                  </a:lnTo>
                  <a:lnTo>
                    <a:pt x="724" y="1743"/>
                  </a:lnTo>
                  <a:lnTo>
                    <a:pt x="736" y="1743"/>
                  </a:lnTo>
                  <a:lnTo>
                    <a:pt x="749" y="1741"/>
                  </a:lnTo>
                  <a:lnTo>
                    <a:pt x="760" y="1739"/>
                  </a:lnTo>
                  <a:lnTo>
                    <a:pt x="773" y="1736"/>
                  </a:lnTo>
                  <a:lnTo>
                    <a:pt x="785" y="1736"/>
                  </a:lnTo>
                  <a:lnTo>
                    <a:pt x="798" y="1736"/>
                  </a:lnTo>
                  <a:lnTo>
                    <a:pt x="809" y="1739"/>
                  </a:lnTo>
                  <a:lnTo>
                    <a:pt x="818" y="1743"/>
                  </a:lnTo>
                  <a:lnTo>
                    <a:pt x="829" y="1750"/>
                  </a:lnTo>
                  <a:lnTo>
                    <a:pt x="843" y="1757"/>
                  </a:lnTo>
                  <a:lnTo>
                    <a:pt x="858" y="1763"/>
                  </a:lnTo>
                  <a:lnTo>
                    <a:pt x="876" y="1770"/>
                  </a:lnTo>
                  <a:lnTo>
                    <a:pt x="892" y="1779"/>
                  </a:lnTo>
                  <a:lnTo>
                    <a:pt x="905" y="1786"/>
                  </a:lnTo>
                  <a:lnTo>
                    <a:pt x="916" y="1792"/>
                  </a:lnTo>
                  <a:lnTo>
                    <a:pt x="925" y="1797"/>
                  </a:lnTo>
                  <a:lnTo>
                    <a:pt x="934" y="1801"/>
                  </a:lnTo>
                  <a:lnTo>
                    <a:pt x="945" y="1806"/>
                  </a:lnTo>
                  <a:lnTo>
                    <a:pt x="959" y="1810"/>
                  </a:lnTo>
                  <a:lnTo>
                    <a:pt x="972" y="1815"/>
                  </a:lnTo>
                  <a:lnTo>
                    <a:pt x="985" y="1819"/>
                  </a:lnTo>
                  <a:lnTo>
                    <a:pt x="997" y="1824"/>
                  </a:lnTo>
                  <a:lnTo>
                    <a:pt x="1005" y="1826"/>
                  </a:lnTo>
                  <a:lnTo>
                    <a:pt x="1008" y="1826"/>
                  </a:lnTo>
                  <a:lnTo>
                    <a:pt x="1012" y="1819"/>
                  </a:lnTo>
                  <a:lnTo>
                    <a:pt x="1023" y="1803"/>
                  </a:lnTo>
                  <a:lnTo>
                    <a:pt x="1037" y="1788"/>
                  </a:lnTo>
                  <a:lnTo>
                    <a:pt x="1048" y="1777"/>
                  </a:lnTo>
                  <a:lnTo>
                    <a:pt x="1054" y="1759"/>
                  </a:lnTo>
                  <a:lnTo>
                    <a:pt x="1059" y="1728"/>
                  </a:lnTo>
                  <a:lnTo>
                    <a:pt x="1063" y="1699"/>
                  </a:lnTo>
                  <a:lnTo>
                    <a:pt x="1063" y="1685"/>
                  </a:lnTo>
                  <a:lnTo>
                    <a:pt x="1028" y="1634"/>
                  </a:lnTo>
                  <a:lnTo>
                    <a:pt x="1032" y="1636"/>
                  </a:lnTo>
                  <a:lnTo>
                    <a:pt x="1043" y="1638"/>
                  </a:lnTo>
                  <a:lnTo>
                    <a:pt x="1059" y="1643"/>
                  </a:lnTo>
                  <a:lnTo>
                    <a:pt x="1079" y="1647"/>
                  </a:lnTo>
                  <a:lnTo>
                    <a:pt x="1099" y="1652"/>
                  </a:lnTo>
                  <a:lnTo>
                    <a:pt x="1117" y="1656"/>
                  </a:lnTo>
                  <a:lnTo>
                    <a:pt x="1133" y="1658"/>
                  </a:lnTo>
                  <a:lnTo>
                    <a:pt x="1141" y="1661"/>
                  </a:lnTo>
                  <a:lnTo>
                    <a:pt x="1153" y="1661"/>
                  </a:lnTo>
                  <a:lnTo>
                    <a:pt x="1170" y="1661"/>
                  </a:lnTo>
                  <a:lnTo>
                    <a:pt x="1193" y="1663"/>
                  </a:lnTo>
                  <a:lnTo>
                    <a:pt x="1220" y="1663"/>
                  </a:lnTo>
                  <a:lnTo>
                    <a:pt x="1244" y="1665"/>
                  </a:lnTo>
                  <a:lnTo>
                    <a:pt x="1269" y="1667"/>
                  </a:lnTo>
                  <a:lnTo>
                    <a:pt x="1286" y="1667"/>
                  </a:lnTo>
                  <a:lnTo>
                    <a:pt x="1298" y="1669"/>
                  </a:lnTo>
                  <a:lnTo>
                    <a:pt x="1311" y="1669"/>
                  </a:lnTo>
                  <a:lnTo>
                    <a:pt x="1340" y="1667"/>
                  </a:lnTo>
                  <a:lnTo>
                    <a:pt x="1376" y="1661"/>
                  </a:lnTo>
                  <a:lnTo>
                    <a:pt x="1418" y="1654"/>
                  </a:lnTo>
                  <a:lnTo>
                    <a:pt x="1458" y="1649"/>
                  </a:lnTo>
                  <a:lnTo>
                    <a:pt x="1494" y="1643"/>
                  </a:lnTo>
                  <a:lnTo>
                    <a:pt x="1521" y="1640"/>
                  </a:lnTo>
                  <a:lnTo>
                    <a:pt x="1534" y="1640"/>
                  </a:lnTo>
                  <a:lnTo>
                    <a:pt x="1543" y="1638"/>
                  </a:lnTo>
                  <a:lnTo>
                    <a:pt x="1561" y="1629"/>
                  </a:lnTo>
                  <a:lnTo>
                    <a:pt x="1583" y="1616"/>
                  </a:lnTo>
                  <a:lnTo>
                    <a:pt x="1608" y="1603"/>
                  </a:lnTo>
                  <a:lnTo>
                    <a:pt x="1630" y="1587"/>
                  </a:lnTo>
                  <a:lnTo>
                    <a:pt x="1650" y="1573"/>
                  </a:lnTo>
                  <a:lnTo>
                    <a:pt x="1666" y="1565"/>
                  </a:lnTo>
                  <a:lnTo>
                    <a:pt x="1670" y="1560"/>
                  </a:lnTo>
                  <a:lnTo>
                    <a:pt x="1672" y="1460"/>
                  </a:lnTo>
                  <a:lnTo>
                    <a:pt x="1670" y="1451"/>
                  </a:lnTo>
                  <a:lnTo>
                    <a:pt x="1661" y="1431"/>
                  </a:lnTo>
                  <a:lnTo>
                    <a:pt x="1654" y="1408"/>
                  </a:lnTo>
                  <a:lnTo>
                    <a:pt x="1648" y="1390"/>
                  </a:lnTo>
                  <a:lnTo>
                    <a:pt x="1643" y="1384"/>
                  </a:lnTo>
                  <a:lnTo>
                    <a:pt x="1634" y="1373"/>
                  </a:lnTo>
                  <a:lnTo>
                    <a:pt x="1619" y="1361"/>
                  </a:lnTo>
                  <a:lnTo>
                    <a:pt x="1603" y="1350"/>
                  </a:lnTo>
                  <a:lnTo>
                    <a:pt x="1585" y="1339"/>
                  </a:lnTo>
                  <a:lnTo>
                    <a:pt x="1570" y="1330"/>
                  </a:lnTo>
                  <a:lnTo>
                    <a:pt x="1559" y="1323"/>
                  </a:lnTo>
                  <a:lnTo>
                    <a:pt x="1550" y="1321"/>
                  </a:lnTo>
                  <a:lnTo>
                    <a:pt x="1541" y="1321"/>
                  </a:lnTo>
                  <a:lnTo>
                    <a:pt x="1525" y="1319"/>
                  </a:lnTo>
                  <a:lnTo>
                    <a:pt x="1503" y="1317"/>
                  </a:lnTo>
                  <a:lnTo>
                    <a:pt x="1480" y="1312"/>
                  </a:lnTo>
                  <a:lnTo>
                    <a:pt x="1458" y="1310"/>
                  </a:lnTo>
                  <a:lnTo>
                    <a:pt x="1438" y="1308"/>
                  </a:lnTo>
                  <a:lnTo>
                    <a:pt x="1425" y="1306"/>
                  </a:lnTo>
                  <a:lnTo>
                    <a:pt x="1420" y="1306"/>
                  </a:lnTo>
                  <a:lnTo>
                    <a:pt x="1431" y="1256"/>
                  </a:lnTo>
                  <a:lnTo>
                    <a:pt x="1431" y="1120"/>
                  </a:lnTo>
                  <a:lnTo>
                    <a:pt x="1371" y="727"/>
                  </a:lnTo>
                  <a:lnTo>
                    <a:pt x="1309" y="643"/>
                  </a:lnTo>
                  <a:lnTo>
                    <a:pt x="1220" y="589"/>
                  </a:lnTo>
                  <a:lnTo>
                    <a:pt x="1170" y="620"/>
                  </a:lnTo>
                  <a:lnTo>
                    <a:pt x="1063" y="609"/>
                  </a:lnTo>
                  <a:lnTo>
                    <a:pt x="1059" y="497"/>
                  </a:lnTo>
                  <a:lnTo>
                    <a:pt x="1061" y="495"/>
                  </a:lnTo>
                  <a:lnTo>
                    <a:pt x="1066" y="493"/>
                  </a:lnTo>
                  <a:lnTo>
                    <a:pt x="1072" y="491"/>
                  </a:lnTo>
                  <a:lnTo>
                    <a:pt x="1081" y="486"/>
                  </a:lnTo>
                  <a:lnTo>
                    <a:pt x="1088" y="482"/>
                  </a:lnTo>
                  <a:lnTo>
                    <a:pt x="1099" y="477"/>
                  </a:lnTo>
                  <a:lnTo>
                    <a:pt x="1112" y="468"/>
                  </a:lnTo>
                  <a:lnTo>
                    <a:pt x="1126" y="457"/>
                  </a:lnTo>
                  <a:lnTo>
                    <a:pt x="1139" y="448"/>
                  </a:lnTo>
                  <a:lnTo>
                    <a:pt x="1153" y="439"/>
                  </a:lnTo>
                  <a:lnTo>
                    <a:pt x="1162" y="430"/>
                  </a:lnTo>
                  <a:lnTo>
                    <a:pt x="1166" y="424"/>
                  </a:lnTo>
                  <a:lnTo>
                    <a:pt x="1173" y="404"/>
                  </a:lnTo>
                  <a:lnTo>
                    <a:pt x="1184" y="370"/>
                  </a:lnTo>
                  <a:lnTo>
                    <a:pt x="1195" y="339"/>
                  </a:lnTo>
                  <a:lnTo>
                    <a:pt x="1199" y="326"/>
                  </a:lnTo>
                  <a:lnTo>
                    <a:pt x="1202" y="326"/>
                  </a:lnTo>
                  <a:lnTo>
                    <a:pt x="1211" y="323"/>
                  </a:lnTo>
                  <a:lnTo>
                    <a:pt x="1224" y="321"/>
                  </a:lnTo>
                  <a:lnTo>
                    <a:pt x="1237" y="319"/>
                  </a:lnTo>
                  <a:lnTo>
                    <a:pt x="1251" y="314"/>
                  </a:lnTo>
                  <a:lnTo>
                    <a:pt x="1264" y="310"/>
                  </a:lnTo>
                  <a:lnTo>
                    <a:pt x="1275" y="305"/>
                  </a:lnTo>
                  <a:lnTo>
                    <a:pt x="1280" y="301"/>
                  </a:lnTo>
                  <a:lnTo>
                    <a:pt x="1284" y="288"/>
                  </a:lnTo>
                  <a:lnTo>
                    <a:pt x="1289" y="268"/>
                  </a:lnTo>
                  <a:lnTo>
                    <a:pt x="1289" y="250"/>
                  </a:lnTo>
                  <a:lnTo>
                    <a:pt x="1289" y="241"/>
                  </a:lnTo>
                  <a:lnTo>
                    <a:pt x="1244" y="183"/>
                  </a:lnTo>
                  <a:lnTo>
                    <a:pt x="1199" y="196"/>
                  </a:lnTo>
                  <a:lnTo>
                    <a:pt x="1137" y="84"/>
                  </a:lnTo>
                  <a:lnTo>
                    <a:pt x="1133" y="82"/>
                  </a:lnTo>
                  <a:lnTo>
                    <a:pt x="1124" y="78"/>
                  </a:lnTo>
                  <a:lnTo>
                    <a:pt x="1110" y="69"/>
                  </a:lnTo>
                  <a:lnTo>
                    <a:pt x="1092" y="60"/>
                  </a:lnTo>
                  <a:lnTo>
                    <a:pt x="1075" y="49"/>
                  </a:lnTo>
                  <a:lnTo>
                    <a:pt x="1059" y="40"/>
                  </a:lnTo>
                  <a:lnTo>
                    <a:pt x="1043" y="33"/>
                  </a:lnTo>
                  <a:lnTo>
                    <a:pt x="1034" y="29"/>
                  </a:lnTo>
                  <a:lnTo>
                    <a:pt x="1023" y="24"/>
                  </a:lnTo>
                  <a:lnTo>
                    <a:pt x="1003" y="20"/>
                  </a:lnTo>
                  <a:lnTo>
                    <a:pt x="976" y="15"/>
                  </a:lnTo>
                  <a:lnTo>
                    <a:pt x="950" y="11"/>
                  </a:lnTo>
                  <a:lnTo>
                    <a:pt x="923" y="6"/>
                  </a:lnTo>
                  <a:lnTo>
                    <a:pt x="898" y="2"/>
                  </a:lnTo>
                  <a:lnTo>
                    <a:pt x="883" y="0"/>
                  </a:lnTo>
                  <a:lnTo>
                    <a:pt x="876" y="0"/>
                  </a:lnTo>
                  <a:lnTo>
                    <a:pt x="729" y="53"/>
                  </a:lnTo>
                  <a:lnTo>
                    <a:pt x="655" y="167"/>
                  </a:lnTo>
                  <a:lnTo>
                    <a:pt x="662" y="319"/>
                  </a:lnTo>
                  <a:lnTo>
                    <a:pt x="669" y="332"/>
                  </a:lnTo>
                  <a:lnTo>
                    <a:pt x="686" y="366"/>
                  </a:lnTo>
                  <a:lnTo>
                    <a:pt x="704" y="399"/>
                  </a:lnTo>
                  <a:lnTo>
                    <a:pt x="711" y="422"/>
                  </a:lnTo>
                  <a:lnTo>
                    <a:pt x="713" y="428"/>
                  </a:lnTo>
                  <a:lnTo>
                    <a:pt x="722" y="435"/>
                  </a:lnTo>
                  <a:lnTo>
                    <a:pt x="733" y="446"/>
                  </a:lnTo>
                  <a:lnTo>
                    <a:pt x="749" y="455"/>
                  </a:lnTo>
                  <a:lnTo>
                    <a:pt x="762" y="466"/>
                  </a:lnTo>
                  <a:lnTo>
                    <a:pt x="773" y="473"/>
                  </a:lnTo>
                  <a:lnTo>
                    <a:pt x="782" y="480"/>
                  </a:lnTo>
                  <a:lnTo>
                    <a:pt x="785" y="482"/>
                  </a:lnTo>
                  <a:lnTo>
                    <a:pt x="856" y="502"/>
                  </a:lnTo>
                  <a:lnTo>
                    <a:pt x="847" y="589"/>
                  </a:lnTo>
                  <a:lnTo>
                    <a:pt x="744" y="618"/>
                  </a:lnTo>
                  <a:lnTo>
                    <a:pt x="588" y="683"/>
                  </a:lnTo>
                  <a:lnTo>
                    <a:pt x="584" y="687"/>
                  </a:lnTo>
                  <a:lnTo>
                    <a:pt x="568" y="701"/>
                  </a:lnTo>
                  <a:lnTo>
                    <a:pt x="548" y="721"/>
                  </a:lnTo>
                  <a:lnTo>
                    <a:pt x="524" y="745"/>
                  </a:lnTo>
                  <a:lnTo>
                    <a:pt x="499" y="772"/>
                  </a:lnTo>
                  <a:lnTo>
                    <a:pt x="475" y="799"/>
                  </a:lnTo>
                  <a:lnTo>
                    <a:pt x="457" y="823"/>
                  </a:lnTo>
                  <a:lnTo>
                    <a:pt x="446" y="843"/>
                  </a:lnTo>
                  <a:lnTo>
                    <a:pt x="432" y="888"/>
                  </a:lnTo>
                  <a:lnTo>
                    <a:pt x="414" y="946"/>
                  </a:lnTo>
                  <a:lnTo>
                    <a:pt x="401" y="995"/>
                  </a:lnTo>
                  <a:lnTo>
                    <a:pt x="397" y="1015"/>
                  </a:lnTo>
                  <a:lnTo>
                    <a:pt x="392" y="1038"/>
                  </a:lnTo>
                  <a:lnTo>
                    <a:pt x="385" y="1091"/>
                  </a:lnTo>
                  <a:lnTo>
                    <a:pt x="379" y="1147"/>
                  </a:lnTo>
                  <a:lnTo>
                    <a:pt x="381" y="1183"/>
                  </a:lnTo>
                  <a:lnTo>
                    <a:pt x="383" y="1214"/>
                  </a:lnTo>
                  <a:lnTo>
                    <a:pt x="383" y="1263"/>
                  </a:lnTo>
                  <a:lnTo>
                    <a:pt x="379" y="1310"/>
                  </a:lnTo>
                  <a:lnTo>
                    <a:pt x="376" y="1330"/>
                  </a:lnTo>
                  <a:lnTo>
                    <a:pt x="316" y="131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56"/>
            <p:cNvSpPr/>
            <p:nvPr/>
          </p:nvSpPr>
          <p:spPr>
            <a:xfrm>
              <a:off x="5870520" y="4387680"/>
              <a:ext cx="700200" cy="635040"/>
            </a:xfrm>
            <a:custGeom>
              <a:avLst/>
              <a:gdLst>
                <a:gd name="textAreaLeft" fmla="*/ 0 w 700200"/>
                <a:gd name="textAreaRight" fmla="*/ 700560 w 700200"/>
                <a:gd name="textAreaTop" fmla="*/ 0 h 635040"/>
                <a:gd name="textAreaBottom" fmla="*/ 635400 h 635040"/>
              </a:gdLst>
              <a:ahLst/>
              <a:rect l="textAreaLeft" t="textAreaTop" r="textAreaRight" b="textAreaBottom"/>
              <a:pathLst>
                <a:path w="646" h="594">
                  <a:moveTo>
                    <a:pt x="64" y="259"/>
                  </a:moveTo>
                  <a:lnTo>
                    <a:pt x="0" y="291"/>
                  </a:lnTo>
                  <a:lnTo>
                    <a:pt x="0" y="297"/>
                  </a:lnTo>
                  <a:lnTo>
                    <a:pt x="0" y="311"/>
                  </a:lnTo>
                  <a:lnTo>
                    <a:pt x="0" y="326"/>
                  </a:lnTo>
                  <a:lnTo>
                    <a:pt x="4" y="340"/>
                  </a:lnTo>
                  <a:lnTo>
                    <a:pt x="15" y="353"/>
                  </a:lnTo>
                  <a:lnTo>
                    <a:pt x="31" y="369"/>
                  </a:lnTo>
                  <a:lnTo>
                    <a:pt x="42" y="382"/>
                  </a:lnTo>
                  <a:lnTo>
                    <a:pt x="49" y="387"/>
                  </a:lnTo>
                  <a:lnTo>
                    <a:pt x="118" y="407"/>
                  </a:lnTo>
                  <a:lnTo>
                    <a:pt x="162" y="451"/>
                  </a:lnTo>
                  <a:lnTo>
                    <a:pt x="138" y="512"/>
                  </a:lnTo>
                  <a:lnTo>
                    <a:pt x="140" y="514"/>
                  </a:lnTo>
                  <a:lnTo>
                    <a:pt x="147" y="516"/>
                  </a:lnTo>
                  <a:lnTo>
                    <a:pt x="156" y="523"/>
                  </a:lnTo>
                  <a:lnTo>
                    <a:pt x="167" y="529"/>
                  </a:lnTo>
                  <a:lnTo>
                    <a:pt x="178" y="536"/>
                  </a:lnTo>
                  <a:lnTo>
                    <a:pt x="189" y="543"/>
                  </a:lnTo>
                  <a:lnTo>
                    <a:pt x="198" y="550"/>
                  </a:lnTo>
                  <a:lnTo>
                    <a:pt x="205" y="554"/>
                  </a:lnTo>
                  <a:lnTo>
                    <a:pt x="211" y="556"/>
                  </a:lnTo>
                  <a:lnTo>
                    <a:pt x="223" y="561"/>
                  </a:lnTo>
                  <a:lnTo>
                    <a:pt x="238" y="565"/>
                  </a:lnTo>
                  <a:lnTo>
                    <a:pt x="254" y="570"/>
                  </a:lnTo>
                  <a:lnTo>
                    <a:pt x="269" y="574"/>
                  </a:lnTo>
                  <a:lnTo>
                    <a:pt x="285" y="579"/>
                  </a:lnTo>
                  <a:lnTo>
                    <a:pt x="298" y="581"/>
                  </a:lnTo>
                  <a:lnTo>
                    <a:pt x="307" y="583"/>
                  </a:lnTo>
                  <a:lnTo>
                    <a:pt x="316" y="585"/>
                  </a:lnTo>
                  <a:lnTo>
                    <a:pt x="330" y="585"/>
                  </a:lnTo>
                  <a:lnTo>
                    <a:pt x="343" y="587"/>
                  </a:lnTo>
                  <a:lnTo>
                    <a:pt x="361" y="590"/>
                  </a:lnTo>
                  <a:lnTo>
                    <a:pt x="376" y="592"/>
                  </a:lnTo>
                  <a:lnTo>
                    <a:pt x="388" y="592"/>
                  </a:lnTo>
                  <a:lnTo>
                    <a:pt x="397" y="594"/>
                  </a:lnTo>
                  <a:lnTo>
                    <a:pt x="401" y="594"/>
                  </a:lnTo>
                  <a:lnTo>
                    <a:pt x="432" y="505"/>
                  </a:lnTo>
                  <a:lnTo>
                    <a:pt x="519" y="460"/>
                  </a:lnTo>
                  <a:lnTo>
                    <a:pt x="617" y="340"/>
                  </a:lnTo>
                  <a:lnTo>
                    <a:pt x="646" y="215"/>
                  </a:lnTo>
                  <a:lnTo>
                    <a:pt x="631" y="141"/>
                  </a:lnTo>
                  <a:lnTo>
                    <a:pt x="597" y="78"/>
                  </a:lnTo>
                  <a:lnTo>
                    <a:pt x="564" y="25"/>
                  </a:lnTo>
                  <a:lnTo>
                    <a:pt x="515" y="0"/>
                  </a:lnTo>
                  <a:lnTo>
                    <a:pt x="481" y="67"/>
                  </a:lnTo>
                  <a:lnTo>
                    <a:pt x="455" y="34"/>
                  </a:lnTo>
                  <a:lnTo>
                    <a:pt x="408" y="67"/>
                  </a:lnTo>
                  <a:lnTo>
                    <a:pt x="388" y="9"/>
                  </a:lnTo>
                  <a:lnTo>
                    <a:pt x="334" y="78"/>
                  </a:lnTo>
                  <a:lnTo>
                    <a:pt x="269" y="87"/>
                  </a:lnTo>
                  <a:lnTo>
                    <a:pt x="211" y="74"/>
                  </a:lnTo>
                  <a:lnTo>
                    <a:pt x="160" y="116"/>
                  </a:lnTo>
                  <a:lnTo>
                    <a:pt x="127" y="83"/>
                  </a:lnTo>
                  <a:lnTo>
                    <a:pt x="122" y="85"/>
                  </a:lnTo>
                  <a:lnTo>
                    <a:pt x="109" y="90"/>
                  </a:lnTo>
                  <a:lnTo>
                    <a:pt x="98" y="94"/>
                  </a:lnTo>
                  <a:lnTo>
                    <a:pt x="89" y="103"/>
                  </a:lnTo>
                  <a:lnTo>
                    <a:pt x="84" y="121"/>
                  </a:lnTo>
                  <a:lnTo>
                    <a:pt x="75" y="145"/>
                  </a:lnTo>
                  <a:lnTo>
                    <a:pt x="66" y="168"/>
                  </a:lnTo>
                  <a:lnTo>
                    <a:pt x="62" y="177"/>
                  </a:lnTo>
                  <a:lnTo>
                    <a:pt x="64" y="25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757"/>
            <p:cNvSpPr/>
            <p:nvPr/>
          </p:nvSpPr>
          <p:spPr>
            <a:xfrm>
              <a:off x="5425920" y="5526000"/>
              <a:ext cx="1389240" cy="849240"/>
            </a:xfrm>
            <a:custGeom>
              <a:avLst/>
              <a:gdLst>
                <a:gd name="textAreaLeft" fmla="*/ 0 w 1389240"/>
                <a:gd name="textAreaRight" fmla="*/ 1389240 w 1389240"/>
                <a:gd name="textAreaTop" fmla="*/ 0 h 849240"/>
                <a:gd name="textAreaBottom" fmla="*/ 849600 h 849240"/>
              </a:gdLst>
              <a:ahLst/>
              <a:rect l="textAreaLeft" t="textAreaTop" r="textAreaRight" b="textAreaBottom"/>
              <a:pathLst>
                <a:path w="1281" h="795">
                  <a:moveTo>
                    <a:pt x="1272" y="549"/>
                  </a:moveTo>
                  <a:lnTo>
                    <a:pt x="1265" y="547"/>
                  </a:lnTo>
                  <a:lnTo>
                    <a:pt x="1254" y="545"/>
                  </a:lnTo>
                  <a:lnTo>
                    <a:pt x="1240" y="543"/>
                  </a:lnTo>
                  <a:lnTo>
                    <a:pt x="1227" y="540"/>
                  </a:lnTo>
                  <a:lnTo>
                    <a:pt x="1211" y="538"/>
                  </a:lnTo>
                  <a:lnTo>
                    <a:pt x="1200" y="538"/>
                  </a:lnTo>
                  <a:lnTo>
                    <a:pt x="1191" y="536"/>
                  </a:lnTo>
                  <a:lnTo>
                    <a:pt x="1189" y="536"/>
                  </a:lnTo>
                  <a:lnTo>
                    <a:pt x="1182" y="534"/>
                  </a:lnTo>
                  <a:lnTo>
                    <a:pt x="1167" y="529"/>
                  </a:lnTo>
                  <a:lnTo>
                    <a:pt x="1145" y="520"/>
                  </a:lnTo>
                  <a:lnTo>
                    <a:pt x="1118" y="511"/>
                  </a:lnTo>
                  <a:lnTo>
                    <a:pt x="1089" y="503"/>
                  </a:lnTo>
                  <a:lnTo>
                    <a:pt x="1062" y="494"/>
                  </a:lnTo>
                  <a:lnTo>
                    <a:pt x="1040" y="489"/>
                  </a:lnTo>
                  <a:lnTo>
                    <a:pt x="1026" y="487"/>
                  </a:lnTo>
                  <a:lnTo>
                    <a:pt x="1013" y="487"/>
                  </a:lnTo>
                  <a:lnTo>
                    <a:pt x="995" y="487"/>
                  </a:lnTo>
                  <a:lnTo>
                    <a:pt x="975" y="487"/>
                  </a:lnTo>
                  <a:lnTo>
                    <a:pt x="953" y="487"/>
                  </a:lnTo>
                  <a:lnTo>
                    <a:pt x="930" y="489"/>
                  </a:lnTo>
                  <a:lnTo>
                    <a:pt x="910" y="491"/>
                  </a:lnTo>
                  <a:lnTo>
                    <a:pt x="897" y="494"/>
                  </a:lnTo>
                  <a:lnTo>
                    <a:pt x="888" y="496"/>
                  </a:lnTo>
                  <a:lnTo>
                    <a:pt x="875" y="503"/>
                  </a:lnTo>
                  <a:lnTo>
                    <a:pt x="850" y="514"/>
                  </a:lnTo>
                  <a:lnTo>
                    <a:pt x="817" y="527"/>
                  </a:lnTo>
                  <a:lnTo>
                    <a:pt x="781" y="543"/>
                  </a:lnTo>
                  <a:lnTo>
                    <a:pt x="745" y="558"/>
                  </a:lnTo>
                  <a:lnTo>
                    <a:pt x="714" y="569"/>
                  </a:lnTo>
                  <a:lnTo>
                    <a:pt x="692" y="578"/>
                  </a:lnTo>
                  <a:lnTo>
                    <a:pt x="683" y="583"/>
                  </a:lnTo>
                  <a:lnTo>
                    <a:pt x="678" y="581"/>
                  </a:lnTo>
                  <a:lnTo>
                    <a:pt x="665" y="576"/>
                  </a:lnTo>
                  <a:lnTo>
                    <a:pt x="647" y="569"/>
                  </a:lnTo>
                  <a:lnTo>
                    <a:pt x="627" y="563"/>
                  </a:lnTo>
                  <a:lnTo>
                    <a:pt x="605" y="554"/>
                  </a:lnTo>
                  <a:lnTo>
                    <a:pt x="583" y="547"/>
                  </a:lnTo>
                  <a:lnTo>
                    <a:pt x="565" y="538"/>
                  </a:lnTo>
                  <a:lnTo>
                    <a:pt x="551" y="534"/>
                  </a:lnTo>
                  <a:lnTo>
                    <a:pt x="542" y="529"/>
                  </a:lnTo>
                  <a:lnTo>
                    <a:pt x="531" y="525"/>
                  </a:lnTo>
                  <a:lnTo>
                    <a:pt x="522" y="518"/>
                  </a:lnTo>
                  <a:lnTo>
                    <a:pt x="511" y="514"/>
                  </a:lnTo>
                  <a:lnTo>
                    <a:pt x="498" y="507"/>
                  </a:lnTo>
                  <a:lnTo>
                    <a:pt x="484" y="500"/>
                  </a:lnTo>
                  <a:lnTo>
                    <a:pt x="469" y="491"/>
                  </a:lnTo>
                  <a:lnTo>
                    <a:pt x="451" y="482"/>
                  </a:lnTo>
                  <a:lnTo>
                    <a:pt x="435" y="473"/>
                  </a:lnTo>
                  <a:lnTo>
                    <a:pt x="422" y="467"/>
                  </a:lnTo>
                  <a:lnTo>
                    <a:pt x="409" y="462"/>
                  </a:lnTo>
                  <a:lnTo>
                    <a:pt x="400" y="458"/>
                  </a:lnTo>
                  <a:lnTo>
                    <a:pt x="400" y="456"/>
                  </a:lnTo>
                  <a:lnTo>
                    <a:pt x="395" y="449"/>
                  </a:lnTo>
                  <a:lnTo>
                    <a:pt x="391" y="444"/>
                  </a:lnTo>
                  <a:lnTo>
                    <a:pt x="388" y="442"/>
                  </a:lnTo>
                  <a:lnTo>
                    <a:pt x="395" y="438"/>
                  </a:lnTo>
                  <a:lnTo>
                    <a:pt x="397" y="431"/>
                  </a:lnTo>
                  <a:lnTo>
                    <a:pt x="400" y="424"/>
                  </a:lnTo>
                  <a:lnTo>
                    <a:pt x="400" y="422"/>
                  </a:lnTo>
                  <a:lnTo>
                    <a:pt x="388" y="360"/>
                  </a:lnTo>
                  <a:lnTo>
                    <a:pt x="475" y="357"/>
                  </a:lnTo>
                  <a:lnTo>
                    <a:pt x="502" y="324"/>
                  </a:lnTo>
                  <a:lnTo>
                    <a:pt x="449" y="290"/>
                  </a:lnTo>
                  <a:lnTo>
                    <a:pt x="368" y="226"/>
                  </a:lnTo>
                  <a:lnTo>
                    <a:pt x="330" y="143"/>
                  </a:lnTo>
                  <a:lnTo>
                    <a:pt x="302" y="83"/>
                  </a:lnTo>
                  <a:lnTo>
                    <a:pt x="344" y="29"/>
                  </a:lnTo>
                  <a:lnTo>
                    <a:pt x="232" y="0"/>
                  </a:lnTo>
                  <a:lnTo>
                    <a:pt x="177" y="0"/>
                  </a:lnTo>
                  <a:lnTo>
                    <a:pt x="114" y="38"/>
                  </a:lnTo>
                  <a:lnTo>
                    <a:pt x="116" y="67"/>
                  </a:lnTo>
                  <a:lnTo>
                    <a:pt x="119" y="114"/>
                  </a:lnTo>
                  <a:lnTo>
                    <a:pt x="123" y="165"/>
                  </a:lnTo>
                  <a:lnTo>
                    <a:pt x="128" y="201"/>
                  </a:lnTo>
                  <a:lnTo>
                    <a:pt x="134" y="223"/>
                  </a:lnTo>
                  <a:lnTo>
                    <a:pt x="145" y="248"/>
                  </a:lnTo>
                  <a:lnTo>
                    <a:pt x="157" y="270"/>
                  </a:lnTo>
                  <a:lnTo>
                    <a:pt x="163" y="286"/>
                  </a:lnTo>
                  <a:lnTo>
                    <a:pt x="161" y="304"/>
                  </a:lnTo>
                  <a:lnTo>
                    <a:pt x="150" y="328"/>
                  </a:lnTo>
                  <a:lnTo>
                    <a:pt x="139" y="348"/>
                  </a:lnTo>
                  <a:lnTo>
                    <a:pt x="134" y="357"/>
                  </a:lnTo>
                  <a:lnTo>
                    <a:pt x="134" y="360"/>
                  </a:lnTo>
                  <a:lnTo>
                    <a:pt x="132" y="364"/>
                  </a:lnTo>
                  <a:lnTo>
                    <a:pt x="128" y="373"/>
                  </a:lnTo>
                  <a:lnTo>
                    <a:pt x="125" y="384"/>
                  </a:lnTo>
                  <a:lnTo>
                    <a:pt x="119" y="384"/>
                  </a:lnTo>
                  <a:lnTo>
                    <a:pt x="114" y="384"/>
                  </a:lnTo>
                  <a:lnTo>
                    <a:pt x="107" y="384"/>
                  </a:lnTo>
                  <a:lnTo>
                    <a:pt x="101" y="384"/>
                  </a:lnTo>
                  <a:lnTo>
                    <a:pt x="87" y="386"/>
                  </a:lnTo>
                  <a:lnTo>
                    <a:pt x="72" y="391"/>
                  </a:lnTo>
                  <a:lnTo>
                    <a:pt x="56" y="395"/>
                  </a:lnTo>
                  <a:lnTo>
                    <a:pt x="41" y="402"/>
                  </a:lnTo>
                  <a:lnTo>
                    <a:pt x="27" y="411"/>
                  </a:lnTo>
                  <a:lnTo>
                    <a:pt x="16" y="415"/>
                  </a:lnTo>
                  <a:lnTo>
                    <a:pt x="9" y="420"/>
                  </a:lnTo>
                  <a:lnTo>
                    <a:pt x="7" y="422"/>
                  </a:lnTo>
                  <a:lnTo>
                    <a:pt x="0" y="500"/>
                  </a:lnTo>
                  <a:lnTo>
                    <a:pt x="7" y="511"/>
                  </a:lnTo>
                  <a:lnTo>
                    <a:pt x="20" y="536"/>
                  </a:lnTo>
                  <a:lnTo>
                    <a:pt x="36" y="567"/>
                  </a:lnTo>
                  <a:lnTo>
                    <a:pt x="52" y="594"/>
                  </a:lnTo>
                  <a:lnTo>
                    <a:pt x="61" y="605"/>
                  </a:lnTo>
                  <a:lnTo>
                    <a:pt x="74" y="619"/>
                  </a:lnTo>
                  <a:lnTo>
                    <a:pt x="90" y="634"/>
                  </a:lnTo>
                  <a:lnTo>
                    <a:pt x="105" y="648"/>
                  </a:lnTo>
                  <a:lnTo>
                    <a:pt x="123" y="659"/>
                  </a:lnTo>
                  <a:lnTo>
                    <a:pt x="139" y="670"/>
                  </a:lnTo>
                  <a:lnTo>
                    <a:pt x="150" y="677"/>
                  </a:lnTo>
                  <a:lnTo>
                    <a:pt x="159" y="681"/>
                  </a:lnTo>
                  <a:lnTo>
                    <a:pt x="168" y="683"/>
                  </a:lnTo>
                  <a:lnTo>
                    <a:pt x="179" y="686"/>
                  </a:lnTo>
                  <a:lnTo>
                    <a:pt x="194" y="690"/>
                  </a:lnTo>
                  <a:lnTo>
                    <a:pt x="208" y="695"/>
                  </a:lnTo>
                  <a:lnTo>
                    <a:pt x="223" y="701"/>
                  </a:lnTo>
                  <a:lnTo>
                    <a:pt x="237" y="708"/>
                  </a:lnTo>
                  <a:lnTo>
                    <a:pt x="248" y="712"/>
                  </a:lnTo>
                  <a:lnTo>
                    <a:pt x="257" y="717"/>
                  </a:lnTo>
                  <a:lnTo>
                    <a:pt x="270" y="724"/>
                  </a:lnTo>
                  <a:lnTo>
                    <a:pt x="290" y="732"/>
                  </a:lnTo>
                  <a:lnTo>
                    <a:pt x="319" y="741"/>
                  </a:lnTo>
                  <a:lnTo>
                    <a:pt x="351" y="753"/>
                  </a:lnTo>
                  <a:lnTo>
                    <a:pt x="380" y="764"/>
                  </a:lnTo>
                  <a:lnTo>
                    <a:pt x="404" y="770"/>
                  </a:lnTo>
                  <a:lnTo>
                    <a:pt x="422" y="777"/>
                  </a:lnTo>
                  <a:lnTo>
                    <a:pt x="429" y="779"/>
                  </a:lnTo>
                  <a:lnTo>
                    <a:pt x="429" y="773"/>
                  </a:lnTo>
                  <a:lnTo>
                    <a:pt x="433" y="757"/>
                  </a:lnTo>
                  <a:lnTo>
                    <a:pt x="435" y="739"/>
                  </a:lnTo>
                  <a:lnTo>
                    <a:pt x="442" y="726"/>
                  </a:lnTo>
                  <a:lnTo>
                    <a:pt x="449" y="710"/>
                  </a:lnTo>
                  <a:lnTo>
                    <a:pt x="458" y="688"/>
                  </a:lnTo>
                  <a:lnTo>
                    <a:pt x="469" y="668"/>
                  </a:lnTo>
                  <a:lnTo>
                    <a:pt x="478" y="659"/>
                  </a:lnTo>
                  <a:lnTo>
                    <a:pt x="493" y="654"/>
                  </a:lnTo>
                  <a:lnTo>
                    <a:pt x="511" y="645"/>
                  </a:lnTo>
                  <a:lnTo>
                    <a:pt x="529" y="639"/>
                  </a:lnTo>
                  <a:lnTo>
                    <a:pt x="536" y="634"/>
                  </a:lnTo>
                  <a:lnTo>
                    <a:pt x="605" y="639"/>
                  </a:lnTo>
                  <a:lnTo>
                    <a:pt x="609" y="641"/>
                  </a:lnTo>
                  <a:lnTo>
                    <a:pt x="620" y="645"/>
                  </a:lnTo>
                  <a:lnTo>
                    <a:pt x="636" y="654"/>
                  </a:lnTo>
                  <a:lnTo>
                    <a:pt x="656" y="663"/>
                  </a:lnTo>
                  <a:lnTo>
                    <a:pt x="676" y="672"/>
                  </a:lnTo>
                  <a:lnTo>
                    <a:pt x="696" y="681"/>
                  </a:lnTo>
                  <a:lnTo>
                    <a:pt x="712" y="690"/>
                  </a:lnTo>
                  <a:lnTo>
                    <a:pt x="723" y="697"/>
                  </a:lnTo>
                  <a:lnTo>
                    <a:pt x="741" y="706"/>
                  </a:lnTo>
                  <a:lnTo>
                    <a:pt x="761" y="710"/>
                  </a:lnTo>
                  <a:lnTo>
                    <a:pt x="779" y="715"/>
                  </a:lnTo>
                  <a:lnTo>
                    <a:pt x="785" y="717"/>
                  </a:lnTo>
                  <a:lnTo>
                    <a:pt x="790" y="717"/>
                  </a:lnTo>
                  <a:lnTo>
                    <a:pt x="801" y="721"/>
                  </a:lnTo>
                  <a:lnTo>
                    <a:pt x="814" y="726"/>
                  </a:lnTo>
                  <a:lnTo>
                    <a:pt x="826" y="732"/>
                  </a:lnTo>
                  <a:lnTo>
                    <a:pt x="837" y="741"/>
                  </a:lnTo>
                  <a:lnTo>
                    <a:pt x="852" y="750"/>
                  </a:lnTo>
                  <a:lnTo>
                    <a:pt x="868" y="761"/>
                  </a:lnTo>
                  <a:lnTo>
                    <a:pt x="884" y="775"/>
                  </a:lnTo>
                  <a:lnTo>
                    <a:pt x="897" y="786"/>
                  </a:lnTo>
                  <a:lnTo>
                    <a:pt x="913" y="791"/>
                  </a:lnTo>
                  <a:lnTo>
                    <a:pt x="928" y="793"/>
                  </a:lnTo>
                  <a:lnTo>
                    <a:pt x="939" y="795"/>
                  </a:lnTo>
                  <a:lnTo>
                    <a:pt x="948" y="795"/>
                  </a:lnTo>
                  <a:lnTo>
                    <a:pt x="968" y="795"/>
                  </a:lnTo>
                  <a:lnTo>
                    <a:pt x="991" y="793"/>
                  </a:lnTo>
                  <a:lnTo>
                    <a:pt x="1017" y="791"/>
                  </a:lnTo>
                  <a:lnTo>
                    <a:pt x="1044" y="786"/>
                  </a:lnTo>
                  <a:lnTo>
                    <a:pt x="1071" y="784"/>
                  </a:lnTo>
                  <a:lnTo>
                    <a:pt x="1091" y="782"/>
                  </a:lnTo>
                  <a:lnTo>
                    <a:pt x="1104" y="779"/>
                  </a:lnTo>
                  <a:lnTo>
                    <a:pt x="1116" y="777"/>
                  </a:lnTo>
                  <a:lnTo>
                    <a:pt x="1131" y="770"/>
                  </a:lnTo>
                  <a:lnTo>
                    <a:pt x="1147" y="766"/>
                  </a:lnTo>
                  <a:lnTo>
                    <a:pt x="1165" y="757"/>
                  </a:lnTo>
                  <a:lnTo>
                    <a:pt x="1180" y="750"/>
                  </a:lnTo>
                  <a:lnTo>
                    <a:pt x="1196" y="744"/>
                  </a:lnTo>
                  <a:lnTo>
                    <a:pt x="1207" y="737"/>
                  </a:lnTo>
                  <a:lnTo>
                    <a:pt x="1214" y="732"/>
                  </a:lnTo>
                  <a:lnTo>
                    <a:pt x="1227" y="719"/>
                  </a:lnTo>
                  <a:lnTo>
                    <a:pt x="1240" y="695"/>
                  </a:lnTo>
                  <a:lnTo>
                    <a:pt x="1254" y="668"/>
                  </a:lnTo>
                  <a:lnTo>
                    <a:pt x="1261" y="652"/>
                  </a:lnTo>
                  <a:lnTo>
                    <a:pt x="1265" y="634"/>
                  </a:lnTo>
                  <a:lnTo>
                    <a:pt x="1272" y="607"/>
                  </a:lnTo>
                  <a:lnTo>
                    <a:pt x="1278" y="585"/>
                  </a:lnTo>
                  <a:lnTo>
                    <a:pt x="1281" y="574"/>
                  </a:lnTo>
                  <a:lnTo>
                    <a:pt x="1281" y="572"/>
                  </a:lnTo>
                  <a:lnTo>
                    <a:pt x="1281" y="563"/>
                  </a:lnTo>
                  <a:lnTo>
                    <a:pt x="1278" y="556"/>
                  </a:lnTo>
                  <a:lnTo>
                    <a:pt x="1272" y="54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758"/>
            <p:cNvSpPr/>
            <p:nvPr/>
          </p:nvSpPr>
          <p:spPr>
            <a:xfrm>
              <a:off x="6502320" y="5594400"/>
              <a:ext cx="174600" cy="290520"/>
            </a:xfrm>
            <a:custGeom>
              <a:avLst/>
              <a:gdLst>
                <a:gd name="textAreaLeft" fmla="*/ 0 w 174600"/>
                <a:gd name="textAreaRight" fmla="*/ 174960 w 174600"/>
                <a:gd name="textAreaTop" fmla="*/ 0 h 290520"/>
                <a:gd name="textAreaBottom" fmla="*/ 290880 h 290520"/>
              </a:gdLst>
              <a:ahLst/>
              <a:rect l="textAreaLeft" t="textAreaTop" r="textAreaRight" b="textAreaBottom"/>
              <a:pathLst>
                <a:path w="160" h="272">
                  <a:moveTo>
                    <a:pt x="0" y="20"/>
                  </a:moveTo>
                  <a:lnTo>
                    <a:pt x="20" y="147"/>
                  </a:lnTo>
                  <a:lnTo>
                    <a:pt x="22" y="156"/>
                  </a:lnTo>
                  <a:lnTo>
                    <a:pt x="31" y="178"/>
                  </a:lnTo>
                  <a:lnTo>
                    <a:pt x="40" y="203"/>
                  </a:lnTo>
                  <a:lnTo>
                    <a:pt x="49" y="221"/>
                  </a:lnTo>
                  <a:lnTo>
                    <a:pt x="56" y="225"/>
                  </a:lnTo>
                  <a:lnTo>
                    <a:pt x="67" y="234"/>
                  </a:lnTo>
                  <a:lnTo>
                    <a:pt x="78" y="241"/>
                  </a:lnTo>
                  <a:lnTo>
                    <a:pt x="91" y="250"/>
                  </a:lnTo>
                  <a:lnTo>
                    <a:pt x="102" y="259"/>
                  </a:lnTo>
                  <a:lnTo>
                    <a:pt x="114" y="265"/>
                  </a:lnTo>
                  <a:lnTo>
                    <a:pt x="120" y="270"/>
                  </a:lnTo>
                  <a:lnTo>
                    <a:pt x="123" y="272"/>
                  </a:lnTo>
                  <a:lnTo>
                    <a:pt x="160" y="216"/>
                  </a:lnTo>
                  <a:lnTo>
                    <a:pt x="145" y="167"/>
                  </a:lnTo>
                  <a:lnTo>
                    <a:pt x="91" y="0"/>
                  </a:lnTo>
                  <a:lnTo>
                    <a:pt x="62" y="11"/>
                  </a:lnTo>
                  <a:lnTo>
                    <a:pt x="0" y="2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Freeform 759"/>
            <p:cNvSpPr/>
            <p:nvPr/>
          </p:nvSpPr>
          <p:spPr>
            <a:xfrm>
              <a:off x="7272360" y="4976640"/>
              <a:ext cx="777960" cy="716040"/>
            </a:xfrm>
            <a:custGeom>
              <a:avLst/>
              <a:gdLst>
                <a:gd name="textAreaLeft" fmla="*/ 0 w 777960"/>
                <a:gd name="textAreaRight" fmla="*/ 778320 w 777960"/>
                <a:gd name="textAreaTop" fmla="*/ 0 h 716040"/>
                <a:gd name="textAreaBottom" fmla="*/ 716400 h 716040"/>
              </a:gdLst>
              <a:ahLst/>
              <a:rect l="textAreaLeft" t="textAreaTop" r="textAreaRight" b="textAreaBottom"/>
              <a:pathLst>
                <a:path w="718" h="671">
                  <a:moveTo>
                    <a:pt x="11" y="87"/>
                  </a:moveTo>
                  <a:lnTo>
                    <a:pt x="16" y="102"/>
                  </a:lnTo>
                  <a:lnTo>
                    <a:pt x="29" y="136"/>
                  </a:lnTo>
                  <a:lnTo>
                    <a:pt x="40" y="171"/>
                  </a:lnTo>
                  <a:lnTo>
                    <a:pt x="45" y="196"/>
                  </a:lnTo>
                  <a:lnTo>
                    <a:pt x="47" y="218"/>
                  </a:lnTo>
                  <a:lnTo>
                    <a:pt x="54" y="258"/>
                  </a:lnTo>
                  <a:lnTo>
                    <a:pt x="60" y="301"/>
                  </a:lnTo>
                  <a:lnTo>
                    <a:pt x="60" y="339"/>
                  </a:lnTo>
                  <a:lnTo>
                    <a:pt x="51" y="377"/>
                  </a:lnTo>
                  <a:lnTo>
                    <a:pt x="34" y="417"/>
                  </a:lnTo>
                  <a:lnTo>
                    <a:pt x="18" y="448"/>
                  </a:lnTo>
                  <a:lnTo>
                    <a:pt x="11" y="462"/>
                  </a:lnTo>
                  <a:lnTo>
                    <a:pt x="0" y="584"/>
                  </a:lnTo>
                  <a:lnTo>
                    <a:pt x="2" y="584"/>
                  </a:lnTo>
                  <a:lnTo>
                    <a:pt x="14" y="584"/>
                  </a:lnTo>
                  <a:lnTo>
                    <a:pt x="27" y="587"/>
                  </a:lnTo>
                  <a:lnTo>
                    <a:pt x="43" y="587"/>
                  </a:lnTo>
                  <a:lnTo>
                    <a:pt x="63" y="589"/>
                  </a:lnTo>
                  <a:lnTo>
                    <a:pt x="83" y="591"/>
                  </a:lnTo>
                  <a:lnTo>
                    <a:pt x="103" y="596"/>
                  </a:lnTo>
                  <a:lnTo>
                    <a:pt x="123" y="598"/>
                  </a:lnTo>
                  <a:lnTo>
                    <a:pt x="141" y="600"/>
                  </a:lnTo>
                  <a:lnTo>
                    <a:pt x="161" y="605"/>
                  </a:lnTo>
                  <a:lnTo>
                    <a:pt x="179" y="607"/>
                  </a:lnTo>
                  <a:lnTo>
                    <a:pt x="199" y="611"/>
                  </a:lnTo>
                  <a:lnTo>
                    <a:pt x="214" y="616"/>
                  </a:lnTo>
                  <a:lnTo>
                    <a:pt x="228" y="620"/>
                  </a:lnTo>
                  <a:lnTo>
                    <a:pt x="239" y="622"/>
                  </a:lnTo>
                  <a:lnTo>
                    <a:pt x="245" y="627"/>
                  </a:lnTo>
                  <a:lnTo>
                    <a:pt x="252" y="629"/>
                  </a:lnTo>
                  <a:lnTo>
                    <a:pt x="266" y="634"/>
                  </a:lnTo>
                  <a:lnTo>
                    <a:pt x="281" y="640"/>
                  </a:lnTo>
                  <a:lnTo>
                    <a:pt x="301" y="645"/>
                  </a:lnTo>
                  <a:lnTo>
                    <a:pt x="319" y="651"/>
                  </a:lnTo>
                  <a:lnTo>
                    <a:pt x="335" y="656"/>
                  </a:lnTo>
                  <a:lnTo>
                    <a:pt x="348" y="660"/>
                  </a:lnTo>
                  <a:lnTo>
                    <a:pt x="355" y="663"/>
                  </a:lnTo>
                  <a:lnTo>
                    <a:pt x="366" y="665"/>
                  </a:lnTo>
                  <a:lnTo>
                    <a:pt x="377" y="669"/>
                  </a:lnTo>
                  <a:lnTo>
                    <a:pt x="386" y="671"/>
                  </a:lnTo>
                  <a:lnTo>
                    <a:pt x="397" y="671"/>
                  </a:lnTo>
                  <a:lnTo>
                    <a:pt x="406" y="669"/>
                  </a:lnTo>
                  <a:lnTo>
                    <a:pt x="419" y="660"/>
                  </a:lnTo>
                  <a:lnTo>
                    <a:pt x="437" y="651"/>
                  </a:lnTo>
                  <a:lnTo>
                    <a:pt x="457" y="638"/>
                  </a:lnTo>
                  <a:lnTo>
                    <a:pt x="477" y="625"/>
                  </a:lnTo>
                  <a:lnTo>
                    <a:pt x="495" y="616"/>
                  </a:lnTo>
                  <a:lnTo>
                    <a:pt x="506" y="607"/>
                  </a:lnTo>
                  <a:lnTo>
                    <a:pt x="511" y="605"/>
                  </a:lnTo>
                  <a:lnTo>
                    <a:pt x="618" y="569"/>
                  </a:lnTo>
                  <a:lnTo>
                    <a:pt x="625" y="359"/>
                  </a:lnTo>
                  <a:lnTo>
                    <a:pt x="654" y="192"/>
                  </a:lnTo>
                  <a:lnTo>
                    <a:pt x="663" y="174"/>
                  </a:lnTo>
                  <a:lnTo>
                    <a:pt x="685" y="136"/>
                  </a:lnTo>
                  <a:lnTo>
                    <a:pt x="707" y="93"/>
                  </a:lnTo>
                  <a:lnTo>
                    <a:pt x="718" y="69"/>
                  </a:lnTo>
                  <a:lnTo>
                    <a:pt x="716" y="58"/>
                  </a:lnTo>
                  <a:lnTo>
                    <a:pt x="709" y="44"/>
                  </a:lnTo>
                  <a:lnTo>
                    <a:pt x="703" y="33"/>
                  </a:lnTo>
                  <a:lnTo>
                    <a:pt x="698" y="29"/>
                  </a:lnTo>
                  <a:lnTo>
                    <a:pt x="625" y="4"/>
                  </a:lnTo>
                  <a:lnTo>
                    <a:pt x="605" y="0"/>
                  </a:lnTo>
                  <a:lnTo>
                    <a:pt x="522" y="113"/>
                  </a:lnTo>
                  <a:lnTo>
                    <a:pt x="373" y="176"/>
                  </a:lnTo>
                  <a:lnTo>
                    <a:pt x="281" y="156"/>
                  </a:lnTo>
                  <a:lnTo>
                    <a:pt x="208" y="113"/>
                  </a:lnTo>
                  <a:lnTo>
                    <a:pt x="158" y="24"/>
                  </a:lnTo>
                  <a:lnTo>
                    <a:pt x="11" y="87"/>
                  </a:lnTo>
                  <a:close/>
                </a:path>
              </a:pathLst>
            </a:custGeom>
            <a:solidFill>
              <a:srgbClr val="ffa5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60"/>
            <p:cNvSpPr/>
            <p:nvPr/>
          </p:nvSpPr>
          <p:spPr>
            <a:xfrm>
              <a:off x="7115040" y="5776920"/>
              <a:ext cx="427320" cy="127080"/>
            </a:xfrm>
            <a:custGeom>
              <a:avLst/>
              <a:gdLst>
                <a:gd name="textAreaLeft" fmla="*/ 0 w 427320"/>
                <a:gd name="textAreaRight" fmla="*/ 427680 w 427320"/>
                <a:gd name="textAreaTop" fmla="*/ 0 h 127080"/>
                <a:gd name="textAreaBottom" fmla="*/ 127440 h 127080"/>
              </a:gdLst>
              <a:ahLst/>
              <a:rect l="textAreaLeft" t="textAreaTop" r="textAreaRight" b="textAreaBottom"/>
              <a:pathLst>
                <a:path w="395" h="118">
                  <a:moveTo>
                    <a:pt x="395" y="44"/>
                  </a:moveTo>
                  <a:lnTo>
                    <a:pt x="283" y="118"/>
                  </a:lnTo>
                  <a:lnTo>
                    <a:pt x="201" y="118"/>
                  </a:lnTo>
                  <a:lnTo>
                    <a:pt x="196" y="116"/>
                  </a:lnTo>
                  <a:lnTo>
                    <a:pt x="188" y="109"/>
                  </a:lnTo>
                  <a:lnTo>
                    <a:pt x="174" y="98"/>
                  </a:lnTo>
                  <a:lnTo>
                    <a:pt x="159" y="84"/>
                  </a:lnTo>
                  <a:lnTo>
                    <a:pt x="141" y="73"/>
                  </a:lnTo>
                  <a:lnTo>
                    <a:pt x="123" y="60"/>
                  </a:lnTo>
                  <a:lnTo>
                    <a:pt x="109" y="51"/>
                  </a:lnTo>
                  <a:lnTo>
                    <a:pt x="98" y="44"/>
                  </a:lnTo>
                  <a:lnTo>
                    <a:pt x="89" y="38"/>
                  </a:lnTo>
                  <a:lnTo>
                    <a:pt x="74" y="31"/>
                  </a:lnTo>
                  <a:lnTo>
                    <a:pt x="58" y="24"/>
                  </a:lnTo>
                  <a:lnTo>
                    <a:pt x="43" y="17"/>
                  </a:lnTo>
                  <a:lnTo>
                    <a:pt x="27" y="11"/>
                  </a:lnTo>
                  <a:lnTo>
                    <a:pt x="14" y="4"/>
                  </a:lnTo>
                  <a:lnTo>
                    <a:pt x="5" y="2"/>
                  </a:lnTo>
                  <a:lnTo>
                    <a:pt x="0" y="0"/>
                  </a:lnTo>
                  <a:lnTo>
                    <a:pt x="96" y="0"/>
                  </a:lnTo>
                  <a:lnTo>
                    <a:pt x="101" y="0"/>
                  </a:lnTo>
                  <a:lnTo>
                    <a:pt x="116" y="2"/>
                  </a:lnTo>
                  <a:lnTo>
                    <a:pt x="136" y="4"/>
                  </a:lnTo>
                  <a:lnTo>
                    <a:pt x="161" y="6"/>
                  </a:lnTo>
                  <a:lnTo>
                    <a:pt x="185" y="11"/>
                  </a:lnTo>
                  <a:lnTo>
                    <a:pt x="208" y="13"/>
                  </a:lnTo>
                  <a:lnTo>
                    <a:pt x="225" y="15"/>
                  </a:lnTo>
                  <a:lnTo>
                    <a:pt x="234" y="15"/>
                  </a:lnTo>
                  <a:lnTo>
                    <a:pt x="245" y="17"/>
                  </a:lnTo>
                  <a:lnTo>
                    <a:pt x="263" y="20"/>
                  </a:lnTo>
                  <a:lnTo>
                    <a:pt x="290" y="24"/>
                  </a:lnTo>
                  <a:lnTo>
                    <a:pt x="319" y="29"/>
                  </a:lnTo>
                  <a:lnTo>
                    <a:pt x="348" y="35"/>
                  </a:lnTo>
                  <a:lnTo>
                    <a:pt x="370" y="40"/>
                  </a:lnTo>
                  <a:lnTo>
                    <a:pt x="388" y="42"/>
                  </a:lnTo>
                  <a:lnTo>
                    <a:pt x="395" y="44"/>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Freeform 761"/>
            <p:cNvSpPr/>
            <p:nvPr/>
          </p:nvSpPr>
          <p:spPr>
            <a:xfrm>
              <a:off x="7586640" y="5846760"/>
              <a:ext cx="361800" cy="201600"/>
            </a:xfrm>
            <a:custGeom>
              <a:avLst/>
              <a:gdLst>
                <a:gd name="textAreaLeft" fmla="*/ 0 w 361800"/>
                <a:gd name="textAreaRight" fmla="*/ 362160 w 361800"/>
                <a:gd name="textAreaTop" fmla="*/ 0 h 201600"/>
                <a:gd name="textAreaBottom" fmla="*/ 201960 h 201600"/>
              </a:gdLst>
              <a:ahLst/>
              <a:rect l="textAreaLeft" t="textAreaTop" r="textAreaRight" b="textAreaBottom"/>
              <a:pathLst>
                <a:path w="335" h="190">
                  <a:moveTo>
                    <a:pt x="54" y="58"/>
                  </a:moveTo>
                  <a:lnTo>
                    <a:pt x="138" y="34"/>
                  </a:lnTo>
                  <a:lnTo>
                    <a:pt x="303" y="0"/>
                  </a:lnTo>
                  <a:lnTo>
                    <a:pt x="335" y="16"/>
                  </a:lnTo>
                  <a:lnTo>
                    <a:pt x="270" y="65"/>
                  </a:lnTo>
                  <a:lnTo>
                    <a:pt x="78" y="166"/>
                  </a:lnTo>
                  <a:lnTo>
                    <a:pt x="25" y="190"/>
                  </a:lnTo>
                  <a:lnTo>
                    <a:pt x="0" y="181"/>
                  </a:lnTo>
                  <a:lnTo>
                    <a:pt x="54" y="58"/>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762"/>
            <p:cNvSpPr/>
            <p:nvPr/>
          </p:nvSpPr>
          <p:spPr>
            <a:xfrm>
              <a:off x="7763040" y="4197240"/>
              <a:ext cx="169560" cy="108000"/>
            </a:xfrm>
            <a:custGeom>
              <a:avLst/>
              <a:gdLst>
                <a:gd name="textAreaLeft" fmla="*/ 0 w 169560"/>
                <a:gd name="textAreaRight" fmla="*/ 169920 w 169560"/>
                <a:gd name="textAreaTop" fmla="*/ 0 h 108000"/>
                <a:gd name="textAreaBottom" fmla="*/ 108360 h 108000"/>
              </a:gdLst>
              <a:ahLst/>
              <a:rect l="textAreaLeft" t="textAreaTop" r="textAreaRight" b="textAreaBottom"/>
              <a:pathLst>
                <a:path w="156" h="100">
                  <a:moveTo>
                    <a:pt x="0" y="56"/>
                  </a:moveTo>
                  <a:lnTo>
                    <a:pt x="82" y="94"/>
                  </a:lnTo>
                  <a:lnTo>
                    <a:pt x="87" y="96"/>
                  </a:lnTo>
                  <a:lnTo>
                    <a:pt x="100" y="100"/>
                  </a:lnTo>
                  <a:lnTo>
                    <a:pt x="118" y="100"/>
                  </a:lnTo>
                  <a:lnTo>
                    <a:pt x="131" y="94"/>
                  </a:lnTo>
                  <a:lnTo>
                    <a:pt x="143" y="78"/>
                  </a:lnTo>
                  <a:lnTo>
                    <a:pt x="149" y="64"/>
                  </a:lnTo>
                  <a:lnTo>
                    <a:pt x="154" y="53"/>
                  </a:lnTo>
                  <a:lnTo>
                    <a:pt x="156" y="49"/>
                  </a:lnTo>
                  <a:lnTo>
                    <a:pt x="91" y="2"/>
                  </a:lnTo>
                  <a:lnTo>
                    <a:pt x="49" y="0"/>
                  </a:lnTo>
                  <a:lnTo>
                    <a:pt x="0" y="56"/>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763"/>
            <p:cNvSpPr/>
            <p:nvPr/>
          </p:nvSpPr>
          <p:spPr>
            <a:xfrm>
              <a:off x="5954760" y="5278320"/>
              <a:ext cx="117360" cy="112680"/>
            </a:xfrm>
            <a:custGeom>
              <a:avLst/>
              <a:gdLst>
                <a:gd name="textAreaLeft" fmla="*/ 0 w 117360"/>
                <a:gd name="textAreaRight" fmla="*/ 117720 w 117360"/>
                <a:gd name="textAreaTop" fmla="*/ 0 h 112680"/>
                <a:gd name="textAreaBottom" fmla="*/ 113040 h 112680"/>
              </a:gdLst>
              <a:ahLst/>
              <a:rect l="textAreaLeft" t="textAreaTop" r="textAreaRight" b="textAreaBottom"/>
              <a:pathLst>
                <a:path w="109" h="105">
                  <a:moveTo>
                    <a:pt x="55" y="105"/>
                  </a:moveTo>
                  <a:lnTo>
                    <a:pt x="75" y="101"/>
                  </a:lnTo>
                  <a:lnTo>
                    <a:pt x="93" y="89"/>
                  </a:lnTo>
                  <a:lnTo>
                    <a:pt x="104" y="71"/>
                  </a:lnTo>
                  <a:lnTo>
                    <a:pt x="109" y="51"/>
                  </a:lnTo>
                  <a:lnTo>
                    <a:pt x="104" y="31"/>
                  </a:lnTo>
                  <a:lnTo>
                    <a:pt x="93" y="16"/>
                  </a:lnTo>
                  <a:lnTo>
                    <a:pt x="75" y="5"/>
                  </a:lnTo>
                  <a:lnTo>
                    <a:pt x="55" y="0"/>
                  </a:lnTo>
                  <a:lnTo>
                    <a:pt x="33" y="5"/>
                  </a:lnTo>
                  <a:lnTo>
                    <a:pt x="15" y="16"/>
                  </a:lnTo>
                  <a:lnTo>
                    <a:pt x="4" y="31"/>
                  </a:lnTo>
                  <a:lnTo>
                    <a:pt x="0" y="51"/>
                  </a:lnTo>
                  <a:lnTo>
                    <a:pt x="4" y="71"/>
                  </a:lnTo>
                  <a:lnTo>
                    <a:pt x="15" y="89"/>
                  </a:lnTo>
                  <a:lnTo>
                    <a:pt x="33" y="101"/>
                  </a:lnTo>
                  <a:lnTo>
                    <a:pt x="55" y="105"/>
                  </a:lnTo>
                  <a:close/>
                </a:path>
              </a:pathLst>
            </a:custGeom>
            <a:solidFill>
              <a:srgbClr val="f9e8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764"/>
            <p:cNvSpPr/>
            <p:nvPr/>
          </p:nvSpPr>
          <p:spPr>
            <a:xfrm>
              <a:off x="6348240" y="5230800"/>
              <a:ext cx="120960" cy="111240"/>
            </a:xfrm>
            <a:custGeom>
              <a:avLst/>
              <a:gdLst>
                <a:gd name="textAreaLeft" fmla="*/ 0 w 120960"/>
                <a:gd name="textAreaRight" fmla="*/ 121320 w 120960"/>
                <a:gd name="textAreaTop" fmla="*/ 0 h 111240"/>
                <a:gd name="textAreaBottom" fmla="*/ 111600 h 111240"/>
              </a:gdLst>
              <a:ahLst/>
              <a:rect l="textAreaLeft" t="textAreaTop" r="textAreaRight" b="textAreaBottom"/>
              <a:pathLst>
                <a:path w="112" h="105">
                  <a:moveTo>
                    <a:pt x="56" y="105"/>
                  </a:moveTo>
                  <a:lnTo>
                    <a:pt x="78" y="101"/>
                  </a:lnTo>
                  <a:lnTo>
                    <a:pt x="96" y="90"/>
                  </a:lnTo>
                  <a:lnTo>
                    <a:pt x="107" y="72"/>
                  </a:lnTo>
                  <a:lnTo>
                    <a:pt x="112" y="52"/>
                  </a:lnTo>
                  <a:lnTo>
                    <a:pt x="107" y="32"/>
                  </a:lnTo>
                  <a:lnTo>
                    <a:pt x="96" y="16"/>
                  </a:lnTo>
                  <a:lnTo>
                    <a:pt x="78" y="5"/>
                  </a:lnTo>
                  <a:lnTo>
                    <a:pt x="56" y="0"/>
                  </a:lnTo>
                  <a:lnTo>
                    <a:pt x="34" y="5"/>
                  </a:lnTo>
                  <a:lnTo>
                    <a:pt x="16" y="16"/>
                  </a:lnTo>
                  <a:lnTo>
                    <a:pt x="5" y="32"/>
                  </a:lnTo>
                  <a:lnTo>
                    <a:pt x="0" y="52"/>
                  </a:lnTo>
                  <a:lnTo>
                    <a:pt x="5" y="72"/>
                  </a:lnTo>
                  <a:lnTo>
                    <a:pt x="16" y="90"/>
                  </a:lnTo>
                  <a:lnTo>
                    <a:pt x="34" y="101"/>
                  </a:lnTo>
                  <a:lnTo>
                    <a:pt x="56" y="105"/>
                  </a:lnTo>
                  <a:close/>
                </a:path>
              </a:pathLst>
            </a:custGeom>
            <a:solidFill>
              <a:srgbClr val="f9e8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765"/>
            <p:cNvSpPr/>
            <p:nvPr/>
          </p:nvSpPr>
          <p:spPr>
            <a:xfrm>
              <a:off x="5870520" y="6203880"/>
              <a:ext cx="312840" cy="255600"/>
            </a:xfrm>
            <a:custGeom>
              <a:avLst/>
              <a:gdLst>
                <a:gd name="textAreaLeft" fmla="*/ 0 w 312840"/>
                <a:gd name="textAreaRight" fmla="*/ 313200 w 312840"/>
                <a:gd name="textAreaTop" fmla="*/ 0 h 255600"/>
                <a:gd name="textAreaBottom" fmla="*/ 255960 h 255600"/>
              </a:gdLst>
              <a:ahLst/>
              <a:rect l="textAreaLeft" t="textAreaTop" r="textAreaRight" b="textAreaBottom"/>
              <a:pathLst>
                <a:path w="289" h="239">
                  <a:moveTo>
                    <a:pt x="289" y="49"/>
                  </a:moveTo>
                  <a:lnTo>
                    <a:pt x="160" y="74"/>
                  </a:lnTo>
                  <a:lnTo>
                    <a:pt x="111" y="165"/>
                  </a:lnTo>
                  <a:lnTo>
                    <a:pt x="98" y="239"/>
                  </a:lnTo>
                  <a:lnTo>
                    <a:pt x="53" y="226"/>
                  </a:lnTo>
                  <a:lnTo>
                    <a:pt x="13" y="177"/>
                  </a:lnTo>
                  <a:lnTo>
                    <a:pt x="11" y="168"/>
                  </a:lnTo>
                  <a:lnTo>
                    <a:pt x="4" y="148"/>
                  </a:lnTo>
                  <a:lnTo>
                    <a:pt x="0" y="127"/>
                  </a:lnTo>
                  <a:lnTo>
                    <a:pt x="0" y="112"/>
                  </a:lnTo>
                  <a:lnTo>
                    <a:pt x="4" y="98"/>
                  </a:lnTo>
                  <a:lnTo>
                    <a:pt x="8" y="83"/>
                  </a:lnTo>
                  <a:lnTo>
                    <a:pt x="15" y="69"/>
                  </a:lnTo>
                  <a:lnTo>
                    <a:pt x="24" y="58"/>
                  </a:lnTo>
                  <a:lnTo>
                    <a:pt x="37" y="49"/>
                  </a:lnTo>
                  <a:lnTo>
                    <a:pt x="51" y="40"/>
                  </a:lnTo>
                  <a:lnTo>
                    <a:pt x="64" y="31"/>
                  </a:lnTo>
                  <a:lnTo>
                    <a:pt x="69" y="29"/>
                  </a:lnTo>
                  <a:lnTo>
                    <a:pt x="118" y="0"/>
                  </a:lnTo>
                  <a:lnTo>
                    <a:pt x="120" y="0"/>
                  </a:lnTo>
                  <a:lnTo>
                    <a:pt x="127" y="0"/>
                  </a:lnTo>
                  <a:lnTo>
                    <a:pt x="136" y="0"/>
                  </a:lnTo>
                  <a:lnTo>
                    <a:pt x="149" y="0"/>
                  </a:lnTo>
                  <a:lnTo>
                    <a:pt x="160" y="0"/>
                  </a:lnTo>
                  <a:lnTo>
                    <a:pt x="171" y="2"/>
                  </a:lnTo>
                  <a:lnTo>
                    <a:pt x="180" y="2"/>
                  </a:lnTo>
                  <a:lnTo>
                    <a:pt x="187" y="5"/>
                  </a:lnTo>
                  <a:lnTo>
                    <a:pt x="196" y="7"/>
                  </a:lnTo>
                  <a:lnTo>
                    <a:pt x="209" y="14"/>
                  </a:lnTo>
                  <a:lnTo>
                    <a:pt x="225" y="20"/>
                  </a:lnTo>
                  <a:lnTo>
                    <a:pt x="243" y="29"/>
                  </a:lnTo>
                  <a:lnTo>
                    <a:pt x="261" y="36"/>
                  </a:lnTo>
                  <a:lnTo>
                    <a:pt x="276" y="43"/>
                  </a:lnTo>
                  <a:lnTo>
                    <a:pt x="285" y="47"/>
                  </a:lnTo>
                  <a:lnTo>
                    <a:pt x="289" y="49"/>
                  </a:lnTo>
                  <a:close/>
                </a:path>
              </a:pathLst>
            </a:custGeom>
            <a:solidFill>
              <a:srgbClr val="ff51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766"/>
            <p:cNvSpPr/>
            <p:nvPr/>
          </p:nvSpPr>
          <p:spPr>
            <a:xfrm>
              <a:off x="5508720" y="4875120"/>
              <a:ext cx="604800" cy="700200"/>
            </a:xfrm>
            <a:custGeom>
              <a:avLst/>
              <a:gdLst>
                <a:gd name="textAreaLeft" fmla="*/ 0 w 604800"/>
                <a:gd name="textAreaRight" fmla="*/ 605160 w 604800"/>
                <a:gd name="textAreaTop" fmla="*/ 0 h 700200"/>
                <a:gd name="textAreaBottom" fmla="*/ 700560 h 700200"/>
              </a:gdLst>
              <a:ahLst/>
              <a:rect l="textAreaLeft" t="textAreaTop" r="textAreaRight" b="textAreaBottom"/>
              <a:pathLst>
                <a:path w="558" h="654">
                  <a:moveTo>
                    <a:pt x="493" y="0"/>
                  </a:moveTo>
                  <a:lnTo>
                    <a:pt x="489" y="6"/>
                  </a:lnTo>
                  <a:lnTo>
                    <a:pt x="480" y="15"/>
                  </a:lnTo>
                  <a:lnTo>
                    <a:pt x="469" y="27"/>
                  </a:lnTo>
                  <a:lnTo>
                    <a:pt x="457" y="40"/>
                  </a:lnTo>
                  <a:lnTo>
                    <a:pt x="444" y="53"/>
                  </a:lnTo>
                  <a:lnTo>
                    <a:pt x="435" y="65"/>
                  </a:lnTo>
                  <a:lnTo>
                    <a:pt x="428" y="73"/>
                  </a:lnTo>
                  <a:lnTo>
                    <a:pt x="426" y="80"/>
                  </a:lnTo>
                  <a:lnTo>
                    <a:pt x="417" y="94"/>
                  </a:lnTo>
                  <a:lnTo>
                    <a:pt x="399" y="109"/>
                  </a:lnTo>
                  <a:lnTo>
                    <a:pt x="379" y="123"/>
                  </a:lnTo>
                  <a:lnTo>
                    <a:pt x="370" y="129"/>
                  </a:lnTo>
                  <a:lnTo>
                    <a:pt x="199" y="205"/>
                  </a:lnTo>
                  <a:lnTo>
                    <a:pt x="194" y="212"/>
                  </a:lnTo>
                  <a:lnTo>
                    <a:pt x="181" y="227"/>
                  </a:lnTo>
                  <a:lnTo>
                    <a:pt x="165" y="250"/>
                  </a:lnTo>
                  <a:lnTo>
                    <a:pt x="145" y="277"/>
                  </a:lnTo>
                  <a:lnTo>
                    <a:pt x="123" y="303"/>
                  </a:lnTo>
                  <a:lnTo>
                    <a:pt x="105" y="328"/>
                  </a:lnTo>
                  <a:lnTo>
                    <a:pt x="89" y="348"/>
                  </a:lnTo>
                  <a:lnTo>
                    <a:pt x="83" y="359"/>
                  </a:lnTo>
                  <a:lnTo>
                    <a:pt x="78" y="375"/>
                  </a:lnTo>
                  <a:lnTo>
                    <a:pt x="67" y="402"/>
                  </a:lnTo>
                  <a:lnTo>
                    <a:pt x="54" y="440"/>
                  </a:lnTo>
                  <a:lnTo>
                    <a:pt x="38" y="480"/>
                  </a:lnTo>
                  <a:lnTo>
                    <a:pt x="25" y="522"/>
                  </a:lnTo>
                  <a:lnTo>
                    <a:pt x="11" y="558"/>
                  </a:lnTo>
                  <a:lnTo>
                    <a:pt x="2" y="585"/>
                  </a:lnTo>
                  <a:lnTo>
                    <a:pt x="0" y="598"/>
                  </a:lnTo>
                  <a:lnTo>
                    <a:pt x="2" y="611"/>
                  </a:lnTo>
                  <a:lnTo>
                    <a:pt x="7" y="629"/>
                  </a:lnTo>
                  <a:lnTo>
                    <a:pt x="11" y="647"/>
                  </a:lnTo>
                  <a:lnTo>
                    <a:pt x="14" y="654"/>
                  </a:lnTo>
                  <a:lnTo>
                    <a:pt x="16" y="652"/>
                  </a:lnTo>
                  <a:lnTo>
                    <a:pt x="25" y="649"/>
                  </a:lnTo>
                  <a:lnTo>
                    <a:pt x="34" y="645"/>
                  </a:lnTo>
                  <a:lnTo>
                    <a:pt x="47" y="638"/>
                  </a:lnTo>
                  <a:lnTo>
                    <a:pt x="58" y="632"/>
                  </a:lnTo>
                  <a:lnTo>
                    <a:pt x="69" y="625"/>
                  </a:lnTo>
                  <a:lnTo>
                    <a:pt x="78" y="618"/>
                  </a:lnTo>
                  <a:lnTo>
                    <a:pt x="83" y="614"/>
                  </a:lnTo>
                  <a:lnTo>
                    <a:pt x="89" y="580"/>
                  </a:lnTo>
                  <a:lnTo>
                    <a:pt x="103" y="520"/>
                  </a:lnTo>
                  <a:lnTo>
                    <a:pt x="116" y="457"/>
                  </a:lnTo>
                  <a:lnTo>
                    <a:pt x="127" y="422"/>
                  </a:lnTo>
                  <a:lnTo>
                    <a:pt x="145" y="388"/>
                  </a:lnTo>
                  <a:lnTo>
                    <a:pt x="163" y="359"/>
                  </a:lnTo>
                  <a:lnTo>
                    <a:pt x="181" y="332"/>
                  </a:lnTo>
                  <a:lnTo>
                    <a:pt x="199" y="310"/>
                  </a:lnTo>
                  <a:lnTo>
                    <a:pt x="214" y="292"/>
                  </a:lnTo>
                  <a:lnTo>
                    <a:pt x="228" y="277"/>
                  </a:lnTo>
                  <a:lnTo>
                    <a:pt x="241" y="263"/>
                  </a:lnTo>
                  <a:lnTo>
                    <a:pt x="250" y="254"/>
                  </a:lnTo>
                  <a:lnTo>
                    <a:pt x="275" y="236"/>
                  </a:lnTo>
                  <a:lnTo>
                    <a:pt x="299" y="221"/>
                  </a:lnTo>
                  <a:lnTo>
                    <a:pt x="326" y="205"/>
                  </a:lnTo>
                  <a:lnTo>
                    <a:pt x="348" y="194"/>
                  </a:lnTo>
                  <a:lnTo>
                    <a:pt x="370" y="183"/>
                  </a:lnTo>
                  <a:lnTo>
                    <a:pt x="391" y="174"/>
                  </a:lnTo>
                  <a:lnTo>
                    <a:pt x="406" y="167"/>
                  </a:lnTo>
                  <a:lnTo>
                    <a:pt x="417" y="163"/>
                  </a:lnTo>
                  <a:lnTo>
                    <a:pt x="428" y="158"/>
                  </a:lnTo>
                  <a:lnTo>
                    <a:pt x="444" y="149"/>
                  </a:lnTo>
                  <a:lnTo>
                    <a:pt x="460" y="140"/>
                  </a:lnTo>
                  <a:lnTo>
                    <a:pt x="478" y="127"/>
                  </a:lnTo>
                  <a:lnTo>
                    <a:pt x="493" y="116"/>
                  </a:lnTo>
                  <a:lnTo>
                    <a:pt x="507" y="107"/>
                  </a:lnTo>
                  <a:lnTo>
                    <a:pt x="515" y="100"/>
                  </a:lnTo>
                  <a:lnTo>
                    <a:pt x="518" y="98"/>
                  </a:lnTo>
                  <a:lnTo>
                    <a:pt x="558" y="20"/>
                  </a:lnTo>
                  <a:lnTo>
                    <a:pt x="4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767"/>
            <p:cNvSpPr/>
            <p:nvPr/>
          </p:nvSpPr>
          <p:spPr>
            <a:xfrm>
              <a:off x="5540400" y="5514840"/>
              <a:ext cx="247680" cy="486000"/>
            </a:xfrm>
            <a:custGeom>
              <a:avLst/>
              <a:gdLst>
                <a:gd name="textAreaLeft" fmla="*/ 0 w 247680"/>
                <a:gd name="textAreaRight" fmla="*/ 248040 w 247680"/>
                <a:gd name="textAreaTop" fmla="*/ 0 h 486000"/>
                <a:gd name="textAreaBottom" fmla="*/ 486360 h 486000"/>
              </a:gdLst>
              <a:ahLst/>
              <a:rect l="textAreaLeft" t="textAreaTop" r="textAreaRight" b="textAreaBottom"/>
              <a:pathLst>
                <a:path w="228" h="455">
                  <a:moveTo>
                    <a:pt x="9" y="80"/>
                  </a:moveTo>
                  <a:lnTo>
                    <a:pt x="7" y="101"/>
                  </a:lnTo>
                  <a:lnTo>
                    <a:pt x="0" y="130"/>
                  </a:lnTo>
                  <a:lnTo>
                    <a:pt x="2" y="165"/>
                  </a:lnTo>
                  <a:lnTo>
                    <a:pt x="18" y="208"/>
                  </a:lnTo>
                  <a:lnTo>
                    <a:pt x="38" y="248"/>
                  </a:lnTo>
                  <a:lnTo>
                    <a:pt x="54" y="281"/>
                  </a:lnTo>
                  <a:lnTo>
                    <a:pt x="65" y="301"/>
                  </a:lnTo>
                  <a:lnTo>
                    <a:pt x="67" y="310"/>
                  </a:lnTo>
                  <a:lnTo>
                    <a:pt x="25" y="389"/>
                  </a:lnTo>
                  <a:lnTo>
                    <a:pt x="25" y="397"/>
                  </a:lnTo>
                  <a:lnTo>
                    <a:pt x="25" y="418"/>
                  </a:lnTo>
                  <a:lnTo>
                    <a:pt x="27" y="440"/>
                  </a:lnTo>
                  <a:lnTo>
                    <a:pt x="34" y="455"/>
                  </a:lnTo>
                  <a:lnTo>
                    <a:pt x="43" y="451"/>
                  </a:lnTo>
                  <a:lnTo>
                    <a:pt x="49" y="426"/>
                  </a:lnTo>
                  <a:lnTo>
                    <a:pt x="52" y="400"/>
                  </a:lnTo>
                  <a:lnTo>
                    <a:pt x="54" y="386"/>
                  </a:lnTo>
                  <a:lnTo>
                    <a:pt x="60" y="380"/>
                  </a:lnTo>
                  <a:lnTo>
                    <a:pt x="74" y="364"/>
                  </a:lnTo>
                  <a:lnTo>
                    <a:pt x="89" y="346"/>
                  </a:lnTo>
                  <a:lnTo>
                    <a:pt x="101" y="337"/>
                  </a:lnTo>
                  <a:lnTo>
                    <a:pt x="118" y="330"/>
                  </a:lnTo>
                  <a:lnTo>
                    <a:pt x="139" y="322"/>
                  </a:lnTo>
                  <a:lnTo>
                    <a:pt x="159" y="313"/>
                  </a:lnTo>
                  <a:lnTo>
                    <a:pt x="179" y="304"/>
                  </a:lnTo>
                  <a:lnTo>
                    <a:pt x="199" y="295"/>
                  </a:lnTo>
                  <a:lnTo>
                    <a:pt x="214" y="290"/>
                  </a:lnTo>
                  <a:lnTo>
                    <a:pt x="223" y="286"/>
                  </a:lnTo>
                  <a:lnTo>
                    <a:pt x="228" y="284"/>
                  </a:lnTo>
                  <a:lnTo>
                    <a:pt x="112" y="290"/>
                  </a:lnTo>
                  <a:lnTo>
                    <a:pt x="107" y="270"/>
                  </a:lnTo>
                  <a:lnTo>
                    <a:pt x="98" y="228"/>
                  </a:lnTo>
                  <a:lnTo>
                    <a:pt x="87" y="176"/>
                  </a:lnTo>
                  <a:lnTo>
                    <a:pt x="83" y="138"/>
                  </a:lnTo>
                  <a:lnTo>
                    <a:pt x="83" y="103"/>
                  </a:lnTo>
                  <a:lnTo>
                    <a:pt x="87" y="56"/>
                  </a:lnTo>
                  <a:lnTo>
                    <a:pt x="89" y="18"/>
                  </a:lnTo>
                  <a:lnTo>
                    <a:pt x="92" y="0"/>
                  </a:lnTo>
                  <a:lnTo>
                    <a:pt x="47" y="16"/>
                  </a:lnTo>
                  <a:lnTo>
                    <a:pt x="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768"/>
            <p:cNvSpPr/>
            <p:nvPr/>
          </p:nvSpPr>
          <p:spPr>
            <a:xfrm>
              <a:off x="5416560" y="5815080"/>
              <a:ext cx="469800" cy="539640"/>
            </a:xfrm>
            <a:custGeom>
              <a:avLst/>
              <a:gdLst>
                <a:gd name="textAreaLeft" fmla="*/ 0 w 469800"/>
                <a:gd name="textAreaRight" fmla="*/ 470160 w 469800"/>
                <a:gd name="textAreaTop" fmla="*/ 0 h 539640"/>
                <a:gd name="textAreaBottom" fmla="*/ 540000 h 539640"/>
              </a:gdLst>
              <a:ahLst/>
              <a:rect l="textAreaLeft" t="textAreaTop" r="textAreaRight" b="textAreaBottom"/>
              <a:pathLst>
                <a:path w="433" h="505">
                  <a:moveTo>
                    <a:pt x="45" y="54"/>
                  </a:moveTo>
                  <a:lnTo>
                    <a:pt x="38" y="74"/>
                  </a:lnTo>
                  <a:lnTo>
                    <a:pt x="23" y="123"/>
                  </a:lnTo>
                  <a:lnTo>
                    <a:pt x="7" y="174"/>
                  </a:lnTo>
                  <a:lnTo>
                    <a:pt x="0" y="210"/>
                  </a:lnTo>
                  <a:lnTo>
                    <a:pt x="3" y="233"/>
                  </a:lnTo>
                  <a:lnTo>
                    <a:pt x="9" y="262"/>
                  </a:lnTo>
                  <a:lnTo>
                    <a:pt x="18" y="291"/>
                  </a:lnTo>
                  <a:lnTo>
                    <a:pt x="34" y="315"/>
                  </a:lnTo>
                  <a:lnTo>
                    <a:pt x="47" y="329"/>
                  </a:lnTo>
                  <a:lnTo>
                    <a:pt x="67" y="342"/>
                  </a:lnTo>
                  <a:lnTo>
                    <a:pt x="90" y="358"/>
                  </a:lnTo>
                  <a:lnTo>
                    <a:pt x="119" y="373"/>
                  </a:lnTo>
                  <a:lnTo>
                    <a:pt x="150" y="389"/>
                  </a:lnTo>
                  <a:lnTo>
                    <a:pt x="183" y="404"/>
                  </a:lnTo>
                  <a:lnTo>
                    <a:pt x="219" y="420"/>
                  </a:lnTo>
                  <a:lnTo>
                    <a:pt x="255" y="436"/>
                  </a:lnTo>
                  <a:lnTo>
                    <a:pt x="288" y="449"/>
                  </a:lnTo>
                  <a:lnTo>
                    <a:pt x="322" y="462"/>
                  </a:lnTo>
                  <a:lnTo>
                    <a:pt x="351" y="474"/>
                  </a:lnTo>
                  <a:lnTo>
                    <a:pt x="377" y="485"/>
                  </a:lnTo>
                  <a:lnTo>
                    <a:pt x="402" y="494"/>
                  </a:lnTo>
                  <a:lnTo>
                    <a:pt x="418" y="500"/>
                  </a:lnTo>
                  <a:lnTo>
                    <a:pt x="429" y="503"/>
                  </a:lnTo>
                  <a:lnTo>
                    <a:pt x="433" y="505"/>
                  </a:lnTo>
                  <a:lnTo>
                    <a:pt x="431" y="451"/>
                  </a:lnTo>
                  <a:lnTo>
                    <a:pt x="424" y="449"/>
                  </a:lnTo>
                  <a:lnTo>
                    <a:pt x="411" y="442"/>
                  </a:lnTo>
                  <a:lnTo>
                    <a:pt x="393" y="436"/>
                  </a:lnTo>
                  <a:lnTo>
                    <a:pt x="377" y="429"/>
                  </a:lnTo>
                  <a:lnTo>
                    <a:pt x="357" y="420"/>
                  </a:lnTo>
                  <a:lnTo>
                    <a:pt x="335" y="409"/>
                  </a:lnTo>
                  <a:lnTo>
                    <a:pt x="308" y="398"/>
                  </a:lnTo>
                  <a:lnTo>
                    <a:pt x="282" y="382"/>
                  </a:lnTo>
                  <a:lnTo>
                    <a:pt x="255" y="369"/>
                  </a:lnTo>
                  <a:lnTo>
                    <a:pt x="230" y="358"/>
                  </a:lnTo>
                  <a:lnTo>
                    <a:pt x="210" y="346"/>
                  </a:lnTo>
                  <a:lnTo>
                    <a:pt x="192" y="337"/>
                  </a:lnTo>
                  <a:lnTo>
                    <a:pt x="177" y="331"/>
                  </a:lnTo>
                  <a:lnTo>
                    <a:pt x="159" y="322"/>
                  </a:lnTo>
                  <a:lnTo>
                    <a:pt x="141" y="311"/>
                  </a:lnTo>
                  <a:lnTo>
                    <a:pt x="121" y="297"/>
                  </a:lnTo>
                  <a:lnTo>
                    <a:pt x="101" y="282"/>
                  </a:lnTo>
                  <a:lnTo>
                    <a:pt x="85" y="266"/>
                  </a:lnTo>
                  <a:lnTo>
                    <a:pt x="74" y="250"/>
                  </a:lnTo>
                  <a:lnTo>
                    <a:pt x="65" y="233"/>
                  </a:lnTo>
                  <a:lnTo>
                    <a:pt x="63" y="190"/>
                  </a:lnTo>
                  <a:lnTo>
                    <a:pt x="65" y="143"/>
                  </a:lnTo>
                  <a:lnTo>
                    <a:pt x="72" y="105"/>
                  </a:lnTo>
                  <a:lnTo>
                    <a:pt x="74" y="90"/>
                  </a:lnTo>
                  <a:lnTo>
                    <a:pt x="137" y="0"/>
                  </a:lnTo>
                  <a:lnTo>
                    <a:pt x="45"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769"/>
            <p:cNvSpPr/>
            <p:nvPr/>
          </p:nvSpPr>
          <p:spPr>
            <a:xfrm>
              <a:off x="5900760" y="6202440"/>
              <a:ext cx="345960" cy="150840"/>
            </a:xfrm>
            <a:custGeom>
              <a:avLst/>
              <a:gdLst>
                <a:gd name="textAreaLeft" fmla="*/ 0 w 345960"/>
                <a:gd name="textAreaRight" fmla="*/ 346320 w 345960"/>
                <a:gd name="textAreaTop" fmla="*/ 0 h 150840"/>
                <a:gd name="textAreaBottom" fmla="*/ 151200 h 150840"/>
              </a:gdLst>
              <a:ahLst/>
              <a:rect l="textAreaLeft" t="textAreaTop" r="textAreaRight" b="textAreaBottom"/>
              <a:pathLst>
                <a:path w="318" h="141">
                  <a:moveTo>
                    <a:pt x="0" y="141"/>
                  </a:moveTo>
                  <a:lnTo>
                    <a:pt x="55" y="74"/>
                  </a:lnTo>
                  <a:lnTo>
                    <a:pt x="98" y="49"/>
                  </a:lnTo>
                  <a:lnTo>
                    <a:pt x="100" y="49"/>
                  </a:lnTo>
                  <a:lnTo>
                    <a:pt x="104" y="47"/>
                  </a:lnTo>
                  <a:lnTo>
                    <a:pt x="111" y="45"/>
                  </a:lnTo>
                  <a:lnTo>
                    <a:pt x="122" y="42"/>
                  </a:lnTo>
                  <a:lnTo>
                    <a:pt x="131" y="42"/>
                  </a:lnTo>
                  <a:lnTo>
                    <a:pt x="145" y="42"/>
                  </a:lnTo>
                  <a:lnTo>
                    <a:pt x="156" y="42"/>
                  </a:lnTo>
                  <a:lnTo>
                    <a:pt x="167" y="45"/>
                  </a:lnTo>
                  <a:lnTo>
                    <a:pt x="178" y="49"/>
                  </a:lnTo>
                  <a:lnTo>
                    <a:pt x="191" y="54"/>
                  </a:lnTo>
                  <a:lnTo>
                    <a:pt x="205" y="63"/>
                  </a:lnTo>
                  <a:lnTo>
                    <a:pt x="218" y="69"/>
                  </a:lnTo>
                  <a:lnTo>
                    <a:pt x="232" y="78"/>
                  </a:lnTo>
                  <a:lnTo>
                    <a:pt x="243" y="85"/>
                  </a:lnTo>
                  <a:lnTo>
                    <a:pt x="254" y="92"/>
                  </a:lnTo>
                  <a:lnTo>
                    <a:pt x="260" y="94"/>
                  </a:lnTo>
                  <a:lnTo>
                    <a:pt x="276" y="96"/>
                  </a:lnTo>
                  <a:lnTo>
                    <a:pt x="296" y="96"/>
                  </a:lnTo>
                  <a:lnTo>
                    <a:pt x="312" y="96"/>
                  </a:lnTo>
                  <a:lnTo>
                    <a:pt x="318" y="96"/>
                  </a:lnTo>
                  <a:lnTo>
                    <a:pt x="220" y="31"/>
                  </a:lnTo>
                  <a:lnTo>
                    <a:pt x="133" y="0"/>
                  </a:lnTo>
                  <a:lnTo>
                    <a:pt x="49" y="16"/>
                  </a:lnTo>
                  <a:lnTo>
                    <a:pt x="4" y="56"/>
                  </a:lnTo>
                  <a:lnTo>
                    <a:pt x="0"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Freeform 770"/>
            <p:cNvSpPr/>
            <p:nvPr/>
          </p:nvSpPr>
          <p:spPr>
            <a:xfrm>
              <a:off x="5815080" y="4319640"/>
              <a:ext cx="284040" cy="379440"/>
            </a:xfrm>
            <a:custGeom>
              <a:avLst/>
              <a:gdLst>
                <a:gd name="textAreaLeft" fmla="*/ 0 w 284040"/>
                <a:gd name="textAreaRight" fmla="*/ 284400 w 284040"/>
                <a:gd name="textAreaTop" fmla="*/ 0 h 379440"/>
                <a:gd name="textAreaBottom" fmla="*/ 379800 h 379440"/>
              </a:gdLst>
              <a:ahLst/>
              <a:rect l="textAreaLeft" t="textAreaTop" r="textAreaRight" b="textAreaBottom"/>
              <a:pathLst>
                <a:path w="261" h="355">
                  <a:moveTo>
                    <a:pt x="148" y="0"/>
                  </a:moveTo>
                  <a:lnTo>
                    <a:pt x="143" y="2"/>
                  </a:lnTo>
                  <a:lnTo>
                    <a:pt x="132" y="9"/>
                  </a:lnTo>
                  <a:lnTo>
                    <a:pt x="119" y="15"/>
                  </a:lnTo>
                  <a:lnTo>
                    <a:pt x="101" y="26"/>
                  </a:lnTo>
                  <a:lnTo>
                    <a:pt x="83" y="35"/>
                  </a:lnTo>
                  <a:lnTo>
                    <a:pt x="67" y="46"/>
                  </a:lnTo>
                  <a:lnTo>
                    <a:pt x="54" y="53"/>
                  </a:lnTo>
                  <a:lnTo>
                    <a:pt x="50" y="60"/>
                  </a:lnTo>
                  <a:lnTo>
                    <a:pt x="41" y="84"/>
                  </a:lnTo>
                  <a:lnTo>
                    <a:pt x="23" y="122"/>
                  </a:lnTo>
                  <a:lnTo>
                    <a:pt x="7" y="160"/>
                  </a:lnTo>
                  <a:lnTo>
                    <a:pt x="0" y="176"/>
                  </a:lnTo>
                  <a:lnTo>
                    <a:pt x="5" y="201"/>
                  </a:lnTo>
                  <a:lnTo>
                    <a:pt x="18" y="254"/>
                  </a:lnTo>
                  <a:lnTo>
                    <a:pt x="34" y="314"/>
                  </a:lnTo>
                  <a:lnTo>
                    <a:pt x="45" y="348"/>
                  </a:lnTo>
                  <a:lnTo>
                    <a:pt x="56" y="355"/>
                  </a:lnTo>
                  <a:lnTo>
                    <a:pt x="70" y="352"/>
                  </a:lnTo>
                  <a:lnTo>
                    <a:pt x="79" y="346"/>
                  </a:lnTo>
                  <a:lnTo>
                    <a:pt x="83" y="343"/>
                  </a:lnTo>
                  <a:lnTo>
                    <a:pt x="50" y="214"/>
                  </a:lnTo>
                  <a:lnTo>
                    <a:pt x="52" y="203"/>
                  </a:lnTo>
                  <a:lnTo>
                    <a:pt x="56" y="174"/>
                  </a:lnTo>
                  <a:lnTo>
                    <a:pt x="63" y="142"/>
                  </a:lnTo>
                  <a:lnTo>
                    <a:pt x="76" y="113"/>
                  </a:lnTo>
                  <a:lnTo>
                    <a:pt x="90" y="96"/>
                  </a:lnTo>
                  <a:lnTo>
                    <a:pt x="105" y="80"/>
                  </a:lnTo>
                  <a:lnTo>
                    <a:pt x="123" y="67"/>
                  </a:lnTo>
                  <a:lnTo>
                    <a:pt x="139" y="53"/>
                  </a:lnTo>
                  <a:lnTo>
                    <a:pt x="152" y="44"/>
                  </a:lnTo>
                  <a:lnTo>
                    <a:pt x="163" y="38"/>
                  </a:lnTo>
                  <a:lnTo>
                    <a:pt x="170" y="35"/>
                  </a:lnTo>
                  <a:lnTo>
                    <a:pt x="172" y="33"/>
                  </a:lnTo>
                  <a:lnTo>
                    <a:pt x="261" y="13"/>
                  </a:lnTo>
                  <a:lnTo>
                    <a:pt x="1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771"/>
            <p:cNvSpPr/>
            <p:nvPr/>
          </p:nvSpPr>
          <p:spPr>
            <a:xfrm>
              <a:off x="5872320" y="4656240"/>
              <a:ext cx="544320" cy="271440"/>
            </a:xfrm>
            <a:custGeom>
              <a:avLst/>
              <a:gdLst>
                <a:gd name="textAreaLeft" fmla="*/ 0 w 544320"/>
                <a:gd name="textAreaRight" fmla="*/ 544680 w 544320"/>
                <a:gd name="textAreaTop" fmla="*/ 0 h 271440"/>
                <a:gd name="textAreaBottom" fmla="*/ 271800 h 271440"/>
              </a:gdLst>
              <a:ahLst/>
              <a:rect l="textAreaLeft" t="textAreaTop" r="textAreaRight" b="textAreaBottom"/>
              <a:pathLst>
                <a:path w="502" h="255">
                  <a:moveTo>
                    <a:pt x="6" y="54"/>
                  </a:moveTo>
                  <a:lnTo>
                    <a:pt x="4" y="61"/>
                  </a:lnTo>
                  <a:lnTo>
                    <a:pt x="2" y="74"/>
                  </a:lnTo>
                  <a:lnTo>
                    <a:pt x="0" y="92"/>
                  </a:lnTo>
                  <a:lnTo>
                    <a:pt x="2" y="108"/>
                  </a:lnTo>
                  <a:lnTo>
                    <a:pt x="11" y="119"/>
                  </a:lnTo>
                  <a:lnTo>
                    <a:pt x="24" y="130"/>
                  </a:lnTo>
                  <a:lnTo>
                    <a:pt x="42" y="139"/>
                  </a:lnTo>
                  <a:lnTo>
                    <a:pt x="60" y="143"/>
                  </a:lnTo>
                  <a:lnTo>
                    <a:pt x="78" y="145"/>
                  </a:lnTo>
                  <a:lnTo>
                    <a:pt x="96" y="148"/>
                  </a:lnTo>
                  <a:lnTo>
                    <a:pt x="109" y="148"/>
                  </a:lnTo>
                  <a:lnTo>
                    <a:pt x="116" y="148"/>
                  </a:lnTo>
                  <a:lnTo>
                    <a:pt x="122" y="154"/>
                  </a:lnTo>
                  <a:lnTo>
                    <a:pt x="138" y="172"/>
                  </a:lnTo>
                  <a:lnTo>
                    <a:pt x="156" y="192"/>
                  </a:lnTo>
                  <a:lnTo>
                    <a:pt x="169" y="206"/>
                  </a:lnTo>
                  <a:lnTo>
                    <a:pt x="176" y="208"/>
                  </a:lnTo>
                  <a:lnTo>
                    <a:pt x="183" y="210"/>
                  </a:lnTo>
                  <a:lnTo>
                    <a:pt x="189" y="212"/>
                  </a:lnTo>
                  <a:lnTo>
                    <a:pt x="198" y="217"/>
                  </a:lnTo>
                  <a:lnTo>
                    <a:pt x="207" y="219"/>
                  </a:lnTo>
                  <a:lnTo>
                    <a:pt x="218" y="224"/>
                  </a:lnTo>
                  <a:lnTo>
                    <a:pt x="227" y="228"/>
                  </a:lnTo>
                  <a:lnTo>
                    <a:pt x="238" y="235"/>
                  </a:lnTo>
                  <a:lnTo>
                    <a:pt x="250" y="239"/>
                  </a:lnTo>
                  <a:lnTo>
                    <a:pt x="261" y="244"/>
                  </a:lnTo>
                  <a:lnTo>
                    <a:pt x="272" y="248"/>
                  </a:lnTo>
                  <a:lnTo>
                    <a:pt x="283" y="250"/>
                  </a:lnTo>
                  <a:lnTo>
                    <a:pt x="294" y="253"/>
                  </a:lnTo>
                  <a:lnTo>
                    <a:pt x="305" y="255"/>
                  </a:lnTo>
                  <a:lnTo>
                    <a:pt x="316" y="255"/>
                  </a:lnTo>
                  <a:lnTo>
                    <a:pt x="325" y="255"/>
                  </a:lnTo>
                  <a:lnTo>
                    <a:pt x="334" y="255"/>
                  </a:lnTo>
                  <a:lnTo>
                    <a:pt x="343" y="255"/>
                  </a:lnTo>
                  <a:lnTo>
                    <a:pt x="352" y="255"/>
                  </a:lnTo>
                  <a:lnTo>
                    <a:pt x="361" y="253"/>
                  </a:lnTo>
                  <a:lnTo>
                    <a:pt x="372" y="253"/>
                  </a:lnTo>
                  <a:lnTo>
                    <a:pt x="383" y="250"/>
                  </a:lnTo>
                  <a:lnTo>
                    <a:pt x="395" y="248"/>
                  </a:lnTo>
                  <a:lnTo>
                    <a:pt x="408" y="246"/>
                  </a:lnTo>
                  <a:lnTo>
                    <a:pt x="419" y="244"/>
                  </a:lnTo>
                  <a:lnTo>
                    <a:pt x="432" y="239"/>
                  </a:lnTo>
                  <a:lnTo>
                    <a:pt x="448" y="233"/>
                  </a:lnTo>
                  <a:lnTo>
                    <a:pt x="464" y="226"/>
                  </a:lnTo>
                  <a:lnTo>
                    <a:pt x="479" y="221"/>
                  </a:lnTo>
                  <a:lnTo>
                    <a:pt x="490" y="215"/>
                  </a:lnTo>
                  <a:lnTo>
                    <a:pt x="499" y="212"/>
                  </a:lnTo>
                  <a:lnTo>
                    <a:pt x="502" y="210"/>
                  </a:lnTo>
                  <a:lnTo>
                    <a:pt x="497" y="210"/>
                  </a:lnTo>
                  <a:lnTo>
                    <a:pt x="486" y="210"/>
                  </a:lnTo>
                  <a:lnTo>
                    <a:pt x="470" y="212"/>
                  </a:lnTo>
                  <a:lnTo>
                    <a:pt x="450" y="212"/>
                  </a:lnTo>
                  <a:lnTo>
                    <a:pt x="430" y="215"/>
                  </a:lnTo>
                  <a:lnTo>
                    <a:pt x="408" y="215"/>
                  </a:lnTo>
                  <a:lnTo>
                    <a:pt x="388" y="215"/>
                  </a:lnTo>
                  <a:lnTo>
                    <a:pt x="372" y="215"/>
                  </a:lnTo>
                  <a:lnTo>
                    <a:pt x="341" y="212"/>
                  </a:lnTo>
                  <a:lnTo>
                    <a:pt x="310" y="210"/>
                  </a:lnTo>
                  <a:lnTo>
                    <a:pt x="285" y="204"/>
                  </a:lnTo>
                  <a:lnTo>
                    <a:pt x="263" y="199"/>
                  </a:lnTo>
                  <a:lnTo>
                    <a:pt x="243" y="195"/>
                  </a:lnTo>
                  <a:lnTo>
                    <a:pt x="230" y="190"/>
                  </a:lnTo>
                  <a:lnTo>
                    <a:pt x="221" y="188"/>
                  </a:lnTo>
                  <a:lnTo>
                    <a:pt x="218" y="186"/>
                  </a:lnTo>
                  <a:lnTo>
                    <a:pt x="134" y="119"/>
                  </a:lnTo>
                  <a:lnTo>
                    <a:pt x="85" y="108"/>
                  </a:lnTo>
                  <a:lnTo>
                    <a:pt x="80" y="108"/>
                  </a:lnTo>
                  <a:lnTo>
                    <a:pt x="69" y="108"/>
                  </a:lnTo>
                  <a:lnTo>
                    <a:pt x="53" y="101"/>
                  </a:lnTo>
                  <a:lnTo>
                    <a:pt x="38" y="87"/>
                  </a:lnTo>
                  <a:lnTo>
                    <a:pt x="31" y="63"/>
                  </a:lnTo>
                  <a:lnTo>
                    <a:pt x="31" y="34"/>
                  </a:lnTo>
                  <a:lnTo>
                    <a:pt x="35" y="9"/>
                  </a:lnTo>
                  <a:lnTo>
                    <a:pt x="38" y="0"/>
                  </a:lnTo>
                  <a:lnTo>
                    <a:pt x="6"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772"/>
            <p:cNvSpPr/>
            <p:nvPr/>
          </p:nvSpPr>
          <p:spPr>
            <a:xfrm>
              <a:off x="6170760" y="5842080"/>
              <a:ext cx="384120" cy="66600"/>
            </a:xfrm>
            <a:custGeom>
              <a:avLst/>
              <a:gdLst>
                <a:gd name="textAreaLeft" fmla="*/ 0 w 384120"/>
                <a:gd name="textAreaRight" fmla="*/ 384480 w 384120"/>
                <a:gd name="textAreaTop" fmla="*/ 0 h 66600"/>
                <a:gd name="textAreaBottom" fmla="*/ 66960 h 66600"/>
              </a:gdLst>
              <a:ahLst/>
              <a:rect l="textAreaLeft" t="textAreaTop" r="textAreaRight" b="textAreaBottom"/>
              <a:pathLst>
                <a:path w="353" h="62">
                  <a:moveTo>
                    <a:pt x="0" y="62"/>
                  </a:moveTo>
                  <a:lnTo>
                    <a:pt x="7" y="62"/>
                  </a:lnTo>
                  <a:lnTo>
                    <a:pt x="27" y="60"/>
                  </a:lnTo>
                  <a:lnTo>
                    <a:pt x="52" y="58"/>
                  </a:lnTo>
                  <a:lnTo>
                    <a:pt x="83" y="56"/>
                  </a:lnTo>
                  <a:lnTo>
                    <a:pt x="116" y="53"/>
                  </a:lnTo>
                  <a:lnTo>
                    <a:pt x="145" y="53"/>
                  </a:lnTo>
                  <a:lnTo>
                    <a:pt x="168" y="53"/>
                  </a:lnTo>
                  <a:lnTo>
                    <a:pt x="179" y="53"/>
                  </a:lnTo>
                  <a:lnTo>
                    <a:pt x="192" y="56"/>
                  </a:lnTo>
                  <a:lnTo>
                    <a:pt x="214" y="56"/>
                  </a:lnTo>
                  <a:lnTo>
                    <a:pt x="241" y="56"/>
                  </a:lnTo>
                  <a:lnTo>
                    <a:pt x="272" y="56"/>
                  </a:lnTo>
                  <a:lnTo>
                    <a:pt x="301" y="56"/>
                  </a:lnTo>
                  <a:lnTo>
                    <a:pt x="328" y="53"/>
                  </a:lnTo>
                  <a:lnTo>
                    <a:pt x="346" y="53"/>
                  </a:lnTo>
                  <a:lnTo>
                    <a:pt x="353" y="53"/>
                  </a:lnTo>
                  <a:lnTo>
                    <a:pt x="324" y="9"/>
                  </a:lnTo>
                  <a:lnTo>
                    <a:pt x="237" y="0"/>
                  </a:lnTo>
                  <a:lnTo>
                    <a:pt x="232" y="0"/>
                  </a:lnTo>
                  <a:lnTo>
                    <a:pt x="219" y="2"/>
                  </a:lnTo>
                  <a:lnTo>
                    <a:pt x="203" y="4"/>
                  </a:lnTo>
                  <a:lnTo>
                    <a:pt x="181" y="7"/>
                  </a:lnTo>
                  <a:lnTo>
                    <a:pt x="161" y="11"/>
                  </a:lnTo>
                  <a:lnTo>
                    <a:pt x="141" y="13"/>
                  </a:lnTo>
                  <a:lnTo>
                    <a:pt x="127" y="16"/>
                  </a:lnTo>
                  <a:lnTo>
                    <a:pt x="119" y="16"/>
                  </a:lnTo>
                  <a:lnTo>
                    <a:pt x="110" y="16"/>
                  </a:lnTo>
                  <a:lnTo>
                    <a:pt x="98" y="20"/>
                  </a:lnTo>
                  <a:lnTo>
                    <a:pt x="81" y="22"/>
                  </a:lnTo>
                  <a:lnTo>
                    <a:pt x="65" y="27"/>
                  </a:lnTo>
                  <a:lnTo>
                    <a:pt x="47" y="31"/>
                  </a:lnTo>
                  <a:lnTo>
                    <a:pt x="34" y="33"/>
                  </a:lnTo>
                  <a:lnTo>
                    <a:pt x="25" y="38"/>
                  </a:lnTo>
                  <a:lnTo>
                    <a:pt x="20" y="38"/>
                  </a:lnTo>
                  <a:lnTo>
                    <a:pt x="0" y="6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1" name="Freeform 773"/>
            <p:cNvSpPr/>
            <p:nvPr/>
          </p:nvSpPr>
          <p:spPr>
            <a:xfrm>
              <a:off x="6108840" y="6046920"/>
              <a:ext cx="630000" cy="123840"/>
            </a:xfrm>
            <a:custGeom>
              <a:avLst/>
              <a:gdLst>
                <a:gd name="textAreaLeft" fmla="*/ 0 w 630000"/>
                <a:gd name="textAreaRight" fmla="*/ 630360 w 630000"/>
                <a:gd name="textAreaTop" fmla="*/ 0 h 123840"/>
                <a:gd name="textAreaBottom" fmla="*/ 124200 h 123840"/>
              </a:gdLst>
              <a:ahLst/>
              <a:rect l="textAreaLeft" t="textAreaTop" r="textAreaRight" b="textAreaBottom"/>
              <a:pathLst>
                <a:path w="582" h="116">
                  <a:moveTo>
                    <a:pt x="25" y="116"/>
                  </a:moveTo>
                  <a:lnTo>
                    <a:pt x="32" y="116"/>
                  </a:lnTo>
                  <a:lnTo>
                    <a:pt x="47" y="114"/>
                  </a:lnTo>
                  <a:lnTo>
                    <a:pt x="72" y="109"/>
                  </a:lnTo>
                  <a:lnTo>
                    <a:pt x="98" y="107"/>
                  </a:lnTo>
                  <a:lnTo>
                    <a:pt x="127" y="103"/>
                  </a:lnTo>
                  <a:lnTo>
                    <a:pt x="156" y="98"/>
                  </a:lnTo>
                  <a:lnTo>
                    <a:pt x="179" y="94"/>
                  </a:lnTo>
                  <a:lnTo>
                    <a:pt x="192" y="91"/>
                  </a:lnTo>
                  <a:lnTo>
                    <a:pt x="206" y="89"/>
                  </a:lnTo>
                  <a:lnTo>
                    <a:pt x="223" y="85"/>
                  </a:lnTo>
                  <a:lnTo>
                    <a:pt x="248" y="82"/>
                  </a:lnTo>
                  <a:lnTo>
                    <a:pt x="272" y="78"/>
                  </a:lnTo>
                  <a:lnTo>
                    <a:pt x="299" y="76"/>
                  </a:lnTo>
                  <a:lnTo>
                    <a:pt x="324" y="74"/>
                  </a:lnTo>
                  <a:lnTo>
                    <a:pt x="344" y="74"/>
                  </a:lnTo>
                  <a:lnTo>
                    <a:pt x="357" y="71"/>
                  </a:lnTo>
                  <a:lnTo>
                    <a:pt x="371" y="71"/>
                  </a:lnTo>
                  <a:lnTo>
                    <a:pt x="391" y="71"/>
                  </a:lnTo>
                  <a:lnTo>
                    <a:pt x="415" y="74"/>
                  </a:lnTo>
                  <a:lnTo>
                    <a:pt x="442" y="76"/>
                  </a:lnTo>
                  <a:lnTo>
                    <a:pt x="469" y="80"/>
                  </a:lnTo>
                  <a:lnTo>
                    <a:pt x="493" y="85"/>
                  </a:lnTo>
                  <a:lnTo>
                    <a:pt x="513" y="87"/>
                  </a:lnTo>
                  <a:lnTo>
                    <a:pt x="529" y="91"/>
                  </a:lnTo>
                  <a:lnTo>
                    <a:pt x="549" y="89"/>
                  </a:lnTo>
                  <a:lnTo>
                    <a:pt x="567" y="80"/>
                  </a:lnTo>
                  <a:lnTo>
                    <a:pt x="578" y="67"/>
                  </a:lnTo>
                  <a:lnTo>
                    <a:pt x="582" y="62"/>
                  </a:lnTo>
                  <a:lnTo>
                    <a:pt x="580" y="60"/>
                  </a:lnTo>
                  <a:lnTo>
                    <a:pt x="571" y="56"/>
                  </a:lnTo>
                  <a:lnTo>
                    <a:pt x="558" y="49"/>
                  </a:lnTo>
                  <a:lnTo>
                    <a:pt x="545" y="42"/>
                  </a:lnTo>
                  <a:lnTo>
                    <a:pt x="529" y="36"/>
                  </a:lnTo>
                  <a:lnTo>
                    <a:pt x="513" y="29"/>
                  </a:lnTo>
                  <a:lnTo>
                    <a:pt x="500" y="24"/>
                  </a:lnTo>
                  <a:lnTo>
                    <a:pt x="491" y="22"/>
                  </a:lnTo>
                  <a:lnTo>
                    <a:pt x="478" y="22"/>
                  </a:lnTo>
                  <a:lnTo>
                    <a:pt x="455" y="18"/>
                  </a:lnTo>
                  <a:lnTo>
                    <a:pt x="426" y="16"/>
                  </a:lnTo>
                  <a:lnTo>
                    <a:pt x="397" y="11"/>
                  </a:lnTo>
                  <a:lnTo>
                    <a:pt x="366" y="7"/>
                  </a:lnTo>
                  <a:lnTo>
                    <a:pt x="339" y="2"/>
                  </a:lnTo>
                  <a:lnTo>
                    <a:pt x="319" y="0"/>
                  </a:lnTo>
                  <a:lnTo>
                    <a:pt x="308" y="0"/>
                  </a:lnTo>
                  <a:lnTo>
                    <a:pt x="297" y="2"/>
                  </a:lnTo>
                  <a:lnTo>
                    <a:pt x="277" y="9"/>
                  </a:lnTo>
                  <a:lnTo>
                    <a:pt x="248" y="18"/>
                  </a:lnTo>
                  <a:lnTo>
                    <a:pt x="219" y="24"/>
                  </a:lnTo>
                  <a:lnTo>
                    <a:pt x="188" y="33"/>
                  </a:lnTo>
                  <a:lnTo>
                    <a:pt x="163" y="40"/>
                  </a:lnTo>
                  <a:lnTo>
                    <a:pt x="145" y="45"/>
                  </a:lnTo>
                  <a:lnTo>
                    <a:pt x="139" y="47"/>
                  </a:lnTo>
                  <a:lnTo>
                    <a:pt x="0" y="82"/>
                  </a:lnTo>
                  <a:lnTo>
                    <a:pt x="25"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774"/>
            <p:cNvSpPr/>
            <p:nvPr/>
          </p:nvSpPr>
          <p:spPr>
            <a:xfrm>
              <a:off x="7035840" y="4959360"/>
              <a:ext cx="509400" cy="817560"/>
            </a:xfrm>
            <a:custGeom>
              <a:avLst/>
              <a:gdLst>
                <a:gd name="textAreaLeft" fmla="*/ 0 w 509400"/>
                <a:gd name="textAreaRight" fmla="*/ 509760 w 509400"/>
                <a:gd name="textAreaTop" fmla="*/ 0 h 817560"/>
                <a:gd name="textAreaBottom" fmla="*/ 817920 h 817560"/>
              </a:gdLst>
              <a:ahLst/>
              <a:rect l="textAreaLeft" t="textAreaTop" r="textAreaRight" b="textAreaBottom"/>
              <a:pathLst>
                <a:path w="470" h="766">
                  <a:moveTo>
                    <a:pt x="341" y="40"/>
                  </a:moveTo>
                  <a:lnTo>
                    <a:pt x="180" y="134"/>
                  </a:lnTo>
                  <a:lnTo>
                    <a:pt x="58" y="315"/>
                  </a:lnTo>
                  <a:lnTo>
                    <a:pt x="8" y="605"/>
                  </a:lnTo>
                  <a:lnTo>
                    <a:pt x="0" y="757"/>
                  </a:lnTo>
                  <a:lnTo>
                    <a:pt x="53" y="766"/>
                  </a:lnTo>
                  <a:lnTo>
                    <a:pt x="60" y="705"/>
                  </a:lnTo>
                  <a:lnTo>
                    <a:pt x="71" y="574"/>
                  </a:lnTo>
                  <a:lnTo>
                    <a:pt x="87" y="437"/>
                  </a:lnTo>
                  <a:lnTo>
                    <a:pt x="95" y="368"/>
                  </a:lnTo>
                  <a:lnTo>
                    <a:pt x="109" y="337"/>
                  </a:lnTo>
                  <a:lnTo>
                    <a:pt x="124" y="306"/>
                  </a:lnTo>
                  <a:lnTo>
                    <a:pt x="142" y="272"/>
                  </a:lnTo>
                  <a:lnTo>
                    <a:pt x="160" y="241"/>
                  </a:lnTo>
                  <a:lnTo>
                    <a:pt x="178" y="214"/>
                  </a:lnTo>
                  <a:lnTo>
                    <a:pt x="196" y="192"/>
                  </a:lnTo>
                  <a:lnTo>
                    <a:pt x="207" y="176"/>
                  </a:lnTo>
                  <a:lnTo>
                    <a:pt x="216" y="170"/>
                  </a:lnTo>
                  <a:lnTo>
                    <a:pt x="238" y="161"/>
                  </a:lnTo>
                  <a:lnTo>
                    <a:pt x="265" y="149"/>
                  </a:lnTo>
                  <a:lnTo>
                    <a:pt x="294" y="134"/>
                  </a:lnTo>
                  <a:lnTo>
                    <a:pt x="323" y="118"/>
                  </a:lnTo>
                  <a:lnTo>
                    <a:pt x="347" y="105"/>
                  </a:lnTo>
                  <a:lnTo>
                    <a:pt x="370" y="94"/>
                  </a:lnTo>
                  <a:lnTo>
                    <a:pt x="385" y="85"/>
                  </a:lnTo>
                  <a:lnTo>
                    <a:pt x="390" y="83"/>
                  </a:lnTo>
                  <a:lnTo>
                    <a:pt x="459" y="60"/>
                  </a:lnTo>
                  <a:lnTo>
                    <a:pt x="470" y="0"/>
                  </a:lnTo>
                  <a:lnTo>
                    <a:pt x="341"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Freeform 775"/>
            <p:cNvSpPr/>
            <p:nvPr/>
          </p:nvSpPr>
          <p:spPr>
            <a:xfrm>
              <a:off x="7537320" y="4897440"/>
              <a:ext cx="114480" cy="131760"/>
            </a:xfrm>
            <a:custGeom>
              <a:avLst/>
              <a:gdLst>
                <a:gd name="textAreaLeft" fmla="*/ 0 w 114480"/>
                <a:gd name="textAreaRight" fmla="*/ 114840 w 114480"/>
                <a:gd name="textAreaTop" fmla="*/ 0 h 131760"/>
                <a:gd name="textAreaBottom" fmla="*/ 132120 h 131760"/>
              </a:gdLst>
              <a:ahLst/>
              <a:rect l="textAreaLeft" t="textAreaTop" r="textAreaRight" b="textAreaBottom"/>
              <a:pathLst>
                <a:path w="105" h="123">
                  <a:moveTo>
                    <a:pt x="32" y="4"/>
                  </a:moveTo>
                  <a:lnTo>
                    <a:pt x="27" y="31"/>
                  </a:lnTo>
                  <a:lnTo>
                    <a:pt x="16" y="69"/>
                  </a:lnTo>
                  <a:lnTo>
                    <a:pt x="5" y="103"/>
                  </a:lnTo>
                  <a:lnTo>
                    <a:pt x="0" y="118"/>
                  </a:lnTo>
                  <a:lnTo>
                    <a:pt x="5" y="120"/>
                  </a:lnTo>
                  <a:lnTo>
                    <a:pt x="16" y="123"/>
                  </a:lnTo>
                  <a:lnTo>
                    <a:pt x="32" y="118"/>
                  </a:lnTo>
                  <a:lnTo>
                    <a:pt x="45" y="107"/>
                  </a:lnTo>
                  <a:lnTo>
                    <a:pt x="61" y="80"/>
                  </a:lnTo>
                  <a:lnTo>
                    <a:pt x="81" y="45"/>
                  </a:lnTo>
                  <a:lnTo>
                    <a:pt x="99" y="13"/>
                  </a:lnTo>
                  <a:lnTo>
                    <a:pt x="105" y="0"/>
                  </a:lnTo>
                  <a:lnTo>
                    <a:pt x="32"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776"/>
            <p:cNvSpPr/>
            <p:nvPr/>
          </p:nvSpPr>
          <p:spPr>
            <a:xfrm>
              <a:off x="7121520" y="5084640"/>
              <a:ext cx="938160" cy="1025640"/>
            </a:xfrm>
            <a:custGeom>
              <a:avLst/>
              <a:gdLst>
                <a:gd name="textAreaLeft" fmla="*/ 0 w 938160"/>
                <a:gd name="textAreaRight" fmla="*/ 938520 w 938160"/>
                <a:gd name="textAreaTop" fmla="*/ 0 h 1025640"/>
                <a:gd name="textAreaBottom" fmla="*/ 1026000 h 1025640"/>
              </a:gdLst>
              <a:ahLst/>
              <a:rect l="textAreaLeft" t="textAreaTop" r="textAreaRight" b="textAreaBottom"/>
              <a:pathLst>
                <a:path w="865" h="960">
                  <a:moveTo>
                    <a:pt x="0" y="534"/>
                  </a:moveTo>
                  <a:lnTo>
                    <a:pt x="7" y="534"/>
                  </a:lnTo>
                  <a:lnTo>
                    <a:pt x="20" y="534"/>
                  </a:lnTo>
                  <a:lnTo>
                    <a:pt x="42" y="534"/>
                  </a:lnTo>
                  <a:lnTo>
                    <a:pt x="67" y="532"/>
                  </a:lnTo>
                  <a:lnTo>
                    <a:pt x="94" y="532"/>
                  </a:lnTo>
                  <a:lnTo>
                    <a:pt x="120" y="532"/>
                  </a:lnTo>
                  <a:lnTo>
                    <a:pt x="140" y="532"/>
                  </a:lnTo>
                  <a:lnTo>
                    <a:pt x="154" y="532"/>
                  </a:lnTo>
                  <a:lnTo>
                    <a:pt x="169" y="534"/>
                  </a:lnTo>
                  <a:lnTo>
                    <a:pt x="198" y="536"/>
                  </a:lnTo>
                  <a:lnTo>
                    <a:pt x="234" y="543"/>
                  </a:lnTo>
                  <a:lnTo>
                    <a:pt x="272" y="549"/>
                  </a:lnTo>
                  <a:lnTo>
                    <a:pt x="314" y="558"/>
                  </a:lnTo>
                  <a:lnTo>
                    <a:pt x="350" y="565"/>
                  </a:lnTo>
                  <a:lnTo>
                    <a:pt x="381" y="574"/>
                  </a:lnTo>
                  <a:lnTo>
                    <a:pt x="404" y="581"/>
                  </a:lnTo>
                  <a:lnTo>
                    <a:pt x="421" y="587"/>
                  </a:lnTo>
                  <a:lnTo>
                    <a:pt x="437" y="594"/>
                  </a:lnTo>
                  <a:lnTo>
                    <a:pt x="453" y="599"/>
                  </a:lnTo>
                  <a:lnTo>
                    <a:pt x="464" y="601"/>
                  </a:lnTo>
                  <a:lnTo>
                    <a:pt x="473" y="601"/>
                  </a:lnTo>
                  <a:lnTo>
                    <a:pt x="479" y="603"/>
                  </a:lnTo>
                  <a:lnTo>
                    <a:pt x="484" y="603"/>
                  </a:lnTo>
                  <a:lnTo>
                    <a:pt x="486" y="603"/>
                  </a:lnTo>
                  <a:lnTo>
                    <a:pt x="395" y="692"/>
                  </a:lnTo>
                  <a:lnTo>
                    <a:pt x="310" y="753"/>
                  </a:lnTo>
                  <a:lnTo>
                    <a:pt x="305" y="753"/>
                  </a:lnTo>
                  <a:lnTo>
                    <a:pt x="294" y="757"/>
                  </a:lnTo>
                  <a:lnTo>
                    <a:pt x="279" y="761"/>
                  </a:lnTo>
                  <a:lnTo>
                    <a:pt x="259" y="766"/>
                  </a:lnTo>
                  <a:lnTo>
                    <a:pt x="236" y="770"/>
                  </a:lnTo>
                  <a:lnTo>
                    <a:pt x="218" y="777"/>
                  </a:lnTo>
                  <a:lnTo>
                    <a:pt x="201" y="782"/>
                  </a:lnTo>
                  <a:lnTo>
                    <a:pt x="189" y="786"/>
                  </a:lnTo>
                  <a:lnTo>
                    <a:pt x="172" y="795"/>
                  </a:lnTo>
                  <a:lnTo>
                    <a:pt x="152" y="806"/>
                  </a:lnTo>
                  <a:lnTo>
                    <a:pt x="136" y="815"/>
                  </a:lnTo>
                  <a:lnTo>
                    <a:pt x="129" y="820"/>
                  </a:lnTo>
                  <a:lnTo>
                    <a:pt x="127" y="826"/>
                  </a:lnTo>
                  <a:lnTo>
                    <a:pt x="120" y="840"/>
                  </a:lnTo>
                  <a:lnTo>
                    <a:pt x="114" y="855"/>
                  </a:lnTo>
                  <a:lnTo>
                    <a:pt x="109" y="869"/>
                  </a:lnTo>
                  <a:lnTo>
                    <a:pt x="107" y="889"/>
                  </a:lnTo>
                  <a:lnTo>
                    <a:pt x="107" y="922"/>
                  </a:lnTo>
                  <a:lnTo>
                    <a:pt x="111" y="951"/>
                  </a:lnTo>
                  <a:lnTo>
                    <a:pt x="118" y="960"/>
                  </a:lnTo>
                  <a:lnTo>
                    <a:pt x="127" y="942"/>
                  </a:lnTo>
                  <a:lnTo>
                    <a:pt x="136" y="907"/>
                  </a:lnTo>
                  <a:lnTo>
                    <a:pt x="145" y="873"/>
                  </a:lnTo>
                  <a:lnTo>
                    <a:pt x="158" y="849"/>
                  </a:lnTo>
                  <a:lnTo>
                    <a:pt x="169" y="840"/>
                  </a:lnTo>
                  <a:lnTo>
                    <a:pt x="183" y="833"/>
                  </a:lnTo>
                  <a:lnTo>
                    <a:pt x="201" y="824"/>
                  </a:lnTo>
                  <a:lnTo>
                    <a:pt x="221" y="815"/>
                  </a:lnTo>
                  <a:lnTo>
                    <a:pt x="238" y="808"/>
                  </a:lnTo>
                  <a:lnTo>
                    <a:pt x="254" y="802"/>
                  </a:lnTo>
                  <a:lnTo>
                    <a:pt x="267" y="799"/>
                  </a:lnTo>
                  <a:lnTo>
                    <a:pt x="276" y="797"/>
                  </a:lnTo>
                  <a:lnTo>
                    <a:pt x="281" y="797"/>
                  </a:lnTo>
                  <a:lnTo>
                    <a:pt x="285" y="797"/>
                  </a:lnTo>
                  <a:lnTo>
                    <a:pt x="292" y="797"/>
                  </a:lnTo>
                  <a:lnTo>
                    <a:pt x="299" y="797"/>
                  </a:lnTo>
                  <a:lnTo>
                    <a:pt x="308" y="795"/>
                  </a:lnTo>
                  <a:lnTo>
                    <a:pt x="317" y="793"/>
                  </a:lnTo>
                  <a:lnTo>
                    <a:pt x="330" y="788"/>
                  </a:lnTo>
                  <a:lnTo>
                    <a:pt x="346" y="782"/>
                  </a:lnTo>
                  <a:lnTo>
                    <a:pt x="361" y="773"/>
                  </a:lnTo>
                  <a:lnTo>
                    <a:pt x="379" y="761"/>
                  </a:lnTo>
                  <a:lnTo>
                    <a:pt x="395" y="748"/>
                  </a:lnTo>
                  <a:lnTo>
                    <a:pt x="410" y="735"/>
                  </a:lnTo>
                  <a:lnTo>
                    <a:pt x="428" y="719"/>
                  </a:lnTo>
                  <a:lnTo>
                    <a:pt x="444" y="703"/>
                  </a:lnTo>
                  <a:lnTo>
                    <a:pt x="459" y="690"/>
                  </a:lnTo>
                  <a:lnTo>
                    <a:pt x="475" y="677"/>
                  </a:lnTo>
                  <a:lnTo>
                    <a:pt x="504" y="657"/>
                  </a:lnTo>
                  <a:lnTo>
                    <a:pt x="540" y="634"/>
                  </a:lnTo>
                  <a:lnTo>
                    <a:pt x="580" y="610"/>
                  </a:lnTo>
                  <a:lnTo>
                    <a:pt x="624" y="585"/>
                  </a:lnTo>
                  <a:lnTo>
                    <a:pt x="667" y="563"/>
                  </a:lnTo>
                  <a:lnTo>
                    <a:pt x="705" y="543"/>
                  </a:lnTo>
                  <a:lnTo>
                    <a:pt x="738" y="527"/>
                  </a:lnTo>
                  <a:lnTo>
                    <a:pt x="760" y="518"/>
                  </a:lnTo>
                  <a:lnTo>
                    <a:pt x="776" y="514"/>
                  </a:lnTo>
                  <a:lnTo>
                    <a:pt x="792" y="507"/>
                  </a:lnTo>
                  <a:lnTo>
                    <a:pt x="809" y="500"/>
                  </a:lnTo>
                  <a:lnTo>
                    <a:pt x="827" y="494"/>
                  </a:lnTo>
                  <a:lnTo>
                    <a:pt x="841" y="487"/>
                  </a:lnTo>
                  <a:lnTo>
                    <a:pt x="854" y="482"/>
                  </a:lnTo>
                  <a:lnTo>
                    <a:pt x="863" y="480"/>
                  </a:lnTo>
                  <a:lnTo>
                    <a:pt x="865" y="478"/>
                  </a:lnTo>
                  <a:lnTo>
                    <a:pt x="807" y="462"/>
                  </a:lnTo>
                  <a:lnTo>
                    <a:pt x="796" y="273"/>
                  </a:lnTo>
                  <a:lnTo>
                    <a:pt x="845" y="0"/>
                  </a:lnTo>
                  <a:lnTo>
                    <a:pt x="774" y="123"/>
                  </a:lnTo>
                  <a:lnTo>
                    <a:pt x="767" y="150"/>
                  </a:lnTo>
                  <a:lnTo>
                    <a:pt x="756" y="208"/>
                  </a:lnTo>
                  <a:lnTo>
                    <a:pt x="743" y="270"/>
                  </a:lnTo>
                  <a:lnTo>
                    <a:pt x="736" y="306"/>
                  </a:lnTo>
                  <a:lnTo>
                    <a:pt x="736" y="340"/>
                  </a:lnTo>
                  <a:lnTo>
                    <a:pt x="740" y="398"/>
                  </a:lnTo>
                  <a:lnTo>
                    <a:pt x="743" y="451"/>
                  </a:lnTo>
                  <a:lnTo>
                    <a:pt x="743" y="476"/>
                  </a:lnTo>
                  <a:lnTo>
                    <a:pt x="535" y="572"/>
                  </a:lnTo>
                  <a:lnTo>
                    <a:pt x="526" y="569"/>
                  </a:lnTo>
                  <a:lnTo>
                    <a:pt x="504" y="563"/>
                  </a:lnTo>
                  <a:lnTo>
                    <a:pt x="470" y="556"/>
                  </a:lnTo>
                  <a:lnTo>
                    <a:pt x="433" y="545"/>
                  </a:lnTo>
                  <a:lnTo>
                    <a:pt x="392" y="534"/>
                  </a:lnTo>
                  <a:lnTo>
                    <a:pt x="357" y="525"/>
                  </a:lnTo>
                  <a:lnTo>
                    <a:pt x="328" y="516"/>
                  </a:lnTo>
                  <a:lnTo>
                    <a:pt x="312" y="511"/>
                  </a:lnTo>
                  <a:lnTo>
                    <a:pt x="299" y="507"/>
                  </a:lnTo>
                  <a:lnTo>
                    <a:pt x="279" y="505"/>
                  </a:lnTo>
                  <a:lnTo>
                    <a:pt x="252" y="500"/>
                  </a:lnTo>
                  <a:lnTo>
                    <a:pt x="223" y="496"/>
                  </a:lnTo>
                  <a:lnTo>
                    <a:pt x="196" y="491"/>
                  </a:lnTo>
                  <a:lnTo>
                    <a:pt x="172" y="489"/>
                  </a:lnTo>
                  <a:lnTo>
                    <a:pt x="156" y="487"/>
                  </a:lnTo>
                  <a:lnTo>
                    <a:pt x="149" y="487"/>
                  </a:lnTo>
                  <a:lnTo>
                    <a:pt x="0" y="5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777"/>
            <p:cNvSpPr/>
            <p:nvPr/>
          </p:nvSpPr>
          <p:spPr>
            <a:xfrm>
              <a:off x="6654960" y="5751360"/>
              <a:ext cx="655560" cy="277920"/>
            </a:xfrm>
            <a:custGeom>
              <a:avLst/>
              <a:gdLst>
                <a:gd name="textAreaLeft" fmla="*/ 0 w 655560"/>
                <a:gd name="textAreaRight" fmla="*/ 655920 w 655560"/>
                <a:gd name="textAreaTop" fmla="*/ 0 h 277920"/>
                <a:gd name="textAreaBottom" fmla="*/ 278280 h 277920"/>
              </a:gdLst>
              <a:ahLst/>
              <a:rect l="textAreaLeft" t="textAreaTop" r="textAreaRight" b="textAreaBottom"/>
              <a:pathLst>
                <a:path w="605" h="261">
                  <a:moveTo>
                    <a:pt x="114" y="85"/>
                  </a:moveTo>
                  <a:lnTo>
                    <a:pt x="119" y="83"/>
                  </a:lnTo>
                  <a:lnTo>
                    <a:pt x="132" y="78"/>
                  </a:lnTo>
                  <a:lnTo>
                    <a:pt x="150" y="74"/>
                  </a:lnTo>
                  <a:lnTo>
                    <a:pt x="172" y="67"/>
                  </a:lnTo>
                  <a:lnTo>
                    <a:pt x="194" y="60"/>
                  </a:lnTo>
                  <a:lnTo>
                    <a:pt x="217" y="54"/>
                  </a:lnTo>
                  <a:lnTo>
                    <a:pt x="237" y="51"/>
                  </a:lnTo>
                  <a:lnTo>
                    <a:pt x="252" y="49"/>
                  </a:lnTo>
                  <a:lnTo>
                    <a:pt x="266" y="51"/>
                  </a:lnTo>
                  <a:lnTo>
                    <a:pt x="281" y="54"/>
                  </a:lnTo>
                  <a:lnTo>
                    <a:pt x="299" y="60"/>
                  </a:lnTo>
                  <a:lnTo>
                    <a:pt x="317" y="65"/>
                  </a:lnTo>
                  <a:lnTo>
                    <a:pt x="333" y="72"/>
                  </a:lnTo>
                  <a:lnTo>
                    <a:pt x="348" y="78"/>
                  </a:lnTo>
                  <a:lnTo>
                    <a:pt x="364" y="83"/>
                  </a:lnTo>
                  <a:lnTo>
                    <a:pt x="375" y="85"/>
                  </a:lnTo>
                  <a:lnTo>
                    <a:pt x="386" y="87"/>
                  </a:lnTo>
                  <a:lnTo>
                    <a:pt x="402" y="89"/>
                  </a:lnTo>
                  <a:lnTo>
                    <a:pt x="417" y="92"/>
                  </a:lnTo>
                  <a:lnTo>
                    <a:pt x="433" y="96"/>
                  </a:lnTo>
                  <a:lnTo>
                    <a:pt x="449" y="98"/>
                  </a:lnTo>
                  <a:lnTo>
                    <a:pt x="462" y="103"/>
                  </a:lnTo>
                  <a:lnTo>
                    <a:pt x="475" y="105"/>
                  </a:lnTo>
                  <a:lnTo>
                    <a:pt x="487" y="109"/>
                  </a:lnTo>
                  <a:lnTo>
                    <a:pt x="498" y="114"/>
                  </a:lnTo>
                  <a:lnTo>
                    <a:pt x="516" y="118"/>
                  </a:lnTo>
                  <a:lnTo>
                    <a:pt x="536" y="125"/>
                  </a:lnTo>
                  <a:lnTo>
                    <a:pt x="556" y="132"/>
                  </a:lnTo>
                  <a:lnTo>
                    <a:pt x="574" y="138"/>
                  </a:lnTo>
                  <a:lnTo>
                    <a:pt x="589" y="143"/>
                  </a:lnTo>
                  <a:lnTo>
                    <a:pt x="600" y="145"/>
                  </a:lnTo>
                  <a:lnTo>
                    <a:pt x="605" y="147"/>
                  </a:lnTo>
                  <a:lnTo>
                    <a:pt x="527" y="76"/>
                  </a:lnTo>
                  <a:lnTo>
                    <a:pt x="368" y="7"/>
                  </a:lnTo>
                  <a:lnTo>
                    <a:pt x="226" y="0"/>
                  </a:lnTo>
                  <a:lnTo>
                    <a:pt x="123" y="11"/>
                  </a:lnTo>
                  <a:lnTo>
                    <a:pt x="49" y="45"/>
                  </a:lnTo>
                  <a:lnTo>
                    <a:pt x="43" y="56"/>
                  </a:lnTo>
                  <a:lnTo>
                    <a:pt x="27" y="78"/>
                  </a:lnTo>
                  <a:lnTo>
                    <a:pt x="9" y="105"/>
                  </a:lnTo>
                  <a:lnTo>
                    <a:pt x="0" y="123"/>
                  </a:lnTo>
                  <a:lnTo>
                    <a:pt x="0" y="141"/>
                  </a:lnTo>
                  <a:lnTo>
                    <a:pt x="7" y="170"/>
                  </a:lnTo>
                  <a:lnTo>
                    <a:pt x="14" y="197"/>
                  </a:lnTo>
                  <a:lnTo>
                    <a:pt x="16" y="208"/>
                  </a:lnTo>
                  <a:lnTo>
                    <a:pt x="70" y="261"/>
                  </a:lnTo>
                  <a:lnTo>
                    <a:pt x="65" y="168"/>
                  </a:lnTo>
                  <a:lnTo>
                    <a:pt x="114"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778"/>
            <p:cNvSpPr/>
            <p:nvPr/>
          </p:nvSpPr>
          <p:spPr>
            <a:xfrm>
              <a:off x="7346880" y="4397400"/>
              <a:ext cx="331920" cy="500040"/>
            </a:xfrm>
            <a:custGeom>
              <a:avLst/>
              <a:gdLst>
                <a:gd name="textAreaLeft" fmla="*/ 0 w 331920"/>
                <a:gd name="textAreaRight" fmla="*/ 332280 w 331920"/>
                <a:gd name="textAreaTop" fmla="*/ 0 h 500040"/>
                <a:gd name="textAreaBottom" fmla="*/ 500400 h 500040"/>
              </a:gdLst>
              <a:ahLst/>
              <a:rect l="textAreaLeft" t="textAreaTop" r="textAreaRight" b="textAreaBottom"/>
              <a:pathLst>
                <a:path w="306" h="467">
                  <a:moveTo>
                    <a:pt x="54" y="34"/>
                  </a:moveTo>
                  <a:lnTo>
                    <a:pt x="47" y="52"/>
                  </a:lnTo>
                  <a:lnTo>
                    <a:pt x="29" y="92"/>
                  </a:lnTo>
                  <a:lnTo>
                    <a:pt x="11" y="136"/>
                  </a:lnTo>
                  <a:lnTo>
                    <a:pt x="0" y="168"/>
                  </a:lnTo>
                  <a:lnTo>
                    <a:pt x="0" y="197"/>
                  </a:lnTo>
                  <a:lnTo>
                    <a:pt x="3" y="235"/>
                  </a:lnTo>
                  <a:lnTo>
                    <a:pt x="7" y="275"/>
                  </a:lnTo>
                  <a:lnTo>
                    <a:pt x="11" y="304"/>
                  </a:lnTo>
                  <a:lnTo>
                    <a:pt x="18" y="322"/>
                  </a:lnTo>
                  <a:lnTo>
                    <a:pt x="25" y="337"/>
                  </a:lnTo>
                  <a:lnTo>
                    <a:pt x="38" y="355"/>
                  </a:lnTo>
                  <a:lnTo>
                    <a:pt x="56" y="378"/>
                  </a:lnTo>
                  <a:lnTo>
                    <a:pt x="76" y="398"/>
                  </a:lnTo>
                  <a:lnTo>
                    <a:pt x="87" y="409"/>
                  </a:lnTo>
                  <a:lnTo>
                    <a:pt x="98" y="418"/>
                  </a:lnTo>
                  <a:lnTo>
                    <a:pt x="118" y="429"/>
                  </a:lnTo>
                  <a:lnTo>
                    <a:pt x="132" y="436"/>
                  </a:lnTo>
                  <a:lnTo>
                    <a:pt x="143" y="440"/>
                  </a:lnTo>
                  <a:lnTo>
                    <a:pt x="156" y="445"/>
                  </a:lnTo>
                  <a:lnTo>
                    <a:pt x="170" y="447"/>
                  </a:lnTo>
                  <a:lnTo>
                    <a:pt x="181" y="451"/>
                  </a:lnTo>
                  <a:lnTo>
                    <a:pt x="192" y="453"/>
                  </a:lnTo>
                  <a:lnTo>
                    <a:pt x="203" y="456"/>
                  </a:lnTo>
                  <a:lnTo>
                    <a:pt x="212" y="458"/>
                  </a:lnTo>
                  <a:lnTo>
                    <a:pt x="223" y="460"/>
                  </a:lnTo>
                  <a:lnTo>
                    <a:pt x="234" y="462"/>
                  </a:lnTo>
                  <a:lnTo>
                    <a:pt x="248" y="465"/>
                  </a:lnTo>
                  <a:lnTo>
                    <a:pt x="261" y="465"/>
                  </a:lnTo>
                  <a:lnTo>
                    <a:pt x="275" y="467"/>
                  </a:lnTo>
                  <a:lnTo>
                    <a:pt x="288" y="467"/>
                  </a:lnTo>
                  <a:lnTo>
                    <a:pt x="297" y="467"/>
                  </a:lnTo>
                  <a:lnTo>
                    <a:pt x="304" y="467"/>
                  </a:lnTo>
                  <a:lnTo>
                    <a:pt x="306" y="467"/>
                  </a:lnTo>
                  <a:lnTo>
                    <a:pt x="301" y="465"/>
                  </a:lnTo>
                  <a:lnTo>
                    <a:pt x="292" y="462"/>
                  </a:lnTo>
                  <a:lnTo>
                    <a:pt x="281" y="458"/>
                  </a:lnTo>
                  <a:lnTo>
                    <a:pt x="268" y="456"/>
                  </a:lnTo>
                  <a:lnTo>
                    <a:pt x="255" y="451"/>
                  </a:lnTo>
                  <a:lnTo>
                    <a:pt x="243" y="447"/>
                  </a:lnTo>
                  <a:lnTo>
                    <a:pt x="232" y="442"/>
                  </a:lnTo>
                  <a:lnTo>
                    <a:pt x="221" y="436"/>
                  </a:lnTo>
                  <a:lnTo>
                    <a:pt x="203" y="427"/>
                  </a:lnTo>
                  <a:lnTo>
                    <a:pt x="185" y="418"/>
                  </a:lnTo>
                  <a:lnTo>
                    <a:pt x="165" y="407"/>
                  </a:lnTo>
                  <a:lnTo>
                    <a:pt x="145" y="395"/>
                  </a:lnTo>
                  <a:lnTo>
                    <a:pt x="127" y="386"/>
                  </a:lnTo>
                  <a:lnTo>
                    <a:pt x="114" y="380"/>
                  </a:lnTo>
                  <a:lnTo>
                    <a:pt x="105" y="373"/>
                  </a:lnTo>
                  <a:lnTo>
                    <a:pt x="85" y="353"/>
                  </a:lnTo>
                  <a:lnTo>
                    <a:pt x="69" y="331"/>
                  </a:lnTo>
                  <a:lnTo>
                    <a:pt x="58" y="311"/>
                  </a:lnTo>
                  <a:lnTo>
                    <a:pt x="47" y="290"/>
                  </a:lnTo>
                  <a:lnTo>
                    <a:pt x="40" y="268"/>
                  </a:lnTo>
                  <a:lnTo>
                    <a:pt x="36" y="248"/>
                  </a:lnTo>
                  <a:lnTo>
                    <a:pt x="34" y="226"/>
                  </a:lnTo>
                  <a:lnTo>
                    <a:pt x="34" y="203"/>
                  </a:lnTo>
                  <a:lnTo>
                    <a:pt x="38" y="177"/>
                  </a:lnTo>
                  <a:lnTo>
                    <a:pt x="45" y="145"/>
                  </a:lnTo>
                  <a:lnTo>
                    <a:pt x="58" y="112"/>
                  </a:lnTo>
                  <a:lnTo>
                    <a:pt x="69" y="78"/>
                  </a:lnTo>
                  <a:lnTo>
                    <a:pt x="83" y="47"/>
                  </a:lnTo>
                  <a:lnTo>
                    <a:pt x="94" y="23"/>
                  </a:lnTo>
                  <a:lnTo>
                    <a:pt x="103" y="7"/>
                  </a:lnTo>
                  <a:lnTo>
                    <a:pt x="105" y="0"/>
                  </a:lnTo>
                  <a:lnTo>
                    <a:pt x="54"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779"/>
            <p:cNvSpPr/>
            <p:nvPr/>
          </p:nvSpPr>
          <p:spPr>
            <a:xfrm>
              <a:off x="7416720" y="4245120"/>
              <a:ext cx="355680" cy="139680"/>
            </a:xfrm>
            <a:custGeom>
              <a:avLst/>
              <a:gdLst>
                <a:gd name="textAreaLeft" fmla="*/ 0 w 355680"/>
                <a:gd name="textAreaRight" fmla="*/ 356040 w 355680"/>
                <a:gd name="textAreaTop" fmla="*/ 0 h 139680"/>
                <a:gd name="textAreaBottom" fmla="*/ 140040 h 139680"/>
              </a:gdLst>
              <a:ahLst/>
              <a:rect l="textAreaLeft" t="textAreaTop" r="textAreaRight" b="textAreaBottom"/>
              <a:pathLst>
                <a:path w="328" h="130">
                  <a:moveTo>
                    <a:pt x="87" y="12"/>
                  </a:moveTo>
                  <a:lnTo>
                    <a:pt x="16" y="74"/>
                  </a:lnTo>
                  <a:lnTo>
                    <a:pt x="13" y="81"/>
                  </a:lnTo>
                  <a:lnTo>
                    <a:pt x="9" y="94"/>
                  </a:lnTo>
                  <a:lnTo>
                    <a:pt x="2" y="110"/>
                  </a:lnTo>
                  <a:lnTo>
                    <a:pt x="0" y="123"/>
                  </a:lnTo>
                  <a:lnTo>
                    <a:pt x="4" y="130"/>
                  </a:lnTo>
                  <a:lnTo>
                    <a:pt x="18" y="130"/>
                  </a:lnTo>
                  <a:lnTo>
                    <a:pt x="29" y="130"/>
                  </a:lnTo>
                  <a:lnTo>
                    <a:pt x="33" y="130"/>
                  </a:lnTo>
                  <a:lnTo>
                    <a:pt x="33" y="128"/>
                  </a:lnTo>
                  <a:lnTo>
                    <a:pt x="38" y="119"/>
                  </a:lnTo>
                  <a:lnTo>
                    <a:pt x="45" y="108"/>
                  </a:lnTo>
                  <a:lnTo>
                    <a:pt x="56" y="94"/>
                  </a:lnTo>
                  <a:lnTo>
                    <a:pt x="65" y="85"/>
                  </a:lnTo>
                  <a:lnTo>
                    <a:pt x="76" y="76"/>
                  </a:lnTo>
                  <a:lnTo>
                    <a:pt x="89" y="67"/>
                  </a:lnTo>
                  <a:lnTo>
                    <a:pt x="105" y="58"/>
                  </a:lnTo>
                  <a:lnTo>
                    <a:pt x="118" y="50"/>
                  </a:lnTo>
                  <a:lnTo>
                    <a:pt x="134" y="43"/>
                  </a:lnTo>
                  <a:lnTo>
                    <a:pt x="149" y="38"/>
                  </a:lnTo>
                  <a:lnTo>
                    <a:pt x="165" y="36"/>
                  </a:lnTo>
                  <a:lnTo>
                    <a:pt x="183" y="36"/>
                  </a:lnTo>
                  <a:lnTo>
                    <a:pt x="205" y="36"/>
                  </a:lnTo>
                  <a:lnTo>
                    <a:pt x="232" y="34"/>
                  </a:lnTo>
                  <a:lnTo>
                    <a:pt x="261" y="32"/>
                  </a:lnTo>
                  <a:lnTo>
                    <a:pt x="285" y="32"/>
                  </a:lnTo>
                  <a:lnTo>
                    <a:pt x="308" y="29"/>
                  </a:lnTo>
                  <a:lnTo>
                    <a:pt x="323" y="29"/>
                  </a:lnTo>
                  <a:lnTo>
                    <a:pt x="328" y="29"/>
                  </a:lnTo>
                  <a:lnTo>
                    <a:pt x="245" y="0"/>
                  </a:lnTo>
                  <a:lnTo>
                    <a:pt x="87"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780"/>
            <p:cNvSpPr/>
            <p:nvPr/>
          </p:nvSpPr>
          <p:spPr>
            <a:xfrm>
              <a:off x="7751880" y="4192560"/>
              <a:ext cx="136440" cy="96840"/>
            </a:xfrm>
            <a:custGeom>
              <a:avLst/>
              <a:gdLst>
                <a:gd name="textAreaLeft" fmla="*/ 0 w 136440"/>
                <a:gd name="textAreaRight" fmla="*/ 136800 w 136440"/>
                <a:gd name="textAreaTop" fmla="*/ 0 h 96840"/>
                <a:gd name="textAreaBottom" fmla="*/ 97200 h 96840"/>
              </a:gdLst>
              <a:ahLst/>
              <a:rect l="textAreaLeft" t="textAreaTop" r="textAreaRight" b="textAreaBottom"/>
              <a:pathLst>
                <a:path w="127" h="90">
                  <a:moveTo>
                    <a:pt x="40" y="0"/>
                  </a:moveTo>
                  <a:lnTo>
                    <a:pt x="29" y="16"/>
                  </a:lnTo>
                  <a:lnTo>
                    <a:pt x="15" y="38"/>
                  </a:lnTo>
                  <a:lnTo>
                    <a:pt x="4" y="56"/>
                  </a:lnTo>
                  <a:lnTo>
                    <a:pt x="0" y="65"/>
                  </a:lnTo>
                  <a:lnTo>
                    <a:pt x="4" y="69"/>
                  </a:lnTo>
                  <a:lnTo>
                    <a:pt x="15" y="81"/>
                  </a:lnTo>
                  <a:lnTo>
                    <a:pt x="29" y="90"/>
                  </a:lnTo>
                  <a:lnTo>
                    <a:pt x="40" y="87"/>
                  </a:lnTo>
                  <a:lnTo>
                    <a:pt x="49" y="81"/>
                  </a:lnTo>
                  <a:lnTo>
                    <a:pt x="60" y="72"/>
                  </a:lnTo>
                  <a:lnTo>
                    <a:pt x="76" y="63"/>
                  </a:lnTo>
                  <a:lnTo>
                    <a:pt x="91" y="54"/>
                  </a:lnTo>
                  <a:lnTo>
                    <a:pt x="105" y="47"/>
                  </a:lnTo>
                  <a:lnTo>
                    <a:pt x="116" y="40"/>
                  </a:lnTo>
                  <a:lnTo>
                    <a:pt x="125" y="38"/>
                  </a:lnTo>
                  <a:lnTo>
                    <a:pt x="127" y="36"/>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781"/>
            <p:cNvSpPr/>
            <p:nvPr/>
          </p:nvSpPr>
          <p:spPr>
            <a:xfrm>
              <a:off x="7799400" y="4135320"/>
              <a:ext cx="270000" cy="144720"/>
            </a:xfrm>
            <a:custGeom>
              <a:avLst/>
              <a:gdLst>
                <a:gd name="textAreaLeft" fmla="*/ 0 w 270000"/>
                <a:gd name="textAreaRight" fmla="*/ 270360 w 270000"/>
                <a:gd name="textAreaTop" fmla="*/ 0 h 144720"/>
                <a:gd name="textAreaBottom" fmla="*/ 145080 h 144720"/>
              </a:gdLst>
              <a:ahLst/>
              <a:rect l="textAreaLeft" t="textAreaTop" r="textAreaRight" b="textAreaBottom"/>
              <a:pathLst>
                <a:path w="250" h="134">
                  <a:moveTo>
                    <a:pt x="54" y="69"/>
                  </a:moveTo>
                  <a:lnTo>
                    <a:pt x="65" y="67"/>
                  </a:lnTo>
                  <a:lnTo>
                    <a:pt x="78" y="60"/>
                  </a:lnTo>
                  <a:lnTo>
                    <a:pt x="92" y="53"/>
                  </a:lnTo>
                  <a:lnTo>
                    <a:pt x="110" y="49"/>
                  </a:lnTo>
                  <a:lnTo>
                    <a:pt x="121" y="49"/>
                  </a:lnTo>
                  <a:lnTo>
                    <a:pt x="134" y="51"/>
                  </a:lnTo>
                  <a:lnTo>
                    <a:pt x="148" y="53"/>
                  </a:lnTo>
                  <a:lnTo>
                    <a:pt x="159" y="58"/>
                  </a:lnTo>
                  <a:lnTo>
                    <a:pt x="170" y="62"/>
                  </a:lnTo>
                  <a:lnTo>
                    <a:pt x="179" y="64"/>
                  </a:lnTo>
                  <a:lnTo>
                    <a:pt x="185" y="69"/>
                  </a:lnTo>
                  <a:lnTo>
                    <a:pt x="188" y="69"/>
                  </a:lnTo>
                  <a:lnTo>
                    <a:pt x="250" y="134"/>
                  </a:lnTo>
                  <a:lnTo>
                    <a:pt x="221" y="58"/>
                  </a:lnTo>
                  <a:lnTo>
                    <a:pt x="114" y="0"/>
                  </a:lnTo>
                  <a:lnTo>
                    <a:pt x="58" y="11"/>
                  </a:lnTo>
                  <a:lnTo>
                    <a:pt x="0" y="58"/>
                  </a:lnTo>
                  <a:lnTo>
                    <a:pt x="5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782"/>
            <p:cNvSpPr/>
            <p:nvPr/>
          </p:nvSpPr>
          <p:spPr>
            <a:xfrm>
              <a:off x="5897520" y="5254560"/>
              <a:ext cx="104760" cy="534960"/>
            </a:xfrm>
            <a:custGeom>
              <a:avLst/>
              <a:gdLst>
                <a:gd name="textAreaLeft" fmla="*/ 0 w 104760"/>
                <a:gd name="textAreaRight" fmla="*/ 105120 w 104760"/>
                <a:gd name="textAreaTop" fmla="*/ 0 h 534960"/>
                <a:gd name="textAreaBottom" fmla="*/ 535320 h 534960"/>
              </a:gdLst>
              <a:ahLst/>
              <a:rect l="textAreaLeft" t="textAreaTop" r="textAreaRight" b="textAreaBottom"/>
              <a:pathLst>
                <a:path w="96" h="500">
                  <a:moveTo>
                    <a:pt x="0" y="38"/>
                  </a:moveTo>
                  <a:lnTo>
                    <a:pt x="40" y="477"/>
                  </a:lnTo>
                  <a:lnTo>
                    <a:pt x="96" y="500"/>
                  </a:lnTo>
                  <a:lnTo>
                    <a:pt x="36"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783"/>
            <p:cNvSpPr/>
            <p:nvPr/>
          </p:nvSpPr>
          <p:spPr>
            <a:xfrm>
              <a:off x="5961240" y="5286240"/>
              <a:ext cx="115560" cy="92160"/>
            </a:xfrm>
            <a:custGeom>
              <a:avLst/>
              <a:gdLst>
                <a:gd name="textAreaLeft" fmla="*/ 0 w 115560"/>
                <a:gd name="textAreaRight" fmla="*/ 115920 w 115560"/>
                <a:gd name="textAreaTop" fmla="*/ 0 h 92160"/>
                <a:gd name="textAreaBottom" fmla="*/ 92520 h 92160"/>
              </a:gdLst>
              <a:ahLst/>
              <a:rect l="textAreaLeft" t="textAreaTop" r="textAreaRight" b="textAreaBottom"/>
              <a:pathLst>
                <a:path w="107" h="87">
                  <a:moveTo>
                    <a:pt x="11" y="71"/>
                  </a:moveTo>
                  <a:lnTo>
                    <a:pt x="16" y="51"/>
                  </a:lnTo>
                  <a:lnTo>
                    <a:pt x="27" y="35"/>
                  </a:lnTo>
                  <a:lnTo>
                    <a:pt x="45" y="24"/>
                  </a:lnTo>
                  <a:lnTo>
                    <a:pt x="67" y="20"/>
                  </a:lnTo>
                  <a:lnTo>
                    <a:pt x="78" y="22"/>
                  </a:lnTo>
                  <a:lnTo>
                    <a:pt x="90" y="24"/>
                  </a:lnTo>
                  <a:lnTo>
                    <a:pt x="98" y="29"/>
                  </a:lnTo>
                  <a:lnTo>
                    <a:pt x="107" y="35"/>
                  </a:lnTo>
                  <a:lnTo>
                    <a:pt x="101" y="22"/>
                  </a:lnTo>
                  <a:lnTo>
                    <a:pt x="87" y="11"/>
                  </a:lnTo>
                  <a:lnTo>
                    <a:pt x="72" y="2"/>
                  </a:lnTo>
                  <a:lnTo>
                    <a:pt x="54" y="0"/>
                  </a:lnTo>
                  <a:lnTo>
                    <a:pt x="34" y="4"/>
                  </a:lnTo>
                  <a:lnTo>
                    <a:pt x="16" y="15"/>
                  </a:lnTo>
                  <a:lnTo>
                    <a:pt x="5" y="31"/>
                  </a:lnTo>
                  <a:lnTo>
                    <a:pt x="0" y="51"/>
                  </a:lnTo>
                  <a:lnTo>
                    <a:pt x="0" y="60"/>
                  </a:lnTo>
                  <a:lnTo>
                    <a:pt x="5" y="71"/>
                  </a:lnTo>
                  <a:lnTo>
                    <a:pt x="7" y="80"/>
                  </a:lnTo>
                  <a:lnTo>
                    <a:pt x="14" y="87"/>
                  </a:lnTo>
                  <a:lnTo>
                    <a:pt x="14" y="82"/>
                  </a:lnTo>
                  <a:lnTo>
                    <a:pt x="14" y="80"/>
                  </a:lnTo>
                  <a:lnTo>
                    <a:pt x="11" y="76"/>
                  </a:lnTo>
                  <a:lnTo>
                    <a:pt x="11" y="7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22" name="Freeform 784"/>
            <p:cNvSpPr/>
            <p:nvPr/>
          </p:nvSpPr>
          <p:spPr>
            <a:xfrm>
              <a:off x="6343560" y="5235480"/>
              <a:ext cx="117720" cy="93600"/>
            </a:xfrm>
            <a:custGeom>
              <a:avLst/>
              <a:gdLst>
                <a:gd name="textAreaLeft" fmla="*/ 0 w 117720"/>
                <a:gd name="textAreaRight" fmla="*/ 118080 w 117720"/>
                <a:gd name="textAreaTop" fmla="*/ 0 h 93600"/>
                <a:gd name="textAreaBottom" fmla="*/ 93960 h 93600"/>
              </a:gdLst>
              <a:ahLst/>
              <a:rect l="textAreaLeft" t="textAreaTop" r="textAreaRight" b="textAreaBottom"/>
              <a:pathLst>
                <a:path w="109" h="87">
                  <a:moveTo>
                    <a:pt x="13" y="71"/>
                  </a:moveTo>
                  <a:lnTo>
                    <a:pt x="18" y="51"/>
                  </a:lnTo>
                  <a:lnTo>
                    <a:pt x="29" y="36"/>
                  </a:lnTo>
                  <a:lnTo>
                    <a:pt x="47" y="24"/>
                  </a:lnTo>
                  <a:lnTo>
                    <a:pt x="69" y="20"/>
                  </a:lnTo>
                  <a:lnTo>
                    <a:pt x="80" y="22"/>
                  </a:lnTo>
                  <a:lnTo>
                    <a:pt x="91" y="24"/>
                  </a:lnTo>
                  <a:lnTo>
                    <a:pt x="100" y="29"/>
                  </a:lnTo>
                  <a:lnTo>
                    <a:pt x="109" y="36"/>
                  </a:lnTo>
                  <a:lnTo>
                    <a:pt x="102" y="22"/>
                  </a:lnTo>
                  <a:lnTo>
                    <a:pt x="89" y="11"/>
                  </a:lnTo>
                  <a:lnTo>
                    <a:pt x="73" y="2"/>
                  </a:lnTo>
                  <a:lnTo>
                    <a:pt x="55" y="0"/>
                  </a:lnTo>
                  <a:lnTo>
                    <a:pt x="33" y="4"/>
                  </a:lnTo>
                  <a:lnTo>
                    <a:pt x="15" y="15"/>
                  </a:lnTo>
                  <a:lnTo>
                    <a:pt x="4" y="31"/>
                  </a:lnTo>
                  <a:lnTo>
                    <a:pt x="0" y="51"/>
                  </a:lnTo>
                  <a:lnTo>
                    <a:pt x="2" y="60"/>
                  </a:lnTo>
                  <a:lnTo>
                    <a:pt x="4" y="71"/>
                  </a:lnTo>
                  <a:lnTo>
                    <a:pt x="9" y="80"/>
                  </a:lnTo>
                  <a:lnTo>
                    <a:pt x="15" y="87"/>
                  </a:lnTo>
                  <a:lnTo>
                    <a:pt x="13" y="82"/>
                  </a:lnTo>
                  <a:lnTo>
                    <a:pt x="13" y="80"/>
                  </a:lnTo>
                  <a:lnTo>
                    <a:pt x="13" y="76"/>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785"/>
            <p:cNvSpPr/>
            <p:nvPr/>
          </p:nvSpPr>
          <p:spPr>
            <a:xfrm>
              <a:off x="7323120" y="4124160"/>
              <a:ext cx="868320" cy="906480"/>
            </a:xfrm>
            <a:custGeom>
              <a:avLst/>
              <a:gdLst>
                <a:gd name="textAreaLeft" fmla="*/ 0 w 868320"/>
                <a:gd name="textAreaRight" fmla="*/ 868680 w 868320"/>
                <a:gd name="textAreaTop" fmla="*/ 0 h 906480"/>
                <a:gd name="textAreaBottom" fmla="*/ 906840 h 906480"/>
              </a:gdLst>
              <a:ahLst/>
              <a:rect l="textAreaLeft" t="textAreaTop" r="textAreaRight" b="textAreaBottom"/>
              <a:pathLst>
                <a:path w="801" h="848">
                  <a:moveTo>
                    <a:pt x="709" y="102"/>
                  </a:moveTo>
                  <a:lnTo>
                    <a:pt x="725" y="178"/>
                  </a:lnTo>
                  <a:lnTo>
                    <a:pt x="743" y="214"/>
                  </a:lnTo>
                  <a:lnTo>
                    <a:pt x="758" y="227"/>
                  </a:lnTo>
                  <a:lnTo>
                    <a:pt x="761" y="232"/>
                  </a:lnTo>
                  <a:lnTo>
                    <a:pt x="749" y="232"/>
                  </a:lnTo>
                  <a:lnTo>
                    <a:pt x="740" y="229"/>
                  </a:lnTo>
                  <a:lnTo>
                    <a:pt x="729" y="227"/>
                  </a:lnTo>
                  <a:lnTo>
                    <a:pt x="720" y="223"/>
                  </a:lnTo>
                  <a:lnTo>
                    <a:pt x="711" y="216"/>
                  </a:lnTo>
                  <a:lnTo>
                    <a:pt x="705" y="209"/>
                  </a:lnTo>
                  <a:lnTo>
                    <a:pt x="698" y="200"/>
                  </a:lnTo>
                  <a:lnTo>
                    <a:pt x="694" y="192"/>
                  </a:lnTo>
                  <a:lnTo>
                    <a:pt x="687" y="169"/>
                  </a:lnTo>
                  <a:lnTo>
                    <a:pt x="680" y="145"/>
                  </a:lnTo>
                  <a:lnTo>
                    <a:pt x="671" y="120"/>
                  </a:lnTo>
                  <a:lnTo>
                    <a:pt x="660" y="98"/>
                  </a:lnTo>
                  <a:lnTo>
                    <a:pt x="647" y="78"/>
                  </a:lnTo>
                  <a:lnTo>
                    <a:pt x="629" y="60"/>
                  </a:lnTo>
                  <a:lnTo>
                    <a:pt x="609" y="49"/>
                  </a:lnTo>
                  <a:lnTo>
                    <a:pt x="584" y="40"/>
                  </a:lnTo>
                  <a:lnTo>
                    <a:pt x="564" y="37"/>
                  </a:lnTo>
                  <a:lnTo>
                    <a:pt x="546" y="35"/>
                  </a:lnTo>
                  <a:lnTo>
                    <a:pt x="531" y="35"/>
                  </a:lnTo>
                  <a:lnTo>
                    <a:pt x="517" y="37"/>
                  </a:lnTo>
                  <a:lnTo>
                    <a:pt x="506" y="42"/>
                  </a:lnTo>
                  <a:lnTo>
                    <a:pt x="493" y="49"/>
                  </a:lnTo>
                  <a:lnTo>
                    <a:pt x="484" y="55"/>
                  </a:lnTo>
                  <a:lnTo>
                    <a:pt x="473" y="64"/>
                  </a:lnTo>
                  <a:lnTo>
                    <a:pt x="486" y="69"/>
                  </a:lnTo>
                  <a:lnTo>
                    <a:pt x="502" y="71"/>
                  </a:lnTo>
                  <a:lnTo>
                    <a:pt x="515" y="75"/>
                  </a:lnTo>
                  <a:lnTo>
                    <a:pt x="529" y="80"/>
                  </a:lnTo>
                  <a:lnTo>
                    <a:pt x="542" y="87"/>
                  </a:lnTo>
                  <a:lnTo>
                    <a:pt x="553" y="96"/>
                  </a:lnTo>
                  <a:lnTo>
                    <a:pt x="562" y="104"/>
                  </a:lnTo>
                  <a:lnTo>
                    <a:pt x="569" y="118"/>
                  </a:lnTo>
                  <a:lnTo>
                    <a:pt x="578" y="131"/>
                  </a:lnTo>
                  <a:lnTo>
                    <a:pt x="582" y="147"/>
                  </a:lnTo>
                  <a:lnTo>
                    <a:pt x="582" y="163"/>
                  </a:lnTo>
                  <a:lnTo>
                    <a:pt x="582" y="180"/>
                  </a:lnTo>
                  <a:lnTo>
                    <a:pt x="595" y="196"/>
                  </a:lnTo>
                  <a:lnTo>
                    <a:pt x="609" y="209"/>
                  </a:lnTo>
                  <a:lnTo>
                    <a:pt x="624" y="225"/>
                  </a:lnTo>
                  <a:lnTo>
                    <a:pt x="638" y="238"/>
                  </a:lnTo>
                  <a:lnTo>
                    <a:pt x="651" y="254"/>
                  </a:lnTo>
                  <a:lnTo>
                    <a:pt x="662" y="270"/>
                  </a:lnTo>
                  <a:lnTo>
                    <a:pt x="674" y="288"/>
                  </a:lnTo>
                  <a:lnTo>
                    <a:pt x="680" y="305"/>
                  </a:lnTo>
                  <a:lnTo>
                    <a:pt x="698" y="308"/>
                  </a:lnTo>
                  <a:lnTo>
                    <a:pt x="716" y="312"/>
                  </a:lnTo>
                  <a:lnTo>
                    <a:pt x="732" y="314"/>
                  </a:lnTo>
                  <a:lnTo>
                    <a:pt x="747" y="312"/>
                  </a:lnTo>
                  <a:lnTo>
                    <a:pt x="758" y="305"/>
                  </a:lnTo>
                  <a:lnTo>
                    <a:pt x="769" y="294"/>
                  </a:lnTo>
                  <a:lnTo>
                    <a:pt x="776" y="272"/>
                  </a:lnTo>
                  <a:lnTo>
                    <a:pt x="781" y="243"/>
                  </a:lnTo>
                  <a:lnTo>
                    <a:pt x="783" y="238"/>
                  </a:lnTo>
                  <a:lnTo>
                    <a:pt x="787" y="229"/>
                  </a:lnTo>
                  <a:lnTo>
                    <a:pt x="792" y="221"/>
                  </a:lnTo>
                  <a:lnTo>
                    <a:pt x="798" y="223"/>
                  </a:lnTo>
                  <a:lnTo>
                    <a:pt x="798" y="259"/>
                  </a:lnTo>
                  <a:lnTo>
                    <a:pt x="801" y="292"/>
                  </a:lnTo>
                  <a:lnTo>
                    <a:pt x="792" y="321"/>
                  </a:lnTo>
                  <a:lnTo>
                    <a:pt x="761" y="343"/>
                  </a:lnTo>
                  <a:lnTo>
                    <a:pt x="745" y="346"/>
                  </a:lnTo>
                  <a:lnTo>
                    <a:pt x="727" y="350"/>
                  </a:lnTo>
                  <a:lnTo>
                    <a:pt x="709" y="352"/>
                  </a:lnTo>
                  <a:lnTo>
                    <a:pt x="696" y="350"/>
                  </a:lnTo>
                  <a:lnTo>
                    <a:pt x="691" y="361"/>
                  </a:lnTo>
                  <a:lnTo>
                    <a:pt x="694" y="379"/>
                  </a:lnTo>
                  <a:lnTo>
                    <a:pt x="694" y="401"/>
                  </a:lnTo>
                  <a:lnTo>
                    <a:pt x="689" y="424"/>
                  </a:lnTo>
                  <a:lnTo>
                    <a:pt x="682" y="453"/>
                  </a:lnTo>
                  <a:lnTo>
                    <a:pt x="674" y="477"/>
                  </a:lnTo>
                  <a:lnTo>
                    <a:pt x="665" y="500"/>
                  </a:lnTo>
                  <a:lnTo>
                    <a:pt x="656" y="515"/>
                  </a:lnTo>
                  <a:lnTo>
                    <a:pt x="642" y="529"/>
                  </a:lnTo>
                  <a:lnTo>
                    <a:pt x="627" y="538"/>
                  </a:lnTo>
                  <a:lnTo>
                    <a:pt x="607" y="544"/>
                  </a:lnTo>
                  <a:lnTo>
                    <a:pt x="582" y="549"/>
                  </a:lnTo>
                  <a:lnTo>
                    <a:pt x="573" y="584"/>
                  </a:lnTo>
                  <a:lnTo>
                    <a:pt x="560" y="616"/>
                  </a:lnTo>
                  <a:lnTo>
                    <a:pt x="542" y="642"/>
                  </a:lnTo>
                  <a:lnTo>
                    <a:pt x="522" y="665"/>
                  </a:lnTo>
                  <a:lnTo>
                    <a:pt x="500" y="685"/>
                  </a:lnTo>
                  <a:lnTo>
                    <a:pt x="473" y="701"/>
                  </a:lnTo>
                  <a:lnTo>
                    <a:pt x="444" y="714"/>
                  </a:lnTo>
                  <a:lnTo>
                    <a:pt x="410" y="725"/>
                  </a:lnTo>
                  <a:lnTo>
                    <a:pt x="393" y="730"/>
                  </a:lnTo>
                  <a:lnTo>
                    <a:pt x="372" y="732"/>
                  </a:lnTo>
                  <a:lnTo>
                    <a:pt x="350" y="734"/>
                  </a:lnTo>
                  <a:lnTo>
                    <a:pt x="328" y="734"/>
                  </a:lnTo>
                  <a:lnTo>
                    <a:pt x="306" y="734"/>
                  </a:lnTo>
                  <a:lnTo>
                    <a:pt x="283" y="734"/>
                  </a:lnTo>
                  <a:lnTo>
                    <a:pt x="263" y="732"/>
                  </a:lnTo>
                  <a:lnTo>
                    <a:pt x="243" y="730"/>
                  </a:lnTo>
                  <a:lnTo>
                    <a:pt x="239" y="765"/>
                  </a:lnTo>
                  <a:lnTo>
                    <a:pt x="230" y="803"/>
                  </a:lnTo>
                  <a:lnTo>
                    <a:pt x="214" y="834"/>
                  </a:lnTo>
                  <a:lnTo>
                    <a:pt x="181" y="848"/>
                  </a:lnTo>
                  <a:lnTo>
                    <a:pt x="192" y="810"/>
                  </a:lnTo>
                  <a:lnTo>
                    <a:pt x="198" y="772"/>
                  </a:lnTo>
                  <a:lnTo>
                    <a:pt x="201" y="741"/>
                  </a:lnTo>
                  <a:lnTo>
                    <a:pt x="196" y="721"/>
                  </a:lnTo>
                  <a:lnTo>
                    <a:pt x="187" y="716"/>
                  </a:lnTo>
                  <a:lnTo>
                    <a:pt x="178" y="714"/>
                  </a:lnTo>
                  <a:lnTo>
                    <a:pt x="167" y="709"/>
                  </a:lnTo>
                  <a:lnTo>
                    <a:pt x="156" y="705"/>
                  </a:lnTo>
                  <a:lnTo>
                    <a:pt x="143" y="698"/>
                  </a:lnTo>
                  <a:lnTo>
                    <a:pt x="132" y="692"/>
                  </a:lnTo>
                  <a:lnTo>
                    <a:pt x="118" y="685"/>
                  </a:lnTo>
                  <a:lnTo>
                    <a:pt x="105" y="674"/>
                  </a:lnTo>
                  <a:lnTo>
                    <a:pt x="74" y="647"/>
                  </a:lnTo>
                  <a:lnTo>
                    <a:pt x="49" y="618"/>
                  </a:lnTo>
                  <a:lnTo>
                    <a:pt x="29" y="587"/>
                  </a:lnTo>
                  <a:lnTo>
                    <a:pt x="13" y="553"/>
                  </a:lnTo>
                  <a:lnTo>
                    <a:pt x="4" y="517"/>
                  </a:lnTo>
                  <a:lnTo>
                    <a:pt x="0" y="480"/>
                  </a:lnTo>
                  <a:lnTo>
                    <a:pt x="0" y="442"/>
                  </a:lnTo>
                  <a:lnTo>
                    <a:pt x="4" y="401"/>
                  </a:lnTo>
                  <a:lnTo>
                    <a:pt x="13" y="368"/>
                  </a:lnTo>
                  <a:lnTo>
                    <a:pt x="29" y="337"/>
                  </a:lnTo>
                  <a:lnTo>
                    <a:pt x="45" y="305"/>
                  </a:lnTo>
                  <a:lnTo>
                    <a:pt x="60" y="276"/>
                  </a:lnTo>
                  <a:lnTo>
                    <a:pt x="56" y="256"/>
                  </a:lnTo>
                  <a:lnTo>
                    <a:pt x="56" y="236"/>
                  </a:lnTo>
                  <a:lnTo>
                    <a:pt x="60" y="218"/>
                  </a:lnTo>
                  <a:lnTo>
                    <a:pt x="69" y="200"/>
                  </a:lnTo>
                  <a:lnTo>
                    <a:pt x="78" y="185"/>
                  </a:lnTo>
                  <a:lnTo>
                    <a:pt x="91" y="169"/>
                  </a:lnTo>
                  <a:lnTo>
                    <a:pt x="105" y="156"/>
                  </a:lnTo>
                  <a:lnTo>
                    <a:pt x="118" y="145"/>
                  </a:lnTo>
                  <a:lnTo>
                    <a:pt x="156" y="125"/>
                  </a:lnTo>
                  <a:lnTo>
                    <a:pt x="198" y="111"/>
                  </a:lnTo>
                  <a:lnTo>
                    <a:pt x="243" y="104"/>
                  </a:lnTo>
                  <a:lnTo>
                    <a:pt x="288" y="102"/>
                  </a:lnTo>
                  <a:lnTo>
                    <a:pt x="330" y="107"/>
                  </a:lnTo>
                  <a:lnTo>
                    <a:pt x="366" y="116"/>
                  </a:lnTo>
                  <a:lnTo>
                    <a:pt x="393" y="129"/>
                  </a:lnTo>
                  <a:lnTo>
                    <a:pt x="406" y="145"/>
                  </a:lnTo>
                  <a:lnTo>
                    <a:pt x="388" y="140"/>
                  </a:lnTo>
                  <a:lnTo>
                    <a:pt x="368" y="133"/>
                  </a:lnTo>
                  <a:lnTo>
                    <a:pt x="343" y="131"/>
                  </a:lnTo>
                  <a:lnTo>
                    <a:pt x="319" y="127"/>
                  </a:lnTo>
                  <a:lnTo>
                    <a:pt x="290" y="127"/>
                  </a:lnTo>
                  <a:lnTo>
                    <a:pt x="261" y="129"/>
                  </a:lnTo>
                  <a:lnTo>
                    <a:pt x="227" y="133"/>
                  </a:lnTo>
                  <a:lnTo>
                    <a:pt x="194" y="142"/>
                  </a:lnTo>
                  <a:lnTo>
                    <a:pt x="174" y="149"/>
                  </a:lnTo>
                  <a:lnTo>
                    <a:pt x="158" y="160"/>
                  </a:lnTo>
                  <a:lnTo>
                    <a:pt x="143" y="171"/>
                  </a:lnTo>
                  <a:lnTo>
                    <a:pt x="129" y="185"/>
                  </a:lnTo>
                  <a:lnTo>
                    <a:pt x="116" y="198"/>
                  </a:lnTo>
                  <a:lnTo>
                    <a:pt x="107" y="214"/>
                  </a:lnTo>
                  <a:lnTo>
                    <a:pt x="98" y="229"/>
                  </a:lnTo>
                  <a:lnTo>
                    <a:pt x="91" y="245"/>
                  </a:lnTo>
                  <a:lnTo>
                    <a:pt x="105" y="241"/>
                  </a:lnTo>
                  <a:lnTo>
                    <a:pt x="120" y="234"/>
                  </a:lnTo>
                  <a:lnTo>
                    <a:pt x="136" y="227"/>
                  </a:lnTo>
                  <a:lnTo>
                    <a:pt x="152" y="221"/>
                  </a:lnTo>
                  <a:lnTo>
                    <a:pt x="167" y="216"/>
                  </a:lnTo>
                  <a:lnTo>
                    <a:pt x="185" y="209"/>
                  </a:lnTo>
                  <a:lnTo>
                    <a:pt x="205" y="203"/>
                  </a:lnTo>
                  <a:lnTo>
                    <a:pt x="227" y="198"/>
                  </a:lnTo>
                  <a:lnTo>
                    <a:pt x="277" y="196"/>
                  </a:lnTo>
                  <a:lnTo>
                    <a:pt x="323" y="200"/>
                  </a:lnTo>
                  <a:lnTo>
                    <a:pt x="370" y="207"/>
                  </a:lnTo>
                  <a:lnTo>
                    <a:pt x="413" y="223"/>
                  </a:lnTo>
                  <a:lnTo>
                    <a:pt x="453" y="243"/>
                  </a:lnTo>
                  <a:lnTo>
                    <a:pt x="488" y="270"/>
                  </a:lnTo>
                  <a:lnTo>
                    <a:pt x="520" y="305"/>
                  </a:lnTo>
                  <a:lnTo>
                    <a:pt x="546" y="348"/>
                  </a:lnTo>
                  <a:lnTo>
                    <a:pt x="551" y="359"/>
                  </a:lnTo>
                  <a:lnTo>
                    <a:pt x="553" y="375"/>
                  </a:lnTo>
                  <a:lnTo>
                    <a:pt x="553" y="386"/>
                  </a:lnTo>
                  <a:lnTo>
                    <a:pt x="551" y="395"/>
                  </a:lnTo>
                  <a:lnTo>
                    <a:pt x="533" y="359"/>
                  </a:lnTo>
                  <a:lnTo>
                    <a:pt x="508" y="330"/>
                  </a:lnTo>
                  <a:lnTo>
                    <a:pt x="479" y="303"/>
                  </a:lnTo>
                  <a:lnTo>
                    <a:pt x="446" y="281"/>
                  </a:lnTo>
                  <a:lnTo>
                    <a:pt x="413" y="263"/>
                  </a:lnTo>
                  <a:lnTo>
                    <a:pt x="375" y="252"/>
                  </a:lnTo>
                  <a:lnTo>
                    <a:pt x="339" y="243"/>
                  </a:lnTo>
                  <a:lnTo>
                    <a:pt x="301" y="238"/>
                  </a:lnTo>
                  <a:lnTo>
                    <a:pt x="268" y="238"/>
                  </a:lnTo>
                  <a:lnTo>
                    <a:pt x="232" y="238"/>
                  </a:lnTo>
                  <a:lnTo>
                    <a:pt x="198" y="241"/>
                  </a:lnTo>
                  <a:lnTo>
                    <a:pt x="165" y="247"/>
                  </a:lnTo>
                  <a:lnTo>
                    <a:pt x="134" y="261"/>
                  </a:lnTo>
                  <a:lnTo>
                    <a:pt x="105" y="283"/>
                  </a:lnTo>
                  <a:lnTo>
                    <a:pt x="78" y="314"/>
                  </a:lnTo>
                  <a:lnTo>
                    <a:pt x="56" y="357"/>
                  </a:lnTo>
                  <a:lnTo>
                    <a:pt x="42" y="395"/>
                  </a:lnTo>
                  <a:lnTo>
                    <a:pt x="36" y="435"/>
                  </a:lnTo>
                  <a:lnTo>
                    <a:pt x="33" y="475"/>
                  </a:lnTo>
                  <a:lnTo>
                    <a:pt x="38" y="515"/>
                  </a:lnTo>
                  <a:lnTo>
                    <a:pt x="47" y="553"/>
                  </a:lnTo>
                  <a:lnTo>
                    <a:pt x="62" y="587"/>
                  </a:lnTo>
                  <a:lnTo>
                    <a:pt x="87" y="616"/>
                  </a:lnTo>
                  <a:lnTo>
                    <a:pt x="116" y="640"/>
                  </a:lnTo>
                  <a:lnTo>
                    <a:pt x="152" y="665"/>
                  </a:lnTo>
                  <a:lnTo>
                    <a:pt x="192" y="683"/>
                  </a:lnTo>
                  <a:lnTo>
                    <a:pt x="234" y="694"/>
                  </a:lnTo>
                  <a:lnTo>
                    <a:pt x="277" y="701"/>
                  </a:lnTo>
                  <a:lnTo>
                    <a:pt x="321" y="701"/>
                  </a:lnTo>
                  <a:lnTo>
                    <a:pt x="364" y="696"/>
                  </a:lnTo>
                  <a:lnTo>
                    <a:pt x="406" y="689"/>
                  </a:lnTo>
                  <a:lnTo>
                    <a:pt x="448" y="676"/>
                  </a:lnTo>
                  <a:lnTo>
                    <a:pt x="475" y="665"/>
                  </a:lnTo>
                  <a:lnTo>
                    <a:pt x="497" y="651"/>
                  </a:lnTo>
                  <a:lnTo>
                    <a:pt x="515" y="636"/>
                  </a:lnTo>
                  <a:lnTo>
                    <a:pt x="531" y="618"/>
                  </a:lnTo>
                  <a:lnTo>
                    <a:pt x="542" y="600"/>
                  </a:lnTo>
                  <a:lnTo>
                    <a:pt x="551" y="578"/>
                  </a:lnTo>
                  <a:lnTo>
                    <a:pt x="558" y="555"/>
                  </a:lnTo>
                  <a:lnTo>
                    <a:pt x="564" y="531"/>
                  </a:lnTo>
                  <a:lnTo>
                    <a:pt x="578" y="526"/>
                  </a:lnTo>
                  <a:lnTo>
                    <a:pt x="593" y="520"/>
                  </a:lnTo>
                  <a:lnTo>
                    <a:pt x="609" y="513"/>
                  </a:lnTo>
                  <a:lnTo>
                    <a:pt x="624" y="497"/>
                  </a:lnTo>
                  <a:lnTo>
                    <a:pt x="636" y="471"/>
                  </a:lnTo>
                  <a:lnTo>
                    <a:pt x="633" y="450"/>
                  </a:lnTo>
                  <a:lnTo>
                    <a:pt x="618" y="433"/>
                  </a:lnTo>
                  <a:lnTo>
                    <a:pt x="600" y="421"/>
                  </a:lnTo>
                  <a:lnTo>
                    <a:pt x="591" y="419"/>
                  </a:lnTo>
                  <a:lnTo>
                    <a:pt x="582" y="419"/>
                  </a:lnTo>
                  <a:lnTo>
                    <a:pt x="571" y="421"/>
                  </a:lnTo>
                  <a:lnTo>
                    <a:pt x="558" y="421"/>
                  </a:lnTo>
                  <a:lnTo>
                    <a:pt x="558" y="413"/>
                  </a:lnTo>
                  <a:lnTo>
                    <a:pt x="564" y="406"/>
                  </a:lnTo>
                  <a:lnTo>
                    <a:pt x="573" y="399"/>
                  </a:lnTo>
                  <a:lnTo>
                    <a:pt x="584" y="395"/>
                  </a:lnTo>
                  <a:lnTo>
                    <a:pt x="598" y="395"/>
                  </a:lnTo>
                  <a:lnTo>
                    <a:pt x="611" y="397"/>
                  </a:lnTo>
                  <a:lnTo>
                    <a:pt x="620" y="401"/>
                  </a:lnTo>
                  <a:lnTo>
                    <a:pt x="629" y="408"/>
                  </a:lnTo>
                  <a:lnTo>
                    <a:pt x="636" y="415"/>
                  </a:lnTo>
                  <a:lnTo>
                    <a:pt x="642" y="424"/>
                  </a:lnTo>
                  <a:lnTo>
                    <a:pt x="647" y="433"/>
                  </a:lnTo>
                  <a:lnTo>
                    <a:pt x="651" y="442"/>
                  </a:lnTo>
                  <a:lnTo>
                    <a:pt x="658" y="401"/>
                  </a:lnTo>
                  <a:lnTo>
                    <a:pt x="658" y="363"/>
                  </a:lnTo>
                  <a:lnTo>
                    <a:pt x="651" y="328"/>
                  </a:lnTo>
                  <a:lnTo>
                    <a:pt x="640" y="294"/>
                  </a:lnTo>
                  <a:lnTo>
                    <a:pt x="622" y="263"/>
                  </a:lnTo>
                  <a:lnTo>
                    <a:pt x="598" y="234"/>
                  </a:lnTo>
                  <a:lnTo>
                    <a:pt x="569" y="205"/>
                  </a:lnTo>
                  <a:lnTo>
                    <a:pt x="535" y="178"/>
                  </a:lnTo>
                  <a:lnTo>
                    <a:pt x="520" y="178"/>
                  </a:lnTo>
                  <a:lnTo>
                    <a:pt x="506" y="176"/>
                  </a:lnTo>
                  <a:lnTo>
                    <a:pt x="493" y="171"/>
                  </a:lnTo>
                  <a:lnTo>
                    <a:pt x="482" y="163"/>
                  </a:lnTo>
                  <a:lnTo>
                    <a:pt x="482" y="151"/>
                  </a:lnTo>
                  <a:lnTo>
                    <a:pt x="533" y="156"/>
                  </a:lnTo>
                  <a:lnTo>
                    <a:pt x="537" y="147"/>
                  </a:lnTo>
                  <a:lnTo>
                    <a:pt x="542" y="138"/>
                  </a:lnTo>
                  <a:lnTo>
                    <a:pt x="544" y="129"/>
                  </a:lnTo>
                  <a:lnTo>
                    <a:pt x="542" y="120"/>
                  </a:lnTo>
                  <a:lnTo>
                    <a:pt x="533" y="113"/>
                  </a:lnTo>
                  <a:lnTo>
                    <a:pt x="524" y="107"/>
                  </a:lnTo>
                  <a:lnTo>
                    <a:pt x="511" y="102"/>
                  </a:lnTo>
                  <a:lnTo>
                    <a:pt x="497" y="100"/>
                  </a:lnTo>
                  <a:lnTo>
                    <a:pt x="486" y="100"/>
                  </a:lnTo>
                  <a:lnTo>
                    <a:pt x="475" y="102"/>
                  </a:lnTo>
                  <a:lnTo>
                    <a:pt x="466" y="107"/>
                  </a:lnTo>
                  <a:lnTo>
                    <a:pt x="459" y="113"/>
                  </a:lnTo>
                  <a:lnTo>
                    <a:pt x="450" y="122"/>
                  </a:lnTo>
                  <a:lnTo>
                    <a:pt x="442" y="122"/>
                  </a:lnTo>
                  <a:lnTo>
                    <a:pt x="430" y="118"/>
                  </a:lnTo>
                  <a:lnTo>
                    <a:pt x="419" y="118"/>
                  </a:lnTo>
                  <a:lnTo>
                    <a:pt x="419" y="98"/>
                  </a:lnTo>
                  <a:lnTo>
                    <a:pt x="426" y="80"/>
                  </a:lnTo>
                  <a:lnTo>
                    <a:pt x="435" y="62"/>
                  </a:lnTo>
                  <a:lnTo>
                    <a:pt x="448" y="44"/>
                  </a:lnTo>
                  <a:lnTo>
                    <a:pt x="466" y="29"/>
                  </a:lnTo>
                  <a:lnTo>
                    <a:pt x="486" y="15"/>
                  </a:lnTo>
                  <a:lnTo>
                    <a:pt x="511" y="6"/>
                  </a:lnTo>
                  <a:lnTo>
                    <a:pt x="533" y="2"/>
                  </a:lnTo>
                  <a:lnTo>
                    <a:pt x="558" y="0"/>
                  </a:lnTo>
                  <a:lnTo>
                    <a:pt x="584" y="2"/>
                  </a:lnTo>
                  <a:lnTo>
                    <a:pt x="609" y="4"/>
                  </a:lnTo>
                  <a:lnTo>
                    <a:pt x="631" y="11"/>
                  </a:lnTo>
                  <a:lnTo>
                    <a:pt x="642" y="17"/>
                  </a:lnTo>
                  <a:lnTo>
                    <a:pt x="656" y="26"/>
                  </a:lnTo>
                  <a:lnTo>
                    <a:pt x="669" y="37"/>
                  </a:lnTo>
                  <a:lnTo>
                    <a:pt x="680" y="49"/>
                  </a:lnTo>
                  <a:lnTo>
                    <a:pt x="691" y="60"/>
                  </a:lnTo>
                  <a:lnTo>
                    <a:pt x="700" y="73"/>
                  </a:lnTo>
                  <a:lnTo>
                    <a:pt x="705" y="89"/>
                  </a:lnTo>
                  <a:lnTo>
                    <a:pt x="70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786"/>
            <p:cNvSpPr/>
            <p:nvPr/>
          </p:nvSpPr>
          <p:spPr>
            <a:xfrm>
              <a:off x="6099120" y="4192560"/>
              <a:ext cx="424080" cy="211320"/>
            </a:xfrm>
            <a:custGeom>
              <a:avLst/>
              <a:gdLst>
                <a:gd name="textAreaLeft" fmla="*/ 0 w 424080"/>
                <a:gd name="textAreaRight" fmla="*/ 424440 w 424080"/>
                <a:gd name="textAreaTop" fmla="*/ 0 h 211320"/>
                <a:gd name="textAreaBottom" fmla="*/ 211680 h 211320"/>
              </a:gdLst>
              <a:ahLst/>
              <a:rect l="textAreaLeft" t="textAreaTop" r="textAreaRight" b="textAreaBottom"/>
              <a:pathLst>
                <a:path w="391" h="197">
                  <a:moveTo>
                    <a:pt x="384" y="112"/>
                  </a:moveTo>
                  <a:lnTo>
                    <a:pt x="389" y="132"/>
                  </a:lnTo>
                  <a:lnTo>
                    <a:pt x="391" y="152"/>
                  </a:lnTo>
                  <a:lnTo>
                    <a:pt x="391" y="174"/>
                  </a:lnTo>
                  <a:lnTo>
                    <a:pt x="384" y="195"/>
                  </a:lnTo>
                  <a:lnTo>
                    <a:pt x="375" y="197"/>
                  </a:lnTo>
                  <a:lnTo>
                    <a:pt x="364" y="195"/>
                  </a:lnTo>
                  <a:lnTo>
                    <a:pt x="355" y="188"/>
                  </a:lnTo>
                  <a:lnTo>
                    <a:pt x="348" y="181"/>
                  </a:lnTo>
                  <a:lnTo>
                    <a:pt x="348" y="163"/>
                  </a:lnTo>
                  <a:lnTo>
                    <a:pt x="346" y="145"/>
                  </a:lnTo>
                  <a:lnTo>
                    <a:pt x="342" y="130"/>
                  </a:lnTo>
                  <a:lnTo>
                    <a:pt x="335" y="114"/>
                  </a:lnTo>
                  <a:lnTo>
                    <a:pt x="324" y="99"/>
                  </a:lnTo>
                  <a:lnTo>
                    <a:pt x="308" y="85"/>
                  </a:lnTo>
                  <a:lnTo>
                    <a:pt x="293" y="74"/>
                  </a:lnTo>
                  <a:lnTo>
                    <a:pt x="273" y="63"/>
                  </a:lnTo>
                  <a:lnTo>
                    <a:pt x="252" y="54"/>
                  </a:lnTo>
                  <a:lnTo>
                    <a:pt x="232" y="47"/>
                  </a:lnTo>
                  <a:lnTo>
                    <a:pt x="210" y="43"/>
                  </a:lnTo>
                  <a:lnTo>
                    <a:pt x="190" y="38"/>
                  </a:lnTo>
                  <a:lnTo>
                    <a:pt x="168" y="36"/>
                  </a:lnTo>
                  <a:lnTo>
                    <a:pt x="145" y="36"/>
                  </a:lnTo>
                  <a:lnTo>
                    <a:pt x="125" y="38"/>
                  </a:lnTo>
                  <a:lnTo>
                    <a:pt x="103" y="40"/>
                  </a:lnTo>
                  <a:lnTo>
                    <a:pt x="90" y="43"/>
                  </a:lnTo>
                  <a:lnTo>
                    <a:pt x="76" y="47"/>
                  </a:lnTo>
                  <a:lnTo>
                    <a:pt x="63" y="52"/>
                  </a:lnTo>
                  <a:lnTo>
                    <a:pt x="50" y="56"/>
                  </a:lnTo>
                  <a:lnTo>
                    <a:pt x="38" y="61"/>
                  </a:lnTo>
                  <a:lnTo>
                    <a:pt x="25" y="67"/>
                  </a:lnTo>
                  <a:lnTo>
                    <a:pt x="14" y="74"/>
                  </a:lnTo>
                  <a:lnTo>
                    <a:pt x="3" y="83"/>
                  </a:lnTo>
                  <a:lnTo>
                    <a:pt x="0" y="81"/>
                  </a:lnTo>
                  <a:lnTo>
                    <a:pt x="3" y="74"/>
                  </a:lnTo>
                  <a:lnTo>
                    <a:pt x="12" y="65"/>
                  </a:lnTo>
                  <a:lnTo>
                    <a:pt x="23" y="52"/>
                  </a:lnTo>
                  <a:lnTo>
                    <a:pt x="38" y="38"/>
                  </a:lnTo>
                  <a:lnTo>
                    <a:pt x="58" y="25"/>
                  </a:lnTo>
                  <a:lnTo>
                    <a:pt x="83" y="14"/>
                  </a:lnTo>
                  <a:lnTo>
                    <a:pt x="112" y="5"/>
                  </a:lnTo>
                  <a:lnTo>
                    <a:pt x="130" y="3"/>
                  </a:lnTo>
                  <a:lnTo>
                    <a:pt x="148" y="0"/>
                  </a:lnTo>
                  <a:lnTo>
                    <a:pt x="165" y="0"/>
                  </a:lnTo>
                  <a:lnTo>
                    <a:pt x="183" y="0"/>
                  </a:lnTo>
                  <a:lnTo>
                    <a:pt x="201" y="3"/>
                  </a:lnTo>
                  <a:lnTo>
                    <a:pt x="219" y="7"/>
                  </a:lnTo>
                  <a:lnTo>
                    <a:pt x="239" y="11"/>
                  </a:lnTo>
                  <a:lnTo>
                    <a:pt x="257" y="16"/>
                  </a:lnTo>
                  <a:lnTo>
                    <a:pt x="275" y="23"/>
                  </a:lnTo>
                  <a:lnTo>
                    <a:pt x="293" y="32"/>
                  </a:lnTo>
                  <a:lnTo>
                    <a:pt x="310" y="40"/>
                  </a:lnTo>
                  <a:lnTo>
                    <a:pt x="328" y="49"/>
                  </a:lnTo>
                  <a:lnTo>
                    <a:pt x="344" y="63"/>
                  </a:lnTo>
                  <a:lnTo>
                    <a:pt x="360" y="76"/>
                  </a:lnTo>
                  <a:lnTo>
                    <a:pt x="373" y="94"/>
                  </a:lnTo>
                  <a:lnTo>
                    <a:pt x="384"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Freeform 787"/>
            <p:cNvSpPr/>
            <p:nvPr/>
          </p:nvSpPr>
          <p:spPr>
            <a:xfrm>
              <a:off x="5802480" y="4240080"/>
              <a:ext cx="269640" cy="432000"/>
            </a:xfrm>
            <a:custGeom>
              <a:avLst/>
              <a:gdLst>
                <a:gd name="textAreaLeft" fmla="*/ 0 w 269640"/>
                <a:gd name="textAreaRight" fmla="*/ 270000 w 269640"/>
                <a:gd name="textAreaTop" fmla="*/ 0 h 432000"/>
                <a:gd name="textAreaBottom" fmla="*/ 432360 h 432000"/>
              </a:gdLst>
              <a:ahLst/>
              <a:rect l="textAreaLeft" t="textAreaTop" r="textAreaRight" b="textAreaBottom"/>
              <a:pathLst>
                <a:path w="250" h="404">
                  <a:moveTo>
                    <a:pt x="221" y="27"/>
                  </a:moveTo>
                  <a:lnTo>
                    <a:pt x="228" y="20"/>
                  </a:lnTo>
                  <a:lnTo>
                    <a:pt x="232" y="11"/>
                  </a:lnTo>
                  <a:lnTo>
                    <a:pt x="241" y="7"/>
                  </a:lnTo>
                  <a:lnTo>
                    <a:pt x="250" y="13"/>
                  </a:lnTo>
                  <a:lnTo>
                    <a:pt x="248" y="36"/>
                  </a:lnTo>
                  <a:lnTo>
                    <a:pt x="239" y="54"/>
                  </a:lnTo>
                  <a:lnTo>
                    <a:pt x="225" y="67"/>
                  </a:lnTo>
                  <a:lnTo>
                    <a:pt x="216" y="83"/>
                  </a:lnTo>
                  <a:lnTo>
                    <a:pt x="183" y="85"/>
                  </a:lnTo>
                  <a:lnTo>
                    <a:pt x="154" y="91"/>
                  </a:lnTo>
                  <a:lnTo>
                    <a:pt x="127" y="105"/>
                  </a:lnTo>
                  <a:lnTo>
                    <a:pt x="105" y="120"/>
                  </a:lnTo>
                  <a:lnTo>
                    <a:pt x="83" y="143"/>
                  </a:lnTo>
                  <a:lnTo>
                    <a:pt x="65" y="172"/>
                  </a:lnTo>
                  <a:lnTo>
                    <a:pt x="49" y="205"/>
                  </a:lnTo>
                  <a:lnTo>
                    <a:pt x="36" y="246"/>
                  </a:lnTo>
                  <a:lnTo>
                    <a:pt x="34" y="308"/>
                  </a:lnTo>
                  <a:lnTo>
                    <a:pt x="45" y="357"/>
                  </a:lnTo>
                  <a:lnTo>
                    <a:pt x="56" y="391"/>
                  </a:lnTo>
                  <a:lnTo>
                    <a:pt x="63" y="404"/>
                  </a:lnTo>
                  <a:lnTo>
                    <a:pt x="47" y="402"/>
                  </a:lnTo>
                  <a:lnTo>
                    <a:pt x="34" y="391"/>
                  </a:lnTo>
                  <a:lnTo>
                    <a:pt x="25" y="375"/>
                  </a:lnTo>
                  <a:lnTo>
                    <a:pt x="16" y="357"/>
                  </a:lnTo>
                  <a:lnTo>
                    <a:pt x="7" y="328"/>
                  </a:lnTo>
                  <a:lnTo>
                    <a:pt x="0" y="297"/>
                  </a:lnTo>
                  <a:lnTo>
                    <a:pt x="0" y="266"/>
                  </a:lnTo>
                  <a:lnTo>
                    <a:pt x="5" y="234"/>
                  </a:lnTo>
                  <a:lnTo>
                    <a:pt x="11" y="203"/>
                  </a:lnTo>
                  <a:lnTo>
                    <a:pt x="22" y="174"/>
                  </a:lnTo>
                  <a:lnTo>
                    <a:pt x="38" y="147"/>
                  </a:lnTo>
                  <a:lnTo>
                    <a:pt x="54" y="123"/>
                  </a:lnTo>
                  <a:lnTo>
                    <a:pt x="69" y="109"/>
                  </a:lnTo>
                  <a:lnTo>
                    <a:pt x="85" y="96"/>
                  </a:lnTo>
                  <a:lnTo>
                    <a:pt x="100" y="85"/>
                  </a:lnTo>
                  <a:lnTo>
                    <a:pt x="118" y="74"/>
                  </a:lnTo>
                  <a:lnTo>
                    <a:pt x="136" y="65"/>
                  </a:lnTo>
                  <a:lnTo>
                    <a:pt x="154" y="60"/>
                  </a:lnTo>
                  <a:lnTo>
                    <a:pt x="174" y="58"/>
                  </a:lnTo>
                  <a:lnTo>
                    <a:pt x="194" y="58"/>
                  </a:lnTo>
                  <a:lnTo>
                    <a:pt x="201" y="42"/>
                  </a:lnTo>
                  <a:lnTo>
                    <a:pt x="190" y="29"/>
                  </a:lnTo>
                  <a:lnTo>
                    <a:pt x="179" y="16"/>
                  </a:lnTo>
                  <a:lnTo>
                    <a:pt x="179" y="0"/>
                  </a:lnTo>
                  <a:lnTo>
                    <a:pt x="22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788"/>
            <p:cNvSpPr/>
            <p:nvPr/>
          </p:nvSpPr>
          <p:spPr>
            <a:xfrm>
              <a:off x="6200640" y="4352760"/>
              <a:ext cx="233640" cy="142920"/>
            </a:xfrm>
            <a:custGeom>
              <a:avLst/>
              <a:gdLst>
                <a:gd name="textAreaLeft" fmla="*/ 0 w 233640"/>
                <a:gd name="textAreaRight" fmla="*/ 234000 w 233640"/>
                <a:gd name="textAreaTop" fmla="*/ 0 h 142920"/>
                <a:gd name="textAreaBottom" fmla="*/ 143280 h 142920"/>
              </a:gdLst>
              <a:ahLst/>
              <a:rect l="textAreaLeft" t="textAreaTop" r="textAreaRight" b="textAreaBottom"/>
              <a:pathLst>
                <a:path w="216" h="134">
                  <a:moveTo>
                    <a:pt x="109" y="85"/>
                  </a:moveTo>
                  <a:lnTo>
                    <a:pt x="129" y="74"/>
                  </a:lnTo>
                  <a:lnTo>
                    <a:pt x="145" y="56"/>
                  </a:lnTo>
                  <a:lnTo>
                    <a:pt x="156" y="36"/>
                  </a:lnTo>
                  <a:lnTo>
                    <a:pt x="172" y="20"/>
                  </a:lnTo>
                  <a:lnTo>
                    <a:pt x="174" y="89"/>
                  </a:lnTo>
                  <a:lnTo>
                    <a:pt x="181" y="71"/>
                  </a:lnTo>
                  <a:lnTo>
                    <a:pt x="190" y="47"/>
                  </a:lnTo>
                  <a:lnTo>
                    <a:pt x="203" y="27"/>
                  </a:lnTo>
                  <a:lnTo>
                    <a:pt x="216" y="27"/>
                  </a:lnTo>
                  <a:lnTo>
                    <a:pt x="216" y="47"/>
                  </a:lnTo>
                  <a:lnTo>
                    <a:pt x="205" y="80"/>
                  </a:lnTo>
                  <a:lnTo>
                    <a:pt x="185" y="109"/>
                  </a:lnTo>
                  <a:lnTo>
                    <a:pt x="158" y="118"/>
                  </a:lnTo>
                  <a:lnTo>
                    <a:pt x="154" y="111"/>
                  </a:lnTo>
                  <a:lnTo>
                    <a:pt x="154" y="103"/>
                  </a:lnTo>
                  <a:lnTo>
                    <a:pt x="154" y="94"/>
                  </a:lnTo>
                  <a:lnTo>
                    <a:pt x="147" y="87"/>
                  </a:lnTo>
                  <a:lnTo>
                    <a:pt x="136" y="98"/>
                  </a:lnTo>
                  <a:lnTo>
                    <a:pt x="123" y="109"/>
                  </a:lnTo>
                  <a:lnTo>
                    <a:pt x="109" y="114"/>
                  </a:lnTo>
                  <a:lnTo>
                    <a:pt x="94" y="109"/>
                  </a:lnTo>
                  <a:lnTo>
                    <a:pt x="89" y="98"/>
                  </a:lnTo>
                  <a:lnTo>
                    <a:pt x="89" y="87"/>
                  </a:lnTo>
                  <a:lnTo>
                    <a:pt x="87" y="76"/>
                  </a:lnTo>
                  <a:lnTo>
                    <a:pt x="80" y="67"/>
                  </a:lnTo>
                  <a:lnTo>
                    <a:pt x="74" y="76"/>
                  </a:lnTo>
                  <a:lnTo>
                    <a:pt x="65" y="87"/>
                  </a:lnTo>
                  <a:lnTo>
                    <a:pt x="56" y="100"/>
                  </a:lnTo>
                  <a:lnTo>
                    <a:pt x="47" y="109"/>
                  </a:lnTo>
                  <a:lnTo>
                    <a:pt x="38" y="120"/>
                  </a:lnTo>
                  <a:lnTo>
                    <a:pt x="27" y="127"/>
                  </a:lnTo>
                  <a:lnTo>
                    <a:pt x="13" y="132"/>
                  </a:lnTo>
                  <a:lnTo>
                    <a:pt x="0" y="134"/>
                  </a:lnTo>
                  <a:lnTo>
                    <a:pt x="9" y="107"/>
                  </a:lnTo>
                  <a:lnTo>
                    <a:pt x="16" y="82"/>
                  </a:lnTo>
                  <a:lnTo>
                    <a:pt x="18" y="62"/>
                  </a:lnTo>
                  <a:lnTo>
                    <a:pt x="18" y="38"/>
                  </a:lnTo>
                  <a:lnTo>
                    <a:pt x="22" y="45"/>
                  </a:lnTo>
                  <a:lnTo>
                    <a:pt x="25" y="62"/>
                  </a:lnTo>
                  <a:lnTo>
                    <a:pt x="29" y="82"/>
                  </a:lnTo>
                  <a:lnTo>
                    <a:pt x="31" y="94"/>
                  </a:lnTo>
                  <a:lnTo>
                    <a:pt x="47" y="74"/>
                  </a:lnTo>
                  <a:lnTo>
                    <a:pt x="58" y="47"/>
                  </a:lnTo>
                  <a:lnTo>
                    <a:pt x="69" y="20"/>
                  </a:lnTo>
                  <a:lnTo>
                    <a:pt x="80" y="0"/>
                  </a:lnTo>
                  <a:lnTo>
                    <a:pt x="92" y="15"/>
                  </a:lnTo>
                  <a:lnTo>
                    <a:pt x="100" y="38"/>
                  </a:lnTo>
                  <a:lnTo>
                    <a:pt x="105" y="62"/>
                  </a:lnTo>
                  <a:lnTo>
                    <a:pt x="109"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789"/>
            <p:cNvSpPr/>
            <p:nvPr/>
          </p:nvSpPr>
          <p:spPr>
            <a:xfrm>
              <a:off x="6004080" y="4419720"/>
              <a:ext cx="164880" cy="117360"/>
            </a:xfrm>
            <a:custGeom>
              <a:avLst/>
              <a:gdLst>
                <a:gd name="textAreaLeft" fmla="*/ 0 w 164880"/>
                <a:gd name="textAreaRight" fmla="*/ 165240 w 164880"/>
                <a:gd name="textAreaTop" fmla="*/ 0 h 117360"/>
                <a:gd name="textAreaBottom" fmla="*/ 117720 h 117360"/>
              </a:gdLst>
              <a:ahLst/>
              <a:rect l="textAreaLeft" t="textAreaTop" r="textAreaRight" b="textAreaBottom"/>
              <a:pathLst>
                <a:path w="152" h="110">
                  <a:moveTo>
                    <a:pt x="152" y="63"/>
                  </a:moveTo>
                  <a:lnTo>
                    <a:pt x="145" y="70"/>
                  </a:lnTo>
                  <a:lnTo>
                    <a:pt x="137" y="74"/>
                  </a:lnTo>
                  <a:lnTo>
                    <a:pt x="125" y="76"/>
                  </a:lnTo>
                  <a:lnTo>
                    <a:pt x="114" y="76"/>
                  </a:lnTo>
                  <a:lnTo>
                    <a:pt x="101" y="74"/>
                  </a:lnTo>
                  <a:lnTo>
                    <a:pt x="92" y="72"/>
                  </a:lnTo>
                  <a:lnTo>
                    <a:pt x="85" y="70"/>
                  </a:lnTo>
                  <a:lnTo>
                    <a:pt x="83" y="70"/>
                  </a:lnTo>
                  <a:lnTo>
                    <a:pt x="72" y="76"/>
                  </a:lnTo>
                  <a:lnTo>
                    <a:pt x="63" y="85"/>
                  </a:lnTo>
                  <a:lnTo>
                    <a:pt x="54" y="94"/>
                  </a:lnTo>
                  <a:lnTo>
                    <a:pt x="45" y="101"/>
                  </a:lnTo>
                  <a:lnTo>
                    <a:pt x="34" y="108"/>
                  </a:lnTo>
                  <a:lnTo>
                    <a:pt x="25" y="110"/>
                  </a:lnTo>
                  <a:lnTo>
                    <a:pt x="14" y="108"/>
                  </a:lnTo>
                  <a:lnTo>
                    <a:pt x="0" y="101"/>
                  </a:lnTo>
                  <a:lnTo>
                    <a:pt x="12" y="81"/>
                  </a:lnTo>
                  <a:lnTo>
                    <a:pt x="25" y="58"/>
                  </a:lnTo>
                  <a:lnTo>
                    <a:pt x="36" y="41"/>
                  </a:lnTo>
                  <a:lnTo>
                    <a:pt x="41" y="32"/>
                  </a:lnTo>
                  <a:lnTo>
                    <a:pt x="38" y="43"/>
                  </a:lnTo>
                  <a:lnTo>
                    <a:pt x="36" y="52"/>
                  </a:lnTo>
                  <a:lnTo>
                    <a:pt x="36" y="63"/>
                  </a:lnTo>
                  <a:lnTo>
                    <a:pt x="38" y="72"/>
                  </a:lnTo>
                  <a:lnTo>
                    <a:pt x="61" y="56"/>
                  </a:lnTo>
                  <a:lnTo>
                    <a:pt x="72" y="29"/>
                  </a:lnTo>
                  <a:lnTo>
                    <a:pt x="83" y="5"/>
                  </a:lnTo>
                  <a:lnTo>
                    <a:pt x="103" y="0"/>
                  </a:lnTo>
                  <a:lnTo>
                    <a:pt x="103" y="36"/>
                  </a:lnTo>
                  <a:lnTo>
                    <a:pt x="121" y="54"/>
                  </a:lnTo>
                  <a:lnTo>
                    <a:pt x="143" y="61"/>
                  </a:lnTo>
                  <a:lnTo>
                    <a:pt x="152"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790"/>
            <p:cNvSpPr/>
            <p:nvPr/>
          </p:nvSpPr>
          <p:spPr>
            <a:xfrm>
              <a:off x="7029360" y="4965840"/>
              <a:ext cx="892440" cy="749160"/>
            </a:xfrm>
            <a:custGeom>
              <a:avLst/>
              <a:gdLst>
                <a:gd name="textAreaLeft" fmla="*/ 0 w 892440"/>
                <a:gd name="textAreaRight" fmla="*/ 892800 w 892440"/>
                <a:gd name="textAreaTop" fmla="*/ 0 h 749160"/>
                <a:gd name="textAreaBottom" fmla="*/ 749520 h 749160"/>
              </a:gdLst>
              <a:ahLst/>
              <a:rect l="textAreaLeft" t="textAreaTop" r="textAreaRight" b="textAreaBottom"/>
              <a:pathLst>
                <a:path w="823" h="701">
                  <a:moveTo>
                    <a:pt x="2" y="696"/>
                  </a:moveTo>
                  <a:lnTo>
                    <a:pt x="0" y="614"/>
                  </a:lnTo>
                  <a:lnTo>
                    <a:pt x="5" y="535"/>
                  </a:lnTo>
                  <a:lnTo>
                    <a:pt x="13" y="459"/>
                  </a:lnTo>
                  <a:lnTo>
                    <a:pt x="25" y="384"/>
                  </a:lnTo>
                  <a:lnTo>
                    <a:pt x="34" y="337"/>
                  </a:lnTo>
                  <a:lnTo>
                    <a:pt x="45" y="294"/>
                  </a:lnTo>
                  <a:lnTo>
                    <a:pt x="60" y="254"/>
                  </a:lnTo>
                  <a:lnTo>
                    <a:pt x="80" y="218"/>
                  </a:lnTo>
                  <a:lnTo>
                    <a:pt x="105" y="183"/>
                  </a:lnTo>
                  <a:lnTo>
                    <a:pt x="134" y="149"/>
                  </a:lnTo>
                  <a:lnTo>
                    <a:pt x="170" y="113"/>
                  </a:lnTo>
                  <a:lnTo>
                    <a:pt x="210" y="80"/>
                  </a:lnTo>
                  <a:lnTo>
                    <a:pt x="232" y="69"/>
                  </a:lnTo>
                  <a:lnTo>
                    <a:pt x="254" y="58"/>
                  </a:lnTo>
                  <a:lnTo>
                    <a:pt x="281" y="46"/>
                  </a:lnTo>
                  <a:lnTo>
                    <a:pt x="308" y="35"/>
                  </a:lnTo>
                  <a:lnTo>
                    <a:pt x="335" y="24"/>
                  </a:lnTo>
                  <a:lnTo>
                    <a:pt x="359" y="15"/>
                  </a:lnTo>
                  <a:lnTo>
                    <a:pt x="381" y="6"/>
                  </a:lnTo>
                  <a:lnTo>
                    <a:pt x="399" y="0"/>
                  </a:lnTo>
                  <a:lnTo>
                    <a:pt x="404" y="15"/>
                  </a:lnTo>
                  <a:lnTo>
                    <a:pt x="406" y="33"/>
                  </a:lnTo>
                  <a:lnTo>
                    <a:pt x="408" y="51"/>
                  </a:lnTo>
                  <a:lnTo>
                    <a:pt x="413" y="67"/>
                  </a:lnTo>
                  <a:lnTo>
                    <a:pt x="422" y="87"/>
                  </a:lnTo>
                  <a:lnTo>
                    <a:pt x="433" y="100"/>
                  </a:lnTo>
                  <a:lnTo>
                    <a:pt x="442" y="111"/>
                  </a:lnTo>
                  <a:lnTo>
                    <a:pt x="453" y="120"/>
                  </a:lnTo>
                  <a:lnTo>
                    <a:pt x="462" y="125"/>
                  </a:lnTo>
                  <a:lnTo>
                    <a:pt x="475" y="131"/>
                  </a:lnTo>
                  <a:lnTo>
                    <a:pt x="489" y="136"/>
                  </a:lnTo>
                  <a:lnTo>
                    <a:pt x="504" y="142"/>
                  </a:lnTo>
                  <a:lnTo>
                    <a:pt x="533" y="154"/>
                  </a:lnTo>
                  <a:lnTo>
                    <a:pt x="564" y="160"/>
                  </a:lnTo>
                  <a:lnTo>
                    <a:pt x="593" y="163"/>
                  </a:lnTo>
                  <a:lnTo>
                    <a:pt x="625" y="160"/>
                  </a:lnTo>
                  <a:lnTo>
                    <a:pt x="656" y="154"/>
                  </a:lnTo>
                  <a:lnTo>
                    <a:pt x="689" y="142"/>
                  </a:lnTo>
                  <a:lnTo>
                    <a:pt x="723" y="127"/>
                  </a:lnTo>
                  <a:lnTo>
                    <a:pt x="756" y="107"/>
                  </a:lnTo>
                  <a:lnTo>
                    <a:pt x="770" y="91"/>
                  </a:lnTo>
                  <a:lnTo>
                    <a:pt x="781" y="76"/>
                  </a:lnTo>
                  <a:lnTo>
                    <a:pt x="794" y="60"/>
                  </a:lnTo>
                  <a:lnTo>
                    <a:pt x="803" y="46"/>
                  </a:lnTo>
                  <a:lnTo>
                    <a:pt x="812" y="35"/>
                  </a:lnTo>
                  <a:lnTo>
                    <a:pt x="819" y="26"/>
                  </a:lnTo>
                  <a:lnTo>
                    <a:pt x="821" y="20"/>
                  </a:lnTo>
                  <a:lnTo>
                    <a:pt x="823" y="17"/>
                  </a:lnTo>
                  <a:lnTo>
                    <a:pt x="819" y="38"/>
                  </a:lnTo>
                  <a:lnTo>
                    <a:pt x="814" y="58"/>
                  </a:lnTo>
                  <a:lnTo>
                    <a:pt x="810" y="78"/>
                  </a:lnTo>
                  <a:lnTo>
                    <a:pt x="801" y="98"/>
                  </a:lnTo>
                  <a:lnTo>
                    <a:pt x="787" y="118"/>
                  </a:lnTo>
                  <a:lnTo>
                    <a:pt x="772" y="136"/>
                  </a:lnTo>
                  <a:lnTo>
                    <a:pt x="749" y="154"/>
                  </a:lnTo>
                  <a:lnTo>
                    <a:pt x="723" y="171"/>
                  </a:lnTo>
                  <a:lnTo>
                    <a:pt x="696" y="185"/>
                  </a:lnTo>
                  <a:lnTo>
                    <a:pt x="669" y="196"/>
                  </a:lnTo>
                  <a:lnTo>
                    <a:pt x="642" y="203"/>
                  </a:lnTo>
                  <a:lnTo>
                    <a:pt x="616" y="207"/>
                  </a:lnTo>
                  <a:lnTo>
                    <a:pt x="589" y="207"/>
                  </a:lnTo>
                  <a:lnTo>
                    <a:pt x="562" y="205"/>
                  </a:lnTo>
                  <a:lnTo>
                    <a:pt x="535" y="201"/>
                  </a:lnTo>
                  <a:lnTo>
                    <a:pt x="506" y="192"/>
                  </a:lnTo>
                  <a:lnTo>
                    <a:pt x="484" y="183"/>
                  </a:lnTo>
                  <a:lnTo>
                    <a:pt x="462" y="169"/>
                  </a:lnTo>
                  <a:lnTo>
                    <a:pt x="442" y="156"/>
                  </a:lnTo>
                  <a:lnTo>
                    <a:pt x="424" y="138"/>
                  </a:lnTo>
                  <a:lnTo>
                    <a:pt x="408" y="120"/>
                  </a:lnTo>
                  <a:lnTo>
                    <a:pt x="397" y="98"/>
                  </a:lnTo>
                  <a:lnTo>
                    <a:pt x="388" y="73"/>
                  </a:lnTo>
                  <a:lnTo>
                    <a:pt x="386" y="46"/>
                  </a:lnTo>
                  <a:lnTo>
                    <a:pt x="370" y="53"/>
                  </a:lnTo>
                  <a:lnTo>
                    <a:pt x="355" y="58"/>
                  </a:lnTo>
                  <a:lnTo>
                    <a:pt x="341" y="64"/>
                  </a:lnTo>
                  <a:lnTo>
                    <a:pt x="326" y="69"/>
                  </a:lnTo>
                  <a:lnTo>
                    <a:pt x="312" y="73"/>
                  </a:lnTo>
                  <a:lnTo>
                    <a:pt x="299" y="80"/>
                  </a:lnTo>
                  <a:lnTo>
                    <a:pt x="283" y="84"/>
                  </a:lnTo>
                  <a:lnTo>
                    <a:pt x="270" y="91"/>
                  </a:lnTo>
                  <a:lnTo>
                    <a:pt x="270" y="107"/>
                  </a:lnTo>
                  <a:lnTo>
                    <a:pt x="274" y="136"/>
                  </a:lnTo>
                  <a:lnTo>
                    <a:pt x="283" y="180"/>
                  </a:lnTo>
                  <a:lnTo>
                    <a:pt x="295" y="232"/>
                  </a:lnTo>
                  <a:lnTo>
                    <a:pt x="301" y="288"/>
                  </a:lnTo>
                  <a:lnTo>
                    <a:pt x="301" y="341"/>
                  </a:lnTo>
                  <a:lnTo>
                    <a:pt x="295" y="393"/>
                  </a:lnTo>
                  <a:lnTo>
                    <a:pt x="277" y="435"/>
                  </a:lnTo>
                  <a:lnTo>
                    <a:pt x="277" y="395"/>
                  </a:lnTo>
                  <a:lnTo>
                    <a:pt x="270" y="303"/>
                  </a:lnTo>
                  <a:lnTo>
                    <a:pt x="254" y="201"/>
                  </a:lnTo>
                  <a:lnTo>
                    <a:pt x="225" y="120"/>
                  </a:lnTo>
                  <a:lnTo>
                    <a:pt x="183" y="156"/>
                  </a:lnTo>
                  <a:lnTo>
                    <a:pt x="150" y="192"/>
                  </a:lnTo>
                  <a:lnTo>
                    <a:pt x="121" y="227"/>
                  </a:lnTo>
                  <a:lnTo>
                    <a:pt x="98" y="267"/>
                  </a:lnTo>
                  <a:lnTo>
                    <a:pt x="80" y="308"/>
                  </a:lnTo>
                  <a:lnTo>
                    <a:pt x="65" y="352"/>
                  </a:lnTo>
                  <a:lnTo>
                    <a:pt x="54" y="401"/>
                  </a:lnTo>
                  <a:lnTo>
                    <a:pt x="45" y="457"/>
                  </a:lnTo>
                  <a:lnTo>
                    <a:pt x="31" y="701"/>
                  </a:lnTo>
                  <a:lnTo>
                    <a:pt x="2" y="6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Freeform 791"/>
            <p:cNvSpPr/>
            <p:nvPr/>
          </p:nvSpPr>
          <p:spPr>
            <a:xfrm>
              <a:off x="5391000" y="4419720"/>
              <a:ext cx="1189080" cy="2050920"/>
            </a:xfrm>
            <a:custGeom>
              <a:avLst/>
              <a:gdLst>
                <a:gd name="textAreaLeft" fmla="*/ 0 w 1189080"/>
                <a:gd name="textAreaRight" fmla="*/ 1189440 w 1189080"/>
                <a:gd name="textAreaTop" fmla="*/ 0 h 2050920"/>
                <a:gd name="textAreaBottom" fmla="*/ 2051280 h 2050920"/>
              </a:gdLst>
              <a:ahLst/>
              <a:rect l="textAreaLeft" t="textAreaTop" r="textAreaRight" b="textAreaBottom"/>
              <a:pathLst>
                <a:path w="1097" h="1920">
                  <a:moveTo>
                    <a:pt x="999" y="0"/>
                  </a:moveTo>
                  <a:lnTo>
                    <a:pt x="1055" y="103"/>
                  </a:lnTo>
                  <a:lnTo>
                    <a:pt x="1068" y="148"/>
                  </a:lnTo>
                  <a:lnTo>
                    <a:pt x="1071" y="188"/>
                  </a:lnTo>
                  <a:lnTo>
                    <a:pt x="1066" y="230"/>
                  </a:lnTo>
                  <a:lnTo>
                    <a:pt x="1057" y="270"/>
                  </a:lnTo>
                  <a:lnTo>
                    <a:pt x="1053" y="291"/>
                  </a:lnTo>
                  <a:lnTo>
                    <a:pt x="1046" y="308"/>
                  </a:lnTo>
                  <a:lnTo>
                    <a:pt x="1039" y="326"/>
                  </a:lnTo>
                  <a:lnTo>
                    <a:pt x="1033" y="344"/>
                  </a:lnTo>
                  <a:lnTo>
                    <a:pt x="1019" y="360"/>
                  </a:lnTo>
                  <a:lnTo>
                    <a:pt x="1004" y="378"/>
                  </a:lnTo>
                  <a:lnTo>
                    <a:pt x="984" y="396"/>
                  </a:lnTo>
                  <a:lnTo>
                    <a:pt x="959" y="413"/>
                  </a:lnTo>
                  <a:lnTo>
                    <a:pt x="921" y="431"/>
                  </a:lnTo>
                  <a:lnTo>
                    <a:pt x="876" y="445"/>
                  </a:lnTo>
                  <a:lnTo>
                    <a:pt x="832" y="454"/>
                  </a:lnTo>
                  <a:lnTo>
                    <a:pt x="783" y="456"/>
                  </a:lnTo>
                  <a:lnTo>
                    <a:pt x="736" y="454"/>
                  </a:lnTo>
                  <a:lnTo>
                    <a:pt x="691" y="445"/>
                  </a:lnTo>
                  <a:lnTo>
                    <a:pt x="649" y="427"/>
                  </a:lnTo>
                  <a:lnTo>
                    <a:pt x="611" y="402"/>
                  </a:lnTo>
                  <a:lnTo>
                    <a:pt x="595" y="384"/>
                  </a:lnTo>
                  <a:lnTo>
                    <a:pt x="580" y="369"/>
                  </a:lnTo>
                  <a:lnTo>
                    <a:pt x="566" y="355"/>
                  </a:lnTo>
                  <a:lnTo>
                    <a:pt x="553" y="346"/>
                  </a:lnTo>
                  <a:lnTo>
                    <a:pt x="540" y="349"/>
                  </a:lnTo>
                  <a:lnTo>
                    <a:pt x="526" y="351"/>
                  </a:lnTo>
                  <a:lnTo>
                    <a:pt x="513" y="351"/>
                  </a:lnTo>
                  <a:lnTo>
                    <a:pt x="500" y="346"/>
                  </a:lnTo>
                  <a:lnTo>
                    <a:pt x="486" y="342"/>
                  </a:lnTo>
                  <a:lnTo>
                    <a:pt x="475" y="335"/>
                  </a:lnTo>
                  <a:lnTo>
                    <a:pt x="466" y="326"/>
                  </a:lnTo>
                  <a:lnTo>
                    <a:pt x="457" y="315"/>
                  </a:lnTo>
                  <a:lnTo>
                    <a:pt x="453" y="295"/>
                  </a:lnTo>
                  <a:lnTo>
                    <a:pt x="457" y="275"/>
                  </a:lnTo>
                  <a:lnTo>
                    <a:pt x="468" y="259"/>
                  </a:lnTo>
                  <a:lnTo>
                    <a:pt x="488" y="250"/>
                  </a:lnTo>
                  <a:lnTo>
                    <a:pt x="500" y="248"/>
                  </a:lnTo>
                  <a:lnTo>
                    <a:pt x="511" y="250"/>
                  </a:lnTo>
                  <a:lnTo>
                    <a:pt x="522" y="255"/>
                  </a:lnTo>
                  <a:lnTo>
                    <a:pt x="533" y="262"/>
                  </a:lnTo>
                  <a:lnTo>
                    <a:pt x="533" y="248"/>
                  </a:lnTo>
                  <a:lnTo>
                    <a:pt x="531" y="233"/>
                  </a:lnTo>
                  <a:lnTo>
                    <a:pt x="529" y="215"/>
                  </a:lnTo>
                  <a:lnTo>
                    <a:pt x="524" y="199"/>
                  </a:lnTo>
                  <a:lnTo>
                    <a:pt x="520" y="148"/>
                  </a:lnTo>
                  <a:lnTo>
                    <a:pt x="526" y="114"/>
                  </a:lnTo>
                  <a:lnTo>
                    <a:pt x="540" y="87"/>
                  </a:lnTo>
                  <a:lnTo>
                    <a:pt x="558" y="54"/>
                  </a:lnTo>
                  <a:lnTo>
                    <a:pt x="546" y="58"/>
                  </a:lnTo>
                  <a:lnTo>
                    <a:pt x="537" y="63"/>
                  </a:lnTo>
                  <a:lnTo>
                    <a:pt x="529" y="72"/>
                  </a:lnTo>
                  <a:lnTo>
                    <a:pt x="520" y="81"/>
                  </a:lnTo>
                  <a:lnTo>
                    <a:pt x="504" y="112"/>
                  </a:lnTo>
                  <a:lnTo>
                    <a:pt x="495" y="148"/>
                  </a:lnTo>
                  <a:lnTo>
                    <a:pt x="495" y="186"/>
                  </a:lnTo>
                  <a:lnTo>
                    <a:pt x="500" y="221"/>
                  </a:lnTo>
                  <a:lnTo>
                    <a:pt x="453" y="241"/>
                  </a:lnTo>
                  <a:lnTo>
                    <a:pt x="439" y="257"/>
                  </a:lnTo>
                  <a:lnTo>
                    <a:pt x="428" y="273"/>
                  </a:lnTo>
                  <a:lnTo>
                    <a:pt x="426" y="293"/>
                  </a:lnTo>
                  <a:lnTo>
                    <a:pt x="430" y="313"/>
                  </a:lnTo>
                  <a:lnTo>
                    <a:pt x="444" y="335"/>
                  </a:lnTo>
                  <a:lnTo>
                    <a:pt x="455" y="351"/>
                  </a:lnTo>
                  <a:lnTo>
                    <a:pt x="468" y="364"/>
                  </a:lnTo>
                  <a:lnTo>
                    <a:pt x="482" y="371"/>
                  </a:lnTo>
                  <a:lnTo>
                    <a:pt x="495" y="378"/>
                  </a:lnTo>
                  <a:lnTo>
                    <a:pt x="508" y="382"/>
                  </a:lnTo>
                  <a:lnTo>
                    <a:pt x="524" y="384"/>
                  </a:lnTo>
                  <a:lnTo>
                    <a:pt x="540" y="391"/>
                  </a:lnTo>
                  <a:lnTo>
                    <a:pt x="551" y="396"/>
                  </a:lnTo>
                  <a:lnTo>
                    <a:pt x="562" y="402"/>
                  </a:lnTo>
                  <a:lnTo>
                    <a:pt x="571" y="409"/>
                  </a:lnTo>
                  <a:lnTo>
                    <a:pt x="580" y="420"/>
                  </a:lnTo>
                  <a:lnTo>
                    <a:pt x="582" y="422"/>
                  </a:lnTo>
                  <a:lnTo>
                    <a:pt x="584" y="422"/>
                  </a:lnTo>
                  <a:lnTo>
                    <a:pt x="587" y="425"/>
                  </a:lnTo>
                  <a:lnTo>
                    <a:pt x="589" y="427"/>
                  </a:lnTo>
                  <a:lnTo>
                    <a:pt x="575" y="438"/>
                  </a:lnTo>
                  <a:lnTo>
                    <a:pt x="562" y="454"/>
                  </a:lnTo>
                  <a:lnTo>
                    <a:pt x="549" y="474"/>
                  </a:lnTo>
                  <a:lnTo>
                    <a:pt x="533" y="494"/>
                  </a:lnTo>
                  <a:lnTo>
                    <a:pt x="515" y="512"/>
                  </a:lnTo>
                  <a:lnTo>
                    <a:pt x="495" y="527"/>
                  </a:lnTo>
                  <a:lnTo>
                    <a:pt x="473" y="538"/>
                  </a:lnTo>
                  <a:lnTo>
                    <a:pt x="450" y="547"/>
                  </a:lnTo>
                  <a:lnTo>
                    <a:pt x="426" y="556"/>
                  </a:lnTo>
                  <a:lnTo>
                    <a:pt x="404" y="565"/>
                  </a:lnTo>
                  <a:lnTo>
                    <a:pt x="379" y="576"/>
                  </a:lnTo>
                  <a:lnTo>
                    <a:pt x="359" y="592"/>
                  </a:lnTo>
                  <a:lnTo>
                    <a:pt x="297" y="634"/>
                  </a:lnTo>
                  <a:lnTo>
                    <a:pt x="243" y="683"/>
                  </a:lnTo>
                  <a:lnTo>
                    <a:pt x="198" y="739"/>
                  </a:lnTo>
                  <a:lnTo>
                    <a:pt x="161" y="802"/>
                  </a:lnTo>
                  <a:lnTo>
                    <a:pt x="132" y="869"/>
                  </a:lnTo>
                  <a:lnTo>
                    <a:pt x="109" y="938"/>
                  </a:lnTo>
                  <a:lnTo>
                    <a:pt x="96" y="1012"/>
                  </a:lnTo>
                  <a:lnTo>
                    <a:pt x="91" y="1090"/>
                  </a:lnTo>
                  <a:lnTo>
                    <a:pt x="96" y="1099"/>
                  </a:lnTo>
                  <a:lnTo>
                    <a:pt x="103" y="1103"/>
                  </a:lnTo>
                  <a:lnTo>
                    <a:pt x="109" y="1108"/>
                  </a:lnTo>
                  <a:lnTo>
                    <a:pt x="118" y="1112"/>
                  </a:lnTo>
                  <a:lnTo>
                    <a:pt x="118" y="1143"/>
                  </a:lnTo>
                  <a:lnTo>
                    <a:pt x="118" y="1172"/>
                  </a:lnTo>
                  <a:lnTo>
                    <a:pt x="120" y="1201"/>
                  </a:lnTo>
                  <a:lnTo>
                    <a:pt x="127" y="1230"/>
                  </a:lnTo>
                  <a:lnTo>
                    <a:pt x="136" y="1257"/>
                  </a:lnTo>
                  <a:lnTo>
                    <a:pt x="149" y="1284"/>
                  </a:lnTo>
                  <a:lnTo>
                    <a:pt x="165" y="1306"/>
                  </a:lnTo>
                  <a:lnTo>
                    <a:pt x="187" y="1326"/>
                  </a:lnTo>
                  <a:lnTo>
                    <a:pt x="172" y="1344"/>
                  </a:lnTo>
                  <a:lnTo>
                    <a:pt x="161" y="1364"/>
                  </a:lnTo>
                  <a:lnTo>
                    <a:pt x="149" y="1387"/>
                  </a:lnTo>
                  <a:lnTo>
                    <a:pt x="138" y="1409"/>
                  </a:lnTo>
                  <a:lnTo>
                    <a:pt x="129" y="1411"/>
                  </a:lnTo>
                  <a:lnTo>
                    <a:pt x="120" y="1411"/>
                  </a:lnTo>
                  <a:lnTo>
                    <a:pt x="109" y="1414"/>
                  </a:lnTo>
                  <a:lnTo>
                    <a:pt x="100" y="1416"/>
                  </a:lnTo>
                  <a:lnTo>
                    <a:pt x="89" y="1418"/>
                  </a:lnTo>
                  <a:lnTo>
                    <a:pt x="80" y="1420"/>
                  </a:lnTo>
                  <a:lnTo>
                    <a:pt x="67" y="1425"/>
                  </a:lnTo>
                  <a:lnTo>
                    <a:pt x="56" y="1431"/>
                  </a:lnTo>
                  <a:lnTo>
                    <a:pt x="60" y="1420"/>
                  </a:lnTo>
                  <a:lnTo>
                    <a:pt x="62" y="1407"/>
                  </a:lnTo>
                  <a:lnTo>
                    <a:pt x="69" y="1393"/>
                  </a:lnTo>
                  <a:lnTo>
                    <a:pt x="76" y="1378"/>
                  </a:lnTo>
                  <a:lnTo>
                    <a:pt x="85" y="1364"/>
                  </a:lnTo>
                  <a:lnTo>
                    <a:pt x="96" y="1349"/>
                  </a:lnTo>
                  <a:lnTo>
                    <a:pt x="111" y="1335"/>
                  </a:lnTo>
                  <a:lnTo>
                    <a:pt x="129" y="1320"/>
                  </a:lnTo>
                  <a:lnTo>
                    <a:pt x="107" y="1320"/>
                  </a:lnTo>
                  <a:lnTo>
                    <a:pt x="87" y="1329"/>
                  </a:lnTo>
                  <a:lnTo>
                    <a:pt x="67" y="1342"/>
                  </a:lnTo>
                  <a:lnTo>
                    <a:pt x="51" y="1358"/>
                  </a:lnTo>
                  <a:lnTo>
                    <a:pt x="36" y="1378"/>
                  </a:lnTo>
                  <a:lnTo>
                    <a:pt x="24" y="1396"/>
                  </a:lnTo>
                  <a:lnTo>
                    <a:pt x="16" y="1414"/>
                  </a:lnTo>
                  <a:lnTo>
                    <a:pt x="11" y="1429"/>
                  </a:lnTo>
                  <a:lnTo>
                    <a:pt x="2" y="1476"/>
                  </a:lnTo>
                  <a:lnTo>
                    <a:pt x="0" y="1518"/>
                  </a:lnTo>
                  <a:lnTo>
                    <a:pt x="7" y="1554"/>
                  </a:lnTo>
                  <a:lnTo>
                    <a:pt x="20" y="1585"/>
                  </a:lnTo>
                  <a:lnTo>
                    <a:pt x="40" y="1617"/>
                  </a:lnTo>
                  <a:lnTo>
                    <a:pt x="67" y="1648"/>
                  </a:lnTo>
                  <a:lnTo>
                    <a:pt x="98" y="1681"/>
                  </a:lnTo>
                  <a:lnTo>
                    <a:pt x="134" y="1717"/>
                  </a:lnTo>
                  <a:lnTo>
                    <a:pt x="125" y="1735"/>
                  </a:lnTo>
                  <a:lnTo>
                    <a:pt x="123" y="1755"/>
                  </a:lnTo>
                  <a:lnTo>
                    <a:pt x="120" y="1775"/>
                  </a:lnTo>
                  <a:lnTo>
                    <a:pt x="123" y="1795"/>
                  </a:lnTo>
                  <a:lnTo>
                    <a:pt x="132" y="1820"/>
                  </a:lnTo>
                  <a:lnTo>
                    <a:pt x="143" y="1844"/>
                  </a:lnTo>
                  <a:lnTo>
                    <a:pt x="158" y="1864"/>
                  </a:lnTo>
                  <a:lnTo>
                    <a:pt x="183" y="1876"/>
                  </a:lnTo>
                  <a:lnTo>
                    <a:pt x="167" y="1822"/>
                  </a:lnTo>
                  <a:lnTo>
                    <a:pt x="167" y="1775"/>
                  </a:lnTo>
                  <a:lnTo>
                    <a:pt x="178" y="1744"/>
                  </a:lnTo>
                  <a:lnTo>
                    <a:pt x="201" y="1748"/>
                  </a:lnTo>
                  <a:lnTo>
                    <a:pt x="212" y="1773"/>
                  </a:lnTo>
                  <a:lnTo>
                    <a:pt x="216" y="1811"/>
                  </a:lnTo>
                  <a:lnTo>
                    <a:pt x="219" y="1849"/>
                  </a:lnTo>
                  <a:lnTo>
                    <a:pt x="225" y="1878"/>
                  </a:lnTo>
                  <a:lnTo>
                    <a:pt x="230" y="1887"/>
                  </a:lnTo>
                  <a:lnTo>
                    <a:pt x="236" y="1893"/>
                  </a:lnTo>
                  <a:lnTo>
                    <a:pt x="245" y="1900"/>
                  </a:lnTo>
                  <a:lnTo>
                    <a:pt x="252" y="1905"/>
                  </a:lnTo>
                  <a:lnTo>
                    <a:pt x="263" y="1909"/>
                  </a:lnTo>
                  <a:lnTo>
                    <a:pt x="272" y="1914"/>
                  </a:lnTo>
                  <a:lnTo>
                    <a:pt x="281" y="1916"/>
                  </a:lnTo>
                  <a:lnTo>
                    <a:pt x="292" y="1918"/>
                  </a:lnTo>
                  <a:lnTo>
                    <a:pt x="310" y="1920"/>
                  </a:lnTo>
                  <a:lnTo>
                    <a:pt x="328" y="1920"/>
                  </a:lnTo>
                  <a:lnTo>
                    <a:pt x="348" y="1920"/>
                  </a:lnTo>
                  <a:lnTo>
                    <a:pt x="366" y="1918"/>
                  </a:lnTo>
                  <a:lnTo>
                    <a:pt x="381" y="1914"/>
                  </a:lnTo>
                  <a:lnTo>
                    <a:pt x="397" y="1907"/>
                  </a:lnTo>
                  <a:lnTo>
                    <a:pt x="410" y="1896"/>
                  </a:lnTo>
                  <a:lnTo>
                    <a:pt x="419" y="1882"/>
                  </a:lnTo>
                  <a:lnTo>
                    <a:pt x="408" y="1882"/>
                  </a:lnTo>
                  <a:lnTo>
                    <a:pt x="392" y="1882"/>
                  </a:lnTo>
                  <a:lnTo>
                    <a:pt x="372" y="1887"/>
                  </a:lnTo>
                  <a:lnTo>
                    <a:pt x="350" y="1889"/>
                  </a:lnTo>
                  <a:lnTo>
                    <a:pt x="326" y="1891"/>
                  </a:lnTo>
                  <a:lnTo>
                    <a:pt x="303" y="1889"/>
                  </a:lnTo>
                  <a:lnTo>
                    <a:pt x="281" y="1882"/>
                  </a:lnTo>
                  <a:lnTo>
                    <a:pt x="263" y="1871"/>
                  </a:lnTo>
                  <a:lnTo>
                    <a:pt x="256" y="1847"/>
                  </a:lnTo>
                  <a:lnTo>
                    <a:pt x="252" y="1820"/>
                  </a:lnTo>
                  <a:lnTo>
                    <a:pt x="254" y="1793"/>
                  </a:lnTo>
                  <a:lnTo>
                    <a:pt x="268" y="1768"/>
                  </a:lnTo>
                  <a:lnTo>
                    <a:pt x="285" y="1773"/>
                  </a:lnTo>
                  <a:lnTo>
                    <a:pt x="301" y="1777"/>
                  </a:lnTo>
                  <a:lnTo>
                    <a:pt x="319" y="1784"/>
                  </a:lnTo>
                  <a:lnTo>
                    <a:pt x="335" y="1791"/>
                  </a:lnTo>
                  <a:lnTo>
                    <a:pt x="352" y="1797"/>
                  </a:lnTo>
                  <a:lnTo>
                    <a:pt x="368" y="1804"/>
                  </a:lnTo>
                  <a:lnTo>
                    <a:pt x="386" y="1809"/>
                  </a:lnTo>
                  <a:lnTo>
                    <a:pt x="404" y="1813"/>
                  </a:lnTo>
                  <a:lnTo>
                    <a:pt x="410" y="1811"/>
                  </a:lnTo>
                  <a:lnTo>
                    <a:pt x="417" y="1809"/>
                  </a:lnTo>
                  <a:lnTo>
                    <a:pt x="421" y="1804"/>
                  </a:lnTo>
                  <a:lnTo>
                    <a:pt x="421" y="1795"/>
                  </a:lnTo>
                  <a:lnTo>
                    <a:pt x="397" y="1782"/>
                  </a:lnTo>
                  <a:lnTo>
                    <a:pt x="372" y="1768"/>
                  </a:lnTo>
                  <a:lnTo>
                    <a:pt x="346" y="1755"/>
                  </a:lnTo>
                  <a:lnTo>
                    <a:pt x="317" y="1742"/>
                  </a:lnTo>
                  <a:lnTo>
                    <a:pt x="290" y="1728"/>
                  </a:lnTo>
                  <a:lnTo>
                    <a:pt x="263" y="1717"/>
                  </a:lnTo>
                  <a:lnTo>
                    <a:pt x="236" y="1704"/>
                  </a:lnTo>
                  <a:lnTo>
                    <a:pt x="212" y="1693"/>
                  </a:lnTo>
                  <a:lnTo>
                    <a:pt x="169" y="1672"/>
                  </a:lnTo>
                  <a:lnTo>
                    <a:pt x="134" y="1652"/>
                  </a:lnTo>
                  <a:lnTo>
                    <a:pt x="105" y="1630"/>
                  </a:lnTo>
                  <a:lnTo>
                    <a:pt x="82" y="1605"/>
                  </a:lnTo>
                  <a:lnTo>
                    <a:pt x="65" y="1579"/>
                  </a:lnTo>
                  <a:lnTo>
                    <a:pt x="53" y="1550"/>
                  </a:lnTo>
                  <a:lnTo>
                    <a:pt x="45" y="1516"/>
                  </a:lnTo>
                  <a:lnTo>
                    <a:pt x="42" y="1478"/>
                  </a:lnTo>
                  <a:lnTo>
                    <a:pt x="51" y="1469"/>
                  </a:lnTo>
                  <a:lnTo>
                    <a:pt x="60" y="1463"/>
                  </a:lnTo>
                  <a:lnTo>
                    <a:pt x="71" y="1456"/>
                  </a:lnTo>
                  <a:lnTo>
                    <a:pt x="85" y="1451"/>
                  </a:lnTo>
                  <a:lnTo>
                    <a:pt x="96" y="1445"/>
                  </a:lnTo>
                  <a:lnTo>
                    <a:pt x="109" y="1440"/>
                  </a:lnTo>
                  <a:lnTo>
                    <a:pt x="120" y="1436"/>
                  </a:lnTo>
                  <a:lnTo>
                    <a:pt x="129" y="1431"/>
                  </a:lnTo>
                  <a:lnTo>
                    <a:pt x="138" y="1451"/>
                  </a:lnTo>
                  <a:lnTo>
                    <a:pt x="147" y="1469"/>
                  </a:lnTo>
                  <a:lnTo>
                    <a:pt x="161" y="1483"/>
                  </a:lnTo>
                  <a:lnTo>
                    <a:pt x="178" y="1487"/>
                  </a:lnTo>
                  <a:lnTo>
                    <a:pt x="178" y="1476"/>
                  </a:lnTo>
                  <a:lnTo>
                    <a:pt x="174" y="1456"/>
                  </a:lnTo>
                  <a:lnTo>
                    <a:pt x="167" y="1431"/>
                  </a:lnTo>
                  <a:lnTo>
                    <a:pt x="167" y="1414"/>
                  </a:lnTo>
                  <a:lnTo>
                    <a:pt x="178" y="1389"/>
                  </a:lnTo>
                  <a:lnTo>
                    <a:pt x="192" y="1369"/>
                  </a:lnTo>
                  <a:lnTo>
                    <a:pt x="210" y="1351"/>
                  </a:lnTo>
                  <a:lnTo>
                    <a:pt x="230" y="1338"/>
                  </a:lnTo>
                  <a:lnTo>
                    <a:pt x="252" y="1329"/>
                  </a:lnTo>
                  <a:lnTo>
                    <a:pt x="274" y="1320"/>
                  </a:lnTo>
                  <a:lnTo>
                    <a:pt x="294" y="1315"/>
                  </a:lnTo>
                  <a:lnTo>
                    <a:pt x="314" y="1313"/>
                  </a:lnTo>
                  <a:lnTo>
                    <a:pt x="312" y="1313"/>
                  </a:lnTo>
                  <a:lnTo>
                    <a:pt x="303" y="1311"/>
                  </a:lnTo>
                  <a:lnTo>
                    <a:pt x="292" y="1309"/>
                  </a:lnTo>
                  <a:lnTo>
                    <a:pt x="277" y="1306"/>
                  </a:lnTo>
                  <a:lnTo>
                    <a:pt x="261" y="1306"/>
                  </a:lnTo>
                  <a:lnTo>
                    <a:pt x="248" y="1306"/>
                  </a:lnTo>
                  <a:lnTo>
                    <a:pt x="234" y="1309"/>
                  </a:lnTo>
                  <a:lnTo>
                    <a:pt x="223" y="1313"/>
                  </a:lnTo>
                  <a:lnTo>
                    <a:pt x="207" y="1280"/>
                  </a:lnTo>
                  <a:lnTo>
                    <a:pt x="196" y="1244"/>
                  </a:lnTo>
                  <a:lnTo>
                    <a:pt x="190" y="1210"/>
                  </a:lnTo>
                  <a:lnTo>
                    <a:pt x="181" y="1177"/>
                  </a:lnTo>
                  <a:lnTo>
                    <a:pt x="181" y="1157"/>
                  </a:lnTo>
                  <a:lnTo>
                    <a:pt x="181" y="1134"/>
                  </a:lnTo>
                  <a:lnTo>
                    <a:pt x="181" y="1108"/>
                  </a:lnTo>
                  <a:lnTo>
                    <a:pt x="183" y="1083"/>
                  </a:lnTo>
                  <a:lnTo>
                    <a:pt x="190" y="1061"/>
                  </a:lnTo>
                  <a:lnTo>
                    <a:pt x="201" y="1047"/>
                  </a:lnTo>
                  <a:lnTo>
                    <a:pt x="221" y="1043"/>
                  </a:lnTo>
                  <a:lnTo>
                    <a:pt x="252" y="1050"/>
                  </a:lnTo>
                  <a:lnTo>
                    <a:pt x="272" y="1056"/>
                  </a:lnTo>
                  <a:lnTo>
                    <a:pt x="294" y="1063"/>
                  </a:lnTo>
                  <a:lnTo>
                    <a:pt x="314" y="1070"/>
                  </a:lnTo>
                  <a:lnTo>
                    <a:pt x="337" y="1079"/>
                  </a:lnTo>
                  <a:lnTo>
                    <a:pt x="357" y="1085"/>
                  </a:lnTo>
                  <a:lnTo>
                    <a:pt x="377" y="1092"/>
                  </a:lnTo>
                  <a:lnTo>
                    <a:pt x="399" y="1094"/>
                  </a:lnTo>
                  <a:lnTo>
                    <a:pt x="419" y="1094"/>
                  </a:lnTo>
                  <a:lnTo>
                    <a:pt x="450" y="833"/>
                  </a:lnTo>
                  <a:lnTo>
                    <a:pt x="446" y="800"/>
                  </a:lnTo>
                  <a:lnTo>
                    <a:pt x="442" y="766"/>
                  </a:lnTo>
                  <a:lnTo>
                    <a:pt x="430" y="735"/>
                  </a:lnTo>
                  <a:lnTo>
                    <a:pt x="406" y="715"/>
                  </a:lnTo>
                  <a:lnTo>
                    <a:pt x="413" y="795"/>
                  </a:lnTo>
                  <a:lnTo>
                    <a:pt x="413" y="875"/>
                  </a:lnTo>
                  <a:lnTo>
                    <a:pt x="406" y="958"/>
                  </a:lnTo>
                  <a:lnTo>
                    <a:pt x="390" y="1052"/>
                  </a:lnTo>
                  <a:lnTo>
                    <a:pt x="381" y="1056"/>
                  </a:lnTo>
                  <a:lnTo>
                    <a:pt x="370" y="1059"/>
                  </a:lnTo>
                  <a:lnTo>
                    <a:pt x="357" y="1056"/>
                  </a:lnTo>
                  <a:lnTo>
                    <a:pt x="346" y="1050"/>
                  </a:lnTo>
                  <a:lnTo>
                    <a:pt x="332" y="1043"/>
                  </a:lnTo>
                  <a:lnTo>
                    <a:pt x="321" y="1038"/>
                  </a:lnTo>
                  <a:lnTo>
                    <a:pt x="308" y="1034"/>
                  </a:lnTo>
                  <a:lnTo>
                    <a:pt x="297" y="1032"/>
                  </a:lnTo>
                  <a:lnTo>
                    <a:pt x="274" y="1027"/>
                  </a:lnTo>
                  <a:lnTo>
                    <a:pt x="252" y="1023"/>
                  </a:lnTo>
                  <a:lnTo>
                    <a:pt x="230" y="1018"/>
                  </a:lnTo>
                  <a:lnTo>
                    <a:pt x="207" y="1016"/>
                  </a:lnTo>
                  <a:lnTo>
                    <a:pt x="185" y="1018"/>
                  </a:lnTo>
                  <a:lnTo>
                    <a:pt x="165" y="1023"/>
                  </a:lnTo>
                  <a:lnTo>
                    <a:pt x="145" y="1034"/>
                  </a:lnTo>
                  <a:lnTo>
                    <a:pt x="127" y="1052"/>
                  </a:lnTo>
                  <a:lnTo>
                    <a:pt x="136" y="976"/>
                  </a:lnTo>
                  <a:lnTo>
                    <a:pt x="156" y="905"/>
                  </a:lnTo>
                  <a:lnTo>
                    <a:pt x="187" y="835"/>
                  </a:lnTo>
                  <a:lnTo>
                    <a:pt x="223" y="771"/>
                  </a:lnTo>
                  <a:lnTo>
                    <a:pt x="268" y="713"/>
                  </a:lnTo>
                  <a:lnTo>
                    <a:pt x="314" y="663"/>
                  </a:lnTo>
                  <a:lnTo>
                    <a:pt x="368" y="623"/>
                  </a:lnTo>
                  <a:lnTo>
                    <a:pt x="421" y="592"/>
                  </a:lnTo>
                  <a:lnTo>
                    <a:pt x="448" y="637"/>
                  </a:lnTo>
                  <a:lnTo>
                    <a:pt x="466" y="688"/>
                  </a:lnTo>
                  <a:lnTo>
                    <a:pt x="479" y="744"/>
                  </a:lnTo>
                  <a:lnTo>
                    <a:pt x="486" y="797"/>
                  </a:lnTo>
                  <a:lnTo>
                    <a:pt x="522" y="788"/>
                  </a:lnTo>
                  <a:lnTo>
                    <a:pt x="517" y="764"/>
                  </a:lnTo>
                  <a:lnTo>
                    <a:pt x="504" y="706"/>
                  </a:lnTo>
                  <a:lnTo>
                    <a:pt x="486" y="637"/>
                  </a:lnTo>
                  <a:lnTo>
                    <a:pt x="464" y="581"/>
                  </a:lnTo>
                  <a:lnTo>
                    <a:pt x="473" y="576"/>
                  </a:lnTo>
                  <a:lnTo>
                    <a:pt x="484" y="572"/>
                  </a:lnTo>
                  <a:lnTo>
                    <a:pt x="493" y="570"/>
                  </a:lnTo>
                  <a:lnTo>
                    <a:pt x="502" y="572"/>
                  </a:lnTo>
                  <a:lnTo>
                    <a:pt x="569" y="755"/>
                  </a:lnTo>
                  <a:lnTo>
                    <a:pt x="589" y="744"/>
                  </a:lnTo>
                  <a:lnTo>
                    <a:pt x="578" y="701"/>
                  </a:lnTo>
                  <a:lnTo>
                    <a:pt x="564" y="657"/>
                  </a:lnTo>
                  <a:lnTo>
                    <a:pt x="549" y="612"/>
                  </a:lnTo>
                  <a:lnTo>
                    <a:pt x="533" y="570"/>
                  </a:lnTo>
                  <a:lnTo>
                    <a:pt x="537" y="547"/>
                  </a:lnTo>
                  <a:lnTo>
                    <a:pt x="551" y="532"/>
                  </a:lnTo>
                  <a:lnTo>
                    <a:pt x="566" y="518"/>
                  </a:lnTo>
                  <a:lnTo>
                    <a:pt x="580" y="512"/>
                  </a:lnTo>
                  <a:lnTo>
                    <a:pt x="620" y="534"/>
                  </a:lnTo>
                  <a:lnTo>
                    <a:pt x="660" y="550"/>
                  </a:lnTo>
                  <a:lnTo>
                    <a:pt x="700" y="561"/>
                  </a:lnTo>
                  <a:lnTo>
                    <a:pt x="736" y="567"/>
                  </a:lnTo>
                  <a:lnTo>
                    <a:pt x="772" y="572"/>
                  </a:lnTo>
                  <a:lnTo>
                    <a:pt x="801" y="572"/>
                  </a:lnTo>
                  <a:lnTo>
                    <a:pt x="825" y="570"/>
                  </a:lnTo>
                  <a:lnTo>
                    <a:pt x="845" y="565"/>
                  </a:lnTo>
                  <a:lnTo>
                    <a:pt x="843" y="558"/>
                  </a:lnTo>
                  <a:lnTo>
                    <a:pt x="841" y="554"/>
                  </a:lnTo>
                  <a:lnTo>
                    <a:pt x="841" y="547"/>
                  </a:lnTo>
                  <a:lnTo>
                    <a:pt x="836" y="543"/>
                  </a:lnTo>
                  <a:lnTo>
                    <a:pt x="805" y="545"/>
                  </a:lnTo>
                  <a:lnTo>
                    <a:pt x="772" y="545"/>
                  </a:lnTo>
                  <a:lnTo>
                    <a:pt x="738" y="543"/>
                  </a:lnTo>
                  <a:lnTo>
                    <a:pt x="705" y="536"/>
                  </a:lnTo>
                  <a:lnTo>
                    <a:pt x="671" y="527"/>
                  </a:lnTo>
                  <a:lnTo>
                    <a:pt x="640" y="514"/>
                  </a:lnTo>
                  <a:lnTo>
                    <a:pt x="613" y="498"/>
                  </a:lnTo>
                  <a:lnTo>
                    <a:pt x="591" y="478"/>
                  </a:lnTo>
                  <a:lnTo>
                    <a:pt x="591" y="467"/>
                  </a:lnTo>
                  <a:lnTo>
                    <a:pt x="595" y="458"/>
                  </a:lnTo>
                  <a:lnTo>
                    <a:pt x="602" y="449"/>
                  </a:lnTo>
                  <a:lnTo>
                    <a:pt x="609" y="442"/>
                  </a:lnTo>
                  <a:lnTo>
                    <a:pt x="616" y="445"/>
                  </a:lnTo>
                  <a:lnTo>
                    <a:pt x="622" y="449"/>
                  </a:lnTo>
                  <a:lnTo>
                    <a:pt x="627" y="451"/>
                  </a:lnTo>
                  <a:lnTo>
                    <a:pt x="633" y="456"/>
                  </a:lnTo>
                  <a:lnTo>
                    <a:pt x="662" y="469"/>
                  </a:lnTo>
                  <a:lnTo>
                    <a:pt x="689" y="476"/>
                  </a:lnTo>
                  <a:lnTo>
                    <a:pt x="718" y="483"/>
                  </a:lnTo>
                  <a:lnTo>
                    <a:pt x="745" y="485"/>
                  </a:lnTo>
                  <a:lnTo>
                    <a:pt x="774" y="487"/>
                  </a:lnTo>
                  <a:lnTo>
                    <a:pt x="803" y="485"/>
                  </a:lnTo>
                  <a:lnTo>
                    <a:pt x="832" y="483"/>
                  </a:lnTo>
                  <a:lnTo>
                    <a:pt x="863" y="478"/>
                  </a:lnTo>
                  <a:lnTo>
                    <a:pt x="897" y="471"/>
                  </a:lnTo>
                  <a:lnTo>
                    <a:pt x="930" y="460"/>
                  </a:lnTo>
                  <a:lnTo>
                    <a:pt x="961" y="445"/>
                  </a:lnTo>
                  <a:lnTo>
                    <a:pt x="992" y="425"/>
                  </a:lnTo>
                  <a:lnTo>
                    <a:pt x="1019" y="402"/>
                  </a:lnTo>
                  <a:lnTo>
                    <a:pt x="1042" y="375"/>
                  </a:lnTo>
                  <a:lnTo>
                    <a:pt x="1062" y="349"/>
                  </a:lnTo>
                  <a:lnTo>
                    <a:pt x="1077" y="317"/>
                  </a:lnTo>
                  <a:lnTo>
                    <a:pt x="1095" y="253"/>
                  </a:lnTo>
                  <a:lnTo>
                    <a:pt x="1097" y="195"/>
                  </a:lnTo>
                  <a:lnTo>
                    <a:pt x="1091" y="143"/>
                  </a:lnTo>
                  <a:lnTo>
                    <a:pt x="1075" y="99"/>
                  </a:lnTo>
                  <a:lnTo>
                    <a:pt x="1055" y="61"/>
                  </a:lnTo>
                  <a:lnTo>
                    <a:pt x="1033" y="32"/>
                  </a:lnTo>
                  <a:lnTo>
                    <a:pt x="1015" y="12"/>
                  </a:lnTo>
                  <a:lnTo>
                    <a:pt x="9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792"/>
            <p:cNvSpPr/>
            <p:nvPr/>
          </p:nvSpPr>
          <p:spPr>
            <a:xfrm>
              <a:off x="6362640" y="4984920"/>
              <a:ext cx="320760" cy="847440"/>
            </a:xfrm>
            <a:custGeom>
              <a:avLst/>
              <a:gdLst>
                <a:gd name="textAreaLeft" fmla="*/ 0 w 320760"/>
                <a:gd name="textAreaRight" fmla="*/ 321120 w 320760"/>
                <a:gd name="textAreaTop" fmla="*/ 0 h 847440"/>
                <a:gd name="textAreaBottom" fmla="*/ 847800 h 847440"/>
              </a:gdLst>
              <a:ahLst/>
              <a:rect l="textAreaLeft" t="textAreaTop" r="textAreaRight" b="textAreaBottom"/>
              <a:pathLst>
                <a:path w="296" h="793">
                  <a:moveTo>
                    <a:pt x="258" y="762"/>
                  </a:moveTo>
                  <a:lnTo>
                    <a:pt x="252" y="724"/>
                  </a:lnTo>
                  <a:lnTo>
                    <a:pt x="245" y="675"/>
                  </a:lnTo>
                  <a:lnTo>
                    <a:pt x="231" y="630"/>
                  </a:lnTo>
                  <a:lnTo>
                    <a:pt x="211" y="594"/>
                  </a:lnTo>
                  <a:lnTo>
                    <a:pt x="196" y="594"/>
                  </a:lnTo>
                  <a:lnTo>
                    <a:pt x="180" y="599"/>
                  </a:lnTo>
                  <a:lnTo>
                    <a:pt x="165" y="605"/>
                  </a:lnTo>
                  <a:lnTo>
                    <a:pt x="151" y="612"/>
                  </a:lnTo>
                  <a:lnTo>
                    <a:pt x="151" y="650"/>
                  </a:lnTo>
                  <a:lnTo>
                    <a:pt x="156" y="695"/>
                  </a:lnTo>
                  <a:lnTo>
                    <a:pt x="174" y="746"/>
                  </a:lnTo>
                  <a:lnTo>
                    <a:pt x="205" y="793"/>
                  </a:lnTo>
                  <a:lnTo>
                    <a:pt x="191" y="793"/>
                  </a:lnTo>
                  <a:lnTo>
                    <a:pt x="178" y="786"/>
                  </a:lnTo>
                  <a:lnTo>
                    <a:pt x="167" y="777"/>
                  </a:lnTo>
                  <a:lnTo>
                    <a:pt x="153" y="764"/>
                  </a:lnTo>
                  <a:lnTo>
                    <a:pt x="142" y="748"/>
                  </a:lnTo>
                  <a:lnTo>
                    <a:pt x="133" y="733"/>
                  </a:lnTo>
                  <a:lnTo>
                    <a:pt x="127" y="717"/>
                  </a:lnTo>
                  <a:lnTo>
                    <a:pt x="120" y="704"/>
                  </a:lnTo>
                  <a:lnTo>
                    <a:pt x="111" y="601"/>
                  </a:lnTo>
                  <a:lnTo>
                    <a:pt x="104" y="505"/>
                  </a:lnTo>
                  <a:lnTo>
                    <a:pt x="102" y="413"/>
                  </a:lnTo>
                  <a:lnTo>
                    <a:pt x="104" y="315"/>
                  </a:lnTo>
                  <a:lnTo>
                    <a:pt x="118" y="324"/>
                  </a:lnTo>
                  <a:lnTo>
                    <a:pt x="124" y="344"/>
                  </a:lnTo>
                  <a:lnTo>
                    <a:pt x="124" y="373"/>
                  </a:lnTo>
                  <a:lnTo>
                    <a:pt x="124" y="407"/>
                  </a:lnTo>
                  <a:lnTo>
                    <a:pt x="129" y="454"/>
                  </a:lnTo>
                  <a:lnTo>
                    <a:pt x="138" y="496"/>
                  </a:lnTo>
                  <a:lnTo>
                    <a:pt x="145" y="536"/>
                  </a:lnTo>
                  <a:lnTo>
                    <a:pt x="149" y="567"/>
                  </a:lnTo>
                  <a:lnTo>
                    <a:pt x="160" y="565"/>
                  </a:lnTo>
                  <a:lnTo>
                    <a:pt x="176" y="563"/>
                  </a:lnTo>
                  <a:lnTo>
                    <a:pt x="191" y="561"/>
                  </a:lnTo>
                  <a:lnTo>
                    <a:pt x="211" y="556"/>
                  </a:lnTo>
                  <a:lnTo>
                    <a:pt x="229" y="552"/>
                  </a:lnTo>
                  <a:lnTo>
                    <a:pt x="245" y="545"/>
                  </a:lnTo>
                  <a:lnTo>
                    <a:pt x="258" y="534"/>
                  </a:lnTo>
                  <a:lnTo>
                    <a:pt x="267" y="521"/>
                  </a:lnTo>
                  <a:lnTo>
                    <a:pt x="211" y="246"/>
                  </a:lnTo>
                  <a:lnTo>
                    <a:pt x="207" y="217"/>
                  </a:lnTo>
                  <a:lnTo>
                    <a:pt x="200" y="186"/>
                  </a:lnTo>
                  <a:lnTo>
                    <a:pt x="189" y="154"/>
                  </a:lnTo>
                  <a:lnTo>
                    <a:pt x="176" y="125"/>
                  </a:lnTo>
                  <a:lnTo>
                    <a:pt x="160" y="99"/>
                  </a:lnTo>
                  <a:lnTo>
                    <a:pt x="140" y="74"/>
                  </a:lnTo>
                  <a:lnTo>
                    <a:pt x="118" y="56"/>
                  </a:lnTo>
                  <a:lnTo>
                    <a:pt x="91" y="45"/>
                  </a:lnTo>
                  <a:lnTo>
                    <a:pt x="89" y="88"/>
                  </a:lnTo>
                  <a:lnTo>
                    <a:pt x="91" y="139"/>
                  </a:lnTo>
                  <a:lnTo>
                    <a:pt x="89" y="184"/>
                  </a:lnTo>
                  <a:lnTo>
                    <a:pt x="73" y="208"/>
                  </a:lnTo>
                  <a:lnTo>
                    <a:pt x="71" y="168"/>
                  </a:lnTo>
                  <a:lnTo>
                    <a:pt x="69" y="114"/>
                  </a:lnTo>
                  <a:lnTo>
                    <a:pt x="66" y="63"/>
                  </a:lnTo>
                  <a:lnTo>
                    <a:pt x="62" y="29"/>
                  </a:lnTo>
                  <a:lnTo>
                    <a:pt x="29" y="21"/>
                  </a:lnTo>
                  <a:lnTo>
                    <a:pt x="26" y="61"/>
                  </a:lnTo>
                  <a:lnTo>
                    <a:pt x="29" y="101"/>
                  </a:lnTo>
                  <a:lnTo>
                    <a:pt x="31" y="141"/>
                  </a:lnTo>
                  <a:lnTo>
                    <a:pt x="29" y="184"/>
                  </a:lnTo>
                  <a:lnTo>
                    <a:pt x="24" y="186"/>
                  </a:lnTo>
                  <a:lnTo>
                    <a:pt x="22" y="188"/>
                  </a:lnTo>
                  <a:lnTo>
                    <a:pt x="17" y="190"/>
                  </a:lnTo>
                  <a:lnTo>
                    <a:pt x="11" y="188"/>
                  </a:lnTo>
                  <a:lnTo>
                    <a:pt x="4" y="143"/>
                  </a:lnTo>
                  <a:lnTo>
                    <a:pt x="2" y="96"/>
                  </a:lnTo>
                  <a:lnTo>
                    <a:pt x="2" y="50"/>
                  </a:lnTo>
                  <a:lnTo>
                    <a:pt x="0" y="3"/>
                  </a:lnTo>
                  <a:lnTo>
                    <a:pt x="17" y="0"/>
                  </a:lnTo>
                  <a:lnTo>
                    <a:pt x="35" y="0"/>
                  </a:lnTo>
                  <a:lnTo>
                    <a:pt x="55" y="3"/>
                  </a:lnTo>
                  <a:lnTo>
                    <a:pt x="73" y="5"/>
                  </a:lnTo>
                  <a:lnTo>
                    <a:pt x="91" y="12"/>
                  </a:lnTo>
                  <a:lnTo>
                    <a:pt x="109" y="18"/>
                  </a:lnTo>
                  <a:lnTo>
                    <a:pt x="124" y="25"/>
                  </a:lnTo>
                  <a:lnTo>
                    <a:pt x="140" y="34"/>
                  </a:lnTo>
                  <a:lnTo>
                    <a:pt x="151" y="45"/>
                  </a:lnTo>
                  <a:lnTo>
                    <a:pt x="165" y="56"/>
                  </a:lnTo>
                  <a:lnTo>
                    <a:pt x="174" y="67"/>
                  </a:lnTo>
                  <a:lnTo>
                    <a:pt x="185" y="79"/>
                  </a:lnTo>
                  <a:lnTo>
                    <a:pt x="194" y="92"/>
                  </a:lnTo>
                  <a:lnTo>
                    <a:pt x="200" y="103"/>
                  </a:lnTo>
                  <a:lnTo>
                    <a:pt x="209" y="117"/>
                  </a:lnTo>
                  <a:lnTo>
                    <a:pt x="216" y="130"/>
                  </a:lnTo>
                  <a:lnTo>
                    <a:pt x="218" y="143"/>
                  </a:lnTo>
                  <a:lnTo>
                    <a:pt x="225" y="177"/>
                  </a:lnTo>
                  <a:lnTo>
                    <a:pt x="236" y="228"/>
                  </a:lnTo>
                  <a:lnTo>
                    <a:pt x="249" y="291"/>
                  </a:lnTo>
                  <a:lnTo>
                    <a:pt x="263" y="358"/>
                  </a:lnTo>
                  <a:lnTo>
                    <a:pt x="276" y="425"/>
                  </a:lnTo>
                  <a:lnTo>
                    <a:pt x="287" y="487"/>
                  </a:lnTo>
                  <a:lnTo>
                    <a:pt x="296" y="538"/>
                  </a:lnTo>
                  <a:lnTo>
                    <a:pt x="287" y="550"/>
                  </a:lnTo>
                  <a:lnTo>
                    <a:pt x="272" y="561"/>
                  </a:lnTo>
                  <a:lnTo>
                    <a:pt x="256" y="572"/>
                  </a:lnTo>
                  <a:lnTo>
                    <a:pt x="245" y="576"/>
                  </a:lnTo>
                  <a:lnTo>
                    <a:pt x="249" y="610"/>
                  </a:lnTo>
                  <a:lnTo>
                    <a:pt x="263" y="652"/>
                  </a:lnTo>
                  <a:lnTo>
                    <a:pt x="274" y="701"/>
                  </a:lnTo>
                  <a:lnTo>
                    <a:pt x="281" y="742"/>
                  </a:lnTo>
                  <a:lnTo>
                    <a:pt x="258" y="7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Freeform 793"/>
            <p:cNvSpPr/>
            <p:nvPr/>
          </p:nvSpPr>
          <p:spPr>
            <a:xfrm>
              <a:off x="6045120" y="5207040"/>
              <a:ext cx="426960" cy="41400"/>
            </a:xfrm>
            <a:custGeom>
              <a:avLst/>
              <a:gdLst>
                <a:gd name="textAreaLeft" fmla="*/ 0 w 426960"/>
                <a:gd name="textAreaRight" fmla="*/ 427320 w 426960"/>
                <a:gd name="textAreaTop" fmla="*/ 0 h 41400"/>
                <a:gd name="textAreaBottom" fmla="*/ 41760 h 41400"/>
              </a:gdLst>
              <a:ahLst/>
              <a:rect l="textAreaLeft" t="textAreaTop" r="textAreaRight" b="textAreaBottom"/>
              <a:pathLst>
                <a:path w="393" h="38">
                  <a:moveTo>
                    <a:pt x="393" y="27"/>
                  </a:moveTo>
                  <a:lnTo>
                    <a:pt x="375" y="29"/>
                  </a:lnTo>
                  <a:lnTo>
                    <a:pt x="357" y="29"/>
                  </a:lnTo>
                  <a:lnTo>
                    <a:pt x="344" y="29"/>
                  </a:lnTo>
                  <a:lnTo>
                    <a:pt x="330" y="29"/>
                  </a:lnTo>
                  <a:lnTo>
                    <a:pt x="317" y="29"/>
                  </a:lnTo>
                  <a:lnTo>
                    <a:pt x="304" y="29"/>
                  </a:lnTo>
                  <a:lnTo>
                    <a:pt x="290" y="27"/>
                  </a:lnTo>
                  <a:lnTo>
                    <a:pt x="275" y="27"/>
                  </a:lnTo>
                  <a:lnTo>
                    <a:pt x="248" y="27"/>
                  </a:lnTo>
                  <a:lnTo>
                    <a:pt x="214" y="27"/>
                  </a:lnTo>
                  <a:lnTo>
                    <a:pt x="177" y="27"/>
                  </a:lnTo>
                  <a:lnTo>
                    <a:pt x="136" y="27"/>
                  </a:lnTo>
                  <a:lnTo>
                    <a:pt x="96" y="29"/>
                  </a:lnTo>
                  <a:lnTo>
                    <a:pt x="58" y="31"/>
                  </a:lnTo>
                  <a:lnTo>
                    <a:pt x="27" y="34"/>
                  </a:lnTo>
                  <a:lnTo>
                    <a:pt x="0" y="38"/>
                  </a:lnTo>
                  <a:lnTo>
                    <a:pt x="0" y="27"/>
                  </a:lnTo>
                  <a:lnTo>
                    <a:pt x="7" y="18"/>
                  </a:lnTo>
                  <a:lnTo>
                    <a:pt x="25" y="11"/>
                  </a:lnTo>
                  <a:lnTo>
                    <a:pt x="47" y="5"/>
                  </a:lnTo>
                  <a:lnTo>
                    <a:pt x="72" y="2"/>
                  </a:lnTo>
                  <a:lnTo>
                    <a:pt x="99" y="0"/>
                  </a:lnTo>
                  <a:lnTo>
                    <a:pt x="125" y="0"/>
                  </a:lnTo>
                  <a:lnTo>
                    <a:pt x="150" y="0"/>
                  </a:lnTo>
                  <a:lnTo>
                    <a:pt x="194" y="0"/>
                  </a:lnTo>
                  <a:lnTo>
                    <a:pt x="237" y="0"/>
                  </a:lnTo>
                  <a:lnTo>
                    <a:pt x="277" y="2"/>
                  </a:lnTo>
                  <a:lnTo>
                    <a:pt x="313" y="5"/>
                  </a:lnTo>
                  <a:lnTo>
                    <a:pt x="342" y="7"/>
                  </a:lnTo>
                  <a:lnTo>
                    <a:pt x="366" y="11"/>
                  </a:lnTo>
                  <a:lnTo>
                    <a:pt x="384" y="18"/>
                  </a:lnTo>
                  <a:lnTo>
                    <a:pt x="393" y="2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2" name="Freeform 794"/>
            <p:cNvSpPr/>
            <p:nvPr/>
          </p:nvSpPr>
          <p:spPr>
            <a:xfrm>
              <a:off x="7466040" y="5908680"/>
              <a:ext cx="190440" cy="250920"/>
            </a:xfrm>
            <a:custGeom>
              <a:avLst/>
              <a:gdLst>
                <a:gd name="textAreaLeft" fmla="*/ 0 w 190440"/>
                <a:gd name="textAreaRight" fmla="*/ 190800 w 190440"/>
                <a:gd name="textAreaTop" fmla="*/ 0 h 250920"/>
                <a:gd name="textAreaBottom" fmla="*/ 251280 h 250920"/>
              </a:gdLst>
              <a:ahLst/>
              <a:rect l="textAreaLeft" t="textAreaTop" r="textAreaRight" b="textAreaBottom"/>
              <a:pathLst>
                <a:path w="176" h="235">
                  <a:moveTo>
                    <a:pt x="176" y="21"/>
                  </a:moveTo>
                  <a:lnTo>
                    <a:pt x="171" y="36"/>
                  </a:lnTo>
                  <a:lnTo>
                    <a:pt x="167" y="54"/>
                  </a:lnTo>
                  <a:lnTo>
                    <a:pt x="160" y="70"/>
                  </a:lnTo>
                  <a:lnTo>
                    <a:pt x="156" y="83"/>
                  </a:lnTo>
                  <a:lnTo>
                    <a:pt x="147" y="99"/>
                  </a:lnTo>
                  <a:lnTo>
                    <a:pt x="136" y="114"/>
                  </a:lnTo>
                  <a:lnTo>
                    <a:pt x="120" y="128"/>
                  </a:lnTo>
                  <a:lnTo>
                    <a:pt x="100" y="141"/>
                  </a:lnTo>
                  <a:lnTo>
                    <a:pt x="84" y="146"/>
                  </a:lnTo>
                  <a:lnTo>
                    <a:pt x="66" y="148"/>
                  </a:lnTo>
                  <a:lnTo>
                    <a:pt x="51" y="154"/>
                  </a:lnTo>
                  <a:lnTo>
                    <a:pt x="37" y="163"/>
                  </a:lnTo>
                  <a:lnTo>
                    <a:pt x="35" y="183"/>
                  </a:lnTo>
                  <a:lnTo>
                    <a:pt x="33" y="201"/>
                  </a:lnTo>
                  <a:lnTo>
                    <a:pt x="29" y="221"/>
                  </a:lnTo>
                  <a:lnTo>
                    <a:pt x="24" y="235"/>
                  </a:lnTo>
                  <a:lnTo>
                    <a:pt x="6" y="233"/>
                  </a:lnTo>
                  <a:lnTo>
                    <a:pt x="6" y="215"/>
                  </a:lnTo>
                  <a:lnTo>
                    <a:pt x="11" y="195"/>
                  </a:lnTo>
                  <a:lnTo>
                    <a:pt x="0" y="177"/>
                  </a:lnTo>
                  <a:lnTo>
                    <a:pt x="6" y="157"/>
                  </a:lnTo>
                  <a:lnTo>
                    <a:pt x="17" y="146"/>
                  </a:lnTo>
                  <a:lnTo>
                    <a:pt x="31" y="139"/>
                  </a:lnTo>
                  <a:lnTo>
                    <a:pt x="46" y="132"/>
                  </a:lnTo>
                  <a:lnTo>
                    <a:pt x="64" y="125"/>
                  </a:lnTo>
                  <a:lnTo>
                    <a:pt x="84" y="116"/>
                  </a:lnTo>
                  <a:lnTo>
                    <a:pt x="104" y="103"/>
                  </a:lnTo>
                  <a:lnTo>
                    <a:pt x="124" y="79"/>
                  </a:lnTo>
                  <a:lnTo>
                    <a:pt x="140" y="45"/>
                  </a:lnTo>
                  <a:lnTo>
                    <a:pt x="153" y="14"/>
                  </a:lnTo>
                  <a:lnTo>
                    <a:pt x="162" y="0"/>
                  </a:lnTo>
                  <a:lnTo>
                    <a:pt x="17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795"/>
            <p:cNvSpPr/>
            <p:nvPr/>
          </p:nvSpPr>
          <p:spPr>
            <a:xfrm>
              <a:off x="6183360" y="5832360"/>
              <a:ext cx="371520" cy="57240"/>
            </a:xfrm>
            <a:custGeom>
              <a:avLst/>
              <a:gdLst>
                <a:gd name="textAreaLeft" fmla="*/ 0 w 371520"/>
                <a:gd name="textAreaRight" fmla="*/ 371880 w 371520"/>
                <a:gd name="textAreaTop" fmla="*/ 0 h 57240"/>
                <a:gd name="textAreaBottom" fmla="*/ 57600 h 57240"/>
              </a:gdLst>
              <a:ahLst/>
              <a:rect l="textAreaLeft" t="textAreaTop" r="textAreaRight" b="textAreaBottom"/>
              <a:pathLst>
                <a:path w="342" h="54">
                  <a:moveTo>
                    <a:pt x="342" y="42"/>
                  </a:moveTo>
                  <a:lnTo>
                    <a:pt x="302" y="38"/>
                  </a:lnTo>
                  <a:lnTo>
                    <a:pt x="259" y="36"/>
                  </a:lnTo>
                  <a:lnTo>
                    <a:pt x="215" y="38"/>
                  </a:lnTo>
                  <a:lnTo>
                    <a:pt x="172" y="40"/>
                  </a:lnTo>
                  <a:lnTo>
                    <a:pt x="128" y="42"/>
                  </a:lnTo>
                  <a:lnTo>
                    <a:pt x="83" y="47"/>
                  </a:lnTo>
                  <a:lnTo>
                    <a:pt x="41" y="51"/>
                  </a:lnTo>
                  <a:lnTo>
                    <a:pt x="0" y="54"/>
                  </a:lnTo>
                  <a:lnTo>
                    <a:pt x="3" y="51"/>
                  </a:lnTo>
                  <a:lnTo>
                    <a:pt x="12" y="45"/>
                  </a:lnTo>
                  <a:lnTo>
                    <a:pt x="29" y="38"/>
                  </a:lnTo>
                  <a:lnTo>
                    <a:pt x="58" y="29"/>
                  </a:lnTo>
                  <a:lnTo>
                    <a:pt x="96" y="22"/>
                  </a:lnTo>
                  <a:lnTo>
                    <a:pt x="148" y="13"/>
                  </a:lnTo>
                  <a:lnTo>
                    <a:pt x="212" y="7"/>
                  </a:lnTo>
                  <a:lnTo>
                    <a:pt x="290" y="0"/>
                  </a:lnTo>
                  <a:lnTo>
                    <a:pt x="324" y="13"/>
                  </a:lnTo>
                  <a:lnTo>
                    <a:pt x="340" y="27"/>
                  </a:lnTo>
                  <a:lnTo>
                    <a:pt x="342" y="38"/>
                  </a:lnTo>
                  <a:lnTo>
                    <a:pt x="342" y="4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4" name="Freeform 796"/>
            <p:cNvSpPr/>
            <p:nvPr/>
          </p:nvSpPr>
          <p:spPr>
            <a:xfrm>
              <a:off x="7488360" y="6054840"/>
              <a:ext cx="488880" cy="352440"/>
            </a:xfrm>
            <a:custGeom>
              <a:avLst/>
              <a:gdLst>
                <a:gd name="textAreaLeft" fmla="*/ 0 w 488880"/>
                <a:gd name="textAreaRight" fmla="*/ 489240 w 488880"/>
                <a:gd name="textAreaTop" fmla="*/ 0 h 352440"/>
                <a:gd name="textAreaBottom" fmla="*/ 352800 h 352440"/>
              </a:gdLst>
              <a:ahLst/>
              <a:rect l="textAreaLeft" t="textAreaTop" r="textAreaRight" b="textAreaBottom"/>
              <a:pathLst>
                <a:path w="452" h="330">
                  <a:moveTo>
                    <a:pt x="312" y="116"/>
                  </a:moveTo>
                  <a:lnTo>
                    <a:pt x="310" y="136"/>
                  </a:lnTo>
                  <a:lnTo>
                    <a:pt x="305" y="156"/>
                  </a:lnTo>
                  <a:lnTo>
                    <a:pt x="298" y="174"/>
                  </a:lnTo>
                  <a:lnTo>
                    <a:pt x="290" y="192"/>
                  </a:lnTo>
                  <a:lnTo>
                    <a:pt x="278" y="207"/>
                  </a:lnTo>
                  <a:lnTo>
                    <a:pt x="265" y="221"/>
                  </a:lnTo>
                  <a:lnTo>
                    <a:pt x="249" y="234"/>
                  </a:lnTo>
                  <a:lnTo>
                    <a:pt x="232" y="245"/>
                  </a:lnTo>
                  <a:lnTo>
                    <a:pt x="245" y="254"/>
                  </a:lnTo>
                  <a:lnTo>
                    <a:pt x="258" y="263"/>
                  </a:lnTo>
                  <a:lnTo>
                    <a:pt x="272" y="272"/>
                  </a:lnTo>
                  <a:lnTo>
                    <a:pt x="287" y="279"/>
                  </a:lnTo>
                  <a:lnTo>
                    <a:pt x="301" y="283"/>
                  </a:lnTo>
                  <a:lnTo>
                    <a:pt x="316" y="288"/>
                  </a:lnTo>
                  <a:lnTo>
                    <a:pt x="334" y="285"/>
                  </a:lnTo>
                  <a:lnTo>
                    <a:pt x="350" y="279"/>
                  </a:lnTo>
                  <a:lnTo>
                    <a:pt x="363" y="270"/>
                  </a:lnTo>
                  <a:lnTo>
                    <a:pt x="374" y="261"/>
                  </a:lnTo>
                  <a:lnTo>
                    <a:pt x="385" y="252"/>
                  </a:lnTo>
                  <a:lnTo>
                    <a:pt x="394" y="241"/>
                  </a:lnTo>
                  <a:lnTo>
                    <a:pt x="403" y="230"/>
                  </a:lnTo>
                  <a:lnTo>
                    <a:pt x="410" y="216"/>
                  </a:lnTo>
                  <a:lnTo>
                    <a:pt x="417" y="201"/>
                  </a:lnTo>
                  <a:lnTo>
                    <a:pt x="423" y="185"/>
                  </a:lnTo>
                  <a:lnTo>
                    <a:pt x="426" y="171"/>
                  </a:lnTo>
                  <a:lnTo>
                    <a:pt x="421" y="154"/>
                  </a:lnTo>
                  <a:lnTo>
                    <a:pt x="417" y="138"/>
                  </a:lnTo>
                  <a:lnTo>
                    <a:pt x="412" y="122"/>
                  </a:lnTo>
                  <a:lnTo>
                    <a:pt x="430" y="134"/>
                  </a:lnTo>
                  <a:lnTo>
                    <a:pt x="439" y="149"/>
                  </a:lnTo>
                  <a:lnTo>
                    <a:pt x="446" y="163"/>
                  </a:lnTo>
                  <a:lnTo>
                    <a:pt x="452" y="176"/>
                  </a:lnTo>
                  <a:lnTo>
                    <a:pt x="452" y="201"/>
                  </a:lnTo>
                  <a:lnTo>
                    <a:pt x="448" y="223"/>
                  </a:lnTo>
                  <a:lnTo>
                    <a:pt x="439" y="243"/>
                  </a:lnTo>
                  <a:lnTo>
                    <a:pt x="428" y="263"/>
                  </a:lnTo>
                  <a:lnTo>
                    <a:pt x="412" y="281"/>
                  </a:lnTo>
                  <a:lnTo>
                    <a:pt x="394" y="297"/>
                  </a:lnTo>
                  <a:lnTo>
                    <a:pt x="377" y="312"/>
                  </a:lnTo>
                  <a:lnTo>
                    <a:pt x="356" y="326"/>
                  </a:lnTo>
                  <a:lnTo>
                    <a:pt x="319" y="330"/>
                  </a:lnTo>
                  <a:lnTo>
                    <a:pt x="283" y="323"/>
                  </a:lnTo>
                  <a:lnTo>
                    <a:pt x="249" y="310"/>
                  </a:lnTo>
                  <a:lnTo>
                    <a:pt x="220" y="288"/>
                  </a:lnTo>
                  <a:lnTo>
                    <a:pt x="189" y="265"/>
                  </a:lnTo>
                  <a:lnTo>
                    <a:pt x="160" y="241"/>
                  </a:lnTo>
                  <a:lnTo>
                    <a:pt x="129" y="218"/>
                  </a:lnTo>
                  <a:lnTo>
                    <a:pt x="98" y="203"/>
                  </a:lnTo>
                  <a:lnTo>
                    <a:pt x="87" y="194"/>
                  </a:lnTo>
                  <a:lnTo>
                    <a:pt x="73" y="185"/>
                  </a:lnTo>
                  <a:lnTo>
                    <a:pt x="60" y="178"/>
                  </a:lnTo>
                  <a:lnTo>
                    <a:pt x="46" y="169"/>
                  </a:lnTo>
                  <a:lnTo>
                    <a:pt x="31" y="163"/>
                  </a:lnTo>
                  <a:lnTo>
                    <a:pt x="20" y="154"/>
                  </a:lnTo>
                  <a:lnTo>
                    <a:pt x="9" y="142"/>
                  </a:lnTo>
                  <a:lnTo>
                    <a:pt x="0" y="129"/>
                  </a:lnTo>
                  <a:lnTo>
                    <a:pt x="9" y="131"/>
                  </a:lnTo>
                  <a:lnTo>
                    <a:pt x="31" y="140"/>
                  </a:lnTo>
                  <a:lnTo>
                    <a:pt x="64" y="156"/>
                  </a:lnTo>
                  <a:lnTo>
                    <a:pt x="100" y="174"/>
                  </a:lnTo>
                  <a:lnTo>
                    <a:pt x="138" y="192"/>
                  </a:lnTo>
                  <a:lnTo>
                    <a:pt x="174" y="207"/>
                  </a:lnTo>
                  <a:lnTo>
                    <a:pt x="200" y="214"/>
                  </a:lnTo>
                  <a:lnTo>
                    <a:pt x="214" y="214"/>
                  </a:lnTo>
                  <a:lnTo>
                    <a:pt x="234" y="198"/>
                  </a:lnTo>
                  <a:lnTo>
                    <a:pt x="249" y="178"/>
                  </a:lnTo>
                  <a:lnTo>
                    <a:pt x="261" y="154"/>
                  </a:lnTo>
                  <a:lnTo>
                    <a:pt x="265" y="129"/>
                  </a:lnTo>
                  <a:lnTo>
                    <a:pt x="256" y="111"/>
                  </a:lnTo>
                  <a:lnTo>
                    <a:pt x="245" y="96"/>
                  </a:lnTo>
                  <a:lnTo>
                    <a:pt x="232" y="80"/>
                  </a:lnTo>
                  <a:lnTo>
                    <a:pt x="214" y="64"/>
                  </a:lnTo>
                  <a:lnTo>
                    <a:pt x="198" y="49"/>
                  </a:lnTo>
                  <a:lnTo>
                    <a:pt x="180" y="33"/>
                  </a:lnTo>
                  <a:lnTo>
                    <a:pt x="165" y="17"/>
                  </a:lnTo>
                  <a:lnTo>
                    <a:pt x="149" y="0"/>
                  </a:lnTo>
                  <a:lnTo>
                    <a:pt x="174" y="9"/>
                  </a:lnTo>
                  <a:lnTo>
                    <a:pt x="198" y="17"/>
                  </a:lnTo>
                  <a:lnTo>
                    <a:pt x="220" y="29"/>
                  </a:lnTo>
                  <a:lnTo>
                    <a:pt x="243" y="40"/>
                  </a:lnTo>
                  <a:lnTo>
                    <a:pt x="263" y="55"/>
                  </a:lnTo>
                  <a:lnTo>
                    <a:pt x="283" y="71"/>
                  </a:lnTo>
                  <a:lnTo>
                    <a:pt x="298" y="91"/>
                  </a:lnTo>
                  <a:lnTo>
                    <a:pt x="31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797"/>
            <p:cNvSpPr/>
            <p:nvPr/>
          </p:nvSpPr>
          <p:spPr>
            <a:xfrm>
              <a:off x="7286760" y="6026040"/>
              <a:ext cx="39600" cy="115920"/>
            </a:xfrm>
            <a:custGeom>
              <a:avLst/>
              <a:gdLst>
                <a:gd name="textAreaLeft" fmla="*/ 0 w 39600"/>
                <a:gd name="textAreaRight" fmla="*/ 39960 w 39600"/>
                <a:gd name="textAreaTop" fmla="*/ 0 h 115920"/>
                <a:gd name="textAreaBottom" fmla="*/ 116280 h 115920"/>
              </a:gdLst>
              <a:ahLst/>
              <a:rect l="textAreaLeft" t="textAreaTop" r="textAreaRight" b="textAreaBottom"/>
              <a:pathLst>
                <a:path w="37" h="109">
                  <a:moveTo>
                    <a:pt x="37" y="0"/>
                  </a:moveTo>
                  <a:lnTo>
                    <a:pt x="26" y="29"/>
                  </a:lnTo>
                  <a:lnTo>
                    <a:pt x="22" y="56"/>
                  </a:lnTo>
                  <a:lnTo>
                    <a:pt x="22" y="82"/>
                  </a:lnTo>
                  <a:lnTo>
                    <a:pt x="22" y="109"/>
                  </a:lnTo>
                  <a:lnTo>
                    <a:pt x="4" y="87"/>
                  </a:lnTo>
                  <a:lnTo>
                    <a:pt x="0" y="62"/>
                  </a:lnTo>
                  <a:lnTo>
                    <a:pt x="2" y="36"/>
                  </a:lnTo>
                  <a:lnTo>
                    <a:pt x="11" y="11"/>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798"/>
            <p:cNvSpPr/>
            <p:nvPr/>
          </p:nvSpPr>
          <p:spPr>
            <a:xfrm>
              <a:off x="7350120" y="6032520"/>
              <a:ext cx="28440" cy="127080"/>
            </a:xfrm>
            <a:custGeom>
              <a:avLst/>
              <a:gdLst>
                <a:gd name="textAreaLeft" fmla="*/ 0 w 28440"/>
                <a:gd name="textAreaRight" fmla="*/ 28800 w 28440"/>
                <a:gd name="textAreaTop" fmla="*/ 0 h 127080"/>
                <a:gd name="textAreaBottom" fmla="*/ 127440 h 127080"/>
              </a:gdLst>
              <a:ahLst/>
              <a:rect l="textAreaLeft" t="textAreaTop" r="textAreaRight" b="textAreaBottom"/>
              <a:pathLst>
                <a:path w="26" h="119">
                  <a:moveTo>
                    <a:pt x="26" y="0"/>
                  </a:moveTo>
                  <a:lnTo>
                    <a:pt x="22" y="32"/>
                  </a:lnTo>
                  <a:lnTo>
                    <a:pt x="22" y="63"/>
                  </a:lnTo>
                  <a:lnTo>
                    <a:pt x="22" y="92"/>
                  </a:lnTo>
                  <a:lnTo>
                    <a:pt x="24" y="119"/>
                  </a:lnTo>
                  <a:lnTo>
                    <a:pt x="13" y="114"/>
                  </a:lnTo>
                  <a:lnTo>
                    <a:pt x="6" y="108"/>
                  </a:lnTo>
                  <a:lnTo>
                    <a:pt x="2" y="101"/>
                  </a:lnTo>
                  <a:lnTo>
                    <a:pt x="0" y="92"/>
                  </a:lnTo>
                  <a:lnTo>
                    <a:pt x="0" y="56"/>
                  </a:lnTo>
                  <a:lnTo>
                    <a:pt x="2" y="30"/>
                  </a:lnTo>
                  <a:lnTo>
                    <a:pt x="11" y="14"/>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799"/>
            <p:cNvSpPr/>
            <p:nvPr/>
          </p:nvSpPr>
          <p:spPr>
            <a:xfrm>
              <a:off x="5829480" y="5861160"/>
              <a:ext cx="37800" cy="123840"/>
            </a:xfrm>
            <a:custGeom>
              <a:avLst/>
              <a:gdLst>
                <a:gd name="textAreaLeft" fmla="*/ 0 w 37800"/>
                <a:gd name="textAreaRight" fmla="*/ 38160 w 37800"/>
                <a:gd name="textAreaTop" fmla="*/ 0 h 123840"/>
                <a:gd name="textAreaBottom" fmla="*/ 124200 h 123840"/>
              </a:gdLst>
              <a:ahLst/>
              <a:rect l="textAreaLeft" t="textAreaTop" r="textAreaRight" b="textAreaBottom"/>
              <a:pathLst>
                <a:path w="35" h="116">
                  <a:moveTo>
                    <a:pt x="17" y="2"/>
                  </a:moveTo>
                  <a:lnTo>
                    <a:pt x="20" y="31"/>
                  </a:lnTo>
                  <a:lnTo>
                    <a:pt x="26" y="60"/>
                  </a:lnTo>
                  <a:lnTo>
                    <a:pt x="33" y="89"/>
                  </a:lnTo>
                  <a:lnTo>
                    <a:pt x="35" y="116"/>
                  </a:lnTo>
                  <a:lnTo>
                    <a:pt x="15" y="98"/>
                  </a:lnTo>
                  <a:lnTo>
                    <a:pt x="6" y="73"/>
                  </a:lnTo>
                  <a:lnTo>
                    <a:pt x="2" y="47"/>
                  </a:lnTo>
                  <a:lnTo>
                    <a:pt x="0" y="20"/>
                  </a:lnTo>
                  <a:lnTo>
                    <a:pt x="0" y="11"/>
                  </a:lnTo>
                  <a:lnTo>
                    <a:pt x="2" y="4"/>
                  </a:lnTo>
                  <a:lnTo>
                    <a:pt x="9" y="0"/>
                  </a:lnTo>
                  <a:lnTo>
                    <a:pt x="1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Freeform 800"/>
            <p:cNvSpPr/>
            <p:nvPr/>
          </p:nvSpPr>
          <p:spPr>
            <a:xfrm>
              <a:off x="7405560" y="6059520"/>
              <a:ext cx="33480" cy="108000"/>
            </a:xfrm>
            <a:custGeom>
              <a:avLst/>
              <a:gdLst>
                <a:gd name="textAreaLeft" fmla="*/ 0 w 33480"/>
                <a:gd name="textAreaRight" fmla="*/ 33840 w 33480"/>
                <a:gd name="textAreaTop" fmla="*/ 0 h 108000"/>
                <a:gd name="textAreaBottom" fmla="*/ 108360 h 108000"/>
              </a:gdLst>
              <a:ahLst/>
              <a:rect l="textAreaLeft" t="textAreaTop" r="textAreaRight" b="textAreaBottom"/>
              <a:pathLst>
                <a:path w="31" h="101">
                  <a:moveTo>
                    <a:pt x="31" y="0"/>
                  </a:moveTo>
                  <a:lnTo>
                    <a:pt x="29" y="25"/>
                  </a:lnTo>
                  <a:lnTo>
                    <a:pt x="24" y="49"/>
                  </a:lnTo>
                  <a:lnTo>
                    <a:pt x="22" y="74"/>
                  </a:lnTo>
                  <a:lnTo>
                    <a:pt x="27" y="98"/>
                  </a:lnTo>
                  <a:lnTo>
                    <a:pt x="11" y="101"/>
                  </a:lnTo>
                  <a:lnTo>
                    <a:pt x="4" y="92"/>
                  </a:lnTo>
                  <a:lnTo>
                    <a:pt x="0" y="78"/>
                  </a:lnTo>
                  <a:lnTo>
                    <a:pt x="0" y="65"/>
                  </a:lnTo>
                  <a:lnTo>
                    <a:pt x="4" y="34"/>
                  </a:lnTo>
                  <a:lnTo>
                    <a:pt x="11" y="13"/>
                  </a:lnTo>
                  <a:lnTo>
                    <a:pt x="20" y="2"/>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Freeform 801"/>
            <p:cNvSpPr/>
            <p:nvPr/>
          </p:nvSpPr>
          <p:spPr>
            <a:xfrm>
              <a:off x="5695920" y="5884920"/>
              <a:ext cx="33480" cy="119160"/>
            </a:xfrm>
            <a:custGeom>
              <a:avLst/>
              <a:gdLst>
                <a:gd name="textAreaLeft" fmla="*/ 0 w 33480"/>
                <a:gd name="textAreaRight" fmla="*/ 33840 w 33480"/>
                <a:gd name="textAreaTop" fmla="*/ 0 h 119160"/>
                <a:gd name="textAreaBottom" fmla="*/ 119520 h 119160"/>
              </a:gdLst>
              <a:ahLst/>
              <a:rect l="textAreaLeft" t="textAreaTop" r="textAreaRight" b="textAreaBottom"/>
              <a:pathLst>
                <a:path w="31" h="112">
                  <a:moveTo>
                    <a:pt x="31" y="2"/>
                  </a:moveTo>
                  <a:lnTo>
                    <a:pt x="29" y="27"/>
                  </a:lnTo>
                  <a:lnTo>
                    <a:pt x="25" y="56"/>
                  </a:lnTo>
                  <a:lnTo>
                    <a:pt x="22" y="83"/>
                  </a:lnTo>
                  <a:lnTo>
                    <a:pt x="27" y="109"/>
                  </a:lnTo>
                  <a:lnTo>
                    <a:pt x="22" y="112"/>
                  </a:lnTo>
                  <a:lnTo>
                    <a:pt x="18" y="112"/>
                  </a:lnTo>
                  <a:lnTo>
                    <a:pt x="13" y="112"/>
                  </a:lnTo>
                  <a:lnTo>
                    <a:pt x="9" y="112"/>
                  </a:lnTo>
                  <a:lnTo>
                    <a:pt x="2" y="89"/>
                  </a:lnTo>
                  <a:lnTo>
                    <a:pt x="0" y="67"/>
                  </a:lnTo>
                  <a:lnTo>
                    <a:pt x="2" y="43"/>
                  </a:lnTo>
                  <a:lnTo>
                    <a:pt x="9" y="20"/>
                  </a:lnTo>
                  <a:lnTo>
                    <a:pt x="13" y="13"/>
                  </a:lnTo>
                  <a:lnTo>
                    <a:pt x="16" y="5"/>
                  </a:lnTo>
                  <a:lnTo>
                    <a:pt x="20" y="0"/>
                  </a:lnTo>
                  <a:lnTo>
                    <a:pt x="3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Freeform 802"/>
            <p:cNvSpPr/>
            <p:nvPr/>
          </p:nvSpPr>
          <p:spPr>
            <a:xfrm>
              <a:off x="5767560" y="5894280"/>
              <a:ext cx="23760" cy="119160"/>
            </a:xfrm>
            <a:custGeom>
              <a:avLst/>
              <a:gdLst>
                <a:gd name="textAreaLeft" fmla="*/ 0 w 23760"/>
                <a:gd name="textAreaRight" fmla="*/ 24120 w 23760"/>
                <a:gd name="textAreaTop" fmla="*/ 0 h 119160"/>
                <a:gd name="textAreaBottom" fmla="*/ 119520 h 119160"/>
              </a:gdLst>
              <a:ahLst/>
              <a:rect l="textAreaLeft" t="textAreaTop" r="textAreaRight" b="textAreaBottom"/>
              <a:pathLst>
                <a:path w="22" h="112">
                  <a:moveTo>
                    <a:pt x="18" y="0"/>
                  </a:moveTo>
                  <a:lnTo>
                    <a:pt x="18" y="29"/>
                  </a:lnTo>
                  <a:lnTo>
                    <a:pt x="20" y="56"/>
                  </a:lnTo>
                  <a:lnTo>
                    <a:pt x="22" y="83"/>
                  </a:lnTo>
                  <a:lnTo>
                    <a:pt x="20" y="112"/>
                  </a:lnTo>
                  <a:lnTo>
                    <a:pt x="13" y="109"/>
                  </a:lnTo>
                  <a:lnTo>
                    <a:pt x="7" y="103"/>
                  </a:lnTo>
                  <a:lnTo>
                    <a:pt x="2" y="96"/>
                  </a:lnTo>
                  <a:lnTo>
                    <a:pt x="0" y="89"/>
                  </a:lnTo>
                  <a:lnTo>
                    <a:pt x="0"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803"/>
            <p:cNvSpPr/>
            <p:nvPr/>
          </p:nvSpPr>
          <p:spPr>
            <a:xfrm>
              <a:off x="5618160" y="5886360"/>
              <a:ext cx="41400" cy="120600"/>
            </a:xfrm>
            <a:custGeom>
              <a:avLst/>
              <a:gdLst>
                <a:gd name="textAreaLeft" fmla="*/ 0 w 41400"/>
                <a:gd name="textAreaRight" fmla="*/ 41760 w 41400"/>
                <a:gd name="textAreaTop" fmla="*/ 0 h 120600"/>
                <a:gd name="textAreaBottom" fmla="*/ 120960 h 120600"/>
              </a:gdLst>
              <a:ahLst/>
              <a:rect l="textAreaLeft" t="textAreaTop" r="textAreaRight" b="textAreaBottom"/>
              <a:pathLst>
                <a:path w="38" h="112">
                  <a:moveTo>
                    <a:pt x="17" y="112"/>
                  </a:moveTo>
                  <a:lnTo>
                    <a:pt x="4" y="99"/>
                  </a:lnTo>
                  <a:lnTo>
                    <a:pt x="0" y="74"/>
                  </a:lnTo>
                  <a:lnTo>
                    <a:pt x="2" y="47"/>
                  </a:lnTo>
                  <a:lnTo>
                    <a:pt x="6" y="27"/>
                  </a:lnTo>
                  <a:lnTo>
                    <a:pt x="38" y="0"/>
                  </a:lnTo>
                  <a:lnTo>
                    <a:pt x="31" y="32"/>
                  </a:lnTo>
                  <a:lnTo>
                    <a:pt x="26" y="56"/>
                  </a:lnTo>
                  <a:lnTo>
                    <a:pt x="22" y="83"/>
                  </a:lnTo>
                  <a:lnTo>
                    <a:pt x="1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Freeform 804"/>
            <p:cNvSpPr/>
            <p:nvPr/>
          </p:nvSpPr>
          <p:spPr>
            <a:xfrm>
              <a:off x="6894360" y="6122880"/>
              <a:ext cx="552600" cy="273240"/>
            </a:xfrm>
            <a:custGeom>
              <a:avLst/>
              <a:gdLst>
                <a:gd name="textAreaLeft" fmla="*/ 0 w 552600"/>
                <a:gd name="textAreaRight" fmla="*/ 552960 w 552600"/>
                <a:gd name="textAreaTop" fmla="*/ 0 h 273240"/>
                <a:gd name="textAreaBottom" fmla="*/ 273600 h 273240"/>
              </a:gdLst>
              <a:ahLst/>
              <a:rect l="textAreaLeft" t="textAreaTop" r="textAreaRight" b="textAreaBottom"/>
              <a:pathLst>
                <a:path w="509" h="255">
                  <a:moveTo>
                    <a:pt x="65" y="0"/>
                  </a:moveTo>
                  <a:lnTo>
                    <a:pt x="52" y="32"/>
                  </a:lnTo>
                  <a:lnTo>
                    <a:pt x="40" y="61"/>
                  </a:lnTo>
                  <a:lnTo>
                    <a:pt x="34" y="92"/>
                  </a:lnTo>
                  <a:lnTo>
                    <a:pt x="34" y="130"/>
                  </a:lnTo>
                  <a:lnTo>
                    <a:pt x="38" y="159"/>
                  </a:lnTo>
                  <a:lnTo>
                    <a:pt x="45" y="183"/>
                  </a:lnTo>
                  <a:lnTo>
                    <a:pt x="58" y="206"/>
                  </a:lnTo>
                  <a:lnTo>
                    <a:pt x="78" y="217"/>
                  </a:lnTo>
                  <a:lnTo>
                    <a:pt x="87" y="221"/>
                  </a:lnTo>
                  <a:lnTo>
                    <a:pt x="96" y="224"/>
                  </a:lnTo>
                  <a:lnTo>
                    <a:pt x="107" y="224"/>
                  </a:lnTo>
                  <a:lnTo>
                    <a:pt x="118" y="221"/>
                  </a:lnTo>
                  <a:lnTo>
                    <a:pt x="130" y="219"/>
                  </a:lnTo>
                  <a:lnTo>
                    <a:pt x="141" y="217"/>
                  </a:lnTo>
                  <a:lnTo>
                    <a:pt x="150" y="215"/>
                  </a:lnTo>
                  <a:lnTo>
                    <a:pt x="159" y="210"/>
                  </a:lnTo>
                  <a:lnTo>
                    <a:pt x="125" y="179"/>
                  </a:lnTo>
                  <a:lnTo>
                    <a:pt x="109" y="137"/>
                  </a:lnTo>
                  <a:lnTo>
                    <a:pt x="107" y="90"/>
                  </a:lnTo>
                  <a:lnTo>
                    <a:pt x="107" y="43"/>
                  </a:lnTo>
                  <a:lnTo>
                    <a:pt x="112" y="36"/>
                  </a:lnTo>
                  <a:lnTo>
                    <a:pt x="118" y="27"/>
                  </a:lnTo>
                  <a:lnTo>
                    <a:pt x="125" y="25"/>
                  </a:lnTo>
                  <a:lnTo>
                    <a:pt x="136" y="27"/>
                  </a:lnTo>
                  <a:lnTo>
                    <a:pt x="134" y="56"/>
                  </a:lnTo>
                  <a:lnTo>
                    <a:pt x="134" y="87"/>
                  </a:lnTo>
                  <a:lnTo>
                    <a:pt x="136" y="121"/>
                  </a:lnTo>
                  <a:lnTo>
                    <a:pt x="147" y="148"/>
                  </a:lnTo>
                  <a:lnTo>
                    <a:pt x="156" y="159"/>
                  </a:lnTo>
                  <a:lnTo>
                    <a:pt x="165" y="166"/>
                  </a:lnTo>
                  <a:lnTo>
                    <a:pt x="174" y="170"/>
                  </a:lnTo>
                  <a:lnTo>
                    <a:pt x="185" y="172"/>
                  </a:lnTo>
                  <a:lnTo>
                    <a:pt x="196" y="174"/>
                  </a:lnTo>
                  <a:lnTo>
                    <a:pt x="208" y="172"/>
                  </a:lnTo>
                  <a:lnTo>
                    <a:pt x="221" y="170"/>
                  </a:lnTo>
                  <a:lnTo>
                    <a:pt x="237" y="166"/>
                  </a:lnTo>
                  <a:lnTo>
                    <a:pt x="263" y="152"/>
                  </a:lnTo>
                  <a:lnTo>
                    <a:pt x="292" y="141"/>
                  </a:lnTo>
                  <a:lnTo>
                    <a:pt x="319" y="130"/>
                  </a:lnTo>
                  <a:lnTo>
                    <a:pt x="348" y="119"/>
                  </a:lnTo>
                  <a:lnTo>
                    <a:pt x="375" y="107"/>
                  </a:lnTo>
                  <a:lnTo>
                    <a:pt x="404" y="99"/>
                  </a:lnTo>
                  <a:lnTo>
                    <a:pt x="433" y="90"/>
                  </a:lnTo>
                  <a:lnTo>
                    <a:pt x="462" y="83"/>
                  </a:lnTo>
                  <a:lnTo>
                    <a:pt x="477" y="85"/>
                  </a:lnTo>
                  <a:lnTo>
                    <a:pt x="495" y="87"/>
                  </a:lnTo>
                  <a:lnTo>
                    <a:pt x="506" y="92"/>
                  </a:lnTo>
                  <a:lnTo>
                    <a:pt x="509" y="99"/>
                  </a:lnTo>
                  <a:lnTo>
                    <a:pt x="477" y="103"/>
                  </a:lnTo>
                  <a:lnTo>
                    <a:pt x="446" y="112"/>
                  </a:lnTo>
                  <a:lnTo>
                    <a:pt x="413" y="123"/>
                  </a:lnTo>
                  <a:lnTo>
                    <a:pt x="377" y="137"/>
                  </a:lnTo>
                  <a:lnTo>
                    <a:pt x="341" y="152"/>
                  </a:lnTo>
                  <a:lnTo>
                    <a:pt x="308" y="168"/>
                  </a:lnTo>
                  <a:lnTo>
                    <a:pt x="277" y="183"/>
                  </a:lnTo>
                  <a:lnTo>
                    <a:pt x="246" y="195"/>
                  </a:lnTo>
                  <a:lnTo>
                    <a:pt x="225" y="210"/>
                  </a:lnTo>
                  <a:lnTo>
                    <a:pt x="203" y="221"/>
                  </a:lnTo>
                  <a:lnTo>
                    <a:pt x="181" y="235"/>
                  </a:lnTo>
                  <a:lnTo>
                    <a:pt x="159" y="244"/>
                  </a:lnTo>
                  <a:lnTo>
                    <a:pt x="134" y="250"/>
                  </a:lnTo>
                  <a:lnTo>
                    <a:pt x="109" y="255"/>
                  </a:lnTo>
                  <a:lnTo>
                    <a:pt x="85" y="255"/>
                  </a:lnTo>
                  <a:lnTo>
                    <a:pt x="63" y="253"/>
                  </a:lnTo>
                  <a:lnTo>
                    <a:pt x="31" y="224"/>
                  </a:lnTo>
                  <a:lnTo>
                    <a:pt x="11" y="188"/>
                  </a:lnTo>
                  <a:lnTo>
                    <a:pt x="2" y="150"/>
                  </a:lnTo>
                  <a:lnTo>
                    <a:pt x="0" y="110"/>
                  </a:lnTo>
                  <a:lnTo>
                    <a:pt x="7" y="76"/>
                  </a:lnTo>
                  <a:lnTo>
                    <a:pt x="20" y="45"/>
                  </a:lnTo>
                  <a:lnTo>
                    <a:pt x="38" y="2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805"/>
            <p:cNvSpPr/>
            <p:nvPr/>
          </p:nvSpPr>
          <p:spPr>
            <a:xfrm>
              <a:off x="5829480" y="5964120"/>
              <a:ext cx="3085920" cy="540000"/>
            </a:xfrm>
            <a:custGeom>
              <a:avLst/>
              <a:gdLst>
                <a:gd name="textAreaLeft" fmla="*/ 0 w 3085920"/>
                <a:gd name="textAreaRight" fmla="*/ 3086280 w 3085920"/>
                <a:gd name="textAreaTop" fmla="*/ 0 h 540000"/>
                <a:gd name="textAreaBottom" fmla="*/ 540360 h 540000"/>
              </a:gdLst>
              <a:ahLst/>
              <a:rect l="textAreaLeft" t="textAreaTop" r="textAreaRight" b="textAreaBottom"/>
              <a:pathLst>
                <a:path w="2846" h="505">
                  <a:moveTo>
                    <a:pt x="2835" y="434"/>
                  </a:moveTo>
                  <a:lnTo>
                    <a:pt x="513" y="434"/>
                  </a:lnTo>
                  <a:lnTo>
                    <a:pt x="517" y="422"/>
                  </a:lnTo>
                  <a:lnTo>
                    <a:pt x="522" y="411"/>
                  </a:lnTo>
                  <a:lnTo>
                    <a:pt x="524" y="400"/>
                  </a:lnTo>
                  <a:lnTo>
                    <a:pt x="526" y="387"/>
                  </a:lnTo>
                  <a:lnTo>
                    <a:pt x="551" y="393"/>
                  </a:lnTo>
                  <a:lnTo>
                    <a:pt x="577" y="398"/>
                  </a:lnTo>
                  <a:lnTo>
                    <a:pt x="611" y="402"/>
                  </a:lnTo>
                  <a:lnTo>
                    <a:pt x="647" y="402"/>
                  </a:lnTo>
                  <a:lnTo>
                    <a:pt x="684" y="400"/>
                  </a:lnTo>
                  <a:lnTo>
                    <a:pt x="725" y="396"/>
                  </a:lnTo>
                  <a:lnTo>
                    <a:pt x="767" y="387"/>
                  </a:lnTo>
                  <a:lnTo>
                    <a:pt x="812" y="373"/>
                  </a:lnTo>
                  <a:lnTo>
                    <a:pt x="841" y="358"/>
                  </a:lnTo>
                  <a:lnTo>
                    <a:pt x="863" y="340"/>
                  </a:lnTo>
                  <a:lnTo>
                    <a:pt x="881" y="322"/>
                  </a:lnTo>
                  <a:lnTo>
                    <a:pt x="894" y="304"/>
                  </a:lnTo>
                  <a:lnTo>
                    <a:pt x="903" y="284"/>
                  </a:lnTo>
                  <a:lnTo>
                    <a:pt x="908" y="262"/>
                  </a:lnTo>
                  <a:lnTo>
                    <a:pt x="910" y="239"/>
                  </a:lnTo>
                  <a:lnTo>
                    <a:pt x="912" y="217"/>
                  </a:lnTo>
                  <a:lnTo>
                    <a:pt x="908" y="195"/>
                  </a:lnTo>
                  <a:lnTo>
                    <a:pt x="905" y="175"/>
                  </a:lnTo>
                  <a:lnTo>
                    <a:pt x="896" y="154"/>
                  </a:lnTo>
                  <a:lnTo>
                    <a:pt x="881" y="141"/>
                  </a:lnTo>
                  <a:lnTo>
                    <a:pt x="883" y="172"/>
                  </a:lnTo>
                  <a:lnTo>
                    <a:pt x="883" y="206"/>
                  </a:lnTo>
                  <a:lnTo>
                    <a:pt x="879" y="237"/>
                  </a:lnTo>
                  <a:lnTo>
                    <a:pt x="865" y="266"/>
                  </a:lnTo>
                  <a:lnTo>
                    <a:pt x="845" y="293"/>
                  </a:lnTo>
                  <a:lnTo>
                    <a:pt x="823" y="313"/>
                  </a:lnTo>
                  <a:lnTo>
                    <a:pt x="796" y="331"/>
                  </a:lnTo>
                  <a:lnTo>
                    <a:pt x="767" y="342"/>
                  </a:lnTo>
                  <a:lnTo>
                    <a:pt x="738" y="353"/>
                  </a:lnTo>
                  <a:lnTo>
                    <a:pt x="709" y="360"/>
                  </a:lnTo>
                  <a:lnTo>
                    <a:pt x="678" y="362"/>
                  </a:lnTo>
                  <a:lnTo>
                    <a:pt x="647" y="364"/>
                  </a:lnTo>
                  <a:lnTo>
                    <a:pt x="618" y="364"/>
                  </a:lnTo>
                  <a:lnTo>
                    <a:pt x="591" y="362"/>
                  </a:lnTo>
                  <a:lnTo>
                    <a:pt x="566" y="360"/>
                  </a:lnTo>
                  <a:lnTo>
                    <a:pt x="544" y="358"/>
                  </a:lnTo>
                  <a:lnTo>
                    <a:pt x="526" y="353"/>
                  </a:lnTo>
                  <a:lnTo>
                    <a:pt x="513" y="351"/>
                  </a:lnTo>
                  <a:lnTo>
                    <a:pt x="504" y="349"/>
                  </a:lnTo>
                  <a:lnTo>
                    <a:pt x="502" y="349"/>
                  </a:lnTo>
                  <a:lnTo>
                    <a:pt x="493" y="340"/>
                  </a:lnTo>
                  <a:lnTo>
                    <a:pt x="486" y="331"/>
                  </a:lnTo>
                  <a:lnTo>
                    <a:pt x="475" y="324"/>
                  </a:lnTo>
                  <a:lnTo>
                    <a:pt x="464" y="320"/>
                  </a:lnTo>
                  <a:lnTo>
                    <a:pt x="448" y="324"/>
                  </a:lnTo>
                  <a:lnTo>
                    <a:pt x="448" y="335"/>
                  </a:lnTo>
                  <a:lnTo>
                    <a:pt x="461" y="351"/>
                  </a:lnTo>
                  <a:lnTo>
                    <a:pt x="479" y="371"/>
                  </a:lnTo>
                  <a:lnTo>
                    <a:pt x="493" y="384"/>
                  </a:lnTo>
                  <a:lnTo>
                    <a:pt x="495" y="400"/>
                  </a:lnTo>
                  <a:lnTo>
                    <a:pt x="486" y="420"/>
                  </a:lnTo>
                  <a:lnTo>
                    <a:pt x="464" y="451"/>
                  </a:lnTo>
                  <a:lnTo>
                    <a:pt x="453" y="460"/>
                  </a:lnTo>
                  <a:lnTo>
                    <a:pt x="439" y="467"/>
                  </a:lnTo>
                  <a:lnTo>
                    <a:pt x="426" y="469"/>
                  </a:lnTo>
                  <a:lnTo>
                    <a:pt x="412" y="471"/>
                  </a:lnTo>
                  <a:lnTo>
                    <a:pt x="399" y="469"/>
                  </a:lnTo>
                  <a:lnTo>
                    <a:pt x="383" y="465"/>
                  </a:lnTo>
                  <a:lnTo>
                    <a:pt x="370" y="460"/>
                  </a:lnTo>
                  <a:lnTo>
                    <a:pt x="357" y="454"/>
                  </a:lnTo>
                  <a:lnTo>
                    <a:pt x="363" y="440"/>
                  </a:lnTo>
                  <a:lnTo>
                    <a:pt x="381" y="427"/>
                  </a:lnTo>
                  <a:lnTo>
                    <a:pt x="397" y="411"/>
                  </a:lnTo>
                  <a:lnTo>
                    <a:pt x="399" y="402"/>
                  </a:lnTo>
                  <a:lnTo>
                    <a:pt x="368" y="411"/>
                  </a:lnTo>
                  <a:lnTo>
                    <a:pt x="339" y="425"/>
                  </a:lnTo>
                  <a:lnTo>
                    <a:pt x="312" y="440"/>
                  </a:lnTo>
                  <a:lnTo>
                    <a:pt x="285" y="454"/>
                  </a:lnTo>
                  <a:lnTo>
                    <a:pt x="254" y="465"/>
                  </a:lnTo>
                  <a:lnTo>
                    <a:pt x="221" y="471"/>
                  </a:lnTo>
                  <a:lnTo>
                    <a:pt x="180" y="467"/>
                  </a:lnTo>
                  <a:lnTo>
                    <a:pt x="136" y="454"/>
                  </a:lnTo>
                  <a:lnTo>
                    <a:pt x="138" y="434"/>
                  </a:lnTo>
                  <a:lnTo>
                    <a:pt x="143" y="409"/>
                  </a:lnTo>
                  <a:lnTo>
                    <a:pt x="149" y="384"/>
                  </a:lnTo>
                  <a:lnTo>
                    <a:pt x="160" y="360"/>
                  </a:lnTo>
                  <a:lnTo>
                    <a:pt x="174" y="338"/>
                  </a:lnTo>
                  <a:lnTo>
                    <a:pt x="189" y="317"/>
                  </a:lnTo>
                  <a:lnTo>
                    <a:pt x="207" y="302"/>
                  </a:lnTo>
                  <a:lnTo>
                    <a:pt x="227" y="291"/>
                  </a:lnTo>
                  <a:lnTo>
                    <a:pt x="230" y="288"/>
                  </a:lnTo>
                  <a:lnTo>
                    <a:pt x="221" y="284"/>
                  </a:lnTo>
                  <a:lnTo>
                    <a:pt x="209" y="282"/>
                  </a:lnTo>
                  <a:lnTo>
                    <a:pt x="201" y="280"/>
                  </a:lnTo>
                  <a:lnTo>
                    <a:pt x="180" y="293"/>
                  </a:lnTo>
                  <a:lnTo>
                    <a:pt x="163" y="309"/>
                  </a:lnTo>
                  <a:lnTo>
                    <a:pt x="149" y="326"/>
                  </a:lnTo>
                  <a:lnTo>
                    <a:pt x="138" y="349"/>
                  </a:lnTo>
                  <a:lnTo>
                    <a:pt x="127" y="371"/>
                  </a:lnTo>
                  <a:lnTo>
                    <a:pt x="120" y="393"/>
                  </a:lnTo>
                  <a:lnTo>
                    <a:pt x="116" y="418"/>
                  </a:lnTo>
                  <a:lnTo>
                    <a:pt x="114" y="440"/>
                  </a:lnTo>
                  <a:lnTo>
                    <a:pt x="96" y="436"/>
                  </a:lnTo>
                  <a:lnTo>
                    <a:pt x="82" y="427"/>
                  </a:lnTo>
                  <a:lnTo>
                    <a:pt x="73" y="413"/>
                  </a:lnTo>
                  <a:lnTo>
                    <a:pt x="64" y="398"/>
                  </a:lnTo>
                  <a:lnTo>
                    <a:pt x="62" y="362"/>
                  </a:lnTo>
                  <a:lnTo>
                    <a:pt x="69" y="324"/>
                  </a:lnTo>
                  <a:lnTo>
                    <a:pt x="85" y="288"/>
                  </a:lnTo>
                  <a:lnTo>
                    <a:pt x="111" y="257"/>
                  </a:lnTo>
                  <a:lnTo>
                    <a:pt x="131" y="244"/>
                  </a:lnTo>
                  <a:lnTo>
                    <a:pt x="151" y="237"/>
                  </a:lnTo>
                  <a:lnTo>
                    <a:pt x="174" y="235"/>
                  </a:lnTo>
                  <a:lnTo>
                    <a:pt x="196" y="237"/>
                  </a:lnTo>
                  <a:lnTo>
                    <a:pt x="218" y="242"/>
                  </a:lnTo>
                  <a:lnTo>
                    <a:pt x="241" y="248"/>
                  </a:lnTo>
                  <a:lnTo>
                    <a:pt x="261" y="257"/>
                  </a:lnTo>
                  <a:lnTo>
                    <a:pt x="281" y="266"/>
                  </a:lnTo>
                  <a:lnTo>
                    <a:pt x="303" y="277"/>
                  </a:lnTo>
                  <a:lnTo>
                    <a:pt x="321" y="288"/>
                  </a:lnTo>
                  <a:lnTo>
                    <a:pt x="334" y="297"/>
                  </a:lnTo>
                  <a:lnTo>
                    <a:pt x="350" y="304"/>
                  </a:lnTo>
                  <a:lnTo>
                    <a:pt x="361" y="309"/>
                  </a:lnTo>
                  <a:lnTo>
                    <a:pt x="374" y="311"/>
                  </a:lnTo>
                  <a:lnTo>
                    <a:pt x="388" y="311"/>
                  </a:lnTo>
                  <a:lnTo>
                    <a:pt x="403" y="304"/>
                  </a:lnTo>
                  <a:lnTo>
                    <a:pt x="399" y="295"/>
                  </a:lnTo>
                  <a:lnTo>
                    <a:pt x="388" y="288"/>
                  </a:lnTo>
                  <a:lnTo>
                    <a:pt x="370" y="280"/>
                  </a:lnTo>
                  <a:lnTo>
                    <a:pt x="348" y="266"/>
                  </a:lnTo>
                  <a:lnTo>
                    <a:pt x="332" y="259"/>
                  </a:lnTo>
                  <a:lnTo>
                    <a:pt x="319" y="250"/>
                  </a:lnTo>
                  <a:lnTo>
                    <a:pt x="308" y="239"/>
                  </a:lnTo>
                  <a:lnTo>
                    <a:pt x="301" y="228"/>
                  </a:lnTo>
                  <a:lnTo>
                    <a:pt x="292" y="215"/>
                  </a:lnTo>
                  <a:lnTo>
                    <a:pt x="285" y="201"/>
                  </a:lnTo>
                  <a:lnTo>
                    <a:pt x="279" y="188"/>
                  </a:lnTo>
                  <a:lnTo>
                    <a:pt x="272" y="175"/>
                  </a:lnTo>
                  <a:lnTo>
                    <a:pt x="281" y="170"/>
                  </a:lnTo>
                  <a:lnTo>
                    <a:pt x="294" y="163"/>
                  </a:lnTo>
                  <a:lnTo>
                    <a:pt x="310" y="159"/>
                  </a:lnTo>
                  <a:lnTo>
                    <a:pt x="328" y="152"/>
                  </a:lnTo>
                  <a:lnTo>
                    <a:pt x="348" y="146"/>
                  </a:lnTo>
                  <a:lnTo>
                    <a:pt x="370" y="139"/>
                  </a:lnTo>
                  <a:lnTo>
                    <a:pt x="395" y="130"/>
                  </a:lnTo>
                  <a:lnTo>
                    <a:pt x="421" y="123"/>
                  </a:lnTo>
                  <a:lnTo>
                    <a:pt x="448" y="119"/>
                  </a:lnTo>
                  <a:lnTo>
                    <a:pt x="475" y="112"/>
                  </a:lnTo>
                  <a:lnTo>
                    <a:pt x="502" y="108"/>
                  </a:lnTo>
                  <a:lnTo>
                    <a:pt x="531" y="103"/>
                  </a:lnTo>
                  <a:lnTo>
                    <a:pt x="557" y="99"/>
                  </a:lnTo>
                  <a:lnTo>
                    <a:pt x="584" y="99"/>
                  </a:lnTo>
                  <a:lnTo>
                    <a:pt x="609" y="96"/>
                  </a:lnTo>
                  <a:lnTo>
                    <a:pt x="633" y="99"/>
                  </a:lnTo>
                  <a:lnTo>
                    <a:pt x="673" y="105"/>
                  </a:lnTo>
                  <a:lnTo>
                    <a:pt x="711" y="112"/>
                  </a:lnTo>
                  <a:lnTo>
                    <a:pt x="747" y="121"/>
                  </a:lnTo>
                  <a:lnTo>
                    <a:pt x="776" y="128"/>
                  </a:lnTo>
                  <a:lnTo>
                    <a:pt x="803" y="132"/>
                  </a:lnTo>
                  <a:lnTo>
                    <a:pt x="821" y="137"/>
                  </a:lnTo>
                  <a:lnTo>
                    <a:pt x="834" y="139"/>
                  </a:lnTo>
                  <a:lnTo>
                    <a:pt x="838" y="139"/>
                  </a:lnTo>
                  <a:lnTo>
                    <a:pt x="838" y="134"/>
                  </a:lnTo>
                  <a:lnTo>
                    <a:pt x="834" y="128"/>
                  </a:lnTo>
                  <a:lnTo>
                    <a:pt x="827" y="121"/>
                  </a:lnTo>
                  <a:lnTo>
                    <a:pt x="818" y="114"/>
                  </a:lnTo>
                  <a:lnTo>
                    <a:pt x="792" y="108"/>
                  </a:lnTo>
                  <a:lnTo>
                    <a:pt x="763" y="99"/>
                  </a:lnTo>
                  <a:lnTo>
                    <a:pt x="734" y="90"/>
                  </a:lnTo>
                  <a:lnTo>
                    <a:pt x="702" y="81"/>
                  </a:lnTo>
                  <a:lnTo>
                    <a:pt x="671" y="74"/>
                  </a:lnTo>
                  <a:lnTo>
                    <a:pt x="642" y="70"/>
                  </a:lnTo>
                  <a:lnTo>
                    <a:pt x="611" y="67"/>
                  </a:lnTo>
                  <a:lnTo>
                    <a:pt x="582" y="70"/>
                  </a:lnTo>
                  <a:lnTo>
                    <a:pt x="591" y="65"/>
                  </a:lnTo>
                  <a:lnTo>
                    <a:pt x="602" y="58"/>
                  </a:lnTo>
                  <a:lnTo>
                    <a:pt x="618" y="50"/>
                  </a:lnTo>
                  <a:lnTo>
                    <a:pt x="631" y="41"/>
                  </a:lnTo>
                  <a:lnTo>
                    <a:pt x="647" y="29"/>
                  </a:lnTo>
                  <a:lnTo>
                    <a:pt x="660" y="23"/>
                  </a:lnTo>
                  <a:lnTo>
                    <a:pt x="673" y="16"/>
                  </a:lnTo>
                  <a:lnTo>
                    <a:pt x="682" y="12"/>
                  </a:lnTo>
                  <a:lnTo>
                    <a:pt x="684" y="5"/>
                  </a:lnTo>
                  <a:lnTo>
                    <a:pt x="682" y="3"/>
                  </a:lnTo>
                  <a:lnTo>
                    <a:pt x="678" y="0"/>
                  </a:lnTo>
                  <a:lnTo>
                    <a:pt x="669" y="0"/>
                  </a:lnTo>
                  <a:lnTo>
                    <a:pt x="660" y="3"/>
                  </a:lnTo>
                  <a:lnTo>
                    <a:pt x="649" y="5"/>
                  </a:lnTo>
                  <a:lnTo>
                    <a:pt x="635" y="7"/>
                  </a:lnTo>
                  <a:lnTo>
                    <a:pt x="622" y="12"/>
                  </a:lnTo>
                  <a:lnTo>
                    <a:pt x="453" y="88"/>
                  </a:lnTo>
                  <a:lnTo>
                    <a:pt x="444" y="90"/>
                  </a:lnTo>
                  <a:lnTo>
                    <a:pt x="424" y="96"/>
                  </a:lnTo>
                  <a:lnTo>
                    <a:pt x="392" y="105"/>
                  </a:lnTo>
                  <a:lnTo>
                    <a:pt x="354" y="114"/>
                  </a:lnTo>
                  <a:lnTo>
                    <a:pt x="314" y="123"/>
                  </a:lnTo>
                  <a:lnTo>
                    <a:pt x="276" y="132"/>
                  </a:lnTo>
                  <a:lnTo>
                    <a:pt x="243" y="137"/>
                  </a:lnTo>
                  <a:lnTo>
                    <a:pt x="221" y="137"/>
                  </a:lnTo>
                  <a:lnTo>
                    <a:pt x="196" y="119"/>
                  </a:lnTo>
                  <a:lnTo>
                    <a:pt x="172" y="103"/>
                  </a:lnTo>
                  <a:lnTo>
                    <a:pt x="145" y="88"/>
                  </a:lnTo>
                  <a:lnTo>
                    <a:pt x="118" y="74"/>
                  </a:lnTo>
                  <a:lnTo>
                    <a:pt x="89" y="63"/>
                  </a:lnTo>
                  <a:lnTo>
                    <a:pt x="60" y="54"/>
                  </a:lnTo>
                  <a:lnTo>
                    <a:pt x="31" y="47"/>
                  </a:lnTo>
                  <a:lnTo>
                    <a:pt x="0" y="43"/>
                  </a:lnTo>
                  <a:lnTo>
                    <a:pt x="31" y="58"/>
                  </a:lnTo>
                  <a:lnTo>
                    <a:pt x="64" y="79"/>
                  </a:lnTo>
                  <a:lnTo>
                    <a:pt x="98" y="96"/>
                  </a:lnTo>
                  <a:lnTo>
                    <a:pt x="129" y="119"/>
                  </a:lnTo>
                  <a:lnTo>
                    <a:pt x="160" y="141"/>
                  </a:lnTo>
                  <a:lnTo>
                    <a:pt x="187" y="166"/>
                  </a:lnTo>
                  <a:lnTo>
                    <a:pt x="209" y="190"/>
                  </a:lnTo>
                  <a:lnTo>
                    <a:pt x="227" y="217"/>
                  </a:lnTo>
                  <a:lnTo>
                    <a:pt x="201" y="215"/>
                  </a:lnTo>
                  <a:lnTo>
                    <a:pt x="176" y="215"/>
                  </a:lnTo>
                  <a:lnTo>
                    <a:pt x="151" y="217"/>
                  </a:lnTo>
                  <a:lnTo>
                    <a:pt x="129" y="221"/>
                  </a:lnTo>
                  <a:lnTo>
                    <a:pt x="107" y="228"/>
                  </a:lnTo>
                  <a:lnTo>
                    <a:pt x="87" y="235"/>
                  </a:lnTo>
                  <a:lnTo>
                    <a:pt x="69" y="248"/>
                  </a:lnTo>
                  <a:lnTo>
                    <a:pt x="53" y="262"/>
                  </a:lnTo>
                  <a:lnTo>
                    <a:pt x="29" y="302"/>
                  </a:lnTo>
                  <a:lnTo>
                    <a:pt x="22" y="346"/>
                  </a:lnTo>
                  <a:lnTo>
                    <a:pt x="29" y="391"/>
                  </a:lnTo>
                  <a:lnTo>
                    <a:pt x="42" y="434"/>
                  </a:lnTo>
                  <a:lnTo>
                    <a:pt x="60" y="454"/>
                  </a:lnTo>
                  <a:lnTo>
                    <a:pt x="80" y="469"/>
                  </a:lnTo>
                  <a:lnTo>
                    <a:pt x="105" y="483"/>
                  </a:lnTo>
                  <a:lnTo>
                    <a:pt x="129" y="489"/>
                  </a:lnTo>
                  <a:lnTo>
                    <a:pt x="156" y="496"/>
                  </a:lnTo>
                  <a:lnTo>
                    <a:pt x="185" y="501"/>
                  </a:lnTo>
                  <a:lnTo>
                    <a:pt x="214" y="501"/>
                  </a:lnTo>
                  <a:lnTo>
                    <a:pt x="245" y="501"/>
                  </a:lnTo>
                  <a:lnTo>
                    <a:pt x="274" y="494"/>
                  </a:lnTo>
                  <a:lnTo>
                    <a:pt x="301" y="494"/>
                  </a:lnTo>
                  <a:lnTo>
                    <a:pt x="328" y="496"/>
                  </a:lnTo>
                  <a:lnTo>
                    <a:pt x="352" y="498"/>
                  </a:lnTo>
                  <a:lnTo>
                    <a:pt x="377" y="503"/>
                  </a:lnTo>
                  <a:lnTo>
                    <a:pt x="401" y="505"/>
                  </a:lnTo>
                  <a:lnTo>
                    <a:pt x="426" y="503"/>
                  </a:lnTo>
                  <a:lnTo>
                    <a:pt x="450" y="496"/>
                  </a:lnTo>
                  <a:lnTo>
                    <a:pt x="464" y="489"/>
                  </a:lnTo>
                  <a:lnTo>
                    <a:pt x="477" y="483"/>
                  </a:lnTo>
                  <a:lnTo>
                    <a:pt x="486" y="474"/>
                  </a:lnTo>
                  <a:lnTo>
                    <a:pt x="495" y="465"/>
                  </a:lnTo>
                  <a:lnTo>
                    <a:pt x="2846" y="465"/>
                  </a:lnTo>
                  <a:lnTo>
                    <a:pt x="2835" y="4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806"/>
            <p:cNvSpPr/>
            <p:nvPr/>
          </p:nvSpPr>
          <p:spPr>
            <a:xfrm>
              <a:off x="4832280" y="6434280"/>
              <a:ext cx="739800" cy="33120"/>
            </a:xfrm>
            <a:custGeom>
              <a:avLst/>
              <a:gdLst>
                <a:gd name="textAreaLeft" fmla="*/ 0 w 739800"/>
                <a:gd name="textAreaRight" fmla="*/ 740160 w 739800"/>
                <a:gd name="textAreaTop" fmla="*/ 0 h 33120"/>
                <a:gd name="textAreaBottom" fmla="*/ 33480 h 33120"/>
              </a:gdLst>
              <a:ahLst/>
              <a:rect l="textAreaLeft" t="textAreaTop" r="textAreaRight" b="textAreaBottom"/>
              <a:pathLst>
                <a:path w="682" h="31">
                  <a:moveTo>
                    <a:pt x="660" y="0"/>
                  </a:moveTo>
                  <a:lnTo>
                    <a:pt x="18" y="0"/>
                  </a:lnTo>
                  <a:lnTo>
                    <a:pt x="0" y="31"/>
                  </a:lnTo>
                  <a:lnTo>
                    <a:pt x="682" y="31"/>
                  </a:lnTo>
                  <a:lnTo>
                    <a:pt x="66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5" name="Freeform 807"/>
            <p:cNvSpPr/>
            <p:nvPr/>
          </p:nvSpPr>
          <p:spPr>
            <a:xfrm>
              <a:off x="5938920" y="526428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125" h="127">
                  <a:moveTo>
                    <a:pt x="107" y="78"/>
                  </a:moveTo>
                  <a:lnTo>
                    <a:pt x="101" y="89"/>
                  </a:lnTo>
                  <a:lnTo>
                    <a:pt x="92" y="98"/>
                  </a:lnTo>
                  <a:lnTo>
                    <a:pt x="83" y="102"/>
                  </a:lnTo>
                  <a:lnTo>
                    <a:pt x="69" y="105"/>
                  </a:lnTo>
                  <a:lnTo>
                    <a:pt x="54" y="100"/>
                  </a:lnTo>
                  <a:lnTo>
                    <a:pt x="40" y="91"/>
                  </a:lnTo>
                  <a:lnTo>
                    <a:pt x="31" y="78"/>
                  </a:lnTo>
                  <a:lnTo>
                    <a:pt x="29" y="62"/>
                  </a:lnTo>
                  <a:lnTo>
                    <a:pt x="31" y="44"/>
                  </a:lnTo>
                  <a:lnTo>
                    <a:pt x="40" y="31"/>
                  </a:lnTo>
                  <a:lnTo>
                    <a:pt x="54" y="22"/>
                  </a:lnTo>
                  <a:lnTo>
                    <a:pt x="69" y="20"/>
                  </a:lnTo>
                  <a:lnTo>
                    <a:pt x="83" y="22"/>
                  </a:lnTo>
                  <a:lnTo>
                    <a:pt x="94" y="29"/>
                  </a:lnTo>
                  <a:lnTo>
                    <a:pt x="103" y="38"/>
                  </a:lnTo>
                  <a:lnTo>
                    <a:pt x="107" y="51"/>
                  </a:lnTo>
                  <a:lnTo>
                    <a:pt x="125" y="51"/>
                  </a:lnTo>
                  <a:lnTo>
                    <a:pt x="118" y="31"/>
                  </a:lnTo>
                  <a:lnTo>
                    <a:pt x="105" y="15"/>
                  </a:lnTo>
                  <a:lnTo>
                    <a:pt x="85" y="4"/>
                  </a:lnTo>
                  <a:lnTo>
                    <a:pt x="65" y="0"/>
                  </a:lnTo>
                  <a:lnTo>
                    <a:pt x="40" y="4"/>
                  </a:lnTo>
                  <a:lnTo>
                    <a:pt x="20" y="18"/>
                  </a:lnTo>
                  <a:lnTo>
                    <a:pt x="5" y="38"/>
                  </a:lnTo>
                  <a:lnTo>
                    <a:pt x="0" y="62"/>
                  </a:lnTo>
                  <a:lnTo>
                    <a:pt x="5" y="87"/>
                  </a:lnTo>
                  <a:lnTo>
                    <a:pt x="20" y="107"/>
                  </a:lnTo>
                  <a:lnTo>
                    <a:pt x="40" y="122"/>
                  </a:lnTo>
                  <a:lnTo>
                    <a:pt x="65" y="127"/>
                  </a:lnTo>
                  <a:lnTo>
                    <a:pt x="85" y="122"/>
                  </a:lnTo>
                  <a:lnTo>
                    <a:pt x="103" y="111"/>
                  </a:lnTo>
                  <a:lnTo>
                    <a:pt x="116" y="96"/>
                  </a:lnTo>
                  <a:lnTo>
                    <a:pt x="125" y="78"/>
                  </a:lnTo>
                  <a:lnTo>
                    <a:pt x="107"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808"/>
            <p:cNvSpPr/>
            <p:nvPr/>
          </p:nvSpPr>
          <p:spPr>
            <a:xfrm>
              <a:off x="6327720" y="5224320"/>
              <a:ext cx="138240" cy="135000"/>
            </a:xfrm>
            <a:custGeom>
              <a:avLst/>
              <a:gdLst>
                <a:gd name="textAreaLeft" fmla="*/ 0 w 138240"/>
                <a:gd name="textAreaRight" fmla="*/ 138600 w 138240"/>
                <a:gd name="textAreaTop" fmla="*/ 0 h 135000"/>
                <a:gd name="textAreaBottom" fmla="*/ 135360 h 135000"/>
              </a:gdLst>
              <a:ahLst/>
              <a:rect l="textAreaLeft" t="textAreaTop" r="textAreaRight" b="textAreaBottom"/>
              <a:pathLst>
                <a:path w="127" h="127">
                  <a:moveTo>
                    <a:pt x="107" y="78"/>
                  </a:moveTo>
                  <a:lnTo>
                    <a:pt x="101" y="89"/>
                  </a:lnTo>
                  <a:lnTo>
                    <a:pt x="92" y="96"/>
                  </a:lnTo>
                  <a:lnTo>
                    <a:pt x="83" y="100"/>
                  </a:lnTo>
                  <a:lnTo>
                    <a:pt x="69" y="102"/>
                  </a:lnTo>
                  <a:lnTo>
                    <a:pt x="54" y="100"/>
                  </a:lnTo>
                  <a:lnTo>
                    <a:pt x="40" y="91"/>
                  </a:lnTo>
                  <a:lnTo>
                    <a:pt x="32" y="78"/>
                  </a:lnTo>
                  <a:lnTo>
                    <a:pt x="29" y="60"/>
                  </a:lnTo>
                  <a:lnTo>
                    <a:pt x="32" y="44"/>
                  </a:lnTo>
                  <a:lnTo>
                    <a:pt x="40" y="31"/>
                  </a:lnTo>
                  <a:lnTo>
                    <a:pt x="54" y="22"/>
                  </a:lnTo>
                  <a:lnTo>
                    <a:pt x="69" y="18"/>
                  </a:lnTo>
                  <a:lnTo>
                    <a:pt x="83" y="20"/>
                  </a:lnTo>
                  <a:lnTo>
                    <a:pt x="96" y="26"/>
                  </a:lnTo>
                  <a:lnTo>
                    <a:pt x="105" y="38"/>
                  </a:lnTo>
                  <a:lnTo>
                    <a:pt x="110" y="51"/>
                  </a:lnTo>
                  <a:lnTo>
                    <a:pt x="127" y="51"/>
                  </a:lnTo>
                  <a:lnTo>
                    <a:pt x="119" y="29"/>
                  </a:lnTo>
                  <a:lnTo>
                    <a:pt x="105" y="13"/>
                  </a:lnTo>
                  <a:lnTo>
                    <a:pt x="87" y="4"/>
                  </a:lnTo>
                  <a:lnTo>
                    <a:pt x="65" y="0"/>
                  </a:lnTo>
                  <a:lnTo>
                    <a:pt x="40" y="4"/>
                  </a:lnTo>
                  <a:lnTo>
                    <a:pt x="20" y="18"/>
                  </a:lnTo>
                  <a:lnTo>
                    <a:pt x="5" y="38"/>
                  </a:lnTo>
                  <a:lnTo>
                    <a:pt x="0" y="62"/>
                  </a:lnTo>
                  <a:lnTo>
                    <a:pt x="5" y="87"/>
                  </a:lnTo>
                  <a:lnTo>
                    <a:pt x="20" y="107"/>
                  </a:lnTo>
                  <a:lnTo>
                    <a:pt x="40" y="122"/>
                  </a:lnTo>
                  <a:lnTo>
                    <a:pt x="65" y="127"/>
                  </a:lnTo>
                  <a:lnTo>
                    <a:pt x="85" y="122"/>
                  </a:lnTo>
                  <a:lnTo>
                    <a:pt x="105" y="111"/>
                  </a:lnTo>
                  <a:lnTo>
                    <a:pt x="119" y="96"/>
                  </a:lnTo>
                  <a:lnTo>
                    <a:pt x="127" y="78"/>
                  </a:lnTo>
                  <a:lnTo>
                    <a:pt x="107"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809"/>
            <p:cNvSpPr/>
            <p:nvPr/>
          </p:nvSpPr>
          <p:spPr>
            <a:xfrm>
              <a:off x="6630840" y="5097600"/>
              <a:ext cx="1395720" cy="1025280"/>
            </a:xfrm>
            <a:custGeom>
              <a:avLst/>
              <a:gdLst>
                <a:gd name="textAreaLeft" fmla="*/ 0 w 1395720"/>
                <a:gd name="textAreaRight" fmla="*/ 1396080 w 1395720"/>
                <a:gd name="textAreaTop" fmla="*/ 0 h 1025280"/>
                <a:gd name="textAreaBottom" fmla="*/ 1025640 h 1025280"/>
              </a:gdLst>
              <a:ahLst/>
              <a:rect l="textAreaLeft" t="textAreaTop" r="textAreaRight" b="textAreaBottom"/>
              <a:pathLst>
                <a:path w="1287" h="960">
                  <a:moveTo>
                    <a:pt x="547" y="650"/>
                  </a:moveTo>
                  <a:lnTo>
                    <a:pt x="587" y="657"/>
                  </a:lnTo>
                  <a:lnTo>
                    <a:pt x="627" y="661"/>
                  </a:lnTo>
                  <a:lnTo>
                    <a:pt x="663" y="666"/>
                  </a:lnTo>
                  <a:lnTo>
                    <a:pt x="698" y="670"/>
                  </a:lnTo>
                  <a:lnTo>
                    <a:pt x="732" y="672"/>
                  </a:lnTo>
                  <a:lnTo>
                    <a:pt x="765" y="675"/>
                  </a:lnTo>
                  <a:lnTo>
                    <a:pt x="796" y="677"/>
                  </a:lnTo>
                  <a:lnTo>
                    <a:pt x="828" y="679"/>
                  </a:lnTo>
                  <a:lnTo>
                    <a:pt x="819" y="692"/>
                  </a:lnTo>
                  <a:lnTo>
                    <a:pt x="803" y="706"/>
                  </a:lnTo>
                  <a:lnTo>
                    <a:pt x="785" y="719"/>
                  </a:lnTo>
                  <a:lnTo>
                    <a:pt x="765" y="728"/>
                  </a:lnTo>
                  <a:lnTo>
                    <a:pt x="745" y="737"/>
                  </a:lnTo>
                  <a:lnTo>
                    <a:pt x="725" y="744"/>
                  </a:lnTo>
                  <a:lnTo>
                    <a:pt x="705" y="748"/>
                  </a:lnTo>
                  <a:lnTo>
                    <a:pt x="689" y="750"/>
                  </a:lnTo>
                  <a:lnTo>
                    <a:pt x="660" y="735"/>
                  </a:lnTo>
                  <a:lnTo>
                    <a:pt x="629" y="717"/>
                  </a:lnTo>
                  <a:lnTo>
                    <a:pt x="598" y="697"/>
                  </a:lnTo>
                  <a:lnTo>
                    <a:pt x="567" y="679"/>
                  </a:lnTo>
                  <a:lnTo>
                    <a:pt x="535" y="661"/>
                  </a:lnTo>
                  <a:lnTo>
                    <a:pt x="502" y="646"/>
                  </a:lnTo>
                  <a:lnTo>
                    <a:pt x="471" y="632"/>
                  </a:lnTo>
                  <a:lnTo>
                    <a:pt x="437" y="623"/>
                  </a:lnTo>
                  <a:lnTo>
                    <a:pt x="431" y="621"/>
                  </a:lnTo>
                  <a:lnTo>
                    <a:pt x="410" y="619"/>
                  </a:lnTo>
                  <a:lnTo>
                    <a:pt x="384" y="614"/>
                  </a:lnTo>
                  <a:lnTo>
                    <a:pt x="350" y="610"/>
                  </a:lnTo>
                  <a:lnTo>
                    <a:pt x="315" y="603"/>
                  </a:lnTo>
                  <a:lnTo>
                    <a:pt x="277" y="599"/>
                  </a:lnTo>
                  <a:lnTo>
                    <a:pt x="243" y="596"/>
                  </a:lnTo>
                  <a:lnTo>
                    <a:pt x="216" y="596"/>
                  </a:lnTo>
                  <a:lnTo>
                    <a:pt x="194" y="599"/>
                  </a:lnTo>
                  <a:lnTo>
                    <a:pt x="172" y="601"/>
                  </a:lnTo>
                  <a:lnTo>
                    <a:pt x="152" y="603"/>
                  </a:lnTo>
                  <a:lnTo>
                    <a:pt x="134" y="608"/>
                  </a:lnTo>
                  <a:lnTo>
                    <a:pt x="116" y="614"/>
                  </a:lnTo>
                  <a:lnTo>
                    <a:pt x="100" y="619"/>
                  </a:lnTo>
                  <a:lnTo>
                    <a:pt x="87" y="625"/>
                  </a:lnTo>
                  <a:lnTo>
                    <a:pt x="74" y="632"/>
                  </a:lnTo>
                  <a:lnTo>
                    <a:pt x="51" y="650"/>
                  </a:lnTo>
                  <a:lnTo>
                    <a:pt x="34" y="670"/>
                  </a:lnTo>
                  <a:lnTo>
                    <a:pt x="20" y="690"/>
                  </a:lnTo>
                  <a:lnTo>
                    <a:pt x="9" y="710"/>
                  </a:lnTo>
                  <a:lnTo>
                    <a:pt x="2" y="730"/>
                  </a:lnTo>
                  <a:lnTo>
                    <a:pt x="0" y="753"/>
                  </a:lnTo>
                  <a:lnTo>
                    <a:pt x="0" y="777"/>
                  </a:lnTo>
                  <a:lnTo>
                    <a:pt x="5" y="802"/>
                  </a:lnTo>
                  <a:lnTo>
                    <a:pt x="11" y="826"/>
                  </a:lnTo>
                  <a:lnTo>
                    <a:pt x="22" y="846"/>
                  </a:lnTo>
                  <a:lnTo>
                    <a:pt x="36" y="862"/>
                  </a:lnTo>
                  <a:lnTo>
                    <a:pt x="54" y="875"/>
                  </a:lnTo>
                  <a:lnTo>
                    <a:pt x="71" y="887"/>
                  </a:lnTo>
                  <a:lnTo>
                    <a:pt x="94" y="896"/>
                  </a:lnTo>
                  <a:lnTo>
                    <a:pt x="116" y="902"/>
                  </a:lnTo>
                  <a:lnTo>
                    <a:pt x="138" y="909"/>
                  </a:lnTo>
                  <a:lnTo>
                    <a:pt x="457" y="940"/>
                  </a:lnTo>
                  <a:lnTo>
                    <a:pt x="526" y="947"/>
                  </a:lnTo>
                  <a:lnTo>
                    <a:pt x="520" y="911"/>
                  </a:lnTo>
                  <a:lnTo>
                    <a:pt x="495" y="907"/>
                  </a:lnTo>
                  <a:lnTo>
                    <a:pt x="473" y="902"/>
                  </a:lnTo>
                  <a:lnTo>
                    <a:pt x="448" y="900"/>
                  </a:lnTo>
                  <a:lnTo>
                    <a:pt x="424" y="898"/>
                  </a:lnTo>
                  <a:lnTo>
                    <a:pt x="402" y="896"/>
                  </a:lnTo>
                  <a:lnTo>
                    <a:pt x="377" y="893"/>
                  </a:lnTo>
                  <a:lnTo>
                    <a:pt x="352" y="891"/>
                  </a:lnTo>
                  <a:lnTo>
                    <a:pt x="328" y="889"/>
                  </a:lnTo>
                  <a:lnTo>
                    <a:pt x="303" y="889"/>
                  </a:lnTo>
                  <a:lnTo>
                    <a:pt x="279" y="887"/>
                  </a:lnTo>
                  <a:lnTo>
                    <a:pt x="254" y="884"/>
                  </a:lnTo>
                  <a:lnTo>
                    <a:pt x="230" y="882"/>
                  </a:lnTo>
                  <a:lnTo>
                    <a:pt x="205" y="880"/>
                  </a:lnTo>
                  <a:lnTo>
                    <a:pt x="183" y="878"/>
                  </a:lnTo>
                  <a:lnTo>
                    <a:pt x="158" y="873"/>
                  </a:lnTo>
                  <a:lnTo>
                    <a:pt x="134" y="869"/>
                  </a:lnTo>
                  <a:lnTo>
                    <a:pt x="121" y="864"/>
                  </a:lnTo>
                  <a:lnTo>
                    <a:pt x="107" y="860"/>
                  </a:lnTo>
                  <a:lnTo>
                    <a:pt x="94" y="853"/>
                  </a:lnTo>
                  <a:lnTo>
                    <a:pt x="83" y="844"/>
                  </a:lnTo>
                  <a:lnTo>
                    <a:pt x="71" y="835"/>
                  </a:lnTo>
                  <a:lnTo>
                    <a:pt x="65" y="824"/>
                  </a:lnTo>
                  <a:lnTo>
                    <a:pt x="56" y="813"/>
                  </a:lnTo>
                  <a:lnTo>
                    <a:pt x="51" y="800"/>
                  </a:lnTo>
                  <a:lnTo>
                    <a:pt x="45" y="768"/>
                  </a:lnTo>
                  <a:lnTo>
                    <a:pt x="45" y="735"/>
                  </a:lnTo>
                  <a:lnTo>
                    <a:pt x="56" y="704"/>
                  </a:lnTo>
                  <a:lnTo>
                    <a:pt x="78" y="672"/>
                  </a:lnTo>
                  <a:lnTo>
                    <a:pt x="87" y="666"/>
                  </a:lnTo>
                  <a:lnTo>
                    <a:pt x="96" y="661"/>
                  </a:lnTo>
                  <a:lnTo>
                    <a:pt x="105" y="654"/>
                  </a:lnTo>
                  <a:lnTo>
                    <a:pt x="114" y="648"/>
                  </a:lnTo>
                  <a:lnTo>
                    <a:pt x="125" y="643"/>
                  </a:lnTo>
                  <a:lnTo>
                    <a:pt x="134" y="641"/>
                  </a:lnTo>
                  <a:lnTo>
                    <a:pt x="145" y="639"/>
                  </a:lnTo>
                  <a:lnTo>
                    <a:pt x="156" y="639"/>
                  </a:lnTo>
                  <a:lnTo>
                    <a:pt x="154" y="650"/>
                  </a:lnTo>
                  <a:lnTo>
                    <a:pt x="150" y="661"/>
                  </a:lnTo>
                  <a:lnTo>
                    <a:pt x="145" y="672"/>
                  </a:lnTo>
                  <a:lnTo>
                    <a:pt x="147" y="677"/>
                  </a:lnTo>
                  <a:lnTo>
                    <a:pt x="176" y="659"/>
                  </a:lnTo>
                  <a:lnTo>
                    <a:pt x="205" y="648"/>
                  </a:lnTo>
                  <a:lnTo>
                    <a:pt x="237" y="639"/>
                  </a:lnTo>
                  <a:lnTo>
                    <a:pt x="268" y="634"/>
                  </a:lnTo>
                  <a:lnTo>
                    <a:pt x="301" y="632"/>
                  </a:lnTo>
                  <a:lnTo>
                    <a:pt x="332" y="634"/>
                  </a:lnTo>
                  <a:lnTo>
                    <a:pt x="364" y="641"/>
                  </a:lnTo>
                  <a:lnTo>
                    <a:pt x="397" y="648"/>
                  </a:lnTo>
                  <a:lnTo>
                    <a:pt x="428" y="659"/>
                  </a:lnTo>
                  <a:lnTo>
                    <a:pt x="457" y="670"/>
                  </a:lnTo>
                  <a:lnTo>
                    <a:pt x="489" y="686"/>
                  </a:lnTo>
                  <a:lnTo>
                    <a:pt x="518" y="701"/>
                  </a:lnTo>
                  <a:lnTo>
                    <a:pt x="544" y="719"/>
                  </a:lnTo>
                  <a:lnTo>
                    <a:pt x="571" y="737"/>
                  </a:lnTo>
                  <a:lnTo>
                    <a:pt x="596" y="755"/>
                  </a:lnTo>
                  <a:lnTo>
                    <a:pt x="618" y="775"/>
                  </a:lnTo>
                  <a:lnTo>
                    <a:pt x="605" y="777"/>
                  </a:lnTo>
                  <a:lnTo>
                    <a:pt x="596" y="784"/>
                  </a:lnTo>
                  <a:lnTo>
                    <a:pt x="584" y="791"/>
                  </a:lnTo>
                  <a:lnTo>
                    <a:pt x="578" y="800"/>
                  </a:lnTo>
                  <a:lnTo>
                    <a:pt x="569" y="811"/>
                  </a:lnTo>
                  <a:lnTo>
                    <a:pt x="562" y="822"/>
                  </a:lnTo>
                  <a:lnTo>
                    <a:pt x="555" y="831"/>
                  </a:lnTo>
                  <a:lnTo>
                    <a:pt x="549" y="840"/>
                  </a:lnTo>
                  <a:lnTo>
                    <a:pt x="547" y="867"/>
                  </a:lnTo>
                  <a:lnTo>
                    <a:pt x="549" y="907"/>
                  </a:lnTo>
                  <a:lnTo>
                    <a:pt x="555" y="945"/>
                  </a:lnTo>
                  <a:lnTo>
                    <a:pt x="558" y="960"/>
                  </a:lnTo>
                  <a:lnTo>
                    <a:pt x="580" y="954"/>
                  </a:lnTo>
                  <a:lnTo>
                    <a:pt x="580" y="929"/>
                  </a:lnTo>
                  <a:lnTo>
                    <a:pt x="576" y="896"/>
                  </a:lnTo>
                  <a:lnTo>
                    <a:pt x="573" y="864"/>
                  </a:lnTo>
                  <a:lnTo>
                    <a:pt x="587" y="831"/>
                  </a:lnTo>
                  <a:lnTo>
                    <a:pt x="609" y="806"/>
                  </a:lnTo>
                  <a:lnTo>
                    <a:pt x="638" y="791"/>
                  </a:lnTo>
                  <a:lnTo>
                    <a:pt x="671" y="782"/>
                  </a:lnTo>
                  <a:lnTo>
                    <a:pt x="707" y="773"/>
                  </a:lnTo>
                  <a:lnTo>
                    <a:pt x="743" y="766"/>
                  </a:lnTo>
                  <a:lnTo>
                    <a:pt x="776" y="755"/>
                  </a:lnTo>
                  <a:lnTo>
                    <a:pt x="805" y="737"/>
                  </a:lnTo>
                  <a:lnTo>
                    <a:pt x="964" y="610"/>
                  </a:lnTo>
                  <a:lnTo>
                    <a:pt x="1013" y="576"/>
                  </a:lnTo>
                  <a:lnTo>
                    <a:pt x="1053" y="552"/>
                  </a:lnTo>
                  <a:lnTo>
                    <a:pt x="1082" y="532"/>
                  </a:lnTo>
                  <a:lnTo>
                    <a:pt x="1106" y="516"/>
                  </a:lnTo>
                  <a:lnTo>
                    <a:pt x="1129" y="503"/>
                  </a:lnTo>
                  <a:lnTo>
                    <a:pt x="1151" y="494"/>
                  </a:lnTo>
                  <a:lnTo>
                    <a:pt x="1173" y="485"/>
                  </a:lnTo>
                  <a:lnTo>
                    <a:pt x="1202" y="476"/>
                  </a:lnTo>
                  <a:lnTo>
                    <a:pt x="1220" y="471"/>
                  </a:lnTo>
                  <a:lnTo>
                    <a:pt x="1236" y="467"/>
                  </a:lnTo>
                  <a:lnTo>
                    <a:pt x="1247" y="465"/>
                  </a:lnTo>
                  <a:lnTo>
                    <a:pt x="1258" y="462"/>
                  </a:lnTo>
                  <a:lnTo>
                    <a:pt x="1267" y="460"/>
                  </a:lnTo>
                  <a:lnTo>
                    <a:pt x="1274" y="458"/>
                  </a:lnTo>
                  <a:lnTo>
                    <a:pt x="1280" y="456"/>
                  </a:lnTo>
                  <a:lnTo>
                    <a:pt x="1287" y="451"/>
                  </a:lnTo>
                  <a:lnTo>
                    <a:pt x="1278" y="442"/>
                  </a:lnTo>
                  <a:lnTo>
                    <a:pt x="1262" y="438"/>
                  </a:lnTo>
                  <a:lnTo>
                    <a:pt x="1242" y="440"/>
                  </a:lnTo>
                  <a:lnTo>
                    <a:pt x="1229" y="442"/>
                  </a:lnTo>
                  <a:lnTo>
                    <a:pt x="1222" y="402"/>
                  </a:lnTo>
                  <a:lnTo>
                    <a:pt x="1220" y="362"/>
                  </a:lnTo>
                  <a:lnTo>
                    <a:pt x="1220" y="322"/>
                  </a:lnTo>
                  <a:lnTo>
                    <a:pt x="1222" y="277"/>
                  </a:lnTo>
                  <a:lnTo>
                    <a:pt x="1225" y="226"/>
                  </a:lnTo>
                  <a:lnTo>
                    <a:pt x="1231" y="177"/>
                  </a:lnTo>
                  <a:lnTo>
                    <a:pt x="1242" y="130"/>
                  </a:lnTo>
                  <a:lnTo>
                    <a:pt x="1254" y="87"/>
                  </a:lnTo>
                  <a:lnTo>
                    <a:pt x="1267" y="52"/>
                  </a:lnTo>
                  <a:lnTo>
                    <a:pt x="1276" y="25"/>
                  </a:lnTo>
                  <a:lnTo>
                    <a:pt x="1285" y="7"/>
                  </a:lnTo>
                  <a:lnTo>
                    <a:pt x="1287" y="0"/>
                  </a:lnTo>
                  <a:lnTo>
                    <a:pt x="1238" y="74"/>
                  </a:lnTo>
                  <a:lnTo>
                    <a:pt x="1216" y="121"/>
                  </a:lnTo>
                  <a:lnTo>
                    <a:pt x="1200" y="168"/>
                  </a:lnTo>
                  <a:lnTo>
                    <a:pt x="1187" y="217"/>
                  </a:lnTo>
                  <a:lnTo>
                    <a:pt x="1180" y="266"/>
                  </a:lnTo>
                  <a:lnTo>
                    <a:pt x="1175" y="315"/>
                  </a:lnTo>
                  <a:lnTo>
                    <a:pt x="1173" y="364"/>
                  </a:lnTo>
                  <a:lnTo>
                    <a:pt x="1173" y="411"/>
                  </a:lnTo>
                  <a:lnTo>
                    <a:pt x="1175" y="458"/>
                  </a:lnTo>
                  <a:lnTo>
                    <a:pt x="1153" y="467"/>
                  </a:lnTo>
                  <a:lnTo>
                    <a:pt x="1131" y="474"/>
                  </a:lnTo>
                  <a:lnTo>
                    <a:pt x="1106" y="483"/>
                  </a:lnTo>
                  <a:lnTo>
                    <a:pt x="1082" y="492"/>
                  </a:lnTo>
                  <a:lnTo>
                    <a:pt x="1057" y="500"/>
                  </a:lnTo>
                  <a:lnTo>
                    <a:pt x="1033" y="512"/>
                  </a:lnTo>
                  <a:lnTo>
                    <a:pt x="1008" y="523"/>
                  </a:lnTo>
                  <a:lnTo>
                    <a:pt x="988" y="536"/>
                  </a:lnTo>
                  <a:lnTo>
                    <a:pt x="975" y="536"/>
                  </a:lnTo>
                  <a:lnTo>
                    <a:pt x="959" y="534"/>
                  </a:lnTo>
                  <a:lnTo>
                    <a:pt x="946" y="529"/>
                  </a:lnTo>
                  <a:lnTo>
                    <a:pt x="930" y="525"/>
                  </a:lnTo>
                  <a:lnTo>
                    <a:pt x="912" y="521"/>
                  </a:lnTo>
                  <a:lnTo>
                    <a:pt x="894" y="514"/>
                  </a:lnTo>
                  <a:lnTo>
                    <a:pt x="872" y="507"/>
                  </a:lnTo>
                  <a:lnTo>
                    <a:pt x="850" y="500"/>
                  </a:lnTo>
                  <a:lnTo>
                    <a:pt x="812" y="494"/>
                  </a:lnTo>
                  <a:lnTo>
                    <a:pt x="781" y="485"/>
                  </a:lnTo>
                  <a:lnTo>
                    <a:pt x="749" y="476"/>
                  </a:lnTo>
                  <a:lnTo>
                    <a:pt x="723" y="467"/>
                  </a:lnTo>
                  <a:lnTo>
                    <a:pt x="694" y="460"/>
                  </a:lnTo>
                  <a:lnTo>
                    <a:pt x="665" y="454"/>
                  </a:lnTo>
                  <a:lnTo>
                    <a:pt x="631" y="454"/>
                  </a:lnTo>
                  <a:lnTo>
                    <a:pt x="596" y="456"/>
                  </a:lnTo>
                  <a:lnTo>
                    <a:pt x="607" y="384"/>
                  </a:lnTo>
                  <a:lnTo>
                    <a:pt x="611" y="297"/>
                  </a:lnTo>
                  <a:lnTo>
                    <a:pt x="607" y="226"/>
                  </a:lnTo>
                  <a:lnTo>
                    <a:pt x="598" y="199"/>
                  </a:lnTo>
                  <a:lnTo>
                    <a:pt x="589" y="277"/>
                  </a:lnTo>
                  <a:lnTo>
                    <a:pt x="571" y="364"/>
                  </a:lnTo>
                  <a:lnTo>
                    <a:pt x="553" y="436"/>
                  </a:lnTo>
                  <a:lnTo>
                    <a:pt x="547" y="465"/>
                  </a:lnTo>
                  <a:lnTo>
                    <a:pt x="540" y="467"/>
                  </a:lnTo>
                  <a:lnTo>
                    <a:pt x="526" y="471"/>
                  </a:lnTo>
                  <a:lnTo>
                    <a:pt x="509" y="478"/>
                  </a:lnTo>
                  <a:lnTo>
                    <a:pt x="491" y="485"/>
                  </a:lnTo>
                  <a:lnTo>
                    <a:pt x="473" y="494"/>
                  </a:lnTo>
                  <a:lnTo>
                    <a:pt x="457" y="505"/>
                  </a:lnTo>
                  <a:lnTo>
                    <a:pt x="448" y="516"/>
                  </a:lnTo>
                  <a:lnTo>
                    <a:pt x="446" y="532"/>
                  </a:lnTo>
                  <a:lnTo>
                    <a:pt x="502" y="514"/>
                  </a:lnTo>
                  <a:lnTo>
                    <a:pt x="551" y="505"/>
                  </a:lnTo>
                  <a:lnTo>
                    <a:pt x="596" y="500"/>
                  </a:lnTo>
                  <a:lnTo>
                    <a:pt x="631" y="498"/>
                  </a:lnTo>
                  <a:lnTo>
                    <a:pt x="663" y="500"/>
                  </a:lnTo>
                  <a:lnTo>
                    <a:pt x="685" y="503"/>
                  </a:lnTo>
                  <a:lnTo>
                    <a:pt x="698" y="505"/>
                  </a:lnTo>
                  <a:lnTo>
                    <a:pt x="703" y="507"/>
                  </a:lnTo>
                  <a:lnTo>
                    <a:pt x="944" y="563"/>
                  </a:lnTo>
                  <a:lnTo>
                    <a:pt x="928" y="574"/>
                  </a:lnTo>
                  <a:lnTo>
                    <a:pt x="915" y="583"/>
                  </a:lnTo>
                  <a:lnTo>
                    <a:pt x="901" y="594"/>
                  </a:lnTo>
                  <a:lnTo>
                    <a:pt x="888" y="603"/>
                  </a:lnTo>
                  <a:lnTo>
                    <a:pt x="874" y="614"/>
                  </a:lnTo>
                  <a:lnTo>
                    <a:pt x="861" y="625"/>
                  </a:lnTo>
                  <a:lnTo>
                    <a:pt x="848" y="639"/>
                  </a:lnTo>
                  <a:lnTo>
                    <a:pt x="834" y="650"/>
                  </a:lnTo>
                  <a:lnTo>
                    <a:pt x="823" y="650"/>
                  </a:lnTo>
                  <a:lnTo>
                    <a:pt x="794" y="650"/>
                  </a:lnTo>
                  <a:lnTo>
                    <a:pt x="752" y="648"/>
                  </a:lnTo>
                  <a:lnTo>
                    <a:pt x="703" y="646"/>
                  </a:lnTo>
                  <a:lnTo>
                    <a:pt x="649" y="641"/>
                  </a:lnTo>
                  <a:lnTo>
                    <a:pt x="593" y="637"/>
                  </a:lnTo>
                  <a:lnTo>
                    <a:pt x="544" y="632"/>
                  </a:lnTo>
                  <a:lnTo>
                    <a:pt x="502" y="625"/>
                  </a:lnTo>
                  <a:lnTo>
                    <a:pt x="547" y="6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810"/>
            <p:cNvSpPr/>
            <p:nvPr/>
          </p:nvSpPr>
          <p:spPr>
            <a:xfrm>
              <a:off x="6273720" y="4751280"/>
              <a:ext cx="112680" cy="57240"/>
            </a:xfrm>
            <a:custGeom>
              <a:avLst/>
              <a:gdLst>
                <a:gd name="textAreaLeft" fmla="*/ 0 w 112680"/>
                <a:gd name="textAreaRight" fmla="*/ 113040 w 112680"/>
                <a:gd name="textAreaTop" fmla="*/ 0 h 57240"/>
                <a:gd name="textAreaBottom" fmla="*/ 57600 h 57240"/>
              </a:gdLst>
              <a:ahLst/>
              <a:rect l="textAreaLeft" t="textAreaTop" r="textAreaRight" b="textAreaBottom"/>
              <a:pathLst>
                <a:path w="105" h="53">
                  <a:moveTo>
                    <a:pt x="0" y="20"/>
                  </a:moveTo>
                  <a:lnTo>
                    <a:pt x="33" y="47"/>
                  </a:lnTo>
                  <a:lnTo>
                    <a:pt x="60" y="53"/>
                  </a:lnTo>
                  <a:lnTo>
                    <a:pt x="62" y="53"/>
                  </a:lnTo>
                  <a:lnTo>
                    <a:pt x="69" y="51"/>
                  </a:lnTo>
                  <a:lnTo>
                    <a:pt x="78" y="47"/>
                  </a:lnTo>
                  <a:lnTo>
                    <a:pt x="85" y="40"/>
                  </a:lnTo>
                  <a:lnTo>
                    <a:pt x="89" y="29"/>
                  </a:lnTo>
                  <a:lnTo>
                    <a:pt x="96" y="15"/>
                  </a:lnTo>
                  <a:lnTo>
                    <a:pt x="103" y="4"/>
                  </a:lnTo>
                  <a:lnTo>
                    <a:pt x="105" y="0"/>
                  </a:lnTo>
                  <a:lnTo>
                    <a:pt x="49" y="18"/>
                  </a:lnTo>
                  <a:lnTo>
                    <a:pt x="0" y="2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9" name="Freeform 811"/>
            <p:cNvSpPr/>
            <p:nvPr/>
          </p:nvSpPr>
          <p:spPr>
            <a:xfrm>
              <a:off x="6326280" y="4551480"/>
              <a:ext cx="74520" cy="147600"/>
            </a:xfrm>
            <a:custGeom>
              <a:avLst/>
              <a:gdLst>
                <a:gd name="textAreaLeft" fmla="*/ 0 w 74520"/>
                <a:gd name="textAreaRight" fmla="*/ 74880 w 74520"/>
                <a:gd name="textAreaTop" fmla="*/ 0 h 147600"/>
                <a:gd name="textAreaBottom" fmla="*/ 147960 h 147600"/>
              </a:gdLst>
              <a:ahLst/>
              <a:rect l="textAreaLeft" t="textAreaTop" r="textAreaRight" b="textAreaBottom"/>
              <a:pathLst>
                <a:path w="69" h="139">
                  <a:moveTo>
                    <a:pt x="7" y="0"/>
                  </a:moveTo>
                  <a:lnTo>
                    <a:pt x="11" y="34"/>
                  </a:lnTo>
                  <a:lnTo>
                    <a:pt x="25" y="63"/>
                  </a:lnTo>
                  <a:lnTo>
                    <a:pt x="45" y="89"/>
                  </a:lnTo>
                  <a:lnTo>
                    <a:pt x="69" y="114"/>
                  </a:lnTo>
                  <a:lnTo>
                    <a:pt x="65" y="123"/>
                  </a:lnTo>
                  <a:lnTo>
                    <a:pt x="56" y="132"/>
                  </a:lnTo>
                  <a:lnTo>
                    <a:pt x="45" y="139"/>
                  </a:lnTo>
                  <a:lnTo>
                    <a:pt x="40" y="139"/>
                  </a:lnTo>
                  <a:lnTo>
                    <a:pt x="42" y="118"/>
                  </a:lnTo>
                  <a:lnTo>
                    <a:pt x="34" y="103"/>
                  </a:lnTo>
                  <a:lnTo>
                    <a:pt x="18" y="87"/>
                  </a:lnTo>
                  <a:lnTo>
                    <a:pt x="5" y="67"/>
                  </a:lnTo>
                  <a:lnTo>
                    <a:pt x="0" y="47"/>
                  </a:lnTo>
                  <a:lnTo>
                    <a:pt x="0" y="25"/>
                  </a:lnTo>
                  <a:lnTo>
                    <a:pt x="2" y="7"/>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812"/>
            <p:cNvSpPr/>
            <p:nvPr/>
          </p:nvSpPr>
          <p:spPr>
            <a:xfrm>
              <a:off x="6157800" y="455292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89" h="72">
                  <a:moveTo>
                    <a:pt x="4" y="72"/>
                  </a:moveTo>
                  <a:lnTo>
                    <a:pt x="0" y="54"/>
                  </a:lnTo>
                  <a:lnTo>
                    <a:pt x="0" y="38"/>
                  </a:lnTo>
                  <a:lnTo>
                    <a:pt x="4" y="20"/>
                  </a:lnTo>
                  <a:lnTo>
                    <a:pt x="13" y="5"/>
                  </a:lnTo>
                  <a:lnTo>
                    <a:pt x="29" y="0"/>
                  </a:lnTo>
                  <a:lnTo>
                    <a:pt x="42" y="0"/>
                  </a:lnTo>
                  <a:lnTo>
                    <a:pt x="56" y="3"/>
                  </a:lnTo>
                  <a:lnTo>
                    <a:pt x="69" y="9"/>
                  </a:lnTo>
                  <a:lnTo>
                    <a:pt x="78" y="18"/>
                  </a:lnTo>
                  <a:lnTo>
                    <a:pt x="85" y="27"/>
                  </a:lnTo>
                  <a:lnTo>
                    <a:pt x="89" y="38"/>
                  </a:lnTo>
                  <a:lnTo>
                    <a:pt x="89" y="47"/>
                  </a:lnTo>
                  <a:lnTo>
                    <a:pt x="82" y="41"/>
                  </a:lnTo>
                  <a:lnTo>
                    <a:pt x="71" y="32"/>
                  </a:lnTo>
                  <a:lnTo>
                    <a:pt x="60" y="27"/>
                  </a:lnTo>
                  <a:lnTo>
                    <a:pt x="47" y="23"/>
                  </a:lnTo>
                  <a:lnTo>
                    <a:pt x="33" y="25"/>
                  </a:lnTo>
                  <a:lnTo>
                    <a:pt x="22" y="32"/>
                  </a:lnTo>
                  <a:lnTo>
                    <a:pt x="11" y="47"/>
                  </a:lnTo>
                  <a:lnTo>
                    <a:pt x="4" y="7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1" name="Freeform 813"/>
            <p:cNvSpPr/>
            <p:nvPr/>
          </p:nvSpPr>
          <p:spPr>
            <a:xfrm>
              <a:off x="6367320" y="4519440"/>
              <a:ext cx="84240" cy="61920"/>
            </a:xfrm>
            <a:custGeom>
              <a:avLst/>
              <a:gdLst>
                <a:gd name="textAreaLeft" fmla="*/ 0 w 84240"/>
                <a:gd name="textAreaRight" fmla="*/ 84600 w 84240"/>
                <a:gd name="textAreaTop" fmla="*/ 0 h 61920"/>
                <a:gd name="textAreaBottom" fmla="*/ 62280 h 61920"/>
              </a:gdLst>
              <a:ahLst/>
              <a:rect l="textAreaLeft" t="textAreaTop" r="textAreaRight" b="textAreaBottom"/>
              <a:pathLst>
                <a:path w="78" h="58">
                  <a:moveTo>
                    <a:pt x="2" y="58"/>
                  </a:moveTo>
                  <a:lnTo>
                    <a:pt x="0" y="43"/>
                  </a:lnTo>
                  <a:lnTo>
                    <a:pt x="2" y="27"/>
                  </a:lnTo>
                  <a:lnTo>
                    <a:pt x="9" y="14"/>
                  </a:lnTo>
                  <a:lnTo>
                    <a:pt x="20" y="0"/>
                  </a:lnTo>
                  <a:lnTo>
                    <a:pt x="47" y="0"/>
                  </a:lnTo>
                  <a:lnTo>
                    <a:pt x="65" y="14"/>
                  </a:lnTo>
                  <a:lnTo>
                    <a:pt x="76" y="29"/>
                  </a:lnTo>
                  <a:lnTo>
                    <a:pt x="78" y="47"/>
                  </a:lnTo>
                  <a:lnTo>
                    <a:pt x="74" y="40"/>
                  </a:lnTo>
                  <a:lnTo>
                    <a:pt x="65" y="31"/>
                  </a:lnTo>
                  <a:lnTo>
                    <a:pt x="56" y="25"/>
                  </a:lnTo>
                  <a:lnTo>
                    <a:pt x="45" y="22"/>
                  </a:lnTo>
                  <a:lnTo>
                    <a:pt x="33" y="22"/>
                  </a:lnTo>
                  <a:lnTo>
                    <a:pt x="22" y="27"/>
                  </a:lnTo>
                  <a:lnTo>
                    <a:pt x="11" y="38"/>
                  </a:lnTo>
                  <a:lnTo>
                    <a:pt x="2" y="5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2" name="Freeform 814"/>
            <p:cNvSpPr/>
            <p:nvPr/>
          </p:nvSpPr>
          <p:spPr>
            <a:xfrm>
              <a:off x="6265800" y="4743360"/>
              <a:ext cx="128520" cy="73080"/>
            </a:xfrm>
            <a:custGeom>
              <a:avLst/>
              <a:gdLst>
                <a:gd name="textAreaLeft" fmla="*/ 0 w 128520"/>
                <a:gd name="textAreaRight" fmla="*/ 128880 w 128520"/>
                <a:gd name="textAreaTop" fmla="*/ 0 h 73080"/>
                <a:gd name="textAreaBottom" fmla="*/ 73440 h 73080"/>
              </a:gdLst>
              <a:ahLst/>
              <a:rect l="textAreaLeft" t="textAreaTop" r="textAreaRight" b="textAreaBottom"/>
              <a:pathLst>
                <a:path w="119" h="67">
                  <a:moveTo>
                    <a:pt x="119" y="0"/>
                  </a:moveTo>
                  <a:lnTo>
                    <a:pt x="112" y="9"/>
                  </a:lnTo>
                  <a:lnTo>
                    <a:pt x="98" y="18"/>
                  </a:lnTo>
                  <a:lnTo>
                    <a:pt x="85" y="25"/>
                  </a:lnTo>
                  <a:lnTo>
                    <a:pt x="69" y="29"/>
                  </a:lnTo>
                  <a:lnTo>
                    <a:pt x="54" y="31"/>
                  </a:lnTo>
                  <a:lnTo>
                    <a:pt x="40" y="33"/>
                  </a:lnTo>
                  <a:lnTo>
                    <a:pt x="32" y="36"/>
                  </a:lnTo>
                  <a:lnTo>
                    <a:pt x="27" y="36"/>
                  </a:lnTo>
                  <a:lnTo>
                    <a:pt x="45" y="47"/>
                  </a:lnTo>
                  <a:lnTo>
                    <a:pt x="63" y="51"/>
                  </a:lnTo>
                  <a:lnTo>
                    <a:pt x="72" y="56"/>
                  </a:lnTo>
                  <a:lnTo>
                    <a:pt x="69" y="67"/>
                  </a:lnTo>
                  <a:lnTo>
                    <a:pt x="49" y="65"/>
                  </a:lnTo>
                  <a:lnTo>
                    <a:pt x="32" y="60"/>
                  </a:lnTo>
                  <a:lnTo>
                    <a:pt x="20" y="54"/>
                  </a:lnTo>
                  <a:lnTo>
                    <a:pt x="11" y="42"/>
                  </a:lnTo>
                  <a:lnTo>
                    <a:pt x="5" y="33"/>
                  </a:lnTo>
                  <a:lnTo>
                    <a:pt x="0" y="25"/>
                  </a:lnTo>
                  <a:lnTo>
                    <a:pt x="0" y="18"/>
                  </a:lnTo>
                  <a:lnTo>
                    <a:pt x="0" y="13"/>
                  </a:lnTo>
                  <a:lnTo>
                    <a:pt x="16" y="18"/>
                  </a:lnTo>
                  <a:lnTo>
                    <a:pt x="34" y="18"/>
                  </a:lnTo>
                  <a:lnTo>
                    <a:pt x="52" y="16"/>
                  </a:lnTo>
                  <a:lnTo>
                    <a:pt x="72" y="11"/>
                  </a:lnTo>
                  <a:lnTo>
                    <a:pt x="90" y="7"/>
                  </a:lnTo>
                  <a:lnTo>
                    <a:pt x="105" y="2"/>
                  </a:lnTo>
                  <a:lnTo>
                    <a:pt x="114" y="0"/>
                  </a:lnTo>
                  <a:lnTo>
                    <a:pt x="1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3" name="Freeform 815"/>
            <p:cNvSpPr/>
            <p:nvPr/>
          </p:nvSpPr>
          <p:spPr>
            <a:xfrm>
              <a:off x="7523280" y="4521240"/>
              <a:ext cx="77760" cy="163440"/>
            </a:xfrm>
            <a:custGeom>
              <a:avLst/>
              <a:gdLst>
                <a:gd name="textAreaLeft" fmla="*/ 0 w 77760"/>
                <a:gd name="textAreaRight" fmla="*/ 78120 w 77760"/>
                <a:gd name="textAreaTop" fmla="*/ 0 h 163440"/>
                <a:gd name="textAreaBottom" fmla="*/ 163800 h 163440"/>
              </a:gdLst>
              <a:ahLst/>
              <a:rect l="textAreaLeft" t="textAreaTop" r="textAreaRight" b="textAreaBottom"/>
              <a:pathLst>
                <a:path w="71" h="152">
                  <a:moveTo>
                    <a:pt x="60" y="0"/>
                  </a:moveTo>
                  <a:lnTo>
                    <a:pt x="56" y="36"/>
                  </a:lnTo>
                  <a:lnTo>
                    <a:pt x="45" y="67"/>
                  </a:lnTo>
                  <a:lnTo>
                    <a:pt x="27" y="99"/>
                  </a:lnTo>
                  <a:lnTo>
                    <a:pt x="0" y="128"/>
                  </a:lnTo>
                  <a:lnTo>
                    <a:pt x="5" y="137"/>
                  </a:lnTo>
                  <a:lnTo>
                    <a:pt x="16" y="145"/>
                  </a:lnTo>
                  <a:lnTo>
                    <a:pt x="27" y="152"/>
                  </a:lnTo>
                  <a:lnTo>
                    <a:pt x="34" y="152"/>
                  </a:lnTo>
                  <a:lnTo>
                    <a:pt x="29" y="132"/>
                  </a:lnTo>
                  <a:lnTo>
                    <a:pt x="38" y="114"/>
                  </a:lnTo>
                  <a:lnTo>
                    <a:pt x="54" y="96"/>
                  </a:lnTo>
                  <a:lnTo>
                    <a:pt x="67" y="72"/>
                  </a:lnTo>
                  <a:lnTo>
                    <a:pt x="71" y="49"/>
                  </a:lnTo>
                  <a:lnTo>
                    <a:pt x="71" y="25"/>
                  </a:lnTo>
                  <a:lnTo>
                    <a:pt x="65" y="7"/>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816"/>
            <p:cNvSpPr/>
            <p:nvPr/>
          </p:nvSpPr>
          <p:spPr>
            <a:xfrm>
              <a:off x="7675560" y="4508640"/>
              <a:ext cx="96840" cy="77760"/>
            </a:xfrm>
            <a:custGeom>
              <a:avLst/>
              <a:gdLst>
                <a:gd name="textAreaLeft" fmla="*/ 0 w 96840"/>
                <a:gd name="textAreaRight" fmla="*/ 97200 w 96840"/>
                <a:gd name="textAreaTop" fmla="*/ 0 h 77760"/>
                <a:gd name="textAreaBottom" fmla="*/ 78120 h 77760"/>
              </a:gdLst>
              <a:ahLst/>
              <a:rect l="textAreaLeft" t="textAreaTop" r="textAreaRight" b="textAreaBottom"/>
              <a:pathLst>
                <a:path w="89" h="74">
                  <a:moveTo>
                    <a:pt x="82" y="74"/>
                  </a:moveTo>
                  <a:lnTo>
                    <a:pt x="87" y="56"/>
                  </a:lnTo>
                  <a:lnTo>
                    <a:pt x="89" y="40"/>
                  </a:lnTo>
                  <a:lnTo>
                    <a:pt x="84" y="22"/>
                  </a:lnTo>
                  <a:lnTo>
                    <a:pt x="75" y="7"/>
                  </a:lnTo>
                  <a:lnTo>
                    <a:pt x="60" y="0"/>
                  </a:lnTo>
                  <a:lnTo>
                    <a:pt x="46" y="0"/>
                  </a:lnTo>
                  <a:lnTo>
                    <a:pt x="33" y="2"/>
                  </a:lnTo>
                  <a:lnTo>
                    <a:pt x="22" y="9"/>
                  </a:lnTo>
                  <a:lnTo>
                    <a:pt x="13" y="16"/>
                  </a:lnTo>
                  <a:lnTo>
                    <a:pt x="4" y="25"/>
                  </a:lnTo>
                  <a:lnTo>
                    <a:pt x="0" y="36"/>
                  </a:lnTo>
                  <a:lnTo>
                    <a:pt x="0" y="45"/>
                  </a:lnTo>
                  <a:lnTo>
                    <a:pt x="6" y="38"/>
                  </a:lnTo>
                  <a:lnTo>
                    <a:pt x="17" y="31"/>
                  </a:lnTo>
                  <a:lnTo>
                    <a:pt x="29" y="27"/>
                  </a:lnTo>
                  <a:lnTo>
                    <a:pt x="42" y="25"/>
                  </a:lnTo>
                  <a:lnTo>
                    <a:pt x="55" y="27"/>
                  </a:lnTo>
                  <a:lnTo>
                    <a:pt x="67" y="33"/>
                  </a:lnTo>
                  <a:lnTo>
                    <a:pt x="75" y="49"/>
                  </a:lnTo>
                  <a:lnTo>
                    <a:pt x="82" y="7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5" name="Freeform 817"/>
            <p:cNvSpPr/>
            <p:nvPr/>
          </p:nvSpPr>
          <p:spPr>
            <a:xfrm>
              <a:off x="7473960" y="4468680"/>
              <a:ext cx="92160" cy="68400"/>
            </a:xfrm>
            <a:custGeom>
              <a:avLst/>
              <a:gdLst>
                <a:gd name="textAreaLeft" fmla="*/ 0 w 92160"/>
                <a:gd name="textAreaRight" fmla="*/ 92520 w 92160"/>
                <a:gd name="textAreaTop" fmla="*/ 0 h 68400"/>
                <a:gd name="textAreaBottom" fmla="*/ 68760 h 68400"/>
              </a:gdLst>
              <a:ahLst/>
              <a:rect l="textAreaLeft" t="textAreaTop" r="textAreaRight" b="textAreaBottom"/>
              <a:pathLst>
                <a:path w="85" h="63">
                  <a:moveTo>
                    <a:pt x="83" y="63"/>
                  </a:moveTo>
                  <a:lnTo>
                    <a:pt x="85" y="47"/>
                  </a:lnTo>
                  <a:lnTo>
                    <a:pt x="81" y="29"/>
                  </a:lnTo>
                  <a:lnTo>
                    <a:pt x="74" y="16"/>
                  </a:lnTo>
                  <a:lnTo>
                    <a:pt x="61" y="2"/>
                  </a:lnTo>
                  <a:lnTo>
                    <a:pt x="47" y="0"/>
                  </a:lnTo>
                  <a:lnTo>
                    <a:pt x="34" y="5"/>
                  </a:lnTo>
                  <a:lnTo>
                    <a:pt x="23" y="9"/>
                  </a:lnTo>
                  <a:lnTo>
                    <a:pt x="14" y="18"/>
                  </a:lnTo>
                  <a:lnTo>
                    <a:pt x="5" y="27"/>
                  </a:lnTo>
                  <a:lnTo>
                    <a:pt x="0" y="36"/>
                  </a:lnTo>
                  <a:lnTo>
                    <a:pt x="0" y="47"/>
                  </a:lnTo>
                  <a:lnTo>
                    <a:pt x="0" y="56"/>
                  </a:lnTo>
                  <a:lnTo>
                    <a:pt x="5" y="47"/>
                  </a:lnTo>
                  <a:lnTo>
                    <a:pt x="14" y="38"/>
                  </a:lnTo>
                  <a:lnTo>
                    <a:pt x="23" y="32"/>
                  </a:lnTo>
                  <a:lnTo>
                    <a:pt x="36" y="27"/>
                  </a:lnTo>
                  <a:lnTo>
                    <a:pt x="47" y="25"/>
                  </a:lnTo>
                  <a:lnTo>
                    <a:pt x="58" y="32"/>
                  </a:lnTo>
                  <a:lnTo>
                    <a:pt x="72" y="43"/>
                  </a:lnTo>
                  <a:lnTo>
                    <a:pt x="83" y="6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6" name="Freeform 818"/>
            <p:cNvSpPr/>
            <p:nvPr/>
          </p:nvSpPr>
          <p:spPr>
            <a:xfrm>
              <a:off x="7524720" y="4732200"/>
              <a:ext cx="141480" cy="54000"/>
            </a:xfrm>
            <a:custGeom>
              <a:avLst/>
              <a:gdLst>
                <a:gd name="textAreaLeft" fmla="*/ 0 w 141480"/>
                <a:gd name="textAreaRight" fmla="*/ 141840 w 141480"/>
                <a:gd name="textAreaTop" fmla="*/ 0 h 54000"/>
                <a:gd name="textAreaBottom" fmla="*/ 54360 h 54000"/>
              </a:gdLst>
              <a:ahLst/>
              <a:rect l="textAreaLeft" t="textAreaTop" r="textAreaRight" b="textAreaBottom"/>
              <a:pathLst>
                <a:path w="130" h="51">
                  <a:moveTo>
                    <a:pt x="0" y="0"/>
                  </a:moveTo>
                  <a:lnTo>
                    <a:pt x="9" y="18"/>
                  </a:lnTo>
                  <a:lnTo>
                    <a:pt x="18" y="31"/>
                  </a:lnTo>
                  <a:lnTo>
                    <a:pt x="29" y="40"/>
                  </a:lnTo>
                  <a:lnTo>
                    <a:pt x="54" y="51"/>
                  </a:lnTo>
                  <a:lnTo>
                    <a:pt x="76" y="49"/>
                  </a:lnTo>
                  <a:lnTo>
                    <a:pt x="94" y="44"/>
                  </a:lnTo>
                  <a:lnTo>
                    <a:pt x="107" y="40"/>
                  </a:lnTo>
                  <a:lnTo>
                    <a:pt x="119" y="33"/>
                  </a:lnTo>
                  <a:lnTo>
                    <a:pt x="125" y="24"/>
                  </a:lnTo>
                  <a:lnTo>
                    <a:pt x="127" y="18"/>
                  </a:lnTo>
                  <a:lnTo>
                    <a:pt x="130" y="13"/>
                  </a:lnTo>
                  <a:lnTo>
                    <a:pt x="130" y="9"/>
                  </a:lnTo>
                  <a:lnTo>
                    <a:pt x="103" y="20"/>
                  </a:lnTo>
                  <a:lnTo>
                    <a:pt x="78" y="27"/>
                  </a:lnTo>
                  <a:lnTo>
                    <a:pt x="56" y="24"/>
                  </a:lnTo>
                  <a:lnTo>
                    <a:pt x="38" y="20"/>
                  </a:lnTo>
                  <a:lnTo>
                    <a:pt x="23" y="13"/>
                  </a:lnTo>
                  <a:lnTo>
                    <a:pt x="9" y="7"/>
                  </a:lnTo>
                  <a:lnTo>
                    <a:pt x="3"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7" name="Freeform 819"/>
            <p:cNvSpPr/>
            <p:nvPr/>
          </p:nvSpPr>
          <p:spPr>
            <a:xfrm>
              <a:off x="5748480" y="5376960"/>
              <a:ext cx="471240" cy="538200"/>
            </a:xfrm>
            <a:custGeom>
              <a:avLst/>
              <a:gdLst>
                <a:gd name="textAreaLeft" fmla="*/ 0 w 471240"/>
                <a:gd name="textAreaRight" fmla="*/ 471600 w 471240"/>
                <a:gd name="textAreaTop" fmla="*/ 0 h 538200"/>
                <a:gd name="textAreaBottom" fmla="*/ 538560 h 538200"/>
              </a:gdLst>
              <a:ahLst/>
              <a:rect l="textAreaLeft" t="textAreaTop" r="textAreaRight" b="textAreaBottom"/>
              <a:pathLst>
                <a:path w="435" h="504">
                  <a:moveTo>
                    <a:pt x="165" y="13"/>
                  </a:moveTo>
                  <a:lnTo>
                    <a:pt x="174" y="100"/>
                  </a:lnTo>
                  <a:lnTo>
                    <a:pt x="183" y="187"/>
                  </a:lnTo>
                  <a:lnTo>
                    <a:pt x="190" y="274"/>
                  </a:lnTo>
                  <a:lnTo>
                    <a:pt x="194" y="361"/>
                  </a:lnTo>
                  <a:lnTo>
                    <a:pt x="223" y="368"/>
                  </a:lnTo>
                  <a:lnTo>
                    <a:pt x="254" y="379"/>
                  </a:lnTo>
                  <a:lnTo>
                    <a:pt x="290" y="390"/>
                  </a:lnTo>
                  <a:lnTo>
                    <a:pt x="323" y="399"/>
                  </a:lnTo>
                  <a:lnTo>
                    <a:pt x="357" y="404"/>
                  </a:lnTo>
                  <a:lnTo>
                    <a:pt x="386" y="399"/>
                  </a:lnTo>
                  <a:lnTo>
                    <a:pt x="410" y="386"/>
                  </a:lnTo>
                  <a:lnTo>
                    <a:pt x="430" y="357"/>
                  </a:lnTo>
                  <a:lnTo>
                    <a:pt x="435" y="366"/>
                  </a:lnTo>
                  <a:lnTo>
                    <a:pt x="433" y="384"/>
                  </a:lnTo>
                  <a:lnTo>
                    <a:pt x="422" y="406"/>
                  </a:lnTo>
                  <a:lnTo>
                    <a:pt x="397" y="426"/>
                  </a:lnTo>
                  <a:lnTo>
                    <a:pt x="375" y="430"/>
                  </a:lnTo>
                  <a:lnTo>
                    <a:pt x="141" y="379"/>
                  </a:lnTo>
                  <a:lnTo>
                    <a:pt x="129" y="377"/>
                  </a:lnTo>
                  <a:lnTo>
                    <a:pt x="118" y="377"/>
                  </a:lnTo>
                  <a:lnTo>
                    <a:pt x="105" y="381"/>
                  </a:lnTo>
                  <a:lnTo>
                    <a:pt x="96" y="384"/>
                  </a:lnTo>
                  <a:lnTo>
                    <a:pt x="109" y="392"/>
                  </a:lnTo>
                  <a:lnTo>
                    <a:pt x="123" y="404"/>
                  </a:lnTo>
                  <a:lnTo>
                    <a:pt x="138" y="413"/>
                  </a:lnTo>
                  <a:lnTo>
                    <a:pt x="154" y="422"/>
                  </a:lnTo>
                  <a:lnTo>
                    <a:pt x="170" y="428"/>
                  </a:lnTo>
                  <a:lnTo>
                    <a:pt x="185" y="435"/>
                  </a:lnTo>
                  <a:lnTo>
                    <a:pt x="203" y="439"/>
                  </a:lnTo>
                  <a:lnTo>
                    <a:pt x="219" y="439"/>
                  </a:lnTo>
                  <a:lnTo>
                    <a:pt x="219" y="446"/>
                  </a:lnTo>
                  <a:lnTo>
                    <a:pt x="219" y="462"/>
                  </a:lnTo>
                  <a:lnTo>
                    <a:pt x="212" y="480"/>
                  </a:lnTo>
                  <a:lnTo>
                    <a:pt x="199" y="491"/>
                  </a:lnTo>
                  <a:lnTo>
                    <a:pt x="190" y="495"/>
                  </a:lnTo>
                  <a:lnTo>
                    <a:pt x="181" y="497"/>
                  </a:lnTo>
                  <a:lnTo>
                    <a:pt x="174" y="502"/>
                  </a:lnTo>
                  <a:lnTo>
                    <a:pt x="165" y="502"/>
                  </a:lnTo>
                  <a:lnTo>
                    <a:pt x="158" y="504"/>
                  </a:lnTo>
                  <a:lnTo>
                    <a:pt x="149" y="504"/>
                  </a:lnTo>
                  <a:lnTo>
                    <a:pt x="141" y="502"/>
                  </a:lnTo>
                  <a:lnTo>
                    <a:pt x="132" y="500"/>
                  </a:lnTo>
                  <a:lnTo>
                    <a:pt x="141" y="491"/>
                  </a:lnTo>
                  <a:lnTo>
                    <a:pt x="161" y="486"/>
                  </a:lnTo>
                  <a:lnTo>
                    <a:pt x="178" y="477"/>
                  </a:lnTo>
                  <a:lnTo>
                    <a:pt x="190" y="462"/>
                  </a:lnTo>
                  <a:lnTo>
                    <a:pt x="170" y="455"/>
                  </a:lnTo>
                  <a:lnTo>
                    <a:pt x="149" y="446"/>
                  </a:lnTo>
                  <a:lnTo>
                    <a:pt x="129" y="433"/>
                  </a:lnTo>
                  <a:lnTo>
                    <a:pt x="109" y="419"/>
                  </a:lnTo>
                  <a:lnTo>
                    <a:pt x="89" y="408"/>
                  </a:lnTo>
                  <a:lnTo>
                    <a:pt x="67" y="401"/>
                  </a:lnTo>
                  <a:lnTo>
                    <a:pt x="42" y="397"/>
                  </a:lnTo>
                  <a:lnTo>
                    <a:pt x="18" y="399"/>
                  </a:lnTo>
                  <a:lnTo>
                    <a:pt x="13" y="390"/>
                  </a:lnTo>
                  <a:lnTo>
                    <a:pt x="18" y="384"/>
                  </a:lnTo>
                  <a:lnTo>
                    <a:pt x="25" y="377"/>
                  </a:lnTo>
                  <a:lnTo>
                    <a:pt x="29" y="368"/>
                  </a:lnTo>
                  <a:lnTo>
                    <a:pt x="29" y="332"/>
                  </a:lnTo>
                  <a:lnTo>
                    <a:pt x="22" y="299"/>
                  </a:lnTo>
                  <a:lnTo>
                    <a:pt x="13" y="265"/>
                  </a:lnTo>
                  <a:lnTo>
                    <a:pt x="0" y="232"/>
                  </a:lnTo>
                  <a:lnTo>
                    <a:pt x="11" y="234"/>
                  </a:lnTo>
                  <a:lnTo>
                    <a:pt x="22" y="245"/>
                  </a:lnTo>
                  <a:lnTo>
                    <a:pt x="33" y="263"/>
                  </a:lnTo>
                  <a:lnTo>
                    <a:pt x="45" y="283"/>
                  </a:lnTo>
                  <a:lnTo>
                    <a:pt x="54" y="305"/>
                  </a:lnTo>
                  <a:lnTo>
                    <a:pt x="60" y="326"/>
                  </a:lnTo>
                  <a:lnTo>
                    <a:pt x="67" y="343"/>
                  </a:lnTo>
                  <a:lnTo>
                    <a:pt x="71" y="355"/>
                  </a:lnTo>
                  <a:lnTo>
                    <a:pt x="80" y="355"/>
                  </a:lnTo>
                  <a:lnTo>
                    <a:pt x="91" y="355"/>
                  </a:lnTo>
                  <a:lnTo>
                    <a:pt x="100" y="355"/>
                  </a:lnTo>
                  <a:lnTo>
                    <a:pt x="109" y="357"/>
                  </a:lnTo>
                  <a:lnTo>
                    <a:pt x="120" y="357"/>
                  </a:lnTo>
                  <a:lnTo>
                    <a:pt x="129" y="357"/>
                  </a:lnTo>
                  <a:lnTo>
                    <a:pt x="138" y="355"/>
                  </a:lnTo>
                  <a:lnTo>
                    <a:pt x="147" y="352"/>
                  </a:lnTo>
                  <a:lnTo>
                    <a:pt x="149" y="272"/>
                  </a:lnTo>
                  <a:lnTo>
                    <a:pt x="147" y="156"/>
                  </a:lnTo>
                  <a:lnTo>
                    <a:pt x="143" y="53"/>
                  </a:lnTo>
                  <a:lnTo>
                    <a:pt x="141" y="9"/>
                  </a:lnTo>
                  <a:lnTo>
                    <a:pt x="149" y="0"/>
                  </a:lnTo>
                  <a:lnTo>
                    <a:pt x="156" y="0"/>
                  </a:lnTo>
                  <a:lnTo>
                    <a:pt x="161" y="6"/>
                  </a:lnTo>
                  <a:lnTo>
                    <a:pt x="16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Line 2"/>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3"/>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Text Box 4"/>
          <p:cNvSpPr/>
          <p:nvPr/>
        </p:nvSpPr>
        <p:spPr>
          <a:xfrm>
            <a:off x="228600" y="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alk with an inside voice.</a:t>
            </a:r>
            <a:endParaRPr b="0" lang="en-US" sz="2400" spc="-1" strike="noStrike">
              <a:solidFill>
                <a:srgbClr val="000000"/>
              </a:solidFill>
              <a:latin typeface="Times New Roman"/>
            </a:endParaRPr>
          </a:p>
        </p:txBody>
      </p:sp>
      <p:grpSp>
        <p:nvGrpSpPr>
          <p:cNvPr id="261" name="Group 141"/>
          <p:cNvGrpSpPr/>
          <p:nvPr/>
        </p:nvGrpSpPr>
        <p:grpSpPr>
          <a:xfrm>
            <a:off x="685800" y="1371600"/>
            <a:ext cx="3267000" cy="1271160"/>
            <a:chOff x="685800" y="1371600"/>
            <a:chExt cx="3267000" cy="1271160"/>
          </a:xfrm>
        </p:grpSpPr>
        <p:sp>
          <p:nvSpPr>
            <p:cNvPr id="262" name="Freeform 142"/>
            <p:cNvSpPr/>
            <p:nvPr/>
          </p:nvSpPr>
          <p:spPr>
            <a:xfrm>
              <a:off x="795240" y="1531800"/>
              <a:ext cx="3122640" cy="514080"/>
            </a:xfrm>
            <a:custGeom>
              <a:avLst/>
              <a:gdLst>
                <a:gd name="textAreaLeft" fmla="*/ 0 w 3122640"/>
                <a:gd name="textAreaRight" fmla="*/ 3123000 w 3122640"/>
                <a:gd name="textAreaTop" fmla="*/ 0 h 514080"/>
                <a:gd name="textAreaBottom" fmla="*/ 514440 h 514080"/>
              </a:gdLst>
              <a:ahLst/>
              <a:rect l="textAreaLeft" t="textAreaTop" r="textAreaRight" b="textAreaBottom"/>
              <a:pathLst>
                <a:path w="2336" h="493">
                  <a:moveTo>
                    <a:pt x="0" y="219"/>
                  </a:moveTo>
                  <a:lnTo>
                    <a:pt x="533" y="139"/>
                  </a:lnTo>
                  <a:lnTo>
                    <a:pt x="741" y="30"/>
                  </a:lnTo>
                  <a:lnTo>
                    <a:pt x="932" y="0"/>
                  </a:lnTo>
                  <a:lnTo>
                    <a:pt x="1140" y="120"/>
                  </a:lnTo>
                  <a:lnTo>
                    <a:pt x="1342" y="84"/>
                  </a:lnTo>
                  <a:lnTo>
                    <a:pt x="1459" y="39"/>
                  </a:lnTo>
                  <a:lnTo>
                    <a:pt x="1826" y="170"/>
                  </a:lnTo>
                  <a:lnTo>
                    <a:pt x="1937" y="323"/>
                  </a:lnTo>
                  <a:lnTo>
                    <a:pt x="2336" y="428"/>
                  </a:lnTo>
                  <a:lnTo>
                    <a:pt x="1986" y="493"/>
                  </a:lnTo>
                  <a:lnTo>
                    <a:pt x="1533" y="278"/>
                  </a:lnTo>
                  <a:lnTo>
                    <a:pt x="1276" y="318"/>
                  </a:lnTo>
                  <a:lnTo>
                    <a:pt x="871" y="244"/>
                  </a:lnTo>
                  <a:lnTo>
                    <a:pt x="399" y="318"/>
                  </a:lnTo>
                  <a:lnTo>
                    <a:pt x="0" y="219"/>
                  </a:lnTo>
                  <a:lnTo>
                    <a:pt x="0" y="219"/>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143"/>
            <p:cNvSpPr/>
            <p:nvPr/>
          </p:nvSpPr>
          <p:spPr>
            <a:xfrm>
              <a:off x="915840" y="1958760"/>
              <a:ext cx="2911320" cy="620280"/>
            </a:xfrm>
            <a:custGeom>
              <a:avLst/>
              <a:gdLst>
                <a:gd name="textAreaLeft" fmla="*/ 0 w 2911320"/>
                <a:gd name="textAreaRight" fmla="*/ 2911680 w 2911320"/>
                <a:gd name="textAreaTop" fmla="*/ 0 h 620280"/>
                <a:gd name="textAreaBottom" fmla="*/ 620640 h 620280"/>
              </a:gdLst>
              <a:ahLst/>
              <a:rect l="textAreaLeft" t="textAreaTop" r="textAreaRight" b="textAreaBottom"/>
              <a:pathLst>
                <a:path w="2176" h="597">
                  <a:moveTo>
                    <a:pt x="0" y="0"/>
                  </a:moveTo>
                  <a:lnTo>
                    <a:pt x="405" y="134"/>
                  </a:lnTo>
                  <a:lnTo>
                    <a:pt x="938" y="338"/>
                  </a:lnTo>
                  <a:lnTo>
                    <a:pt x="1465" y="353"/>
                  </a:lnTo>
                  <a:lnTo>
                    <a:pt x="1790" y="219"/>
                  </a:lnTo>
                  <a:lnTo>
                    <a:pt x="2176" y="149"/>
                  </a:lnTo>
                  <a:lnTo>
                    <a:pt x="1734" y="507"/>
                  </a:lnTo>
                  <a:lnTo>
                    <a:pt x="1263" y="597"/>
                  </a:lnTo>
                  <a:lnTo>
                    <a:pt x="583" y="537"/>
                  </a:lnTo>
                  <a:lnTo>
                    <a:pt x="25" y="159"/>
                  </a:lnTo>
                  <a:lnTo>
                    <a:pt x="0" y="0"/>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144"/>
            <p:cNvSpPr/>
            <p:nvPr/>
          </p:nvSpPr>
          <p:spPr>
            <a:xfrm>
              <a:off x="685800" y="1371600"/>
              <a:ext cx="3251160" cy="549000"/>
            </a:xfrm>
            <a:custGeom>
              <a:avLst/>
              <a:gdLst>
                <a:gd name="textAreaLeft" fmla="*/ 0 w 3251160"/>
                <a:gd name="textAreaRight" fmla="*/ 3251520 w 3251160"/>
                <a:gd name="textAreaTop" fmla="*/ 0 h 549000"/>
                <a:gd name="textAreaBottom" fmla="*/ 549360 h 549000"/>
              </a:gdLst>
              <a:ahLst/>
              <a:rect l="textAreaLeft" t="textAreaTop" r="textAreaRight" b="textAreaBottom"/>
              <a:pathLst>
                <a:path w="2429" h="526">
                  <a:moveTo>
                    <a:pt x="0" y="344"/>
                  </a:moveTo>
                  <a:lnTo>
                    <a:pt x="282" y="292"/>
                  </a:lnTo>
                  <a:lnTo>
                    <a:pt x="621" y="151"/>
                  </a:lnTo>
                  <a:lnTo>
                    <a:pt x="865" y="37"/>
                  </a:lnTo>
                  <a:lnTo>
                    <a:pt x="1032" y="0"/>
                  </a:lnTo>
                  <a:lnTo>
                    <a:pt x="1148" y="89"/>
                  </a:lnTo>
                  <a:lnTo>
                    <a:pt x="1333" y="63"/>
                  </a:lnTo>
                  <a:lnTo>
                    <a:pt x="1564" y="0"/>
                  </a:lnTo>
                  <a:lnTo>
                    <a:pt x="1795" y="125"/>
                  </a:lnTo>
                  <a:lnTo>
                    <a:pt x="1993" y="287"/>
                  </a:lnTo>
                  <a:lnTo>
                    <a:pt x="2263" y="474"/>
                  </a:lnTo>
                  <a:lnTo>
                    <a:pt x="2429" y="526"/>
                  </a:lnTo>
                  <a:lnTo>
                    <a:pt x="2051" y="469"/>
                  </a:lnTo>
                  <a:lnTo>
                    <a:pt x="1834" y="266"/>
                  </a:lnTo>
                  <a:lnTo>
                    <a:pt x="1506" y="104"/>
                  </a:lnTo>
                  <a:lnTo>
                    <a:pt x="1365" y="187"/>
                  </a:lnTo>
                  <a:lnTo>
                    <a:pt x="1134" y="193"/>
                  </a:lnTo>
                  <a:lnTo>
                    <a:pt x="1032" y="79"/>
                  </a:lnTo>
                  <a:lnTo>
                    <a:pt x="878" y="94"/>
                  </a:lnTo>
                  <a:lnTo>
                    <a:pt x="737" y="151"/>
                  </a:lnTo>
                  <a:lnTo>
                    <a:pt x="544" y="271"/>
                  </a:lnTo>
                  <a:lnTo>
                    <a:pt x="249" y="364"/>
                  </a:lnTo>
                  <a:lnTo>
                    <a:pt x="0" y="344"/>
                  </a:lnTo>
                  <a:lnTo>
                    <a:pt x="0"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145"/>
            <p:cNvSpPr/>
            <p:nvPr/>
          </p:nvSpPr>
          <p:spPr>
            <a:xfrm>
              <a:off x="1166760" y="1696680"/>
              <a:ext cx="2555640" cy="349200"/>
            </a:xfrm>
            <a:custGeom>
              <a:avLst/>
              <a:gdLst>
                <a:gd name="textAreaLeft" fmla="*/ 0 w 2555640"/>
                <a:gd name="textAreaRight" fmla="*/ 2556000 w 2555640"/>
                <a:gd name="textAreaTop" fmla="*/ 0 h 349200"/>
                <a:gd name="textAreaBottom" fmla="*/ 349560 h 349200"/>
              </a:gdLst>
              <a:ahLst/>
              <a:rect l="textAreaLeft" t="textAreaTop" r="textAreaRight" b="textAreaBottom"/>
              <a:pathLst>
                <a:path w="1910" h="334">
                  <a:moveTo>
                    <a:pt x="0" y="162"/>
                  </a:moveTo>
                  <a:lnTo>
                    <a:pt x="262" y="105"/>
                  </a:lnTo>
                  <a:lnTo>
                    <a:pt x="595" y="27"/>
                  </a:lnTo>
                  <a:lnTo>
                    <a:pt x="795" y="99"/>
                  </a:lnTo>
                  <a:lnTo>
                    <a:pt x="1032" y="79"/>
                  </a:lnTo>
                  <a:lnTo>
                    <a:pt x="1186" y="0"/>
                  </a:lnTo>
                  <a:lnTo>
                    <a:pt x="1352" y="63"/>
                  </a:lnTo>
                  <a:lnTo>
                    <a:pt x="1467" y="204"/>
                  </a:lnTo>
                  <a:lnTo>
                    <a:pt x="1679" y="271"/>
                  </a:lnTo>
                  <a:lnTo>
                    <a:pt x="1910" y="312"/>
                  </a:lnTo>
                  <a:lnTo>
                    <a:pt x="1660" y="334"/>
                  </a:lnTo>
                  <a:lnTo>
                    <a:pt x="1506" y="307"/>
                  </a:lnTo>
                  <a:lnTo>
                    <a:pt x="1269" y="146"/>
                  </a:lnTo>
                  <a:lnTo>
                    <a:pt x="1141" y="141"/>
                  </a:lnTo>
                  <a:lnTo>
                    <a:pt x="1019" y="193"/>
                  </a:lnTo>
                  <a:lnTo>
                    <a:pt x="795" y="182"/>
                  </a:lnTo>
                  <a:lnTo>
                    <a:pt x="538" y="115"/>
                  </a:lnTo>
                  <a:lnTo>
                    <a:pt x="276" y="172"/>
                  </a:lnTo>
                  <a:lnTo>
                    <a:pt x="0" y="162"/>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146"/>
            <p:cNvSpPr/>
            <p:nvPr/>
          </p:nvSpPr>
          <p:spPr>
            <a:xfrm>
              <a:off x="1141200" y="2008080"/>
              <a:ext cx="2386080" cy="372600"/>
            </a:xfrm>
            <a:custGeom>
              <a:avLst/>
              <a:gdLst>
                <a:gd name="textAreaLeft" fmla="*/ 0 w 2386080"/>
                <a:gd name="textAreaRight" fmla="*/ 2386440 w 2386080"/>
                <a:gd name="textAreaTop" fmla="*/ 0 h 372600"/>
                <a:gd name="textAreaBottom" fmla="*/ 372960 h 372600"/>
              </a:gdLst>
              <a:ahLst/>
              <a:rect l="textAreaLeft" t="textAreaTop" r="textAreaRight" b="textAreaBottom"/>
              <a:pathLst>
                <a:path w="1782" h="359">
                  <a:moveTo>
                    <a:pt x="0" y="0"/>
                  </a:moveTo>
                  <a:lnTo>
                    <a:pt x="621" y="224"/>
                  </a:lnTo>
                  <a:lnTo>
                    <a:pt x="1012" y="275"/>
                  </a:lnTo>
                  <a:lnTo>
                    <a:pt x="1371" y="250"/>
                  </a:lnTo>
                  <a:lnTo>
                    <a:pt x="1576" y="167"/>
                  </a:lnTo>
                  <a:lnTo>
                    <a:pt x="1782" y="167"/>
                  </a:lnTo>
                  <a:lnTo>
                    <a:pt x="1544" y="239"/>
                  </a:lnTo>
                  <a:lnTo>
                    <a:pt x="1294" y="359"/>
                  </a:lnTo>
                  <a:lnTo>
                    <a:pt x="929" y="359"/>
                  </a:lnTo>
                  <a:lnTo>
                    <a:pt x="602" y="312"/>
                  </a:lnTo>
                  <a:lnTo>
                    <a:pt x="346" y="162"/>
                  </a:lnTo>
                  <a:lnTo>
                    <a:pt x="121" y="13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147"/>
            <p:cNvSpPr/>
            <p:nvPr/>
          </p:nvSpPr>
          <p:spPr>
            <a:xfrm>
              <a:off x="736560" y="1914480"/>
              <a:ext cx="3216240" cy="728280"/>
            </a:xfrm>
            <a:custGeom>
              <a:avLst/>
              <a:gdLst>
                <a:gd name="textAreaLeft" fmla="*/ 0 w 3216240"/>
                <a:gd name="textAreaRight" fmla="*/ 3216600 w 3216240"/>
                <a:gd name="textAreaTop" fmla="*/ 0 h 728280"/>
                <a:gd name="textAreaBottom" fmla="*/ 728640 h 728280"/>
              </a:gdLst>
              <a:ahLst/>
              <a:rect l="textAreaLeft" t="textAreaTop" r="textAreaRight" b="textAreaBottom"/>
              <a:pathLst>
                <a:path w="2405" h="697">
                  <a:moveTo>
                    <a:pt x="0" y="176"/>
                  </a:moveTo>
                  <a:lnTo>
                    <a:pt x="334" y="405"/>
                  </a:lnTo>
                  <a:lnTo>
                    <a:pt x="546" y="587"/>
                  </a:lnTo>
                  <a:lnTo>
                    <a:pt x="1014" y="675"/>
                  </a:lnTo>
                  <a:lnTo>
                    <a:pt x="1565" y="697"/>
                  </a:lnTo>
                  <a:lnTo>
                    <a:pt x="1925" y="550"/>
                  </a:lnTo>
                  <a:lnTo>
                    <a:pt x="2244" y="301"/>
                  </a:lnTo>
                  <a:lnTo>
                    <a:pt x="2405" y="150"/>
                  </a:lnTo>
                  <a:lnTo>
                    <a:pt x="2213" y="213"/>
                  </a:lnTo>
                  <a:lnTo>
                    <a:pt x="2104" y="353"/>
                  </a:lnTo>
                  <a:lnTo>
                    <a:pt x="1861" y="530"/>
                  </a:lnTo>
                  <a:lnTo>
                    <a:pt x="1552" y="567"/>
                  </a:lnTo>
                  <a:lnTo>
                    <a:pt x="1341" y="618"/>
                  </a:lnTo>
                  <a:lnTo>
                    <a:pt x="1008" y="567"/>
                  </a:lnTo>
                  <a:lnTo>
                    <a:pt x="719" y="572"/>
                  </a:lnTo>
                  <a:lnTo>
                    <a:pt x="559" y="452"/>
                  </a:lnTo>
                  <a:lnTo>
                    <a:pt x="404" y="317"/>
                  </a:lnTo>
                  <a:lnTo>
                    <a:pt x="103" y="140"/>
                  </a:lnTo>
                  <a:lnTo>
                    <a:pt x="27" y="0"/>
                  </a:lnTo>
                  <a:lnTo>
                    <a:pt x="0" y="176"/>
                  </a:lnTo>
                  <a:lnTo>
                    <a:pt x="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2"/>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3"/>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4:48:40Z</dcterms:created>
  <dc:creator>DELLPC2003</dc:creator>
  <dc:description/>
  <dc:language>en-US</dc:language>
  <cp:lastModifiedBy>fmhi</cp:lastModifiedBy>
  <dcterms:modified xsi:type="dcterms:W3CDTF">2010-07-28T20:07:02Z</dcterms:modified>
  <cp:revision>41</cp:revision>
  <dc:subject/>
  <dc:title>Rules Tips</dc:title>
</cp:coreProperties>
</file>